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6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65.xml.rels" ContentType="application/vnd.openxmlformats-package.relationships+xml"/>
  <Override PartName="/ppt/slideMasters/_rels/slideMaster58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64.xml.rels" ContentType="application/vnd.openxmlformats-package.relationships+xml"/>
  <Override PartName="/ppt/slideMasters/_rels/slideMaster57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63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62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6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66.xml.rels" ContentType="application/vnd.openxmlformats-package.relationships+xml"/>
  <Override PartName="/ppt/slideMasters/_rels/slideMaster59.xml.rels" ContentType="application/vnd.openxmlformats-package.relationships+xml"/>
  <Override PartName="/ppt/slideMasters/_rels/slideMaster6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67.xml.rels" ContentType="application/vnd.openxmlformats-package.relationships+xml"/>
  <Override PartName="/ppt/slideMasters/_rels/slideMaster6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.xml.rels" ContentType="application/vnd.openxmlformats-package.relationships+xml"/>
  <Override PartName="/ppt/slideMasters/slideMaster56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57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58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59.xml" ContentType="application/vnd.openxmlformats-officedocument.presentationml.slideMaster+xml"/>
  <Override PartName="/ppt/slideMasters/slideMaster68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67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66.xml" ContentType="application/vnd.openxmlformats-officedocument.presentationml.slideMaster+xml"/>
  <Override PartName="/ppt/slideMasters/slideMaster29.xml" ContentType="application/vnd.openxmlformats-officedocument.presentationml.slideMaster+xml"/>
  <Override PartName="/ppt/slideMasters/slideMaster6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62.xml" ContentType="application/vnd.openxmlformats-officedocument.presentationml.slideMaster+xml"/>
  <Override PartName="/ppt/slideMasters/slideMaster64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61.xml" ContentType="application/vnd.openxmlformats-officedocument.presentationml.slideMaster+xml"/>
  <Override PartName="/ppt/slideMasters/slideMaster63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60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43.xml" ContentType="application/vnd.openxmlformats-officedocument.presentationml.slideMaster+xml"/>
  <Override PartName="/ppt/theme/theme56.xml" ContentType="application/vnd.openxmlformats-officedocument.theme+xml"/>
  <Override PartName="/ppt/theme/theme55.xml" ContentType="application/vnd.openxmlformats-officedocument.theme+xml"/>
  <Override PartName="/ppt/theme/theme54.xml" ContentType="application/vnd.openxmlformats-officedocument.theme+xml"/>
  <Override PartName="/ppt/theme/theme53.xml" ContentType="application/vnd.openxmlformats-officedocument.theme+xml"/>
  <Override PartName="/ppt/theme/theme52.xml" ContentType="application/vnd.openxmlformats-officedocument.theme+xml"/>
  <Override PartName="/ppt/theme/theme51.xml" ContentType="application/vnd.openxmlformats-officedocument.theme+xml"/>
  <Override PartName="/ppt/theme/theme50.xml" ContentType="application/vnd.openxmlformats-officedocument.theme+xml"/>
  <Override PartName="/ppt/theme/theme46.xml" ContentType="application/vnd.openxmlformats-officedocument.theme+xml"/>
  <Override PartName="/ppt/theme/theme45.xml" ContentType="application/vnd.openxmlformats-officedocument.theme+xml"/>
  <Override PartName="/ppt/theme/theme44.xml" ContentType="application/vnd.openxmlformats-officedocument.theme+xml"/>
  <Override PartName="/ppt/theme/theme47.xml" ContentType="application/vnd.openxmlformats-officedocument.theme+xml"/>
  <Override PartName="/ppt/theme/theme10.xml" ContentType="application/vnd.openxmlformats-officedocument.theme+xml"/>
  <Override PartName="/ppt/theme/theme3.xml" ContentType="application/vnd.openxmlformats-officedocument.theme+xml"/>
  <Override PartName="/ppt/theme/theme59.xml" ContentType="application/vnd.openxmlformats-officedocument.theme+xml"/>
  <Override PartName="/ppt/theme/theme19.xml" ContentType="application/vnd.openxmlformats-officedocument.theme+xml"/>
  <Override PartName="/ppt/theme/theme61.xml" ContentType="application/vnd.openxmlformats-officedocument.theme+xml"/>
  <Override PartName="/ppt/theme/theme57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58.xml" ContentType="application/vnd.openxmlformats-officedocument.theme+xml"/>
  <Override PartName="/ppt/theme/theme18.xml" ContentType="application/vnd.openxmlformats-officedocument.theme+xml"/>
  <Override PartName="/ppt/theme/theme60.xml" ContentType="application/vnd.openxmlformats-officedocument.theme+xml"/>
  <Override PartName="/ppt/theme/theme4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69.xml" ContentType="application/vnd.openxmlformats-officedocument.theme+xml"/>
  <Override PartName="/ppt/theme/theme32.xml" ContentType="application/vnd.openxmlformats-officedocument.theme+xml"/>
  <Override PartName="/ppt/theme/theme68.xml" ContentType="application/vnd.openxmlformats-officedocument.theme+xml"/>
  <Override PartName="/ppt/theme/theme31.xml" ContentType="application/vnd.openxmlformats-officedocument.theme+xml"/>
  <Override PartName="/ppt/theme/theme67.xml" ContentType="application/vnd.openxmlformats-officedocument.theme+xml"/>
  <Override PartName="/ppt/theme/theme30.xml" ContentType="application/vnd.openxmlformats-officedocument.theme+xml"/>
  <Override PartName="/ppt/theme/theme64.xml" ContentType="application/vnd.openxmlformats-officedocument.theme+xml"/>
  <Override PartName="/ppt/theme/theme66.xml" ContentType="application/vnd.openxmlformats-officedocument.theme+xml"/>
  <Override PartName="/ppt/theme/theme29.xml" ContentType="application/vnd.openxmlformats-officedocument.theme+xml"/>
  <Override PartName="/ppt/theme/theme63.xml" ContentType="application/vnd.openxmlformats-officedocument.theme+xml"/>
  <Override PartName="/ppt/theme/theme65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62.xml" ContentType="application/vnd.openxmlformats-officedocument.theme+xml"/>
  <Override PartName="/ppt/theme/theme20.xml" ContentType="application/vnd.openxmlformats-officedocument.theme+xml"/>
  <Override PartName="/ppt/theme/theme5.xml" ContentType="application/vnd.openxmlformats-officedocument.theme+xml"/>
  <Override PartName="/ppt/theme/theme9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21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22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23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33.xml" ContentType="application/vnd.openxmlformats-officedocument.theme+xml"/>
  <Override PartName="/ppt/theme/theme3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39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709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_rels/slideLayout414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810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768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749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788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78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7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758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786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722.xml.rels" ContentType="application/vnd.openxmlformats-package.relationships+xml"/>
  <Override PartName="/ppt/slideLayouts/_rels/slideLayout780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21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720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790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734.xml.rels" ContentType="application/vnd.openxmlformats-package.relationships+xml"/>
  <Override PartName="/ppt/slideLayouts/_rels/slideLayout792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744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789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711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71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767.xml.rels" ContentType="application/vnd.openxmlformats-package.relationships+xml"/>
  <Override PartName="/ppt/slideLayouts/_rels/slideLayout709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87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683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6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86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70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684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7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764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7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766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7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69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678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704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33.xml.rels" ContentType="application/vnd.openxmlformats-package.relationships+xml"/>
  <Override PartName="/ppt/slideLayouts/_rels/slideLayout7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4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769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6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7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74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745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7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7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7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7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81.xml.rels" ContentType="application/vnd.openxmlformats-package.relationships+xml"/>
  <Override PartName="/ppt/slideLayouts/_rels/slideLayout723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762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724.xml.rels" ContentType="application/vnd.openxmlformats-package.relationships+xml"/>
  <Override PartName="/ppt/slideLayouts/_rels/slideLayout782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763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765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70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71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761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760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700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692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691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90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43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7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755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756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7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753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809.xml.rels" ContentType="application/vnd.openxmlformats-package.relationships+xml"/>
  <Override PartName="/ppt/slideLayouts/_rels/slideLayout677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82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76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1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7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77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698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1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8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1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7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8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812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799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78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68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72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778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77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797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8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785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681.xml.rels" ContentType="application/vnd.openxmlformats-package.relationships+xml"/>
  <Override PartName="/ppt/slideLayouts/_rels/slideLayout732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742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814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793.xml.rels" ContentType="application/vnd.openxmlformats-package.relationships+xml"/>
  <Override PartName="/ppt/slideLayouts/_rels/slideLayout73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739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794.xml.rels" ContentType="application/vnd.openxmlformats-package.relationships+xml"/>
  <Override PartName="/ppt/slideLayouts/_rels/slideLayout7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7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729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7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72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798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802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71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71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69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715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689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694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688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7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707.xml.rels" ContentType="application/vnd.openxmlformats-package.relationships+xml"/>
  <Override PartName="/ppt/slideLayouts/_rels/slideLayout706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705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679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699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773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816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8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79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7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803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8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750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783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8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748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697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776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775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801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738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774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800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772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37.xml.rels" ContentType="application/vnd.openxmlformats-package.relationships+xml"/>
  <Override PartName="/ppt/slideLayouts/_rels/slideLayout795.xml.rels" ContentType="application/vnd.openxmlformats-package.relationships+xml"/>
  <Override PartName="/ppt/slideLayouts/_rels/slideLayout443.xml.rels" ContentType="application/vnd.openxmlformats-package.relationships+xml"/>
  <Override PartName="/ppt/slideLayouts/slideLayout509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744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745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74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754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755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756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767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750.xml" ContentType="application/vnd.openxmlformats-officedocument.presentationml.slideLayout+xml"/>
  <Override PartName="/ppt/slideLayouts/slideLayout768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751.xml" ContentType="application/vnd.openxmlformats-officedocument.presentationml.slideLayout+xml"/>
  <Override PartName="/ppt/slideLayouts/slideLayout769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752.xml" ContentType="application/vnd.openxmlformats-officedocument.presentationml.slideLayout+xml"/>
  <Override PartName="/ppt/slideLayouts/slideLayout761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753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809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762.xml" ContentType="application/vnd.openxmlformats-officedocument.presentationml.slideLayout+xml"/>
  <Override PartName="/ppt/slideLayouts/slideLayout800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763.xml" ContentType="application/vnd.openxmlformats-officedocument.presentationml.slideLayout+xml"/>
  <Override PartName="/ppt/slideLayouts/slideLayout801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764.xml" ContentType="application/vnd.openxmlformats-officedocument.presentationml.slideLayout+xml"/>
  <Override PartName="/ppt/slideLayouts/slideLayout802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765.xml" ContentType="application/vnd.openxmlformats-officedocument.presentationml.slideLayout+xml"/>
  <Override PartName="/ppt/slideLayouts/slideLayout803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697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766.xml" ContentType="application/vnd.openxmlformats-officedocument.presentationml.slideLayout+xml"/>
  <Override PartName="/ppt/slideLayouts/slideLayout804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807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815.xml" ContentType="application/vnd.openxmlformats-officedocument.presentationml.slideLayout+xml"/>
  <Override PartName="/ppt/slideLayouts/slideLayout777.xml" ContentType="application/vnd.openxmlformats-officedocument.presentationml.slideLayout+xml"/>
  <Override PartName="/ppt/slideLayouts/slideLayout808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760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816.xml" ContentType="application/vnd.openxmlformats-officedocument.presentationml.slideLayout+xml"/>
  <Override PartName="/ppt/slideLayouts/slideLayout778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770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771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772.xml" ContentType="application/vnd.openxmlformats-officedocument.presentationml.slideLayout+xml"/>
  <Override PartName="/ppt/slideLayouts/slideLayout810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73.xml" ContentType="application/vnd.openxmlformats-officedocument.presentationml.slideLayout+xml"/>
  <Override PartName="/ppt/slideLayouts/slideLayout811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774.xml" ContentType="application/vnd.openxmlformats-officedocument.presentationml.slideLayout+xml"/>
  <Override PartName="/ppt/slideLayouts/slideLayout812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775.xml" ContentType="application/vnd.openxmlformats-officedocument.presentationml.slideLayout+xml"/>
  <Override PartName="/ppt/slideLayouts/slideLayout813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776.xml" ContentType="application/vnd.openxmlformats-officedocument.presentationml.slideLayout+xml"/>
  <Override PartName="/ppt/slideLayouts/slideLayout814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780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781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782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783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784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785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786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790.xml" ContentType="application/vnd.openxmlformats-officedocument.presentationml.slideLayout+xml"/>
  <Override PartName="/ppt/slideLayouts/slideLayout757.xml" ContentType="application/vnd.openxmlformats-officedocument.presentationml.slideLayout+xml"/>
  <Override PartName="/ppt/slideLayouts/slideLayout758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75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698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798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740.xml" ContentType="application/vnd.openxmlformats-officedocument.presentationml.slideLayout+xml"/>
  <Override PartName="/ppt/slideLayouts/slideLayout700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799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741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742.xml" ContentType="application/vnd.openxmlformats-officedocument.presentationml.slideLayout+xml"/>
  <Override PartName="/ppt/slideLayouts/slideLayout779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743.xml" ContentType="application/vnd.openxmlformats-officedocument.presentationml.slideLayout+xml"/>
  <Override PartName="/ppt/slideLayouts/slideLayout806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7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715.xml" ContentType="application/vnd.openxmlformats-officedocument.presentationml.slideLayout+xml"/>
  <Override PartName="/ppt/slideLayouts/slideLayout718.xml" ContentType="application/vnd.openxmlformats-officedocument.presentationml.slideLayout+xml"/>
  <Override PartName="/ppt/slideLayouts/slideLayout805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71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787.xml" ContentType="application/vnd.openxmlformats-officedocument.presentationml.slideLayout+xml"/>
  <Override PartName="/ppt/slideLayouts/slideLayout719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788.xml" ContentType="application/vnd.openxmlformats-officedocument.presentationml.slideLayout+xml"/>
  <Override PartName="/ppt/slideLayouts/slideLayout789.xml" ContentType="application/vnd.openxmlformats-officedocument.presentationml.slideLayout+xml"/>
  <Override PartName="/ppt/slideLayouts/slideLayout726.xml" ContentType="application/vnd.openxmlformats-officedocument.presentationml.slideLayout+xml"/>
  <Override PartName="/ppt/slideLayouts/slideLayout794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9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729.xml" ContentType="application/vnd.openxmlformats-officedocument.presentationml.slideLayout+xml"/>
  <Override PartName="/ppt/slideLayouts/slideLayout725.xml" ContentType="application/vnd.openxmlformats-officedocument.presentationml.slideLayout+xml"/>
  <Override PartName="/ppt/slideLayouts/slideLayout793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796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728.xml" ContentType="application/vnd.openxmlformats-officedocument.presentationml.slideLayout+xml"/>
  <Override PartName="/ppt/slideLayouts/slideLayout795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727.xml" ContentType="application/vnd.openxmlformats-officedocument.presentationml.slideLayout+xml"/>
  <Override PartName="/ppt/slideLayouts/slideLayout749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748.xml" ContentType="application/vnd.openxmlformats-officedocument.presentationml.slideLayout+xml"/>
  <Override PartName="/ppt/slideLayouts/slideLayout74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739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738.xml" ContentType="application/vnd.openxmlformats-officedocument.presentationml.slideLayout+xml"/>
  <Override PartName="/ppt/slideLayouts/slideLayout73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73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735.xml" ContentType="application/vnd.openxmlformats-officedocument.presentationml.slideLayout+xml"/>
  <Override PartName="/ppt/slideLayouts/slideLayout734.xml" ContentType="application/vnd.openxmlformats-officedocument.presentationml.slideLayout+xml"/>
  <Override PartName="/ppt/slideLayouts/slideLayout733.xml" ContentType="application/vnd.openxmlformats-officedocument.presentationml.slideLayout+xml"/>
  <Override PartName="/ppt/slideLayouts/slideLayout732.xml" ContentType="application/vnd.openxmlformats-officedocument.presentationml.slideLayout+xml"/>
  <Override PartName="/ppt/slideLayouts/slideLayout731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730.xml" ContentType="application/vnd.openxmlformats-officedocument.presentationml.slideLayout+xml"/>
  <Override PartName="/ppt/slideLayouts/slideLayout792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724.xml" ContentType="application/vnd.openxmlformats-officedocument.presentationml.slideLayout+xml"/>
  <Override PartName="/ppt/slideLayouts/slideLayout791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723.xml" ContentType="application/vnd.openxmlformats-officedocument.presentationml.slideLayout+xml"/>
  <Override PartName="/ppt/slideLayouts/slideLayout722.xml" ContentType="application/vnd.openxmlformats-officedocument.presentationml.slideLayout+xml"/>
  <Override PartName="/ppt/slideLayouts/slideLayout721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720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714.xml" ContentType="application/vnd.openxmlformats-officedocument.presentationml.slideLayout+xml"/>
  <Override PartName="/ppt/slideLayouts/slideLayout713.xml" ContentType="application/vnd.openxmlformats-officedocument.presentationml.slideLayout+xml"/>
  <Override PartName="/ppt/slideLayouts/slideLayout712.xml" ContentType="application/vnd.openxmlformats-officedocument.presentationml.slideLayout+xml"/>
  <Override PartName="/ppt/slideLayouts/slideLayout711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710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89.xml" ContentType="application/vnd.openxmlformats-officedocument.presentationml.slideLayout+xml"/>
  <Override PartName="/ppt/slideLayouts/slideLayout674.xml" ContentType="application/vnd.openxmlformats-officedocument.presentationml.slideLayout+xml"/>
  <Override PartName="/ppt/slideLayouts/slideLayout703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673.xml" ContentType="application/vnd.openxmlformats-officedocument.presentationml.slideLayout+xml"/>
  <Override PartName="/ppt/slideLayouts/slideLayout70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99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701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69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695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694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8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687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686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68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684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68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693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692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83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82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681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704.xml" ContentType="application/vnd.openxmlformats-officedocument.presentationml.slideLayout+xml"/>
  <Override PartName="/ppt/slideLayouts/slideLayout67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705.xml" ContentType="application/vnd.openxmlformats-officedocument.presentationml.slideLayout+xml"/>
  <Override PartName="/ppt/slideLayouts/slideLayout676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9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9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706.xml" ContentType="application/vnd.openxmlformats-officedocument.presentationml.slideLayout+xml"/>
  <Override PartName="/ppt/slideLayouts/slideLayout677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707.xml" ContentType="application/vnd.openxmlformats-officedocument.presentationml.slideLayout+xml"/>
  <Override PartName="/ppt/slideLayouts/slideLayout678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708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679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  <p:sldMasterId id="2147484376" r:id="rId58"/>
    <p:sldMasterId id="2147484389" r:id="rId59"/>
    <p:sldMasterId id="2147484402" r:id="rId60"/>
    <p:sldMasterId id="2147484415" r:id="rId61"/>
    <p:sldMasterId id="2147484428" r:id="rId62"/>
    <p:sldMasterId id="2147484441" r:id="rId63"/>
    <p:sldMasterId id="2147484454" r:id="rId64"/>
    <p:sldMasterId id="2147484467" r:id="rId65"/>
    <p:sldMasterId id="2147484480" r:id="rId66"/>
    <p:sldMasterId id="2147484493" r:id="rId67"/>
    <p:sldMasterId id="2147484506" r:id="rId68"/>
    <p:sldMasterId id="2147484519" r:id="rId69"/>
  </p:sldMasterIdLst>
  <p:notesMasterIdLst>
    <p:notesMasterId r:id="rId70"/>
  </p:notesMasterIdLst>
  <p:sldIdLst>
    <p:sldId id="256" r:id="rId71"/>
    <p:sldId id="257" r:id="rId72"/>
    <p:sldId id="258" r:id="rId73"/>
    <p:sldId id="259" r:id="rId74"/>
    <p:sldId id="260" r:id="rId75"/>
    <p:sldId id="261" r:id="rId76"/>
    <p:sldId id="262" r:id="rId77"/>
    <p:sldId id="263" r:id="rId78"/>
    <p:sldId id="264" r:id="rId79"/>
    <p:sldId id="265" r:id="rId80"/>
    <p:sldId id="266" r:id="rId81"/>
    <p:sldId id="267" r:id="rId82"/>
    <p:sldId id="268" r:id="rId83"/>
    <p:sldId id="269" r:id="rId84"/>
    <p:sldId id="270" r:id="rId85"/>
    <p:sldId id="271" r:id="rId86"/>
    <p:sldId id="272" r:id="rId87"/>
    <p:sldId id="273" r:id="rId88"/>
  </p:sldIdLst>
  <p:sldSz cx="9144000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slideMaster" Target="slideMasters/slideMaster57.xml"/><Relationship Id="rId59" Type="http://schemas.openxmlformats.org/officeDocument/2006/relationships/slideMaster" Target="slideMasters/slideMaster58.xml"/><Relationship Id="rId60" Type="http://schemas.openxmlformats.org/officeDocument/2006/relationships/slideMaster" Target="slideMasters/slideMaster59.xml"/><Relationship Id="rId61" Type="http://schemas.openxmlformats.org/officeDocument/2006/relationships/slideMaster" Target="slideMasters/slideMaster60.xml"/><Relationship Id="rId62" Type="http://schemas.openxmlformats.org/officeDocument/2006/relationships/slideMaster" Target="slideMasters/slideMaster61.xml"/><Relationship Id="rId63" Type="http://schemas.openxmlformats.org/officeDocument/2006/relationships/slideMaster" Target="slideMasters/slideMaster62.xml"/><Relationship Id="rId64" Type="http://schemas.openxmlformats.org/officeDocument/2006/relationships/slideMaster" Target="slideMasters/slideMaster63.xml"/><Relationship Id="rId65" Type="http://schemas.openxmlformats.org/officeDocument/2006/relationships/slideMaster" Target="slideMasters/slideMaster64.xml"/><Relationship Id="rId66" Type="http://schemas.openxmlformats.org/officeDocument/2006/relationships/slideMaster" Target="slideMasters/slideMaster65.xml"/><Relationship Id="rId67" Type="http://schemas.openxmlformats.org/officeDocument/2006/relationships/slideMaster" Target="slideMasters/slideMaster66.xml"/><Relationship Id="rId68" Type="http://schemas.openxmlformats.org/officeDocument/2006/relationships/slideMaster" Target="slideMasters/slideMaster67.xml"/><Relationship Id="rId69" Type="http://schemas.openxmlformats.org/officeDocument/2006/relationships/slideMaster" Target="slideMasters/slideMaster68.xml"/><Relationship Id="rId70" Type="http://schemas.openxmlformats.org/officeDocument/2006/relationships/notesMaster" Target="notesMasters/notesMaster1.xml"/><Relationship Id="rId71" Type="http://schemas.openxmlformats.org/officeDocument/2006/relationships/slide" Target="slides/slide1.xml"/><Relationship Id="rId72" Type="http://schemas.openxmlformats.org/officeDocument/2006/relationships/slide" Target="slides/slide2.xml"/><Relationship Id="rId73" Type="http://schemas.openxmlformats.org/officeDocument/2006/relationships/slide" Target="slides/slide3.xml"/><Relationship Id="rId74" Type="http://schemas.openxmlformats.org/officeDocument/2006/relationships/slide" Target="slides/slide4.xml"/><Relationship Id="rId75" Type="http://schemas.openxmlformats.org/officeDocument/2006/relationships/slide" Target="slides/slide5.xml"/><Relationship Id="rId76" Type="http://schemas.openxmlformats.org/officeDocument/2006/relationships/slide" Target="slides/slide6.xml"/><Relationship Id="rId77" Type="http://schemas.openxmlformats.org/officeDocument/2006/relationships/slide" Target="slides/slide7.xml"/><Relationship Id="rId78" Type="http://schemas.openxmlformats.org/officeDocument/2006/relationships/slide" Target="slides/slide8.xml"/><Relationship Id="rId79" Type="http://schemas.openxmlformats.org/officeDocument/2006/relationships/slide" Target="slides/slide9.xml"/><Relationship Id="rId80" Type="http://schemas.openxmlformats.org/officeDocument/2006/relationships/slide" Target="slides/slide10.xml"/><Relationship Id="rId81" Type="http://schemas.openxmlformats.org/officeDocument/2006/relationships/slide" Target="slides/slide11.xml"/><Relationship Id="rId82" Type="http://schemas.openxmlformats.org/officeDocument/2006/relationships/slide" Target="slides/slide12.xml"/><Relationship Id="rId83" Type="http://schemas.openxmlformats.org/officeDocument/2006/relationships/slide" Target="slides/slide13.xml"/><Relationship Id="rId84" Type="http://schemas.openxmlformats.org/officeDocument/2006/relationships/slide" Target="slides/slide14.xml"/><Relationship Id="rId85" Type="http://schemas.openxmlformats.org/officeDocument/2006/relationships/slide" Target="slides/slide15.xml"/><Relationship Id="rId86" Type="http://schemas.openxmlformats.org/officeDocument/2006/relationships/slide" Target="slides/slide16.xml"/><Relationship Id="rId87" Type="http://schemas.openxmlformats.org/officeDocument/2006/relationships/slide" Target="slides/slide17.xml"/><Relationship Id="rId88" Type="http://schemas.openxmlformats.org/officeDocument/2006/relationships/slide" Target="slides/slide18.xml"/><Relationship Id="rId8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3" name=""/>
          <p:cNvSpPr/>
          <p:nvPr/>
        </p:nvSpPr>
        <p:spPr>
          <a:xfrm>
            <a:off x="0" y="0"/>
            <a:ext cx="6670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5" name="PlaceHolder 2"/>
          <p:cNvSpPr>
            <a:spLocks noGrp="1"/>
          </p:cNvSpPr>
          <p:nvPr>
            <p:ph type="dt" idx="205"/>
          </p:nvPr>
        </p:nvSpPr>
        <p:spPr>
          <a:xfrm>
            <a:off x="3776760" y="0"/>
            <a:ext cx="28908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6" name="PlaceHolder 3"/>
          <p:cNvSpPr>
            <a:spLocks noGrp="1"/>
          </p:cNvSpPr>
          <p:nvPr>
            <p:ph type="sldImg"/>
          </p:nvPr>
        </p:nvSpPr>
        <p:spPr>
          <a:xfrm>
            <a:off x="853560" y="744120"/>
            <a:ext cx="496116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57" name="PlaceHolder 4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8" name="PlaceHolder 5"/>
          <p:cNvSpPr>
            <a:spLocks noGrp="1"/>
          </p:cNvSpPr>
          <p:nvPr>
            <p:ph type="ftr" idx="206"/>
          </p:nvPr>
        </p:nvSpPr>
        <p:spPr>
          <a:xfrm>
            <a:off x="0" y="9427680"/>
            <a:ext cx="2890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9" name="PlaceHolder 6"/>
          <p:cNvSpPr>
            <a:spLocks noGrp="1"/>
          </p:cNvSpPr>
          <p:nvPr>
            <p:ph type="sldNum" idx="207"/>
          </p:nvPr>
        </p:nvSpPr>
        <p:spPr>
          <a:xfrm>
            <a:off x="3776760" y="9427680"/>
            <a:ext cx="28908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FB3B97A-EF16-4D59-ADD2-9749C3B46FF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07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0" name="Slide Number Placehold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ABAFA3-E0F1-49A1-84EE-B4DE840933D3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5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106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-34308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Calibri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7" name="Slide Number Placehold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084BDA6-1643-47F5-9733-78EBFC0EB6FD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8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109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l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0" name="Slide Number Placehold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5F910A-6F3D-41D1-8441-F0684B47CAA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11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3" name="Slide Number Placehold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961EAD-0A8D-470C-925B-FD53D02B8A8B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11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6" name="Slide Number Placehold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E6B8649-8BA9-4703-BBC9-8DA7C3CD2B93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11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9" name="Slide Number Placehold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80446D2-FA4B-4BAC-92FC-A3DB64108AA6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12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2" name="Slide Number Placehold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CBA34D-E2A1-4996-8E1F-53A13D96F7AC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124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5" name="Slide Number Placehold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7C0C9E-DA52-4E93-A154-7C5BFD3405D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127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8" name="Slide Number Placehold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4F93F34-BE45-4453-BD29-D6928B4006AA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130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1" name="Slide Number Placehold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56DC479-AB6B-47EC-B905-58B8FFD7FBCB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1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082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3" name="Slide Number Placehold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690449-644A-480B-8202-C55084C401C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4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085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6" name="Slide Number Placehold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30F8046-10BE-40D4-B998-F0D27AC53432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7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088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9" name="Slide Number Placehold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77203C-43B9-47AB-AC76-36F81B06BFD5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0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091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2" name="Slide Number Placehold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393F1BA-B218-4406-A238-FAB2EBBE9F28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3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094" name="PlaceHolder 2"/>
          <p:cNvSpPr>
            <a:spLocks noGrp="1"/>
          </p:cNvSpPr>
          <p:nvPr>
            <p:ph type="body"/>
          </p:nvPr>
        </p:nvSpPr>
        <p:spPr>
          <a:xfrm>
            <a:off x="669600" y="46749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5" name="Slide Number Placehold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F95FC3-2663-4AE9-8299-5622F2CF5591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6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097" name="PlaceHolder 2"/>
          <p:cNvSpPr>
            <a:spLocks noGrp="1"/>
          </p:cNvSpPr>
          <p:nvPr>
            <p:ph type="body"/>
          </p:nvPr>
        </p:nvSpPr>
        <p:spPr>
          <a:xfrm>
            <a:off x="669600" y="46749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5000"/>
              </a:lnSpc>
              <a:spcBef>
                <a:spcPts val="6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8" name="Slide Number Placehold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55F3872-EEED-4BD3-97F7-0F7C6852DB24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9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100" name="PlaceHolder 2"/>
          <p:cNvSpPr>
            <a:spLocks noGrp="1"/>
          </p:cNvSpPr>
          <p:nvPr>
            <p:ph type="body"/>
          </p:nvPr>
        </p:nvSpPr>
        <p:spPr>
          <a:xfrm>
            <a:off x="669600" y="46749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GB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1" name="Slide Number Placehold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CA6352-DE4A-4858-A6F2-8C1E5C72BD3F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2" name="PlaceHolder 1"/>
          <p:cNvSpPr>
            <a:spLocks noGrp="1"/>
          </p:cNvSpPr>
          <p:nvPr>
            <p:ph type="sldImg"/>
          </p:nvPr>
        </p:nvSpPr>
        <p:spPr>
          <a:xfrm>
            <a:off x="853920" y="744480"/>
            <a:ext cx="4961160" cy="3722760"/>
          </a:xfrm>
          <a:prstGeom prst="rect">
            <a:avLst/>
          </a:prstGeom>
          <a:ln w="0">
            <a:noFill/>
          </a:ln>
        </p:spPr>
      </p:sp>
      <p:sp>
        <p:nvSpPr>
          <p:cNvPr id="3103" name="PlaceHolder 2"/>
          <p:cNvSpPr>
            <a:spLocks noGrp="1"/>
          </p:cNvSpPr>
          <p:nvPr>
            <p:ph type="body"/>
          </p:nvPr>
        </p:nvSpPr>
        <p:spPr>
          <a:xfrm>
            <a:off x="666360" y="4714560"/>
            <a:ext cx="533556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4" name="Slide Number Placeholder 3"/>
          <p:cNvSpPr/>
          <p:nvPr/>
        </p:nvSpPr>
        <p:spPr>
          <a:xfrm>
            <a:off x="3776760" y="942804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9733015-D1FF-41DC-A728-3EA5A028B6BD}" type="slidenum">
              <a:rPr b="0" lang="en-GB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7.xml"/>
</Relationships>
</file>

<file path=ppt/slideLayouts/_rels/slideLayout6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8.xml"/>
</Relationships>
</file>

<file path=ppt/slideLayouts/_rels/slideLayout6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6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9.xml"/>
</Relationships>
</file>

<file path=ppt/slideLayouts/_rels/slideLayout7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0.xml"/>
</Relationships>
</file>

<file path=ppt/slideLayouts/_rels/slideLayout7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1.xml"/>
</Relationships>
</file>

<file path=ppt/slideLayouts/_rels/slideLayout7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2.xml"/>
</Relationships>
</file>

<file path=ppt/slideLayouts/_rels/slideLayout7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3.xml"/>
</Relationships>
</file>

<file path=ppt/slideLayouts/_rels/slideLayout7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4.xml"/>
</Relationships>
</file>

<file path=ppt/slideLayouts/_rels/slideLayout7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5.xml"/>
</Relationships>
</file>

<file path=ppt/slideLayouts/_rels/slideLayout7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6.xml"/>
</Relationships>
</file>

<file path=ppt/slideLayouts/_rels/slideLayout7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7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7.xml"/>
</Relationships>
</file>

<file path=ppt/slideLayouts/_rels/slideLayout8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8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CA97C-F45E-4E2C-B340-C2EBCEE88F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DC0F-7669-4272-9FE1-B4BD81C13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C40131-885D-4F24-8292-83C9B8136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777A67B-3BD9-41EA-A779-67BB0690A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AE7B754-4942-4EDB-B34A-B7B8525B3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360798-5503-4517-8029-DD54FC4F6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970B58-AA6D-4A13-90B0-2FB8E5CC1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AF31B0-CCDE-4DE0-8B9C-E2FDFD63C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C4D482-94EB-481A-9C6B-862529312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1647F5-E711-46C3-B667-52747F0113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B3C218-38AE-47EA-ABFB-67A02AC61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E24A9A9-6E6A-496A-B722-F3AE892BFF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8812-6340-48C5-890A-4B1331A6D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431F16-6F33-4B40-9B48-3DFCFE174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D0B3F5-AE35-44A2-9C74-9EB7A1CF0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B37BB8D-5665-453D-9AF2-B8B77F8DA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24FCCB-7BCC-4D95-8566-E13CC8047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F39DEE-0BE5-4CEF-B61C-8CE175E73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710269-FCC8-4743-A27A-6FD4656AE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A0D30D9-DE70-4135-9E6F-1E637C3002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799C5E-4246-4EA5-A3D5-A5D5DF80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E93E41-4D12-49E1-930B-A9A4CFA20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2A25EB-3809-4A6C-BDF8-3288B73C5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7410-CD66-4ED1-91E7-E0941BB194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C840049-8179-444C-9FA3-5F7E0827D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4833959-D55E-412E-A032-3F20B2CF9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5BD348-35FB-4044-92E8-DCD944622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0C076D3-2A6A-4472-8D15-80EE02E36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333CA3-FD12-42F3-AD40-2A73EABC1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109E2-6358-4FC4-B5BD-387DB692A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142B11A-6A96-4088-A537-4B6E24B760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3AE5A0-03A2-4C9B-8B2E-3507A6FD6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FFCDB1-561A-4C37-B1EA-39F8FC2E8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1416A1-0FBC-425C-B1BB-0596D15E2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69B01-7602-41FB-84AE-8C3B7C175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409D7B0-5ADA-4EE9-BB13-030C2C849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75D995D-EA23-4250-A736-9EE1E90E8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4374BE-AC02-4808-B3A0-0E389B85F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1E44BD-0D30-4476-B6E6-FEAC8F511E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432741-1C02-4345-9DF0-B0352FA19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4F16D7-03DE-4054-8B54-CE0671D43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1CA9071-3063-4F64-B79D-D6B5D70B5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9640D08-44CA-4A45-A5B9-5F4B53698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4A8DEF-724F-4DF6-B5F1-4BDEFFE0B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257314A-24E6-4A04-B572-3FC96090B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C7EAF-E3D7-4541-9431-4101587D84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6896ED-9258-44C8-A92D-BBD54A5E6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D9A9E3-8730-40AA-88D6-6BBE393B52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DDE3760-11D4-4283-8BF6-C90C2F07B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FC36A2-E459-4EE4-A886-C7A96EA51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F6A9CE2-3649-4D1D-97A2-C031E3CF3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607988-0D55-4B36-8FB0-29CAC05A1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CA205D-0969-4062-B4C1-70813DB6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39E555-1FCA-4A3A-A443-D86341CDC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13AE248-F26B-4055-BB80-C10C15957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CDB7B8-FED2-4536-8AEE-90249C7D99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D0445-8EDA-4A8B-A547-390BB8538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7067AFE-66CE-4BA5-B7A6-E1A07E1F3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1B755DA-A0C1-4DF4-8CBF-DADD5083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CD1070-2B46-4A3C-BAE7-06E3CCCA4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9B63BA9-6748-4801-A05E-211FB25A5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098B37-6A3E-41B6-955E-D49A25C05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092699C-B580-4998-95EC-9B84E66F9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77F8DF-18B0-4793-9B2E-616F2CCAF7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C262DB-9C64-4250-B6D3-0E1197C7B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846383-FCE3-4332-8702-8F801F8A9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4DB80B3-3A66-402F-9D54-9410C9A3E5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85D79-FAB7-442D-B95C-9F3E5E967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DAA897-1157-4795-9ACF-8B30793E3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FCBECA-D931-4777-9CA1-2EAD209BB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8D862D-2120-4BEE-8289-0D7C1D7EC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47DF92A-251D-4C24-8FC2-FF682D9E2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78685F-5A61-4E98-868C-B97F2D362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D6FBDE-0203-47C9-873E-8CE88334A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4F14A26-6EF5-47E5-96F5-4160A69E7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66A82B6-8D96-4433-ACAA-B9A7527D9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2610CA5-D6D3-41D4-9599-721C07F31F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8282B3-B7E7-4223-AA7B-0346B4973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8DB6F-14F5-452E-932A-2A3A5577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59439D-83E8-49B6-9A4E-B255CCB76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13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6EE1D4D-E551-42CF-A16F-426A38EA8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0966A4-02BE-42FC-8126-DFCAC4BDF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1071CC-98F4-4612-A6E7-00419C904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8037194-6D27-4E3A-B0D5-B79CEB1AB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C5ECC6-2640-4138-839C-987D91786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AFDC26C-C2D0-4589-A368-86C1E2724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913CB69-8FF1-429E-A24A-40ADE2404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7043D5-1EE9-4D94-9F46-6DD5E0466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E39AA43-EEFD-44CF-9A3D-033A586B30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464C6B-2F00-4FBF-A256-673DEA40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8364957-51A8-4F2D-8C82-095B6B7C5E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217D79-0B2C-4931-A8DA-F953663829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664D91C-EC85-461A-BBD1-F3F5D2C4B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CC26079-F77A-4F7C-A3B1-5B263C01A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F92C5A-5E33-43C3-80B1-D533991A97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635E18B-7531-4B4C-AF66-A3582722C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D0A899E-8A69-4B12-B473-1BDAF158C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197AFED-9510-4371-8161-E85FD1A2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DE85BDF-626E-4E34-97F9-4397DE35C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96D415F-DF4F-4FFF-B3B6-BE871DF68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2BEB92-2CC6-4DE4-9471-37B5A5BCE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0AEC185-4479-436D-8426-BC1F81EC4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0EC56C4-E83F-402E-B9B3-5CF236D3F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346397-A2B2-47C9-9646-19CF0FE9D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3C70D63-EE38-45F2-A975-CA0437CB9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0464F3-1B2D-45ED-A1E7-394F7774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B1C6F2-08FC-491F-BC54-1225D03F6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19C1F98-6AC0-4221-B7E0-D141154FE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1C12EA-9C3F-4715-A14A-72FF19485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F47440A-3979-4B0F-A3A6-110F7A6AF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F565694-AE0B-4B94-9964-10825E3CC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320B0-3ADA-46F7-A42D-80998F53D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1BD51-0D28-4617-86A7-47CD56C08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B274C3-093F-40A8-AFD1-C0CAAE0B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A20FA08-AC09-45A7-AD08-050A2C604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3376B93-D54F-46B3-9D39-C93AC070D4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6CDFFD1-23FB-48AB-9D6A-CAB5F4A4EE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42608DD-A67B-4F6A-8B0E-3A97580E6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927FAFD-CA96-4F6E-8C44-55B6147E88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093A481-7172-4EA7-B343-0761A6EAF4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26E8D49-CBAD-4A52-B74D-1B796CA4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2A89402-BF0E-4C9E-8CF0-4C983880E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933501F-93E2-4655-9311-32FDBFA6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23475-6561-49F5-9E86-C438FD83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DDAD9D-C463-4654-A7E7-DC292099B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59D167-B6EC-46EB-91A4-CD6050167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36853C3-0884-4BEF-9391-FB23B67FF6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9FD266-0062-4FA7-810F-DA95F5E29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8503BBE-75F0-4DBD-9F15-21F1219D2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90758DA-B13B-41A7-A36F-79EC94672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D389EB6-0877-4DDE-9DE1-D6569D5768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AB3145D-BE24-4020-AA26-7B38558972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640205-4CCF-4934-B821-36CCC11432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22595A3-B404-4251-98D8-F8D4D970C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772C3-B13A-4846-B956-2E87D77A0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BD01D1B-DCDF-4075-AFF2-3113E9D2F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A8D49D6-1DC4-48AF-BC00-2B9878C0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13E33E-8277-4DD3-99A5-9D93BF08E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686298-6FB0-4C46-8394-4BB82C7E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BF01B50-931D-48D0-B8CC-D93CC72D4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52259F-1343-41DD-92C1-B74FA6E2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F4AEF7C-5BCB-49A8-A091-0CE002670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916AC89-C2E0-48C0-B7F4-DC0BFEE197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61E3BB8-2689-4033-962C-E809E416D8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AE580A3-E728-4311-A134-62251E4A60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7D57C-D4A5-463D-B718-24711A1BD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808DF82-6848-4912-A740-2A33E54E3C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0E5E065-5A4D-4D1F-B937-C70258725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5310731-3BE0-4822-B5C7-2670E4156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FC6E187-5F2B-49F9-96C9-4135EE12D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5032A28-E6EA-4A97-8461-A37E83C23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13A59F-A5C1-4390-8F16-C5D5E078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27CD39-1E12-44A0-AB8E-3A4A4AE48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823E524-A86E-4611-B04F-9F6D3CF3D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913C54-E027-4638-964B-9E4F6B6EE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40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5E828D1-914D-447F-91F8-D2F1276B78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394D0C-309C-4E70-8B40-2EF1A3CB2D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F2B09C5-0F8D-4305-8CFD-E83813DAC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6D6F3C-515A-4B5A-A8B0-C5794AF25A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FED1139-EF14-4129-928A-441D7DED5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CCD1644-178F-42CB-AC38-2F30CFCF3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558361E-4B08-4655-9914-202525B1D8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55D7BD7-AA68-45D6-9265-F0DF728F1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03081D-5E66-44B4-BC85-300AA53A7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AE748A3-9418-4A33-B637-DF530F5F5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8C306A6-A07B-4C0F-9B15-01FA21527F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7D00C5F-78D3-4251-B8D8-1CFF9C40E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CDCA99-B219-4C95-8572-733E8D821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DE006D2-A1DD-4F94-9CB6-D3E04274E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0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D19D67-507E-402E-9578-3334DF1A18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7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6AA5D5D-F1B1-4570-B5A2-8056F9A09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B900AFE-AB9C-41C6-9C24-6BB0AEC2E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09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9E0C9A0-5E45-48F5-8E5C-0B8523FBA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D8212A0-7F74-45BD-9DB3-14E6BFBF26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13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0116F92-3174-4801-8DB0-019BA025D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C6A4A26-BCFB-48B5-A79D-A8128493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09F3E3D-219A-46F3-ABCE-F30D89425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DACDBA9E-7BBE-44C8-A4E7-91EA82C826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4EAE3-DE8F-4C89-92C9-3936D3EC2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F4D4363-D7CF-442D-8FD0-7D6F1712C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C4C6BF9-5066-4EF3-BE58-B33F83D6C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CA049D9-77BD-4FA3-8843-1F5889F3B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3275549-32D3-4DE1-8624-D7518873BF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1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2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3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968479-7157-47B2-848B-20CC5FD69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60C630-4905-4F0A-8CE2-9584A163DF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55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2B5474-D5A4-45E2-ACB5-ED364839C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1FA33F9-CB29-44E8-B696-5BAF3CB6F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A50010-673A-4A6A-A083-C3571FB36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D44889-F0C0-449B-8087-18BFA54AF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086A496-3ED2-47E1-82AB-97C520EBC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AEEB9F9-C4D1-4731-AED6-496572868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5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6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605B86-E403-418B-88EA-5F39293477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68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9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0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E9087FE-3E7A-48D2-B2D2-75D6B633F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03A5B1-3DF7-4AB9-B971-2D0D4194B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032055B-CB00-40E7-9199-A6C84E3ED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2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B9BE7B2-6467-46E5-842C-0FC30DAD32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6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7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8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9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26A688E-A4A6-4DA7-BF96-1B97281B8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F95F403-4155-4F25-81AB-A17153FD75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73B352B-6DD1-4770-8FF8-116DCB100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70D457D-960F-4C64-923C-5C483D372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B4B3C7-2736-43EE-8CB0-8D14A3321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2CEAE6F-B560-491A-A6D8-6F6A467F5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022440-E8FC-4B85-BB85-C7896F416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58CE7068-674F-4A96-8AD8-9E5E7A1A4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1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2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97085D5-F220-4114-A555-C19F26ECD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C7AA93-2A37-46A9-90A8-0E5A16014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E98F204-C19E-4CC2-99C2-1E6F4AD64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B716C4F-8BF2-4684-A4C2-FC629C271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7163890-AB05-46BF-8F9F-C735131284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3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4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5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E3F33F3-21B8-481A-9474-6D0D6CFBA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BA0AC2C-76DF-4343-AAB7-35AAB5BA6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0B7880-EF28-474E-83D3-F8ECBB2E3E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078825A-0A33-4F8F-81B8-89DE5960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6ED4B69-602F-4A5F-92C7-065E17820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EB93912-4334-4308-B15C-A6BAEFDB53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F25E5C0-9D92-4462-A6E2-09478967F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7CA3964-7BC9-454E-BFF7-30087024B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3306609-D7D6-4FE3-924A-3FDEF26BD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004405B-50CD-4753-90E5-8BDD2E5D1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5ABFEA8-E5AB-4060-8235-D585B9D2E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E131A51-A67A-4FC0-B9CC-6757BBAAD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C9F88CE-41D9-4925-A656-176AEC0A6E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E3736-E3C9-40AA-B5E0-11FBDC7AC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8E32A-10BE-4EB1-8CF6-78EFB5125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0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1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4E43DCF-FCDC-4B96-B487-EB871D1C71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F29824F-E3F6-4D75-B3B9-75696A8F6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6CEEE3B-45CC-4816-BF88-F69B5437C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20B33B5-41F6-4D2C-B79A-3F655CD64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8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45F0DB7-5681-480A-803E-3F0E30F76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E40A71F-C8A0-4426-A218-F4EB24D53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0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949A252-54DD-404C-A857-0B50D517B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E304B46-DD62-4DBB-BF14-EA2191C16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06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375637E-17B4-45E3-8D8C-42BE8B7FE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10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1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2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6D1D802-92E0-4840-BE8F-9FAA9C74F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C4B22E-D53A-4210-A7A8-686611CC7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14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020D3C1-5F77-46CB-897A-3D9860A3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9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0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C60EB64-586B-4003-BF22-E71001EE1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22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3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4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5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6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7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A6551A7-A17A-4C99-AA20-59F5D7E325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3543672-A1D9-4A34-B5E5-D7397BF14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39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D57EEDD-605C-4B22-B797-E870008F3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41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439AA4C-909F-4D93-BEF5-0DD2B9ED2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AEBB54F-A236-4417-AD5E-5D83E09A3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46D1423-28F2-4C27-9CF1-A470BE898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20529F5-B580-47AE-9BA5-87C3A2B303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48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730E9E8-D4DF-498C-86B7-AE53954D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D30FEA-CEE2-4121-8B32-642A493D0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2EA942C-21F0-4405-B6D1-B9AACDE35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8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AAAC029-C6F5-4FE0-B898-022754131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3B852F7-FF96-4E15-892A-963A7710A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7A17283-4365-4C71-AC8B-6953605A0D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1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D29DEB8-85DB-4D90-9093-854909E80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FB594CF-9767-4C0C-9546-BBE74CB720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9D00734-A982-4667-9A34-9F836017BE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9671391-0A17-4225-98EC-E07AFECD6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2F76871-1A24-4A47-8476-4694F6A04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0D2AB26-9AF7-400C-9B9C-2C3B360FC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78D038-EF2D-4F0A-8A7E-267F8FC2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4F925CB-83DE-4004-A1D7-622DDDD68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E9233AD-7E62-4627-8810-3BBA489D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1CEA698-A326-440D-880B-B70DF0C2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02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4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CACC51D-FD78-49EF-8D86-0670D9102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CBFE77A4-BBE1-4E3A-863E-5232C87AC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0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1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F4402DF-BB08-48AB-A484-4045F10DA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6EB46D9-65B9-4B7B-99CB-F456C7C0E8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ACC04C1-D32F-4EA9-A810-14FCBE2D3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31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597FD1D-27F4-47BD-9A66-1C3B69EEF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B979CE9-23EE-4D88-93BE-2C3BE0D5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4DE8785-DD9A-449F-AFC5-C5ED40CDA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C608D61-E718-413C-AB6D-6E6AFB27E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12076FC-D76B-4F34-BED6-53B3868A1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270220F-36DD-43A4-8FB3-94628FA65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1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688BE94-2C66-4253-BE65-109F5549D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A54A54B3-0D4D-4702-9E83-197778AEE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48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4C897EB-C4D0-4582-9E1A-DA47856EF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52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5E35D0D-322D-480D-B5FD-16D69862D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C817D444-8866-479F-B745-FEAEFE4BF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1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2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E1FA874-3642-4F07-ADBC-AF22C1399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493AF73-FDA7-4C33-A23B-AFE3CC6BC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A1FDD5-3FD9-446B-8123-00F6081A8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77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5932209-390B-430A-90EA-1BBBD3C5E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79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7A77667-6D06-4DD1-867A-5CC19D1A2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81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2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16D8194-5F4C-43A4-8FF0-75A3CD3F3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F30B62A-F396-42C6-8FA6-A1BEE1548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4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ED14092-EA2C-47AB-80E6-7F46254C2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7E350D1-7678-4A7D-9C8B-4D6B0C4F5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5D56AD5-DA08-41A0-9593-54D306E19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55E34F0-2E61-47C0-98EB-89EE83391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DF76950-21D9-4C31-8506-CF03C98E0E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01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227CBA8-290C-4C0C-BE7A-2185D83F94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23E4C6-C1AB-4A07-86E1-B01A8FC65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06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04FC6D8-5AF1-4AAB-8E19-8C9446225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46612E0-D733-40A1-BCA5-BCBC6557D2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2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23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8F65A59-6F38-40BA-9DA3-15F7E4DEB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25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E496901-E0E6-4083-A162-486303466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C11AAD0-6479-4DC8-9176-04859391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1B2AA0D-19FA-4BC0-9F40-9CA9706CB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0549A97-83C7-454C-BCDF-64B9F3C9F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4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F0725E9-EC47-4741-9E43-9B0F31A83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8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B53575F-E37A-4EF8-88D7-52371B058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40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1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2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E70BD6F-0584-431D-8B08-5A489CAE7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59D41D-844D-4147-A0A2-4BA989FBF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44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5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98EDBB7-2154-4A18-AB7D-52392A8A6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D07F0F6-BD7E-4A3F-A319-AB155EEE7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52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3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4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5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6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7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347744F-FB70-4161-83F3-0B3A79D77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C171F38-1A23-41E4-A1A6-C64D343CC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69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B3BA615-EEE3-4D15-9374-105FD93D3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71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25F1733-6E7E-4E94-8E1B-24C553EEB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2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73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4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BDF581E-308B-477E-94AA-6E9278E7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3F2CA43-B837-407B-B7F0-867F72161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2047ECB-9685-40B3-9789-2DDB2516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2BCD2DC-106E-4A00-95C3-E675F3CEF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9D81CA-4DDF-4E35-BFEA-86725B9E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4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F6D53E3-F219-4612-B64A-28EE1635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32F987E4-4F53-4757-9ECE-E2E286086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333D391-1C99-4354-AC39-3AEB4FCAD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2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93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4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6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4903362-A43A-40F2-90DF-3AB8BBA96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2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18740DD3-47FE-4295-91DE-7249C125A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FF4D67E-1D54-43BF-A702-94E19E0D7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16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0C27086-38EC-4D22-8FAF-E9E56338C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01B2184-0406-4C19-9777-FB752B779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1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43378F40-9C16-481D-93AE-E1E57FCEC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2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660BF36E-94C5-46F5-B898-06CA40ACD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0D797C-C2AE-4B35-BC48-A4BA40FA4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30E8116-2027-4430-8614-7B6C9CB63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25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6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7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99478C7-E44F-4219-AAE8-4FB2F15D9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7A647E3-72DC-4522-9D24-397E27DA25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1364FB6-2338-48C8-A0DC-3336C1EA4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5D6C0E2-F7F5-4335-9754-A6297239F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40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3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F99101C-2D6D-4ADE-A48C-AEB776166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45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8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9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0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E1BC4FF-EB30-41C9-9720-5DA7736C0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0252BDF-2F4F-4F23-B3CF-EB2740AFA6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62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8B2D112-757D-4590-8635-1173A30B3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64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6AB0426-1D5C-46B2-8367-810DA1DC56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F1A1-3FA3-448D-809A-43FAD0E9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FB446-8A12-4F8F-84E4-7A2E2ADB6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66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B2F1E2C-4433-46C1-B050-B1C00E353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D37BD4C-1E7D-40F5-829E-A18EE450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9CF0950-414A-42BF-8ED4-FC6447253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71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3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0486393-FB1A-413C-9C70-3FFA79692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75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E029B01-7CFC-4F78-8536-18116CE95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79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1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520D4415-05EB-4132-B6D0-0F3081520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2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83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4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3EBC5C1-C56D-481F-ACD3-E3A0372C46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1290749-16DF-4F33-86AC-C03822365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00A2D0D-FC4A-4A2F-8769-2F477A86E5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347C662-F241-4AE3-99D3-9EEF559F7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56C505-155A-44BD-9E24-9E9883B7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96A5F4D-55A9-4DDB-946E-2CF7C3D45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2E2D3F8-4349-4E9C-BCCD-1CC58577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B005DC0-27A7-48D6-98E7-5A651E3FA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FE8709F-36B2-4CA7-8C38-A9D73B087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5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A335CFE-F77A-4662-B5C4-7A3369715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17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D22880C1-642D-451E-96A5-CCB4A52E0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21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2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3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4A1A159-9779-48C2-AF7A-27661F64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25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6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7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3F92AB9-186C-42C1-89FA-2455A087D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25AE182-1359-4C57-99B2-1DCD65A22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32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3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4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5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F611145B-4FEB-4472-A862-92D3AB9378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5E0639-6877-46F5-8EA2-A43D4C100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37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8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4D46173-686E-47E9-BAAC-BF679C4CA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5B39D1D-4DE3-458A-90E7-F54FE591F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54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A535A50-927D-4B8D-AB8F-4E3DC062A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56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322EF01-8A63-4804-A302-0CAF4C63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9634950F-48C3-4241-86E5-398A3C5EB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E4196AD-FDFF-4C7C-B01D-6F99C4506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7AE1A47-32C7-4569-B56D-3E78130E4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63B72F2-9472-4499-AC28-A85847BCF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67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8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9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D137D8E-9833-498D-ADF3-E916D5548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71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2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CCE5AF2-30FA-49C2-84E0-B2236B4D6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F88DD0-31A4-4DCF-8447-7618E1327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75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6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ED3E240-6C2A-4E01-B746-2570A1BDD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ED2C990C-15E8-4C7D-8BF5-A8E529395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83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4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6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7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BD6D46A5-370C-48A6-A0A7-D581A87B2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407E0C5-870A-45F3-9422-F15B35F407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00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DFF55A0-4B3D-490A-9187-B6BE48430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02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960BFC0-AD71-43F8-BD7A-E38EEE4DE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04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5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041624E-A68B-47E3-AE93-1CD70E55F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DD0A693-7FDB-4268-ABE1-EEAA6E0D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7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A53A288-2298-40A4-A271-E5BB87B0B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1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FE02247-07FB-4BBD-B24D-B1C5A49D9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A39995E-F1D4-461D-8294-878DD217A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7E40ED98-278A-4E91-8BDB-608DB3EEC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17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8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EA5557C-34A9-4407-B413-81BF7A8B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96A2EE2-9016-4D11-A4B9-F414E3DD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24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5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6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7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0EA942C-A5FF-42CF-B0DF-166AA817F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29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0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2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3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4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C3E26A8-C221-467D-A088-C8A8DBD7D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E822227-B6A3-4567-9BCE-570004E8F6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46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3F83364-6D0B-491A-843D-9F05DA59E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AA2231D-D1CD-4306-8FD0-9BD1B9911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4F8DDC8-CA65-430A-A08F-894C4A3F5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2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51440C62-FE6B-4616-9779-09C76216D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82DD7C3-1F61-43F2-BFF7-FCD770812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95E960D-1B52-4939-A438-0880D194E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55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33FA0BB-0953-4143-983C-DA3D1F9F1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0CB435C-BE5A-4258-96A2-BE8EBC5CB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63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4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5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FAFEA43-341F-468E-AB2B-418DBF454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67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3D75C478-E51D-4FBB-B98E-D4E620D12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70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1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2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3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1D233377-11F5-4DFE-BC56-5461A7DCA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75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6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7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8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9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11041A5-F4D9-4EDC-8F23-C37FE7F720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4CE8375A-4A15-4A0C-A4EB-2C92CA3E7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92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BCE8707-DBF4-40D8-9A19-48D27CD81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94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CD6E923-2DF6-4FBF-9DD9-9609DD43C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B0AFA9-BA42-4E5B-BB88-310A1DD8B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96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7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F6B3470-D6B0-46AD-8879-95B289A6C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A205F06-BCA5-4FE3-BEF8-944F4635D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8E181B1-5F3C-47CB-9DD3-025D554D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01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BDD9E5AC-8289-4776-B83F-05C1F1869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05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B905300-F6F1-415B-ABBB-92F3EADC4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09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5E0A318-4D0A-44E3-AAEE-AD69274E5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4EAD327-8AEA-4A19-A520-4B9E8EFCA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577AA50-C855-4222-A04D-0C70B3F15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2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3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4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5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6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67B5B84-8801-4D29-9FFF-623F2D03E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3E40354-49F5-4351-B345-15D341B14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04E4F3-E4CD-4066-A395-C02B09607A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CA0B6E4-BFB1-43B0-BB2D-3962BC907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40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19F8448-52FC-4ED7-983A-FE40EBEAA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3197DC1-91CC-419A-B2CE-8FF7E561F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F40102E-F057-463B-987A-2DD037838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5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277511F-48D0-4436-9FA9-583540D11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47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9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068A84A-721E-49B6-8543-82C1AF329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BA2938F-67A4-47E1-99E4-433DE80F7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6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7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B5F03774-F1AC-48CB-B44D-8FC4CEC1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6BFC31B-1A65-4EAA-968A-440144E0A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62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3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4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5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D8132B3-626B-432C-8A61-3631E857C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7C375E-FCE3-426F-B05E-77B7E15CB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67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8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9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2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EA54210-5D4C-4A74-91D7-C257776E12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888955A-3746-46EF-AF89-20E5E2ACD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84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0051AF07-E563-470C-BD67-C2AF7F8D63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86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AE796FE3-9FF2-4585-870A-DDB85FC475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956464B-7F6F-4BB4-B0C0-0A3418A9B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FF3960F-F3DC-45C0-89D5-0BB8C3D13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1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19EC4348-DBF9-4FC0-B9C6-5280248E5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8371BC3-7DF6-4A70-8F9F-FB14648BA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97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3FDF55E-6601-4FC6-B031-2D118D5E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2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6FE4F3B-3712-4954-989C-097404919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052E05-50C9-42D7-A6FA-E6127667BF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05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6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9CFA8A9-D059-4E1E-92F9-04EF23826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1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A7263AD-B46A-4485-B487-810A67313B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13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4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5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6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7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8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BE7F857-9033-4C12-AF4B-89D8415B5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766124D-8F9C-43D2-83A2-DE0B51575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30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9B843F9-D6C3-4249-9EE4-ACCB28CDD1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32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A4B8570-6435-44F8-ACB4-D0B20F6383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34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7051DD9-3BCC-4FB5-867D-3213E89F4C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70A3D79F-F059-4E4F-B7DD-ECA31DD73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7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D31D4708-A37C-49D4-ADD0-B38FA6AAE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39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0E82F0D-6C94-4B2C-9E0E-810480F5F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2CE2-7836-4985-9E5E-DDBC1BEE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1EFC2B-792C-4F21-85CE-B71DBB7A4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03C8AEC-B22B-428D-B339-2A864C0BE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47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8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9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8F6FFE6-0A7B-42F9-B139-6AFF68842C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51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2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EEF99B0-81CA-4A67-A1AC-09E2E8C11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6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7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591F668-2794-4F11-9E31-EB6DF5EEE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2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3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4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D9F2417-A133-4B43-8658-A82623D39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FFC9928-5C39-4992-BFF2-780E85C83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76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A96C682-881A-4485-9E3D-F9C6559AE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78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5169A44-7A78-4878-B817-2F4662A95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80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1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5DB88B9-B6BD-4D53-A868-3FA7B68C1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2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716F992-9013-44A3-9E22-B1F0F86B4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38E8B97-9F34-44B8-8687-94E57EB8B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3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63F9325-39E9-42AE-BF7B-A38B9F6C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85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6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7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79B971B-2009-47CD-B3EB-24F13721F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89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2816118-DA41-4FC9-A1A6-75343FA8A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5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ED7E8FD-1C3B-4DC1-95C4-F8035846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8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1A358D7F-FE9A-48E1-AE27-2FAC54C58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DC88142-B04E-455A-BD8D-F5B7A267F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05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7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8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0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46CDDB87-8C69-4F5E-9498-A15E1FEE54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2A9562A-2B4D-4B1A-A238-F1E3719F8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22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0F2A588-5B70-4910-B301-E142CF25E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24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8E35450-CCD0-4DC3-935C-173191AC2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6AAB48-4252-49A3-B2F6-A38D3D2BC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A3954E0-ACD3-4E19-A610-3AABDD582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70C1A23-C9FB-40CA-AFBB-FEF7CA4B1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9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0D231E48-BEDB-480A-9806-E246FB778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31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63730F6-4286-43DA-BE64-E08B7D539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6DFBD433-AD4C-4070-AE3E-3FD2C2C9A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41AC105-C3A8-4C98-B313-0DF60078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43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9EB4E29-279C-4665-89E9-B18BC9F728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46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B709E9A-0F04-4E14-8A74-16EE03556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51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2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3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4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5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6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FE56B09-A209-48D6-A104-D6DD65974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A2ED13E-EF02-46D7-AFF9-9C0ABE4458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AA1204-A757-476B-9A48-A7DE54563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2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63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43C0775-8140-4461-A17D-FF1F1AD7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65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4268B835-3CE6-489D-9FA0-49E63AF1D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52485B4-5580-4936-A0F6-1FB62F127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A1C2EBA-6E14-4D03-9471-C263B6A0D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0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6612CBC-94E6-4605-8643-E328F301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6ABCFF2-D3CA-47C0-9547-9955B45DA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5CA49890-757C-433D-9443-FA958545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1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2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2249EAE0-03CA-4A82-B6CF-D327B9625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84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5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9E424FF-BE5C-4A0F-9CFE-31F41FEC7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0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6B7BCB1-7FBB-47B4-89DA-FA6CE17088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B7D0A-12CC-4EE5-B324-ACAB8609A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92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3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98BFCB4-ABE5-4710-B3FA-7094FD4E34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F1832A8-28E3-41CB-BF42-454B9973E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04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AE7FA64-61C6-4AB2-B35A-3BD670CB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06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6D4CB66-A4EF-43AA-AA15-18C8F0AB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08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9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04C0957-BC49-49A3-BD60-CDF5DC46C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51672C0-32F2-4DD7-9491-61CD76F80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65384936-AD9F-4175-AF83-5F87D4BB0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2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13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4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5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D6DBE95-0AFB-4F97-AE26-2DD758FDD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17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8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6058483-5FB8-4AAE-94CD-445DC9603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2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3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F089401-396C-4A91-B21B-693D18F1E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A9DBF-376B-487D-880D-C7909569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6E585A4-F530-4C21-9650-C7CEBDC3A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28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9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0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1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FBF8CE9-805A-469C-B8E6-0E4CFB361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33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5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6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8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56A8CE0-65D5-4F61-B890-0CAB10A65F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A31C834-9B2E-435B-93A8-68615FB94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964B50C-FDF7-40B6-A3DC-C0AFBB8C9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47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9D90E2A-52F9-4A27-BB7E-267BFDF9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49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0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F7CC0F7-B2E4-46B5-98DD-69D4375CC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AA7691D-E78A-43AB-8B27-DC93946C5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00F7554D-BBA4-49E0-8952-BF429DB7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54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6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E6997725-D62F-41A9-BBE3-65E9B6D8F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D6654B3-B16A-4235-B515-FEE13F1CE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58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9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0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FDCA41C-FEFE-44BF-A438-984D8F0F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62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3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93F4769-E782-4D60-B344-2BA56F7E0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C45ABAE-2A76-4DBC-801A-2939B100D8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69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1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2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93E34F8-E011-4DCB-B1F1-A028AAFF94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74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5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7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8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9E479DF-6D06-45E2-AA88-31474F4C7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8CFD253-E087-4DA9-808D-516BD41D74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86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F2A6491-19B1-4CED-A6E2-1EDA28A60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C951867-A79A-4A0B-8EEF-9C2A6DB16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90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1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695C5C8-F07E-47DE-BCAC-1BA6075F5A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9F96F56-9E39-4F7D-9C20-36A0FB6DD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E90292-986E-45F0-A69B-AD832449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3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42EFA87-5F07-41B3-85E6-17E8EE328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95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7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C7325EA-68FD-41EF-BBFC-D58B69709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99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0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1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0731212-9A1A-4B1E-83E6-B948AABE5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2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03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4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5EB8823-61BE-4F52-A65B-D77666893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8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CD9221B-4DD6-4503-97FD-1AA7928C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10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1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2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3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EBABE070-BC64-4F14-BCE4-F0112B5CB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7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8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9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0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D3B9AD5-CCD0-48F2-A415-E40BB0EAC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EAB20C8-24D1-4B4F-9E46-EF6B8BDBB1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27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B4DB9A6-A114-4E92-9054-8CD7AAEE9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1187311-942A-4ED7-960D-EF89718F0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3B36C-AAE2-4908-86AE-2D0584A2D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007D425-9926-461C-BECE-2C6656D89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A1080E7-C60D-4E31-B588-3FD6D70C5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4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3BB4755-4B4A-4248-8DAC-356A3A55C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44B7A0A-3365-44EF-BBA3-06CE5D7C7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40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1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2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E8AC759-E335-4717-AD2C-272EBCA94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5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6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1CB3551-EDF0-4636-BEA0-88C2E38FA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48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CB34AB4-6D14-41D6-8EAC-FA9B5EEB8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51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8F30083-EA41-485D-9411-FD0E4F713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56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7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8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DBB67DF-928F-4102-965A-C9C0619BD1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35D4B16-D3CC-4B66-BE6A-2C08077841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3CF34A-1B57-4A46-8897-3F94EF40D8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68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0C5CE732-243A-44D7-90C8-713EDCC5B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70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4B4C648-562A-4AC3-AD8A-EAFA25DC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72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3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F53CEAC-87D9-41B2-9CC1-AA0F30FA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EA30CCE0-C0C1-4207-A585-53204BCA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5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6B15E36-5102-4B39-AF3E-1401D8038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77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8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9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8C20999-0DC7-4CF3-A5BF-517D033F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81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2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3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63ED132A-BA69-4774-AF9A-C5488ABB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85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6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7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76EA422-54D3-44CE-912B-8F04445B7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A1D80F93-8AA7-4620-BEC0-3BBD35190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92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3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4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5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B64BB76-B84F-4E5E-BDA4-D7AFB410A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C960F-9212-4391-991F-77F82F159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6FAD26-83D0-43CB-BDD3-02644050D7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197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8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9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0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1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2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6718DC1-6861-4C5F-81E8-3A0F794B47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6B96929-D31F-43AB-BD29-0140871007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09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E904572-8D5C-499C-9FCE-3DFE17E79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61A753A-D476-42E5-984F-CBDE8C332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2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13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4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667CAC89-3CB4-475A-95D8-0EC3AC74B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C96E2EE-23E2-47F4-A6E6-0B1C65ACD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6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C4823B2-EBBA-4AF0-A57A-DFAACB86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3E80BEC-4D73-4233-A157-858E7D905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22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3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4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6855220-F5B1-4202-A975-974579B24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26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7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8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E2DC617E-A15C-48A1-A3B2-0EE257F83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424320-FE20-4E91-9791-D25A7D04D3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30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1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860D1202-6DDC-42B3-98C3-F95194176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2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33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4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5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6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4012BE18-16A6-45D1-AF34-CAFA002F6F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38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9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0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1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2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3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BC6A9C2-2DB3-487B-83A0-47CB3DA80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9F819CD-0F12-4B9F-BE2E-1AB88FD89C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50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F196B0B-4339-462C-B8C5-95AF58DB4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52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658B9EA0-F22E-4454-A5F9-50AFDF26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54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357F5A93-71F7-4F56-B07A-747137083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054EE11-B17A-4DDB-AB76-E2A591F3E6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7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82428D6-B16A-4FA6-8F11-F6BFF0E9C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59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0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1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029E136-0EE8-4969-B97B-EA93C6779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2BF2EE-2C8F-4CC1-BE57-318E1F05F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D19652F-EAA1-4807-B372-8C895C920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67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8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9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8BCB4E96-46A3-41A3-880C-82B0D7B4A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71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2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628ABCC-426E-4EE1-AA96-599EAC3E45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74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5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6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7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0D2E7754-4DBB-46BF-8262-4DE3C01F91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79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0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1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2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3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4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5B4F3C76-8E6B-44E3-B959-4FF3CD4B32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F03CAA6-E1CE-4B75-A174-FDC0D353AA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91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D94E84B-06A1-4375-A10F-7F564CB9D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2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93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73F337C-EF42-4317-9BB7-20CF966EAC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95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6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47E4BD4-274E-4935-81D4-D060AA740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6695734C-36FF-4F27-81EC-872FD9688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7EC7775-D6E8-4A3D-97CD-E2B23C547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8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6FEB508-3A95-4B4F-9B4E-1197E7092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00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1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2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24E12B36-31FA-4472-9C4C-7BB11B33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04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5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6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C489DB48-3AC2-4AEE-8ACF-3481E4D166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08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9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0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EBA3060-6F8B-4D37-9DFB-086AFE70B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12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3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1B2982CB-B2C8-4542-80C3-0213B8E5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15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6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7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8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0B54AE5-BAFA-49F2-A1EE-EF323B8F1B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20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1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2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3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4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5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DF5B297F-1FC3-4A3D-8D48-0188728DF9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AE6D987B-1C21-42B4-B7C5-0DE9A6899F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32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436F3D7-12AF-4188-A8A8-A1025C8D6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34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3C18149-4559-49E2-8BDD-5C1DB42B2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D8F532-0159-4C3D-8C62-D07A48B1C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36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7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6951975-980F-4241-8BE7-760951F8E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2915F95E-7D2D-4AB4-87C6-DC7DE648C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9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5E31F877-FC27-4A19-9196-B11EDF910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41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2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3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0F4E815-ED62-42C1-A319-006E150C8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45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6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4A38A90-15E3-4BBE-854B-F5CA12EA5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49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1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7E74854-4E65-418B-8DBD-302A63AFD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2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53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4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20965A7-050D-4945-96F5-92B9ADA75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56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7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8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9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8220F03-A87A-4E12-9467-570845076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61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3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4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5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6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E5F708F1-376C-4876-8991-392BE731E5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8F9686A-38C5-4EC0-AA3C-A10DCB41D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B55DD3-FEC1-419F-8F22-82A4E735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2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73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F71200EA-F3E8-47AA-84C1-57AC5DAA0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75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8018704-452B-45C6-8B24-4586D5001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77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8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747D6A47-E4AF-40BB-8885-714B191F65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124F066-7142-4D76-B5A3-0B69904C7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0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450E16A-CC03-42D8-AC5D-FEA81E365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82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3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190A30FF-04FE-4E79-B33A-8AD303EB2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86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7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8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57121D4-7B79-4A30-AB7D-853883B46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90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1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2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A314DB5-45BF-44F2-8325-41669B4A1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94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5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CD3DEFB2-D2E9-4A69-BF63-E3A5324D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8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9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0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FE5AC5C-DB9B-4037-9D49-CB172605E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11D95D-4A68-458D-8805-095647A87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02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4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5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6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7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A3F642F-6B0B-4EAA-A737-C0AF51242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895120E-BB9F-4C78-8323-B720245FF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A09833CB-0B16-4A61-A10F-FC8113FB8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22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0300BD9-2524-4C76-B9AF-73360C0B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24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5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AE1AF5B-9C4C-436F-893A-100EC8E99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ED72701-5229-4469-ABD7-F7F73D612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7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990589F-9679-453D-AD98-20AA5EE40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1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DB5E733D-65BD-4AE7-84BF-0D90224A0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5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02680C19-ACCE-4547-8133-2AD67F6A1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8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9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3E5B3835-A8F4-4150-8AB8-78EC280A4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B49642-F8A0-42ED-9EDD-F62817479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41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2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4C6418A-135B-467E-A279-A0598E747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44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5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6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7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2844DD9F-8106-4BB7-A5D2-9C32109F9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49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0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1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2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3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4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861EAA3-ED88-4C78-BCA0-72FC6E456C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68B43E34-9BD0-475C-9DAA-0FBCCFC696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67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09F6FB38-E207-47C4-AA27-B0DADC10D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69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D6C3DF16-2D7D-4A23-9359-23676183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71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2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B5E4D3B-8396-4991-8849-6C3E6DC80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E52B6E4-A900-47C0-B3FC-DC856CF8C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4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A6229315-0EB5-4D5D-A4CA-CDA907EEA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76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7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8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BA92D2A2-5496-4737-B22B-3F031F846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4156D8-9B7D-42B3-A196-EC76DC861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80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1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2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0F684F2-C2A9-4FEF-B219-5DB429966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84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5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24BA7161-21A1-4D51-B4A1-76E01C193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88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9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43940A91-63C3-495E-AEA8-9EB586FC6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91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2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3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4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80B64793-A670-43B4-8261-7CD0C339B0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96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7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8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9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0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1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1"/>
          </p:nvPr>
        </p:nvSpPr>
        <p:spPr/>
        <p:txBody>
          <a:bodyPr/>
          <a:p>
            <a:fld id="{51CDDBEF-09F0-4BA4-B3FE-63C3AE1BC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009F430E-16B4-4DB2-8568-7E97EF4C1E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08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AE8EF35-2647-4A2E-B514-4DC7F0D3B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10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3ACC68F0-9BEB-4F81-935D-F323684E8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12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3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456642CB-6A2E-4888-909D-690A9DC7E6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DC5D188B-F048-4095-A4AA-447A87B83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D749B05-0187-4D49-A66B-4422F7697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5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2AEC51E9-1419-41BC-9292-E094D598D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17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8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9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1BD837E2-477D-40A4-98FD-E96E4AF76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21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2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3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C2A2A1C-6F3A-433D-812A-75E47E547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25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6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7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C7146C8F-2565-4394-84A9-CB39603F13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29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0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9FD0B81A-6C94-42FB-B3CD-57722DEC3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32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3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4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5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BDFAB38E-AA52-4E88-BAB9-9FE1EE3F5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37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9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0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1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2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4"/>
          </p:nvPr>
        </p:nvSpPr>
        <p:spPr/>
        <p:txBody>
          <a:bodyPr/>
          <a:p>
            <a:fld id="{76390B08-0E90-443A-BDDA-EFBF62675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3157F803-34FD-4679-95C9-4687CF91D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49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6D5274FB-9136-4D88-B945-6D49A4F7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51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31A13D4-6D7E-43B8-B1E7-AFB38953D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9E65E-DE3C-4974-BB6A-90A3A372A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5146F6-1753-4B38-BB67-4376E0AD09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2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53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4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8B9FC8A-3B2E-42D4-8F3D-885DF110E8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2F41114-7662-4AB9-B54F-DFCEA5FCE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6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D714892-8048-4DA1-9214-787303E4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58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9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0170CB03-CCA3-4085-A7B5-E7978F264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62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3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4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E35BC016-B2ED-4F6A-BD6C-6E34C0E12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7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8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C9C5E6E0-AB5F-4546-A89E-173F3CE8B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70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1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BC78643B-248F-4896-B9EE-EC2BFD1A7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4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5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6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4EB6BAA4-2D68-4287-A2B1-8111A0928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78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9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0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1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2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3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7"/>
          </p:nvPr>
        </p:nvSpPr>
        <p:spPr/>
        <p:txBody>
          <a:bodyPr/>
          <a:p>
            <a:fld id="{7F578E10-0A05-4572-AAF0-A621E8BF7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41B16E4-0B0F-4120-9A1D-9C9FD65BB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642304-9D98-434D-9B20-BC9F053BA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90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17B9EEC8-6E63-408C-9220-AB3883F58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92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059F7A28-11FB-44BC-AF99-C5C842A20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94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5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A284C21-B4D3-4C41-9D45-2F0C96556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08C45E5-89BA-4165-A009-927C259DF0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7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96752EAC-9281-4DD1-BCD2-4CE5C2277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599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1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B4F4AF29-E9D0-4B05-B338-D1758A5E8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2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03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4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5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E496894E-BE16-46A3-8106-5F949CEC4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07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8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9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254682C7-10EF-453C-85B0-EE683F2FA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11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2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2407CC7C-B48C-4D0B-9F07-8601ED58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14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5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6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7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C79205C4-D829-4552-BE9F-FF7B490BDB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CBA597-D5CF-4F70-9CB0-BF7818567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19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0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1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2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4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0"/>
          </p:nvPr>
        </p:nvSpPr>
        <p:spPr/>
        <p:txBody>
          <a:bodyPr/>
          <a:p>
            <a:fld id="{660538E2-DE4A-4A82-9DC6-B8B4E60A41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7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E0297794-7176-41FA-924F-093707206C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31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952724F3-4CCD-44D6-8A28-AF44D70F9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2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33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70D44061-56E2-41B8-BD92-06B7C342D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35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6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40DB0F2F-A1DC-458C-9220-AAD6EC5E1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519AA5FF-1143-4A78-BBB1-90572F2A0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8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74DD1822-D1A7-423F-BC29-BF910018F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40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1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2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EF175BA0-BD80-43F0-9F40-77A0F15FE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44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5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6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F85D0F46-7D33-437E-A654-BD51B5FFC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48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9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0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F40BA598-D9FD-4345-82F1-BD907935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05274E-B287-4F67-8034-9A597048B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52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3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3F9569DA-1263-409B-B566-499874124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7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8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6E2D31C6-29D2-4AA5-87E0-5F6E158D7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60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1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2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3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4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5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3"/>
          </p:nvPr>
        </p:nvSpPr>
        <p:spPr/>
        <p:txBody>
          <a:bodyPr/>
          <a:p>
            <a:fld id="{F4BC1B57-4C8D-4B8D-BF47-F4ADBA6CD0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02FDC806-39A4-43F1-ADE0-2BC1DB302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72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5B1E97AD-0198-4CFF-9B62-5F8C3D9D0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74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6A15BD70-B486-40F6-A481-7B4E015C3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76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7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CA9834DC-4D68-4735-BBBE-3FBD06068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BCF3F14B-48EC-4D27-844B-F8A1B9BEFE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9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AAD8CCF8-3534-45E6-AACA-D9FDAD3D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81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2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3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70F370A6-440D-4F48-8438-C1DAF43C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E6F6A7-AD65-48F5-90D5-55AF9425C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85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6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7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9033BB53-3267-4670-BC49-DD4E0993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89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0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1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7EBFC1D3-2CCD-445F-ABB2-0D9435932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2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93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4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68C23A2E-F743-4B05-83BF-70104B538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696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7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8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9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954F42FC-709C-48F5-AD5A-B1A308E82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01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2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3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4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5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6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6"/>
          </p:nvPr>
        </p:nvSpPr>
        <p:spPr/>
        <p:txBody>
          <a:bodyPr/>
          <a:p>
            <a:fld id="{286EA15E-DBFB-4FAB-AFE6-823B1F75F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CCFDB74D-40C7-496B-9030-A973B2E93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2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13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A7555C34-D5D8-4C3C-93A6-169016B4E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15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75BC00E4-8639-41A8-A62F-00AF5DB223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17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8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D75EA5D3-3C0C-4A21-B193-BA7F733D4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06145576-894B-45B7-87D2-790649D8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80EF7CD-F282-4162-9B55-AD3A9180FF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92E43B20-601F-4B68-9059-831AB834A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22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3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4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11AF95C1-1175-4F3F-AF9C-30F87C57C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26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7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8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60352B09-8490-4AAA-808A-AF1EDAC222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30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1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2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4E694FE3-F000-42CD-A9B2-075BE9CBC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34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5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0F6C9138-6696-4715-8B16-9B49B198D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37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8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9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0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80420AF3-EDCA-44DB-BA1B-74DE6ECE4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42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3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4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5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6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7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9"/>
          </p:nvPr>
        </p:nvSpPr>
        <p:spPr/>
        <p:txBody>
          <a:bodyPr/>
          <a:p>
            <a:fld id="{7967F15F-3CAC-48D1-85AE-2215C4633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49B0806B-7008-4B65-8D6D-0130E999A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54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9277F311-D981-4735-8D4D-196A40F04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56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E0C3E2D9-B9A8-4BCF-8382-7D3CAB454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E5A4B3A-7222-45A4-92BC-31BCF4DA5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58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9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AD2D81DC-2BC3-4D9B-B2F0-81533D93B8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E2106C8E-8CF9-45D4-8A47-7079D37E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1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0F9B14AD-8177-48F6-91CD-6F7BADF74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63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4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5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E38DC31E-FDAE-4073-B088-A2156486B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67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8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9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5D448AAB-82B2-4D5B-B473-E4D8130D0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71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2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3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10DCCBF5-371A-4097-BD6A-247BA46C4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75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6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65C1D795-75B9-44CB-A824-DD5536568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78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9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0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1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FC11E461-9900-4482-B153-432F1CEA00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2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83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4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5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6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7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8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2"/>
          </p:nvPr>
        </p:nvSpPr>
        <p:spPr/>
        <p:txBody>
          <a:bodyPr/>
          <a:p>
            <a:fld id="{9AEB0482-5550-42B7-B369-C5A6AE35F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7E556033-214A-4F1B-B514-AC8D528193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6A220A-5C27-4301-BE50-D678CF1F0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95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6933875B-CEF2-4EF0-BB0A-D72023C23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97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A6145A2B-D2C0-4114-9AE5-E162B377BB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99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0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6BACE95C-9EF8-4545-A817-62DD94B23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25AC0414-E144-4DD4-8E05-8D63C0A4E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C8912791-BDE1-49F1-AC20-B8F6E527D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04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5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6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7D6B3487-FC86-4646-904F-7373539F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08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9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0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AC94F838-8879-4290-8B76-B423A66C6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3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4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9947D71C-8A63-451A-9E3C-522D25F59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7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50B039E4-FFCB-4BAF-9766-2486A355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19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0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1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2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B4225EA9-3518-4989-BBFB-F5C8965F9E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3DFDBC-A576-4976-B902-EE6A0210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6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7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8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9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5"/>
          </p:nvPr>
        </p:nvSpPr>
        <p:spPr/>
        <p:txBody>
          <a:bodyPr/>
          <a:p>
            <a:fld id="{E19F5C81-A043-4941-B3BB-1B6B8861C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2ABFFF1F-4C17-4DFF-9F79-90C713E1B6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36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7EC8AAD0-051C-4A81-BA37-5D332C7DC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38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649C8628-CC27-449D-9763-0860FD12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40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1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F0EB58BB-8693-4C69-B4B1-98CA35D0C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2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C4910A8F-D080-428F-A913-38E3C6D4C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3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A19E3CFB-53A1-44DB-8FC8-E822CAAF4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45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6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7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5EAC375D-8314-438B-BB1C-92A5DFEF4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49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0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1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36776927-43D1-4356-B373-3668DA536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2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53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4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5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3A3EA0FD-7563-4BD6-96DB-2143D201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E1AFD-AC44-4716-B4C5-7E9C7F569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57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8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B35301C7-D90A-407E-96BC-27F5F4BBC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60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1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2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3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72B41C02-3840-4849-AA4E-237B0D4F9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65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6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7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8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9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0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8"/>
          </p:nvPr>
        </p:nvSpPr>
        <p:spPr/>
        <p:txBody>
          <a:bodyPr/>
          <a:p>
            <a:fld id="{055B16F9-CD06-451A-BC0A-C17DD95A8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C7B1EBE6-A95E-4600-8979-3CCC95BF31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77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09E58CB-98DE-470E-A78F-326AA421D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79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4C713BBA-3F20-4E69-BCF4-044A69242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81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2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EA49216B-FC8A-402E-8871-12DE69579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86657AEA-C8D8-4BFD-9A15-BB2677A9D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4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9A2D9D6C-5372-4F9B-8A83-5174889D0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86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7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8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71F755FD-406D-4810-A1D0-B7020C9B9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4D8BB-6E46-458F-89FC-BA3B53944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9418A82-2149-481D-8B36-51AF06E5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90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1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2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8269CFA1-DA83-4B53-9443-7763BF170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94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5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6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39C57CAF-7BF7-47F5-85AE-093131890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98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9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E0207C87-BE0B-4C50-A2B8-69C2137B0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01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2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3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4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7113B43B-564A-427A-ABCC-7E2861F515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06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7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8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9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0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1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1"/>
          </p:nvPr>
        </p:nvSpPr>
        <p:spPr/>
        <p:txBody>
          <a:bodyPr/>
          <a:p>
            <a:fld id="{A473F376-FB88-4430-982D-392E1559E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CEDFC9B1-C9A2-4AD0-B270-4ED802C11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18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1CB9F0F1-D96B-4641-AAAA-279DD5DE50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20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066AE5FE-4752-4CE2-A00F-C32D8DE76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22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3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ADD4109C-E6AB-439A-AB1A-5F236B963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A503C6DA-5225-4869-A440-FEA0D95301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1C0C84-3433-4771-8E1B-2F2239D2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5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A5D7BEA9-25B4-43F1-9B0F-E24BDA87F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27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8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9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36F34DF1-12F4-4C61-804B-970CC62E9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31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2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3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DB60D23B-E38A-4221-8A75-884BBA410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35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6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7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A310DA44-28A4-44C7-B22E-CA910AEED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39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0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19F3B24D-CC18-4A93-9A4B-1019F1486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42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3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4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5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22A2682E-797C-4AAC-8EFD-4342CFC95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47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8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9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1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2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4"/>
          </p:nvPr>
        </p:nvSpPr>
        <p:spPr/>
        <p:txBody>
          <a:bodyPr/>
          <a:p>
            <a:fld id="{C71ADA48-EA5B-48EC-AA0F-4EF8DD01B8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0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4EECDF-E509-4655-AD86-F7669A999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64171F4-B7DB-41A2-AD31-23A96D832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E7F26CB-47BD-4C78-B6EA-33EE367A6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3A009A-0D8E-4070-970E-BBE3AFBB1C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1AFC06-EC45-40E7-BBD2-EEA41B8D4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B8E7A5-BE93-49A9-88FB-546A1604C9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A9905F-9A57-4D8F-8300-6B5ED0A2F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EAB9B7-A190-41AA-B5CF-2E5D4FD31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1E48-12B2-4D9B-B85A-6DA76CE9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ubTitle"/>
          </p:nvPr>
        </p:nvSpPr>
        <p:spPr>
          <a:xfrm>
            <a:off x="355680" y="421920"/>
            <a:ext cx="4876560" cy="34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97CDCC-B9F2-44F5-BDEA-0ACDC3578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4D15F2-50CA-43B4-A2D7-F0C3BFEA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53990-1357-4AA0-B02C-69B09E2BD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A4A764-3875-44DF-9B62-F54DA64E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55320" y="3937680"/>
            <a:ext cx="842940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756310-60F8-4A44-B623-374B6C0C9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600" y="166536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5532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5"/>
          <p:cNvSpPr>
            <a:spLocks noGrp="1"/>
          </p:cNvSpPr>
          <p:nvPr>
            <p:ph/>
          </p:nvPr>
        </p:nvSpPr>
        <p:spPr>
          <a:xfrm>
            <a:off x="4674600" y="3937680"/>
            <a:ext cx="411336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3BC4C1-216E-4E40-9A90-8E0D599BB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320544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055560" y="166536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35532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6"/>
          <p:cNvSpPr>
            <a:spLocks noGrp="1"/>
          </p:cNvSpPr>
          <p:nvPr>
            <p:ph/>
          </p:nvPr>
        </p:nvSpPr>
        <p:spPr>
          <a:xfrm>
            <a:off x="320544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7"/>
          <p:cNvSpPr>
            <a:spLocks noGrp="1"/>
          </p:cNvSpPr>
          <p:nvPr>
            <p:ph/>
          </p:nvPr>
        </p:nvSpPr>
        <p:spPr>
          <a:xfrm>
            <a:off x="6055560" y="3937680"/>
            <a:ext cx="2714040" cy="207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02631A-A4EF-4A69-A2F3-6A8134E4C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32F624-9E7D-4E07-9B33-8F47222DD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3EF58C-949F-4E2E-B28F-358E4D52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34FE04D-DCC8-468E-AFD2-6BE971638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65.xml"/><Relationship Id="rId5" Type="http://schemas.openxmlformats.org/officeDocument/2006/relationships/slideLayout" Target="../slideLayouts/slideLayout266.xml"/><Relationship Id="rId6" Type="http://schemas.openxmlformats.org/officeDocument/2006/relationships/slideLayout" Target="../slideLayouts/slideLayout267.xml"/><Relationship Id="rId7" Type="http://schemas.openxmlformats.org/officeDocument/2006/relationships/slideLayout" Target="../slideLayouts/slideLayout268.xml"/><Relationship Id="rId8" Type="http://schemas.openxmlformats.org/officeDocument/2006/relationships/slideLayout" Target="../slideLayouts/slideLayout269.xml"/><Relationship Id="rId9" Type="http://schemas.openxmlformats.org/officeDocument/2006/relationships/slideLayout" Target="../slideLayouts/slideLayout270.xml"/><Relationship Id="rId10" Type="http://schemas.openxmlformats.org/officeDocument/2006/relationships/slideLayout" Target="../slideLayouts/slideLayout271.xml"/><Relationship Id="rId11" Type="http://schemas.openxmlformats.org/officeDocument/2006/relationships/slideLayout" Target="../slideLayouts/slideLayout272.xml"/><Relationship Id="rId12" Type="http://schemas.openxmlformats.org/officeDocument/2006/relationships/slideLayout" Target="../slideLayouts/slideLayout273.xml"/><Relationship Id="rId13" Type="http://schemas.openxmlformats.org/officeDocument/2006/relationships/slideLayout" Target="../slideLayouts/slideLayout274.xml"/><Relationship Id="rId14" Type="http://schemas.openxmlformats.org/officeDocument/2006/relationships/slideLayout" Target="../slideLayouts/slideLayout275.xml"/><Relationship Id="rId15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77.xml"/><Relationship Id="rId5" Type="http://schemas.openxmlformats.org/officeDocument/2006/relationships/slideLayout" Target="../slideLayouts/slideLayout278.xml"/><Relationship Id="rId6" Type="http://schemas.openxmlformats.org/officeDocument/2006/relationships/slideLayout" Target="../slideLayouts/slideLayout279.xml"/><Relationship Id="rId7" Type="http://schemas.openxmlformats.org/officeDocument/2006/relationships/slideLayout" Target="../slideLayouts/slideLayout280.xml"/><Relationship Id="rId8" Type="http://schemas.openxmlformats.org/officeDocument/2006/relationships/slideLayout" Target="../slideLayouts/slideLayout281.xml"/><Relationship Id="rId9" Type="http://schemas.openxmlformats.org/officeDocument/2006/relationships/slideLayout" Target="../slideLayouts/slideLayout282.xml"/><Relationship Id="rId10" Type="http://schemas.openxmlformats.org/officeDocument/2006/relationships/slideLayout" Target="../slideLayouts/slideLayout283.xml"/><Relationship Id="rId11" Type="http://schemas.openxmlformats.org/officeDocument/2006/relationships/slideLayout" Target="../slideLayouts/slideLayout284.xml"/><Relationship Id="rId12" Type="http://schemas.openxmlformats.org/officeDocument/2006/relationships/slideLayout" Target="../slideLayouts/slideLayout285.xml"/><Relationship Id="rId13" Type="http://schemas.openxmlformats.org/officeDocument/2006/relationships/slideLayout" Target="../slideLayouts/slideLayout286.xml"/><Relationship Id="rId14" Type="http://schemas.openxmlformats.org/officeDocument/2006/relationships/slideLayout" Target="../slideLayouts/slideLayout287.xml"/><Relationship Id="rId15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89.xml"/><Relationship Id="rId5" Type="http://schemas.openxmlformats.org/officeDocument/2006/relationships/slideLayout" Target="../slideLayouts/slideLayout290.xml"/><Relationship Id="rId6" Type="http://schemas.openxmlformats.org/officeDocument/2006/relationships/slideLayout" Target="../slideLayouts/slideLayout291.xml"/><Relationship Id="rId7" Type="http://schemas.openxmlformats.org/officeDocument/2006/relationships/slideLayout" Target="../slideLayouts/slideLayout292.xml"/><Relationship Id="rId8" Type="http://schemas.openxmlformats.org/officeDocument/2006/relationships/slideLayout" Target="../slideLayouts/slideLayout293.xml"/><Relationship Id="rId9" Type="http://schemas.openxmlformats.org/officeDocument/2006/relationships/slideLayout" Target="../slideLayouts/slideLayout294.xml"/><Relationship Id="rId10" Type="http://schemas.openxmlformats.org/officeDocument/2006/relationships/slideLayout" Target="../slideLayouts/slideLayout295.xml"/><Relationship Id="rId11" Type="http://schemas.openxmlformats.org/officeDocument/2006/relationships/slideLayout" Target="../slideLayouts/slideLayout296.xml"/><Relationship Id="rId12" Type="http://schemas.openxmlformats.org/officeDocument/2006/relationships/slideLayout" Target="../slideLayouts/slideLayout297.xml"/><Relationship Id="rId13" Type="http://schemas.openxmlformats.org/officeDocument/2006/relationships/slideLayout" Target="../slideLayouts/slideLayout298.xml"/><Relationship Id="rId14" Type="http://schemas.openxmlformats.org/officeDocument/2006/relationships/slideLayout" Target="../slideLayouts/slideLayout299.xml"/><Relationship Id="rId15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01.xml"/><Relationship Id="rId5" Type="http://schemas.openxmlformats.org/officeDocument/2006/relationships/slideLayout" Target="../slideLayouts/slideLayout302.xml"/><Relationship Id="rId6" Type="http://schemas.openxmlformats.org/officeDocument/2006/relationships/slideLayout" Target="../slideLayouts/slideLayout303.xml"/><Relationship Id="rId7" Type="http://schemas.openxmlformats.org/officeDocument/2006/relationships/slideLayout" Target="../slideLayouts/slideLayout304.xml"/><Relationship Id="rId8" Type="http://schemas.openxmlformats.org/officeDocument/2006/relationships/slideLayout" Target="../slideLayouts/slideLayout305.xml"/><Relationship Id="rId9" Type="http://schemas.openxmlformats.org/officeDocument/2006/relationships/slideLayout" Target="../slideLayouts/slideLayout306.xml"/><Relationship Id="rId10" Type="http://schemas.openxmlformats.org/officeDocument/2006/relationships/slideLayout" Target="../slideLayouts/slideLayout307.xml"/><Relationship Id="rId11" Type="http://schemas.openxmlformats.org/officeDocument/2006/relationships/slideLayout" Target="../slideLayouts/slideLayout308.xml"/><Relationship Id="rId12" Type="http://schemas.openxmlformats.org/officeDocument/2006/relationships/slideLayout" Target="../slideLayouts/slideLayout309.xml"/><Relationship Id="rId13" Type="http://schemas.openxmlformats.org/officeDocument/2006/relationships/slideLayout" Target="../slideLayouts/slideLayout310.xml"/><Relationship Id="rId14" Type="http://schemas.openxmlformats.org/officeDocument/2006/relationships/slideLayout" Target="../slideLayouts/slideLayout311.xml"/><Relationship Id="rId15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61.xml"/><Relationship Id="rId5" Type="http://schemas.openxmlformats.org/officeDocument/2006/relationships/slideLayout" Target="../slideLayouts/slideLayout662.xml"/><Relationship Id="rId6" Type="http://schemas.openxmlformats.org/officeDocument/2006/relationships/slideLayout" Target="../slideLayouts/slideLayout663.xml"/><Relationship Id="rId7" Type="http://schemas.openxmlformats.org/officeDocument/2006/relationships/slideLayout" Target="../slideLayouts/slideLayout664.xml"/><Relationship Id="rId8" Type="http://schemas.openxmlformats.org/officeDocument/2006/relationships/slideLayout" Target="../slideLayouts/slideLayout665.xml"/><Relationship Id="rId9" Type="http://schemas.openxmlformats.org/officeDocument/2006/relationships/slideLayout" Target="../slideLayouts/slideLayout666.xml"/><Relationship Id="rId10" Type="http://schemas.openxmlformats.org/officeDocument/2006/relationships/slideLayout" Target="../slideLayouts/slideLayout667.xml"/><Relationship Id="rId11" Type="http://schemas.openxmlformats.org/officeDocument/2006/relationships/slideLayout" Target="../slideLayouts/slideLayout668.xml"/><Relationship Id="rId12" Type="http://schemas.openxmlformats.org/officeDocument/2006/relationships/slideLayout" Target="../slideLayouts/slideLayout669.xml"/><Relationship Id="rId13" Type="http://schemas.openxmlformats.org/officeDocument/2006/relationships/slideLayout" Target="../slideLayouts/slideLayout670.xml"/><Relationship Id="rId14" Type="http://schemas.openxmlformats.org/officeDocument/2006/relationships/slideLayout" Target="../slideLayouts/slideLayout671.xml"/><Relationship Id="rId15" Type="http://schemas.openxmlformats.org/officeDocument/2006/relationships/slideLayout" Target="../slideLayouts/slideLayout672.xml"/>
</Relationships>
</file>

<file path=ppt/slideMasters/_rels/slideMaster57.xml.rels><?xml version="1.0" encoding="UTF-8"?>
<Relationships xmlns="http://schemas.openxmlformats.org/package/2006/relationships"><Relationship Id="rId1" Type="http://schemas.openxmlformats.org/officeDocument/2006/relationships/theme" Target="../theme/theme5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73.xml"/><Relationship Id="rId5" Type="http://schemas.openxmlformats.org/officeDocument/2006/relationships/slideLayout" Target="../slideLayouts/slideLayout674.xml"/><Relationship Id="rId6" Type="http://schemas.openxmlformats.org/officeDocument/2006/relationships/slideLayout" Target="../slideLayouts/slideLayout675.xml"/><Relationship Id="rId7" Type="http://schemas.openxmlformats.org/officeDocument/2006/relationships/slideLayout" Target="../slideLayouts/slideLayout676.xml"/><Relationship Id="rId8" Type="http://schemas.openxmlformats.org/officeDocument/2006/relationships/slideLayout" Target="../slideLayouts/slideLayout677.xml"/><Relationship Id="rId9" Type="http://schemas.openxmlformats.org/officeDocument/2006/relationships/slideLayout" Target="../slideLayouts/slideLayout678.xml"/><Relationship Id="rId10" Type="http://schemas.openxmlformats.org/officeDocument/2006/relationships/slideLayout" Target="../slideLayouts/slideLayout679.xml"/><Relationship Id="rId11" Type="http://schemas.openxmlformats.org/officeDocument/2006/relationships/slideLayout" Target="../slideLayouts/slideLayout680.xml"/><Relationship Id="rId12" Type="http://schemas.openxmlformats.org/officeDocument/2006/relationships/slideLayout" Target="../slideLayouts/slideLayout681.xml"/><Relationship Id="rId13" Type="http://schemas.openxmlformats.org/officeDocument/2006/relationships/slideLayout" Target="../slideLayouts/slideLayout682.xml"/><Relationship Id="rId14" Type="http://schemas.openxmlformats.org/officeDocument/2006/relationships/slideLayout" Target="../slideLayouts/slideLayout683.xml"/><Relationship Id="rId15" Type="http://schemas.openxmlformats.org/officeDocument/2006/relationships/slideLayout" Target="../slideLayouts/slideLayout684.xml"/>
</Relationships>
</file>

<file path=ppt/slideMasters/_rels/slideMaster58.xml.rels><?xml version="1.0" encoding="UTF-8"?>
<Relationships xmlns="http://schemas.openxmlformats.org/package/2006/relationships"><Relationship Id="rId1" Type="http://schemas.openxmlformats.org/officeDocument/2006/relationships/theme" Target="../theme/theme58.xml"/><Relationship Id="rId2" Type="http://schemas.openxmlformats.org/officeDocument/2006/relationships/slideLayout" Target="../slideLayouts/slideLayout685.xml"/><Relationship Id="rId3" Type="http://schemas.openxmlformats.org/officeDocument/2006/relationships/slideLayout" Target="../slideLayouts/slideLayout686.xml"/><Relationship Id="rId4" Type="http://schemas.openxmlformats.org/officeDocument/2006/relationships/slideLayout" Target="../slideLayouts/slideLayout687.xml"/><Relationship Id="rId5" Type="http://schemas.openxmlformats.org/officeDocument/2006/relationships/slideLayout" Target="../slideLayouts/slideLayout688.xml"/><Relationship Id="rId6" Type="http://schemas.openxmlformats.org/officeDocument/2006/relationships/slideLayout" Target="../slideLayouts/slideLayout689.xml"/><Relationship Id="rId7" Type="http://schemas.openxmlformats.org/officeDocument/2006/relationships/slideLayout" Target="../slideLayouts/slideLayout690.xml"/><Relationship Id="rId8" Type="http://schemas.openxmlformats.org/officeDocument/2006/relationships/slideLayout" Target="../slideLayouts/slideLayout691.xml"/><Relationship Id="rId9" Type="http://schemas.openxmlformats.org/officeDocument/2006/relationships/slideLayout" Target="../slideLayouts/slideLayout692.xml"/><Relationship Id="rId10" Type="http://schemas.openxmlformats.org/officeDocument/2006/relationships/slideLayout" Target="../slideLayouts/slideLayout693.xml"/><Relationship Id="rId11" Type="http://schemas.openxmlformats.org/officeDocument/2006/relationships/slideLayout" Target="../slideLayouts/slideLayout694.xml"/><Relationship Id="rId12" Type="http://schemas.openxmlformats.org/officeDocument/2006/relationships/slideLayout" Target="../slideLayouts/slideLayout695.xml"/><Relationship Id="rId13" Type="http://schemas.openxmlformats.org/officeDocument/2006/relationships/slideLayout" Target="../slideLayouts/slideLayout696.xml"/>
</Relationships>
</file>

<file path=ppt/slideMasters/_rels/slideMaster59.xml.rels><?xml version="1.0" encoding="UTF-8"?>
<Relationships xmlns="http://schemas.openxmlformats.org/package/2006/relationships"><Relationship Id="rId1" Type="http://schemas.openxmlformats.org/officeDocument/2006/relationships/theme" Target="../theme/theme59.xml"/><Relationship Id="rId2" Type="http://schemas.openxmlformats.org/officeDocument/2006/relationships/slideLayout" Target="../slideLayouts/slideLayout697.xml"/><Relationship Id="rId3" Type="http://schemas.openxmlformats.org/officeDocument/2006/relationships/slideLayout" Target="../slideLayouts/slideLayout698.xml"/><Relationship Id="rId4" Type="http://schemas.openxmlformats.org/officeDocument/2006/relationships/slideLayout" Target="../slideLayouts/slideLayout699.xml"/><Relationship Id="rId5" Type="http://schemas.openxmlformats.org/officeDocument/2006/relationships/slideLayout" Target="../slideLayouts/slideLayout700.xml"/><Relationship Id="rId6" Type="http://schemas.openxmlformats.org/officeDocument/2006/relationships/slideLayout" Target="../slideLayouts/slideLayout701.xml"/><Relationship Id="rId7" Type="http://schemas.openxmlformats.org/officeDocument/2006/relationships/slideLayout" Target="../slideLayouts/slideLayout702.xml"/><Relationship Id="rId8" Type="http://schemas.openxmlformats.org/officeDocument/2006/relationships/slideLayout" Target="../slideLayouts/slideLayout703.xml"/><Relationship Id="rId9" Type="http://schemas.openxmlformats.org/officeDocument/2006/relationships/slideLayout" Target="../slideLayouts/slideLayout704.xml"/><Relationship Id="rId10" Type="http://schemas.openxmlformats.org/officeDocument/2006/relationships/slideLayout" Target="../slideLayouts/slideLayout705.xml"/><Relationship Id="rId11" Type="http://schemas.openxmlformats.org/officeDocument/2006/relationships/slideLayout" Target="../slideLayouts/slideLayout706.xml"/><Relationship Id="rId12" Type="http://schemas.openxmlformats.org/officeDocument/2006/relationships/slideLayout" Target="../slideLayouts/slideLayout707.xml"/><Relationship Id="rId13" Type="http://schemas.openxmlformats.org/officeDocument/2006/relationships/slideLayout" Target="../slideLayouts/slideLayout708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60.xml.rels><?xml version="1.0" encoding="UTF-8"?>
<Relationships xmlns="http://schemas.openxmlformats.org/package/2006/relationships"><Relationship Id="rId1" Type="http://schemas.openxmlformats.org/officeDocument/2006/relationships/theme" Target="../theme/theme60.xml"/><Relationship Id="rId2" Type="http://schemas.openxmlformats.org/officeDocument/2006/relationships/slideLayout" Target="../slideLayouts/slideLayout709.xml"/><Relationship Id="rId3" Type="http://schemas.openxmlformats.org/officeDocument/2006/relationships/slideLayout" Target="../slideLayouts/slideLayout710.xml"/><Relationship Id="rId4" Type="http://schemas.openxmlformats.org/officeDocument/2006/relationships/slideLayout" Target="../slideLayouts/slideLayout711.xml"/><Relationship Id="rId5" Type="http://schemas.openxmlformats.org/officeDocument/2006/relationships/slideLayout" Target="../slideLayouts/slideLayout712.xml"/><Relationship Id="rId6" Type="http://schemas.openxmlformats.org/officeDocument/2006/relationships/slideLayout" Target="../slideLayouts/slideLayout713.xml"/><Relationship Id="rId7" Type="http://schemas.openxmlformats.org/officeDocument/2006/relationships/slideLayout" Target="../slideLayouts/slideLayout714.xml"/><Relationship Id="rId8" Type="http://schemas.openxmlformats.org/officeDocument/2006/relationships/slideLayout" Target="../slideLayouts/slideLayout715.xml"/><Relationship Id="rId9" Type="http://schemas.openxmlformats.org/officeDocument/2006/relationships/slideLayout" Target="../slideLayouts/slideLayout716.xml"/><Relationship Id="rId10" Type="http://schemas.openxmlformats.org/officeDocument/2006/relationships/slideLayout" Target="../slideLayouts/slideLayout717.xml"/><Relationship Id="rId11" Type="http://schemas.openxmlformats.org/officeDocument/2006/relationships/slideLayout" Target="../slideLayouts/slideLayout718.xml"/><Relationship Id="rId12" Type="http://schemas.openxmlformats.org/officeDocument/2006/relationships/slideLayout" Target="../slideLayouts/slideLayout719.xml"/><Relationship Id="rId13" Type="http://schemas.openxmlformats.org/officeDocument/2006/relationships/slideLayout" Target="../slideLayouts/slideLayout720.xml"/>
</Relationships>
</file>

<file path=ppt/slideMasters/_rels/slideMaster61.xml.rels><?xml version="1.0" encoding="UTF-8"?>
<Relationships xmlns="http://schemas.openxmlformats.org/package/2006/relationships"><Relationship Id="rId1" Type="http://schemas.openxmlformats.org/officeDocument/2006/relationships/theme" Target="../theme/theme61.xml"/><Relationship Id="rId2" Type="http://schemas.openxmlformats.org/officeDocument/2006/relationships/slideLayout" Target="../slideLayouts/slideLayout721.xml"/><Relationship Id="rId3" Type="http://schemas.openxmlformats.org/officeDocument/2006/relationships/slideLayout" Target="../slideLayouts/slideLayout722.xml"/><Relationship Id="rId4" Type="http://schemas.openxmlformats.org/officeDocument/2006/relationships/slideLayout" Target="../slideLayouts/slideLayout723.xml"/><Relationship Id="rId5" Type="http://schemas.openxmlformats.org/officeDocument/2006/relationships/slideLayout" Target="../slideLayouts/slideLayout724.xml"/><Relationship Id="rId6" Type="http://schemas.openxmlformats.org/officeDocument/2006/relationships/slideLayout" Target="../slideLayouts/slideLayout725.xml"/><Relationship Id="rId7" Type="http://schemas.openxmlformats.org/officeDocument/2006/relationships/slideLayout" Target="../slideLayouts/slideLayout726.xml"/><Relationship Id="rId8" Type="http://schemas.openxmlformats.org/officeDocument/2006/relationships/slideLayout" Target="../slideLayouts/slideLayout727.xml"/><Relationship Id="rId9" Type="http://schemas.openxmlformats.org/officeDocument/2006/relationships/slideLayout" Target="../slideLayouts/slideLayout728.xml"/><Relationship Id="rId10" Type="http://schemas.openxmlformats.org/officeDocument/2006/relationships/slideLayout" Target="../slideLayouts/slideLayout729.xml"/><Relationship Id="rId11" Type="http://schemas.openxmlformats.org/officeDocument/2006/relationships/slideLayout" Target="../slideLayouts/slideLayout730.xml"/><Relationship Id="rId12" Type="http://schemas.openxmlformats.org/officeDocument/2006/relationships/slideLayout" Target="../slideLayouts/slideLayout731.xml"/><Relationship Id="rId13" Type="http://schemas.openxmlformats.org/officeDocument/2006/relationships/slideLayout" Target="../slideLayouts/slideLayout732.xml"/>
</Relationships>
</file>

<file path=ppt/slideMasters/_rels/slideMaster62.xml.rels><?xml version="1.0" encoding="UTF-8"?>
<Relationships xmlns="http://schemas.openxmlformats.org/package/2006/relationships"><Relationship Id="rId1" Type="http://schemas.openxmlformats.org/officeDocument/2006/relationships/theme" Target="../theme/theme62.xml"/><Relationship Id="rId2" Type="http://schemas.openxmlformats.org/officeDocument/2006/relationships/slideLayout" Target="../slideLayouts/slideLayout733.xml"/><Relationship Id="rId3" Type="http://schemas.openxmlformats.org/officeDocument/2006/relationships/slideLayout" Target="../slideLayouts/slideLayout734.xml"/><Relationship Id="rId4" Type="http://schemas.openxmlformats.org/officeDocument/2006/relationships/slideLayout" Target="../slideLayouts/slideLayout735.xml"/><Relationship Id="rId5" Type="http://schemas.openxmlformats.org/officeDocument/2006/relationships/slideLayout" Target="../slideLayouts/slideLayout736.xml"/><Relationship Id="rId6" Type="http://schemas.openxmlformats.org/officeDocument/2006/relationships/slideLayout" Target="../slideLayouts/slideLayout737.xml"/><Relationship Id="rId7" Type="http://schemas.openxmlformats.org/officeDocument/2006/relationships/slideLayout" Target="../slideLayouts/slideLayout738.xml"/><Relationship Id="rId8" Type="http://schemas.openxmlformats.org/officeDocument/2006/relationships/slideLayout" Target="../slideLayouts/slideLayout739.xml"/><Relationship Id="rId9" Type="http://schemas.openxmlformats.org/officeDocument/2006/relationships/slideLayout" Target="../slideLayouts/slideLayout740.xml"/><Relationship Id="rId10" Type="http://schemas.openxmlformats.org/officeDocument/2006/relationships/slideLayout" Target="../slideLayouts/slideLayout741.xml"/><Relationship Id="rId11" Type="http://schemas.openxmlformats.org/officeDocument/2006/relationships/slideLayout" Target="../slideLayouts/slideLayout742.xml"/><Relationship Id="rId12" Type="http://schemas.openxmlformats.org/officeDocument/2006/relationships/slideLayout" Target="../slideLayouts/slideLayout743.xml"/><Relationship Id="rId13" Type="http://schemas.openxmlformats.org/officeDocument/2006/relationships/slideLayout" Target="../slideLayouts/slideLayout744.xml"/>
</Relationships>
</file>

<file path=ppt/slideMasters/_rels/slideMaster63.xml.rels><?xml version="1.0" encoding="UTF-8"?>
<Relationships xmlns="http://schemas.openxmlformats.org/package/2006/relationships"><Relationship Id="rId1" Type="http://schemas.openxmlformats.org/officeDocument/2006/relationships/theme" Target="../theme/theme63.xml"/><Relationship Id="rId2" Type="http://schemas.openxmlformats.org/officeDocument/2006/relationships/slideLayout" Target="../slideLayouts/slideLayout745.xml"/><Relationship Id="rId3" Type="http://schemas.openxmlformats.org/officeDocument/2006/relationships/slideLayout" Target="../slideLayouts/slideLayout746.xml"/><Relationship Id="rId4" Type="http://schemas.openxmlformats.org/officeDocument/2006/relationships/slideLayout" Target="../slideLayouts/slideLayout747.xml"/><Relationship Id="rId5" Type="http://schemas.openxmlformats.org/officeDocument/2006/relationships/slideLayout" Target="../slideLayouts/slideLayout748.xml"/><Relationship Id="rId6" Type="http://schemas.openxmlformats.org/officeDocument/2006/relationships/slideLayout" Target="../slideLayouts/slideLayout749.xml"/><Relationship Id="rId7" Type="http://schemas.openxmlformats.org/officeDocument/2006/relationships/slideLayout" Target="../slideLayouts/slideLayout750.xml"/><Relationship Id="rId8" Type="http://schemas.openxmlformats.org/officeDocument/2006/relationships/slideLayout" Target="../slideLayouts/slideLayout751.xml"/><Relationship Id="rId9" Type="http://schemas.openxmlformats.org/officeDocument/2006/relationships/slideLayout" Target="../slideLayouts/slideLayout752.xml"/><Relationship Id="rId10" Type="http://schemas.openxmlformats.org/officeDocument/2006/relationships/slideLayout" Target="../slideLayouts/slideLayout753.xml"/><Relationship Id="rId11" Type="http://schemas.openxmlformats.org/officeDocument/2006/relationships/slideLayout" Target="../slideLayouts/slideLayout754.xml"/><Relationship Id="rId12" Type="http://schemas.openxmlformats.org/officeDocument/2006/relationships/slideLayout" Target="../slideLayouts/slideLayout755.xml"/><Relationship Id="rId13" Type="http://schemas.openxmlformats.org/officeDocument/2006/relationships/slideLayout" Target="../slideLayouts/slideLayout756.xml"/>
</Relationships>
</file>

<file path=ppt/slideMasters/_rels/slideMaster64.xml.rels><?xml version="1.0" encoding="UTF-8"?>
<Relationships xmlns="http://schemas.openxmlformats.org/package/2006/relationships"><Relationship Id="rId1" Type="http://schemas.openxmlformats.org/officeDocument/2006/relationships/theme" Target="../theme/theme64.xml"/><Relationship Id="rId2" Type="http://schemas.openxmlformats.org/officeDocument/2006/relationships/slideLayout" Target="../slideLayouts/slideLayout757.xml"/><Relationship Id="rId3" Type="http://schemas.openxmlformats.org/officeDocument/2006/relationships/slideLayout" Target="../slideLayouts/slideLayout758.xml"/><Relationship Id="rId4" Type="http://schemas.openxmlformats.org/officeDocument/2006/relationships/slideLayout" Target="../slideLayouts/slideLayout759.xml"/><Relationship Id="rId5" Type="http://schemas.openxmlformats.org/officeDocument/2006/relationships/slideLayout" Target="../slideLayouts/slideLayout760.xml"/><Relationship Id="rId6" Type="http://schemas.openxmlformats.org/officeDocument/2006/relationships/slideLayout" Target="../slideLayouts/slideLayout761.xml"/><Relationship Id="rId7" Type="http://schemas.openxmlformats.org/officeDocument/2006/relationships/slideLayout" Target="../slideLayouts/slideLayout762.xml"/><Relationship Id="rId8" Type="http://schemas.openxmlformats.org/officeDocument/2006/relationships/slideLayout" Target="../slideLayouts/slideLayout763.xml"/><Relationship Id="rId9" Type="http://schemas.openxmlformats.org/officeDocument/2006/relationships/slideLayout" Target="../slideLayouts/slideLayout764.xml"/><Relationship Id="rId10" Type="http://schemas.openxmlformats.org/officeDocument/2006/relationships/slideLayout" Target="../slideLayouts/slideLayout765.xml"/><Relationship Id="rId11" Type="http://schemas.openxmlformats.org/officeDocument/2006/relationships/slideLayout" Target="../slideLayouts/slideLayout766.xml"/><Relationship Id="rId12" Type="http://schemas.openxmlformats.org/officeDocument/2006/relationships/slideLayout" Target="../slideLayouts/slideLayout767.xml"/><Relationship Id="rId13" Type="http://schemas.openxmlformats.org/officeDocument/2006/relationships/slideLayout" Target="../slideLayouts/slideLayout768.xml"/>
</Relationships>
</file>

<file path=ppt/slideMasters/_rels/slideMaster65.xml.rels><?xml version="1.0" encoding="UTF-8"?>
<Relationships xmlns="http://schemas.openxmlformats.org/package/2006/relationships"><Relationship Id="rId1" Type="http://schemas.openxmlformats.org/officeDocument/2006/relationships/theme" Target="../theme/theme65.xml"/><Relationship Id="rId2" Type="http://schemas.openxmlformats.org/officeDocument/2006/relationships/slideLayout" Target="../slideLayouts/slideLayout769.xml"/><Relationship Id="rId3" Type="http://schemas.openxmlformats.org/officeDocument/2006/relationships/slideLayout" Target="../slideLayouts/slideLayout770.xml"/><Relationship Id="rId4" Type="http://schemas.openxmlformats.org/officeDocument/2006/relationships/slideLayout" Target="../slideLayouts/slideLayout771.xml"/><Relationship Id="rId5" Type="http://schemas.openxmlformats.org/officeDocument/2006/relationships/slideLayout" Target="../slideLayouts/slideLayout772.xml"/><Relationship Id="rId6" Type="http://schemas.openxmlformats.org/officeDocument/2006/relationships/slideLayout" Target="../slideLayouts/slideLayout773.xml"/><Relationship Id="rId7" Type="http://schemas.openxmlformats.org/officeDocument/2006/relationships/slideLayout" Target="../slideLayouts/slideLayout774.xml"/><Relationship Id="rId8" Type="http://schemas.openxmlformats.org/officeDocument/2006/relationships/slideLayout" Target="../slideLayouts/slideLayout775.xml"/><Relationship Id="rId9" Type="http://schemas.openxmlformats.org/officeDocument/2006/relationships/slideLayout" Target="../slideLayouts/slideLayout776.xml"/><Relationship Id="rId10" Type="http://schemas.openxmlformats.org/officeDocument/2006/relationships/slideLayout" Target="../slideLayouts/slideLayout777.xml"/><Relationship Id="rId11" Type="http://schemas.openxmlformats.org/officeDocument/2006/relationships/slideLayout" Target="../slideLayouts/slideLayout778.xml"/><Relationship Id="rId12" Type="http://schemas.openxmlformats.org/officeDocument/2006/relationships/slideLayout" Target="../slideLayouts/slideLayout779.xml"/><Relationship Id="rId13" Type="http://schemas.openxmlformats.org/officeDocument/2006/relationships/slideLayout" Target="../slideLayouts/slideLayout780.xml"/>
</Relationships>
</file>

<file path=ppt/slideMasters/_rels/slideMaster66.xml.rels><?xml version="1.0" encoding="UTF-8"?>
<Relationships xmlns="http://schemas.openxmlformats.org/package/2006/relationships"><Relationship Id="rId1" Type="http://schemas.openxmlformats.org/officeDocument/2006/relationships/theme" Target="../theme/theme66.xml"/><Relationship Id="rId2" Type="http://schemas.openxmlformats.org/officeDocument/2006/relationships/slideLayout" Target="../slideLayouts/slideLayout781.xml"/><Relationship Id="rId3" Type="http://schemas.openxmlformats.org/officeDocument/2006/relationships/slideLayout" Target="../slideLayouts/slideLayout782.xml"/><Relationship Id="rId4" Type="http://schemas.openxmlformats.org/officeDocument/2006/relationships/slideLayout" Target="../slideLayouts/slideLayout783.xml"/><Relationship Id="rId5" Type="http://schemas.openxmlformats.org/officeDocument/2006/relationships/slideLayout" Target="../slideLayouts/slideLayout784.xml"/><Relationship Id="rId6" Type="http://schemas.openxmlformats.org/officeDocument/2006/relationships/slideLayout" Target="../slideLayouts/slideLayout785.xml"/><Relationship Id="rId7" Type="http://schemas.openxmlformats.org/officeDocument/2006/relationships/slideLayout" Target="../slideLayouts/slideLayout786.xml"/><Relationship Id="rId8" Type="http://schemas.openxmlformats.org/officeDocument/2006/relationships/slideLayout" Target="../slideLayouts/slideLayout787.xml"/><Relationship Id="rId9" Type="http://schemas.openxmlformats.org/officeDocument/2006/relationships/slideLayout" Target="../slideLayouts/slideLayout788.xml"/><Relationship Id="rId10" Type="http://schemas.openxmlformats.org/officeDocument/2006/relationships/slideLayout" Target="../slideLayouts/slideLayout789.xml"/><Relationship Id="rId11" Type="http://schemas.openxmlformats.org/officeDocument/2006/relationships/slideLayout" Target="../slideLayouts/slideLayout790.xml"/><Relationship Id="rId12" Type="http://schemas.openxmlformats.org/officeDocument/2006/relationships/slideLayout" Target="../slideLayouts/slideLayout791.xml"/><Relationship Id="rId13" Type="http://schemas.openxmlformats.org/officeDocument/2006/relationships/slideLayout" Target="../slideLayouts/slideLayout792.xml"/>
</Relationships>
</file>

<file path=ppt/slideMasters/_rels/slideMaster67.xml.rels><?xml version="1.0" encoding="UTF-8"?>
<Relationships xmlns="http://schemas.openxmlformats.org/package/2006/relationships"><Relationship Id="rId1" Type="http://schemas.openxmlformats.org/officeDocument/2006/relationships/theme" Target="../theme/theme67.xml"/><Relationship Id="rId2" Type="http://schemas.openxmlformats.org/officeDocument/2006/relationships/slideLayout" Target="../slideLayouts/slideLayout793.xml"/><Relationship Id="rId3" Type="http://schemas.openxmlformats.org/officeDocument/2006/relationships/slideLayout" Target="../slideLayouts/slideLayout794.xml"/><Relationship Id="rId4" Type="http://schemas.openxmlformats.org/officeDocument/2006/relationships/slideLayout" Target="../slideLayouts/slideLayout795.xml"/><Relationship Id="rId5" Type="http://schemas.openxmlformats.org/officeDocument/2006/relationships/slideLayout" Target="../slideLayouts/slideLayout796.xml"/><Relationship Id="rId6" Type="http://schemas.openxmlformats.org/officeDocument/2006/relationships/slideLayout" Target="../slideLayouts/slideLayout797.xml"/><Relationship Id="rId7" Type="http://schemas.openxmlformats.org/officeDocument/2006/relationships/slideLayout" Target="../slideLayouts/slideLayout798.xml"/><Relationship Id="rId8" Type="http://schemas.openxmlformats.org/officeDocument/2006/relationships/slideLayout" Target="../slideLayouts/slideLayout799.xml"/><Relationship Id="rId9" Type="http://schemas.openxmlformats.org/officeDocument/2006/relationships/slideLayout" Target="../slideLayouts/slideLayout800.xml"/><Relationship Id="rId10" Type="http://schemas.openxmlformats.org/officeDocument/2006/relationships/slideLayout" Target="../slideLayouts/slideLayout801.xml"/><Relationship Id="rId11" Type="http://schemas.openxmlformats.org/officeDocument/2006/relationships/slideLayout" Target="../slideLayouts/slideLayout802.xml"/><Relationship Id="rId12" Type="http://schemas.openxmlformats.org/officeDocument/2006/relationships/slideLayout" Target="../slideLayouts/slideLayout803.xml"/><Relationship Id="rId13" Type="http://schemas.openxmlformats.org/officeDocument/2006/relationships/slideLayout" Target="../slideLayouts/slideLayout804.xml"/>
</Relationships>
</file>

<file path=ppt/slideMasters/_rels/slideMaster68.xml.rels><?xml version="1.0" encoding="UTF-8"?>
<Relationships xmlns="http://schemas.openxmlformats.org/package/2006/relationships"><Relationship Id="rId1" Type="http://schemas.openxmlformats.org/officeDocument/2006/relationships/theme" Target="../theme/theme68.xml"/><Relationship Id="rId2" Type="http://schemas.openxmlformats.org/officeDocument/2006/relationships/slideLayout" Target="../slideLayouts/slideLayout805.xml"/><Relationship Id="rId3" Type="http://schemas.openxmlformats.org/officeDocument/2006/relationships/slideLayout" Target="../slideLayouts/slideLayout806.xml"/><Relationship Id="rId4" Type="http://schemas.openxmlformats.org/officeDocument/2006/relationships/slideLayout" Target="../slideLayouts/slideLayout807.xml"/><Relationship Id="rId5" Type="http://schemas.openxmlformats.org/officeDocument/2006/relationships/slideLayout" Target="../slideLayouts/slideLayout808.xml"/><Relationship Id="rId6" Type="http://schemas.openxmlformats.org/officeDocument/2006/relationships/slideLayout" Target="../slideLayouts/slideLayout809.xml"/><Relationship Id="rId7" Type="http://schemas.openxmlformats.org/officeDocument/2006/relationships/slideLayout" Target="../slideLayouts/slideLayout810.xml"/><Relationship Id="rId8" Type="http://schemas.openxmlformats.org/officeDocument/2006/relationships/slideLayout" Target="../slideLayouts/slideLayout811.xml"/><Relationship Id="rId9" Type="http://schemas.openxmlformats.org/officeDocument/2006/relationships/slideLayout" Target="../slideLayouts/slideLayout812.xml"/><Relationship Id="rId10" Type="http://schemas.openxmlformats.org/officeDocument/2006/relationships/slideLayout" Target="../slideLayouts/slideLayout813.xml"/><Relationship Id="rId11" Type="http://schemas.openxmlformats.org/officeDocument/2006/relationships/slideLayout" Target="../slideLayouts/slideLayout814.xml"/><Relationship Id="rId12" Type="http://schemas.openxmlformats.org/officeDocument/2006/relationships/slideLayout" Target="../slideLayouts/slideLayout815.xml"/><Relationship Id="rId13" Type="http://schemas.openxmlformats.org/officeDocument/2006/relationships/slideLayout" Target="../slideLayouts/slideLayout816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76320" y="76320"/>
            <a:ext cx="8991360" cy="125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Picture 3" descr="LeedsUniWhite"/>
          <p:cNvPicPr/>
          <p:nvPr/>
        </p:nvPicPr>
        <p:blipFill>
          <a:blip r:embed="rId2"/>
          <a:stretch/>
        </p:blipFill>
        <p:spPr>
          <a:xfrm>
            <a:off x="6512040" y="441360"/>
            <a:ext cx="2274840" cy="6476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body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5800" y="694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94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94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61A00D9-F947-4BCB-9FC7-824F592D8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Line 9"/>
          <p:cNvSpPr/>
          <p:nvPr/>
        </p:nvSpPr>
        <p:spPr>
          <a:xfrm>
            <a:off x="201600" y="1600200"/>
            <a:ext cx="871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76320" y="76320"/>
            <a:ext cx="8991360" cy="12589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1" descr="LeedsUniWhite"/>
          <p:cNvPicPr/>
          <p:nvPr/>
        </p:nvPicPr>
        <p:blipFill>
          <a:blip r:embed="rId3"/>
          <a:stretch/>
        </p:blipFill>
        <p:spPr>
          <a:xfrm>
            <a:off x="6512040" y="441360"/>
            <a:ext cx="2274840" cy="647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39AB5E7-6E46-424D-BC6B-5B93458F90FE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C149A3D-1CF9-4B5C-8D97-FEA04F861F8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B816C30-2BF2-4CF1-95A1-26ECB879739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7B3D438-0340-4133-BA32-C7BCFDD660F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80D4B45-BA26-48A1-B28B-4DC281E7ECB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 type="dt" idx="4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 type="ftr" idx="4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 type="sldNum" idx="4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67748D1-DAFA-4BB2-8561-4D2249AA657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 type="dt" idx="4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 type="ftr" idx="4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 type="sldNum" idx="4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603A406-6C51-49AD-A098-0670127AD15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3"/>
          <p:cNvSpPr>
            <a:spLocks noGrp="1"/>
          </p:cNvSpPr>
          <p:nvPr>
            <p:ph type="dt" idx="4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4"/>
          <p:cNvSpPr>
            <a:spLocks noGrp="1"/>
          </p:cNvSpPr>
          <p:nvPr>
            <p:ph type="ftr" idx="5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5"/>
          <p:cNvSpPr>
            <a:spLocks noGrp="1"/>
          </p:cNvSpPr>
          <p:nvPr>
            <p:ph type="sldNum" idx="5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FDD834-BE5E-4BE2-A5C1-B5822CF8D1D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 type="dt" idx="5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 type="ftr" idx="5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 type="sldNum" idx="5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751E9FB-9FF3-4984-A575-EB1BEC2EEA3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 type="dt" idx="5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 type="ftr" idx="5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5"/>
          <p:cNvSpPr>
            <a:spLocks noGrp="1"/>
          </p:cNvSpPr>
          <p:nvPr>
            <p:ph type="sldNum" idx="5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B8C52B-C01E-4A76-A744-56CA3DDF2D7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68F50-C584-4ACC-81C6-DAA6CA4C3F4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3"/>
          <p:cNvSpPr>
            <a:spLocks noGrp="1"/>
          </p:cNvSpPr>
          <p:nvPr>
            <p:ph type="dt" idx="5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4"/>
          <p:cNvSpPr>
            <a:spLocks noGrp="1"/>
          </p:cNvSpPr>
          <p:nvPr>
            <p:ph type="ftr" idx="5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PlaceHolder 5"/>
          <p:cNvSpPr>
            <a:spLocks noGrp="1"/>
          </p:cNvSpPr>
          <p:nvPr>
            <p:ph type="sldNum" idx="6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7C6F714-E1C4-4283-90C3-E90B578D2B4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2"/>
          <p:cNvSpPr/>
          <p:nvPr/>
        </p:nvSpPr>
        <p:spPr>
          <a:xfrm>
            <a:off x="76320" y="76320"/>
            <a:ext cx="8991360" cy="67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2" name="Picture 3" descr="LeedsUniWhite"/>
          <p:cNvPicPr/>
          <p:nvPr/>
        </p:nvPicPr>
        <p:blipFill>
          <a:blip r:embed="rId2"/>
          <a:stretch/>
        </p:blipFill>
        <p:spPr>
          <a:xfrm>
            <a:off x="6512040" y="441360"/>
            <a:ext cx="2274840" cy="647640"/>
          </a:xfrm>
          <a:prstGeom prst="rect">
            <a:avLst/>
          </a:prstGeom>
          <a:ln w="0">
            <a:noFill/>
          </a:ln>
        </p:spPr>
      </p:pic>
      <p:sp>
        <p:nvSpPr>
          <p:cNvPr id="853" name="Line 9"/>
          <p:cNvSpPr/>
          <p:nvPr/>
        </p:nvSpPr>
        <p:spPr>
          <a:xfrm>
            <a:off x="201600" y="1341360"/>
            <a:ext cx="871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10"/>
          <p:cNvSpPr/>
          <p:nvPr/>
        </p:nvSpPr>
        <p:spPr>
          <a:xfrm>
            <a:off x="355680" y="420840"/>
            <a:ext cx="487656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chool of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CULTY OF 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5" name="Rectangle 11"/>
          <p:cNvSpPr/>
          <p:nvPr/>
        </p:nvSpPr>
        <p:spPr>
          <a:xfrm>
            <a:off x="76320" y="76320"/>
            <a:ext cx="8991360" cy="670536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6" name="Picture 12" descr="LeedsUniWhite"/>
          <p:cNvPicPr/>
          <p:nvPr/>
        </p:nvPicPr>
        <p:blipFill>
          <a:blip r:embed="rId3"/>
          <a:stretch/>
        </p:blipFill>
        <p:spPr>
          <a:xfrm>
            <a:off x="6512040" y="441360"/>
            <a:ext cx="2274840" cy="647640"/>
          </a:xfrm>
          <a:prstGeom prst="rect">
            <a:avLst/>
          </a:prstGeom>
          <a:ln w="0">
            <a:noFill/>
          </a:ln>
        </p:spPr>
      </p:pic>
      <p:sp>
        <p:nvSpPr>
          <p:cNvPr id="857" name="PlaceHolder 1"/>
          <p:cNvSpPr>
            <a:spLocks noGrp="1"/>
          </p:cNvSpPr>
          <p:nvPr>
            <p:ph type="body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 type="dt" idx="61"/>
          </p:nvPr>
        </p:nvSpPr>
        <p:spPr>
          <a:xfrm>
            <a:off x="456840" y="69274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 type="ftr" idx="62"/>
          </p:nvPr>
        </p:nvSpPr>
        <p:spPr>
          <a:xfrm>
            <a:off x="3124080" y="69274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 type="sldNum" idx="63"/>
          </p:nvPr>
        </p:nvSpPr>
        <p:spPr>
          <a:xfrm>
            <a:off x="6552720" y="69274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1A07D81-F67B-4B57-9ED6-D01D35B401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Rectangle 2"/>
          <p:cNvSpPr/>
          <p:nvPr/>
        </p:nvSpPr>
        <p:spPr>
          <a:xfrm>
            <a:off x="76320" y="76320"/>
            <a:ext cx="8991360" cy="125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9" name="Picture 3" descr="LeedsUniWhite"/>
          <p:cNvPicPr/>
          <p:nvPr/>
        </p:nvPicPr>
        <p:blipFill>
          <a:blip r:embed="rId2"/>
          <a:stretch/>
        </p:blipFill>
        <p:spPr>
          <a:xfrm>
            <a:off x="6512040" y="441360"/>
            <a:ext cx="2274840" cy="647640"/>
          </a:xfrm>
          <a:prstGeom prst="rect">
            <a:avLst/>
          </a:prstGeom>
          <a:ln w="0">
            <a:noFill/>
          </a:ln>
        </p:spPr>
      </p:pic>
      <p:sp>
        <p:nvSpPr>
          <p:cNvPr id="900" name="Line 9"/>
          <p:cNvSpPr/>
          <p:nvPr/>
        </p:nvSpPr>
        <p:spPr>
          <a:xfrm>
            <a:off x="201600" y="1600200"/>
            <a:ext cx="871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Rectangle 10"/>
          <p:cNvSpPr/>
          <p:nvPr/>
        </p:nvSpPr>
        <p:spPr>
          <a:xfrm>
            <a:off x="76320" y="76320"/>
            <a:ext cx="8991360" cy="12589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2" name="Picture 11" descr="LeedsUniWhite"/>
          <p:cNvPicPr/>
          <p:nvPr/>
        </p:nvPicPr>
        <p:blipFill>
          <a:blip r:embed="rId3"/>
          <a:stretch/>
        </p:blipFill>
        <p:spPr>
          <a:xfrm>
            <a:off x="6512040" y="441360"/>
            <a:ext cx="2274840" cy="647640"/>
          </a:xfrm>
          <a:prstGeom prst="rect">
            <a:avLst/>
          </a:prstGeom>
          <a:ln w="0">
            <a:noFill/>
          </a:ln>
        </p:spPr>
      </p:pic>
      <p:sp>
        <p:nvSpPr>
          <p:cNvPr id="903" name="PlaceHolder 1"/>
          <p:cNvSpPr>
            <a:spLocks noGrp="1"/>
          </p:cNvSpPr>
          <p:nvPr>
            <p:ph type="body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 type="dt" idx="64"/>
          </p:nvPr>
        </p:nvSpPr>
        <p:spPr>
          <a:xfrm>
            <a:off x="685800" y="694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 type="ftr" idx="65"/>
          </p:nvPr>
        </p:nvSpPr>
        <p:spPr>
          <a:xfrm>
            <a:off x="3124080" y="694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 type="sldNum" idx="66"/>
          </p:nvPr>
        </p:nvSpPr>
        <p:spPr>
          <a:xfrm>
            <a:off x="6553080" y="694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1743F2F5-AE9F-4C39-8693-F594F97796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2"/>
          <p:cNvSpPr/>
          <p:nvPr/>
        </p:nvSpPr>
        <p:spPr>
          <a:xfrm>
            <a:off x="76320" y="76320"/>
            <a:ext cx="8991360" cy="125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5" name="Picture 3" descr="LeedsUniWhite"/>
          <p:cNvPicPr/>
          <p:nvPr/>
        </p:nvPicPr>
        <p:blipFill>
          <a:blip r:embed="rId2"/>
          <a:stretch/>
        </p:blipFill>
        <p:spPr>
          <a:xfrm>
            <a:off x="6512040" y="441360"/>
            <a:ext cx="2274840" cy="647640"/>
          </a:xfrm>
          <a:prstGeom prst="rect">
            <a:avLst/>
          </a:prstGeom>
          <a:ln w="0">
            <a:noFill/>
          </a:ln>
        </p:spPr>
      </p:pic>
      <p:sp>
        <p:nvSpPr>
          <p:cNvPr id="946" name="Line 9"/>
          <p:cNvSpPr/>
          <p:nvPr/>
        </p:nvSpPr>
        <p:spPr>
          <a:xfrm>
            <a:off x="201600" y="1600200"/>
            <a:ext cx="871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7" name="Rectangle 10"/>
          <p:cNvSpPr/>
          <p:nvPr/>
        </p:nvSpPr>
        <p:spPr>
          <a:xfrm>
            <a:off x="76320" y="76320"/>
            <a:ext cx="8991360" cy="12589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8" name="Picture 11" descr="LeedsUniWhite"/>
          <p:cNvPicPr/>
          <p:nvPr/>
        </p:nvPicPr>
        <p:blipFill>
          <a:blip r:embed="rId3"/>
          <a:stretch/>
        </p:blipFill>
        <p:spPr>
          <a:xfrm>
            <a:off x="6512040" y="441360"/>
            <a:ext cx="2274840" cy="647640"/>
          </a:xfrm>
          <a:prstGeom prst="rect">
            <a:avLst/>
          </a:prstGeom>
          <a:ln w="0">
            <a:noFill/>
          </a:ln>
        </p:spPr>
      </p:pic>
      <p:sp>
        <p:nvSpPr>
          <p:cNvPr id="949" name="PlaceHolder 1"/>
          <p:cNvSpPr>
            <a:spLocks noGrp="1"/>
          </p:cNvSpPr>
          <p:nvPr>
            <p:ph type="body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 type="dt" idx="67"/>
          </p:nvPr>
        </p:nvSpPr>
        <p:spPr>
          <a:xfrm>
            <a:off x="685800" y="694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 type="ftr" idx="68"/>
          </p:nvPr>
        </p:nvSpPr>
        <p:spPr>
          <a:xfrm>
            <a:off x="3124080" y="694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 type="sldNum" idx="69"/>
          </p:nvPr>
        </p:nvSpPr>
        <p:spPr>
          <a:xfrm>
            <a:off x="6553080" y="694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4C8B993-B558-45B5-9C58-7A687F0F8F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4"/>
    <p:sldLayoutId id="2147483936" r:id="rId5"/>
    <p:sldLayoutId id="2147483937" r:id="rId6"/>
    <p:sldLayoutId id="2147483938" r:id="rId7"/>
    <p:sldLayoutId id="2147483939" r:id="rId8"/>
    <p:sldLayoutId id="2147483940" r:id="rId9"/>
    <p:sldLayoutId id="2147483941" r:id="rId10"/>
    <p:sldLayoutId id="2147483942" r:id="rId11"/>
    <p:sldLayoutId id="2147483943" r:id="rId12"/>
    <p:sldLayoutId id="2147483944" r:id="rId13"/>
    <p:sldLayoutId id="2147483945" r:id="rId14"/>
    <p:sldLayoutId id="2147483946" r:id="rId15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2"/>
          <p:cNvSpPr/>
          <p:nvPr/>
        </p:nvSpPr>
        <p:spPr>
          <a:xfrm>
            <a:off x="76320" y="76320"/>
            <a:ext cx="8991360" cy="125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1" name="Picture 3" descr="LeedsUniWhite"/>
          <p:cNvPicPr/>
          <p:nvPr/>
        </p:nvPicPr>
        <p:blipFill>
          <a:blip r:embed="rId2"/>
          <a:stretch/>
        </p:blipFill>
        <p:spPr>
          <a:xfrm>
            <a:off x="6512040" y="441360"/>
            <a:ext cx="2274840" cy="647640"/>
          </a:xfrm>
          <a:prstGeom prst="rect">
            <a:avLst/>
          </a:prstGeom>
          <a:ln w="0">
            <a:noFill/>
          </a:ln>
        </p:spPr>
      </p:pic>
      <p:sp>
        <p:nvSpPr>
          <p:cNvPr id="992" name="Line 9"/>
          <p:cNvSpPr/>
          <p:nvPr/>
        </p:nvSpPr>
        <p:spPr>
          <a:xfrm>
            <a:off x="201600" y="1600200"/>
            <a:ext cx="871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3" name="Rectangle 10"/>
          <p:cNvSpPr/>
          <p:nvPr/>
        </p:nvSpPr>
        <p:spPr>
          <a:xfrm>
            <a:off x="76320" y="76320"/>
            <a:ext cx="8991360" cy="12589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4" name="Picture 11" descr="LeedsUniWhite"/>
          <p:cNvPicPr/>
          <p:nvPr/>
        </p:nvPicPr>
        <p:blipFill>
          <a:blip r:embed="rId3"/>
          <a:stretch/>
        </p:blipFill>
        <p:spPr>
          <a:xfrm>
            <a:off x="6512040" y="441360"/>
            <a:ext cx="2274840" cy="647640"/>
          </a:xfrm>
          <a:prstGeom prst="rect">
            <a:avLst/>
          </a:prstGeom>
          <a:ln w="0">
            <a:noFill/>
          </a:ln>
        </p:spPr>
      </p:pic>
      <p:sp>
        <p:nvSpPr>
          <p:cNvPr id="995" name="PlaceHolder 1"/>
          <p:cNvSpPr>
            <a:spLocks noGrp="1"/>
          </p:cNvSpPr>
          <p:nvPr>
            <p:ph type="body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 type="dt" idx="70"/>
          </p:nvPr>
        </p:nvSpPr>
        <p:spPr>
          <a:xfrm>
            <a:off x="685800" y="694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 type="ftr" idx="71"/>
          </p:nvPr>
        </p:nvSpPr>
        <p:spPr>
          <a:xfrm>
            <a:off x="3124080" y="694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 type="sldNum" idx="72"/>
          </p:nvPr>
        </p:nvSpPr>
        <p:spPr>
          <a:xfrm>
            <a:off x="6553080" y="694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19A283-20FD-4164-87BF-4AA40EBFB0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4"/>
    <p:sldLayoutId id="2147483949" r:id="rId5"/>
    <p:sldLayoutId id="2147483950" r:id="rId6"/>
    <p:sldLayoutId id="2147483951" r:id="rId7"/>
    <p:sldLayoutId id="2147483952" r:id="rId8"/>
    <p:sldLayoutId id="2147483953" r:id="rId9"/>
    <p:sldLayoutId id="2147483954" r:id="rId10"/>
    <p:sldLayoutId id="2147483955" r:id="rId11"/>
    <p:sldLayoutId id="2147483956" r:id="rId12"/>
    <p:sldLayoutId id="2147483957" r:id="rId13"/>
    <p:sldLayoutId id="2147483958" r:id="rId14"/>
    <p:sldLayoutId id="2147483959" r:id="rId15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6" name="Rectangle 2"/>
          <p:cNvSpPr/>
          <p:nvPr/>
        </p:nvSpPr>
        <p:spPr>
          <a:xfrm>
            <a:off x="76320" y="76320"/>
            <a:ext cx="8991360" cy="125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7" name="Picture 3" descr="LeedsUniWhite"/>
          <p:cNvPicPr/>
          <p:nvPr/>
        </p:nvPicPr>
        <p:blipFill>
          <a:blip r:embed="rId2"/>
          <a:stretch/>
        </p:blipFill>
        <p:spPr>
          <a:xfrm>
            <a:off x="6512040" y="441360"/>
            <a:ext cx="2274840" cy="647640"/>
          </a:xfrm>
          <a:prstGeom prst="rect">
            <a:avLst/>
          </a:prstGeom>
          <a:ln w="0">
            <a:noFill/>
          </a:ln>
        </p:spPr>
      </p:pic>
      <p:sp>
        <p:nvSpPr>
          <p:cNvPr id="1038" name="Line 9"/>
          <p:cNvSpPr/>
          <p:nvPr/>
        </p:nvSpPr>
        <p:spPr>
          <a:xfrm>
            <a:off x="201600" y="1600200"/>
            <a:ext cx="871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9" name="Rectangle 10"/>
          <p:cNvSpPr/>
          <p:nvPr/>
        </p:nvSpPr>
        <p:spPr>
          <a:xfrm>
            <a:off x="76320" y="76320"/>
            <a:ext cx="8991360" cy="12589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0" name="Picture 11" descr="LeedsUniWhite"/>
          <p:cNvPicPr/>
          <p:nvPr/>
        </p:nvPicPr>
        <p:blipFill>
          <a:blip r:embed="rId3"/>
          <a:stretch/>
        </p:blipFill>
        <p:spPr>
          <a:xfrm>
            <a:off x="6512040" y="441360"/>
            <a:ext cx="2274840" cy="647640"/>
          </a:xfrm>
          <a:prstGeom prst="rect">
            <a:avLst/>
          </a:prstGeom>
          <a:ln w="0">
            <a:noFill/>
          </a:ln>
        </p:spPr>
      </p:pic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 type="dt" idx="73"/>
          </p:nvPr>
        </p:nvSpPr>
        <p:spPr>
          <a:xfrm>
            <a:off x="685800" y="694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 type="ftr" idx="74"/>
          </p:nvPr>
        </p:nvSpPr>
        <p:spPr>
          <a:xfrm>
            <a:off x="3124080" y="694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 type="sldNum" idx="75"/>
          </p:nvPr>
        </p:nvSpPr>
        <p:spPr>
          <a:xfrm>
            <a:off x="6553080" y="694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CC9AEF8-B9CF-435E-953D-50BF20C360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4"/>
    <p:sldLayoutId id="2147483962" r:id="rId5"/>
    <p:sldLayoutId id="2147483963" r:id="rId6"/>
    <p:sldLayoutId id="2147483964" r:id="rId7"/>
    <p:sldLayoutId id="2147483965" r:id="rId8"/>
    <p:sldLayoutId id="2147483966" r:id="rId9"/>
    <p:sldLayoutId id="2147483967" r:id="rId10"/>
    <p:sldLayoutId id="2147483968" r:id="rId11"/>
    <p:sldLayoutId id="2147483969" r:id="rId12"/>
    <p:sldLayoutId id="2147483970" r:id="rId13"/>
    <p:sldLayoutId id="2147483971" r:id="rId14"/>
    <p:sldLayoutId id="2147483972" r:id="rId15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Rectangle 2"/>
          <p:cNvSpPr/>
          <p:nvPr/>
        </p:nvSpPr>
        <p:spPr>
          <a:xfrm>
            <a:off x="76320" y="76320"/>
            <a:ext cx="8991360" cy="125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3" name="Picture 3" descr="LeedsUniWhite"/>
          <p:cNvPicPr/>
          <p:nvPr/>
        </p:nvPicPr>
        <p:blipFill>
          <a:blip r:embed="rId2"/>
          <a:stretch/>
        </p:blipFill>
        <p:spPr>
          <a:xfrm>
            <a:off x="6512040" y="441360"/>
            <a:ext cx="2274840" cy="647640"/>
          </a:xfrm>
          <a:prstGeom prst="rect">
            <a:avLst/>
          </a:prstGeom>
          <a:ln w="0">
            <a:noFill/>
          </a:ln>
        </p:spPr>
      </p:pic>
      <p:sp>
        <p:nvSpPr>
          <p:cNvPr id="1084" name="Line 9"/>
          <p:cNvSpPr/>
          <p:nvPr/>
        </p:nvSpPr>
        <p:spPr>
          <a:xfrm>
            <a:off x="201600" y="1600200"/>
            <a:ext cx="871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Rectangle 10"/>
          <p:cNvSpPr/>
          <p:nvPr/>
        </p:nvSpPr>
        <p:spPr>
          <a:xfrm>
            <a:off x="76320" y="76320"/>
            <a:ext cx="8991360" cy="12589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6" name="Picture 11" descr="LeedsUniWhite"/>
          <p:cNvPicPr/>
          <p:nvPr/>
        </p:nvPicPr>
        <p:blipFill>
          <a:blip r:embed="rId3"/>
          <a:stretch/>
        </p:blipFill>
        <p:spPr>
          <a:xfrm>
            <a:off x="6512040" y="441360"/>
            <a:ext cx="2274840" cy="647640"/>
          </a:xfrm>
          <a:prstGeom prst="rect">
            <a:avLst/>
          </a:prstGeom>
          <a:ln w="0">
            <a:noFill/>
          </a:ln>
        </p:spPr>
      </p:pic>
      <p:sp>
        <p:nvSpPr>
          <p:cNvPr id="1087" name="PlaceHolder 1"/>
          <p:cNvSpPr>
            <a:spLocks noGrp="1"/>
          </p:cNvSpPr>
          <p:nvPr>
            <p:ph type="body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8" name="PlaceHolder 2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089" name="PlaceHolder 3"/>
          <p:cNvSpPr>
            <a:spLocks noGrp="1"/>
          </p:cNvSpPr>
          <p:nvPr>
            <p:ph type="dt" idx="76"/>
          </p:nvPr>
        </p:nvSpPr>
        <p:spPr>
          <a:xfrm>
            <a:off x="685800" y="694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PlaceHolder 4"/>
          <p:cNvSpPr>
            <a:spLocks noGrp="1"/>
          </p:cNvSpPr>
          <p:nvPr>
            <p:ph type="ftr" idx="77"/>
          </p:nvPr>
        </p:nvSpPr>
        <p:spPr>
          <a:xfrm>
            <a:off x="3124080" y="694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1" name="PlaceHolder 5"/>
          <p:cNvSpPr>
            <a:spLocks noGrp="1"/>
          </p:cNvSpPr>
          <p:nvPr>
            <p:ph type="sldNum" idx="78"/>
          </p:nvPr>
        </p:nvSpPr>
        <p:spPr>
          <a:xfrm>
            <a:off x="6553080" y="694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7D4C3F1-DDC2-482C-A092-DD6790C7AA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4"/>
    <p:sldLayoutId id="2147483975" r:id="rId5"/>
    <p:sldLayoutId id="2147483976" r:id="rId6"/>
    <p:sldLayoutId id="2147483977" r:id="rId7"/>
    <p:sldLayoutId id="2147483978" r:id="rId8"/>
    <p:sldLayoutId id="2147483979" r:id="rId9"/>
    <p:sldLayoutId id="2147483980" r:id="rId10"/>
    <p:sldLayoutId id="2147483981" r:id="rId11"/>
    <p:sldLayoutId id="2147483982" r:id="rId12"/>
    <p:sldLayoutId id="2147483983" r:id="rId13"/>
    <p:sldLayoutId id="2147483984" r:id="rId14"/>
    <p:sldLayoutId id="2147483985" r:id="rId15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8" name="Rectangle 2"/>
          <p:cNvSpPr/>
          <p:nvPr/>
        </p:nvSpPr>
        <p:spPr>
          <a:xfrm>
            <a:off x="76320" y="76320"/>
            <a:ext cx="8991360" cy="125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9" name="Picture 3" descr="LeedsUniWhite"/>
          <p:cNvPicPr/>
          <p:nvPr/>
        </p:nvPicPr>
        <p:blipFill>
          <a:blip r:embed="rId2"/>
          <a:stretch/>
        </p:blipFill>
        <p:spPr>
          <a:xfrm>
            <a:off x="6512040" y="441360"/>
            <a:ext cx="2274840" cy="647640"/>
          </a:xfrm>
          <a:prstGeom prst="rect">
            <a:avLst/>
          </a:prstGeom>
          <a:ln w="0">
            <a:noFill/>
          </a:ln>
        </p:spPr>
      </p:pic>
      <p:sp>
        <p:nvSpPr>
          <p:cNvPr id="1130" name="Line 9"/>
          <p:cNvSpPr/>
          <p:nvPr/>
        </p:nvSpPr>
        <p:spPr>
          <a:xfrm>
            <a:off x="201600" y="1600200"/>
            <a:ext cx="871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1" name="Rectangle 10"/>
          <p:cNvSpPr/>
          <p:nvPr/>
        </p:nvSpPr>
        <p:spPr>
          <a:xfrm>
            <a:off x="76320" y="76320"/>
            <a:ext cx="8991360" cy="12589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2" name="Picture 11" descr="LeedsUniWhite"/>
          <p:cNvPicPr/>
          <p:nvPr/>
        </p:nvPicPr>
        <p:blipFill>
          <a:blip r:embed="rId3"/>
          <a:stretch/>
        </p:blipFill>
        <p:spPr>
          <a:xfrm>
            <a:off x="6512040" y="441360"/>
            <a:ext cx="2274840" cy="647640"/>
          </a:xfrm>
          <a:prstGeom prst="rect">
            <a:avLst/>
          </a:prstGeom>
          <a:ln w="0">
            <a:noFill/>
          </a:ln>
        </p:spPr>
      </p:pic>
      <p:sp>
        <p:nvSpPr>
          <p:cNvPr id="1133" name="PlaceHolder 1"/>
          <p:cNvSpPr>
            <a:spLocks noGrp="1"/>
          </p:cNvSpPr>
          <p:nvPr>
            <p:ph type="body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35" name="PlaceHolder 3"/>
          <p:cNvSpPr>
            <a:spLocks noGrp="1"/>
          </p:cNvSpPr>
          <p:nvPr>
            <p:ph type="dt" idx="79"/>
          </p:nvPr>
        </p:nvSpPr>
        <p:spPr>
          <a:xfrm>
            <a:off x="685800" y="694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PlaceHolder 4"/>
          <p:cNvSpPr>
            <a:spLocks noGrp="1"/>
          </p:cNvSpPr>
          <p:nvPr>
            <p:ph type="ftr" idx="80"/>
          </p:nvPr>
        </p:nvSpPr>
        <p:spPr>
          <a:xfrm>
            <a:off x="3124080" y="694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PlaceHolder 5"/>
          <p:cNvSpPr>
            <a:spLocks noGrp="1"/>
          </p:cNvSpPr>
          <p:nvPr>
            <p:ph type="sldNum" idx="81"/>
          </p:nvPr>
        </p:nvSpPr>
        <p:spPr>
          <a:xfrm>
            <a:off x="6553080" y="694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5138896-27D5-49B0-AC1E-DAB7303E36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4" name="Rectangle 2"/>
          <p:cNvSpPr/>
          <p:nvPr/>
        </p:nvSpPr>
        <p:spPr>
          <a:xfrm>
            <a:off x="76320" y="76320"/>
            <a:ext cx="8991360" cy="125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5" name="Picture 3" descr="LeedsUniWhite"/>
          <p:cNvPicPr/>
          <p:nvPr/>
        </p:nvPicPr>
        <p:blipFill>
          <a:blip r:embed="rId2"/>
          <a:stretch/>
        </p:blipFill>
        <p:spPr>
          <a:xfrm>
            <a:off x="6512040" y="441360"/>
            <a:ext cx="2274840" cy="647640"/>
          </a:xfrm>
          <a:prstGeom prst="rect">
            <a:avLst/>
          </a:prstGeom>
          <a:ln w="0">
            <a:noFill/>
          </a:ln>
        </p:spPr>
      </p:pic>
      <p:sp>
        <p:nvSpPr>
          <p:cNvPr id="1176" name="Line 9"/>
          <p:cNvSpPr/>
          <p:nvPr/>
        </p:nvSpPr>
        <p:spPr>
          <a:xfrm>
            <a:off x="201600" y="1600200"/>
            <a:ext cx="871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Rectangle 10"/>
          <p:cNvSpPr/>
          <p:nvPr/>
        </p:nvSpPr>
        <p:spPr>
          <a:xfrm>
            <a:off x="76320" y="76320"/>
            <a:ext cx="8991360" cy="12589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8" name="Picture 11" descr="LeedsUniWhite"/>
          <p:cNvPicPr/>
          <p:nvPr/>
        </p:nvPicPr>
        <p:blipFill>
          <a:blip r:embed="rId3"/>
          <a:stretch/>
        </p:blipFill>
        <p:spPr>
          <a:xfrm>
            <a:off x="6512040" y="441360"/>
            <a:ext cx="2274840" cy="647640"/>
          </a:xfrm>
          <a:prstGeom prst="rect">
            <a:avLst/>
          </a:prstGeom>
          <a:ln w="0">
            <a:noFill/>
          </a:ln>
        </p:spPr>
      </p:pic>
      <p:sp>
        <p:nvSpPr>
          <p:cNvPr id="1179" name="PlaceHolder 1"/>
          <p:cNvSpPr>
            <a:spLocks noGrp="1"/>
          </p:cNvSpPr>
          <p:nvPr>
            <p:ph type="body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PlaceHolder 2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181" name="PlaceHolder 3"/>
          <p:cNvSpPr>
            <a:spLocks noGrp="1"/>
          </p:cNvSpPr>
          <p:nvPr>
            <p:ph type="dt" idx="82"/>
          </p:nvPr>
        </p:nvSpPr>
        <p:spPr>
          <a:xfrm>
            <a:off x="685800" y="694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PlaceHolder 4"/>
          <p:cNvSpPr>
            <a:spLocks noGrp="1"/>
          </p:cNvSpPr>
          <p:nvPr>
            <p:ph type="ftr" idx="83"/>
          </p:nvPr>
        </p:nvSpPr>
        <p:spPr>
          <a:xfrm>
            <a:off x="3124080" y="694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PlaceHolder 5"/>
          <p:cNvSpPr>
            <a:spLocks noGrp="1"/>
          </p:cNvSpPr>
          <p:nvPr>
            <p:ph type="sldNum" idx="84"/>
          </p:nvPr>
        </p:nvSpPr>
        <p:spPr>
          <a:xfrm>
            <a:off x="6553080" y="694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3875F97-707F-4F9F-85FF-710EE32D52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Rectangle 2"/>
          <p:cNvSpPr/>
          <p:nvPr/>
        </p:nvSpPr>
        <p:spPr>
          <a:xfrm>
            <a:off x="76320" y="76320"/>
            <a:ext cx="8991360" cy="125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1" name="Picture 3" descr="LeedsUniWhite"/>
          <p:cNvPicPr/>
          <p:nvPr/>
        </p:nvPicPr>
        <p:blipFill>
          <a:blip r:embed="rId2"/>
          <a:stretch/>
        </p:blipFill>
        <p:spPr>
          <a:xfrm>
            <a:off x="6512040" y="441360"/>
            <a:ext cx="2274840" cy="647640"/>
          </a:xfrm>
          <a:prstGeom prst="rect">
            <a:avLst/>
          </a:prstGeom>
          <a:ln w="0">
            <a:noFill/>
          </a:ln>
        </p:spPr>
      </p:pic>
      <p:sp>
        <p:nvSpPr>
          <p:cNvPr id="1222" name="Line 9"/>
          <p:cNvSpPr/>
          <p:nvPr/>
        </p:nvSpPr>
        <p:spPr>
          <a:xfrm>
            <a:off x="201600" y="1600200"/>
            <a:ext cx="871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Rectangle 10"/>
          <p:cNvSpPr/>
          <p:nvPr/>
        </p:nvSpPr>
        <p:spPr>
          <a:xfrm>
            <a:off x="76320" y="76320"/>
            <a:ext cx="8991360" cy="12589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4" name="Picture 11" descr="LeedsUniWhite"/>
          <p:cNvPicPr/>
          <p:nvPr/>
        </p:nvPicPr>
        <p:blipFill>
          <a:blip r:embed="rId3"/>
          <a:stretch/>
        </p:blipFill>
        <p:spPr>
          <a:xfrm>
            <a:off x="6512040" y="441360"/>
            <a:ext cx="2274840" cy="647640"/>
          </a:xfrm>
          <a:prstGeom prst="rect">
            <a:avLst/>
          </a:prstGeom>
          <a:ln w="0">
            <a:noFill/>
          </a:ln>
        </p:spPr>
      </p:pic>
      <p:sp>
        <p:nvSpPr>
          <p:cNvPr id="1225" name="PlaceHolder 1"/>
          <p:cNvSpPr>
            <a:spLocks noGrp="1"/>
          </p:cNvSpPr>
          <p:nvPr>
            <p:ph type="body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 type="dt" idx="85"/>
          </p:nvPr>
        </p:nvSpPr>
        <p:spPr>
          <a:xfrm>
            <a:off x="685800" y="694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 type="ftr" idx="86"/>
          </p:nvPr>
        </p:nvSpPr>
        <p:spPr>
          <a:xfrm>
            <a:off x="3124080" y="694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 type="sldNum" idx="87"/>
          </p:nvPr>
        </p:nvSpPr>
        <p:spPr>
          <a:xfrm>
            <a:off x="6553080" y="694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8F1A5BD-090C-4EC0-BD69-AA19D43796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76320" y="76320"/>
            <a:ext cx="8991360" cy="125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3" descr="LeedsUniWhite"/>
          <p:cNvPicPr/>
          <p:nvPr/>
        </p:nvPicPr>
        <p:blipFill>
          <a:blip r:embed="rId2"/>
          <a:stretch/>
        </p:blipFill>
        <p:spPr>
          <a:xfrm>
            <a:off x="6512040" y="441360"/>
            <a:ext cx="2274840" cy="647640"/>
          </a:xfrm>
          <a:prstGeom prst="rect">
            <a:avLst/>
          </a:prstGeom>
          <a:ln w="0">
            <a:noFill/>
          </a:ln>
        </p:spPr>
      </p:pic>
      <p:sp>
        <p:nvSpPr>
          <p:cNvPr id="89" name="PlaceHolder 1"/>
          <p:cNvSpPr>
            <a:spLocks noGrp="1"/>
          </p:cNvSpPr>
          <p:nvPr>
            <p:ph type="body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7"/>
          </p:nvPr>
        </p:nvSpPr>
        <p:spPr>
          <a:xfrm>
            <a:off x="685800" y="694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8"/>
          </p:nvPr>
        </p:nvSpPr>
        <p:spPr>
          <a:xfrm>
            <a:off x="3124080" y="694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9"/>
          </p:nvPr>
        </p:nvSpPr>
        <p:spPr>
          <a:xfrm>
            <a:off x="6553080" y="694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96479A3-3C3A-4AEF-B123-F50EFE0C2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9"/>
          <p:cNvSpPr/>
          <p:nvPr/>
        </p:nvSpPr>
        <p:spPr>
          <a:xfrm>
            <a:off x="201600" y="1600200"/>
            <a:ext cx="871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10"/>
          <p:cNvSpPr/>
          <p:nvPr/>
        </p:nvSpPr>
        <p:spPr>
          <a:xfrm>
            <a:off x="76320" y="76320"/>
            <a:ext cx="8991360" cy="12589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11" descr="LeedsUniWhite"/>
          <p:cNvPicPr/>
          <p:nvPr/>
        </p:nvPicPr>
        <p:blipFill>
          <a:blip r:embed="rId3"/>
          <a:stretch/>
        </p:blipFill>
        <p:spPr>
          <a:xfrm>
            <a:off x="6512040" y="441360"/>
            <a:ext cx="2274840" cy="647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Rectangle 2"/>
          <p:cNvSpPr/>
          <p:nvPr/>
        </p:nvSpPr>
        <p:spPr>
          <a:xfrm>
            <a:off x="76320" y="76320"/>
            <a:ext cx="8991360" cy="125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7" name="Picture 3" descr="LeedsUniWhite"/>
          <p:cNvPicPr/>
          <p:nvPr/>
        </p:nvPicPr>
        <p:blipFill>
          <a:blip r:embed="rId2"/>
          <a:stretch/>
        </p:blipFill>
        <p:spPr>
          <a:xfrm>
            <a:off x="6512040" y="441360"/>
            <a:ext cx="2274840" cy="647640"/>
          </a:xfrm>
          <a:prstGeom prst="rect">
            <a:avLst/>
          </a:prstGeom>
          <a:ln w="0">
            <a:noFill/>
          </a:ln>
        </p:spPr>
      </p:pic>
      <p:sp>
        <p:nvSpPr>
          <p:cNvPr id="1268" name="Line 9"/>
          <p:cNvSpPr/>
          <p:nvPr/>
        </p:nvSpPr>
        <p:spPr>
          <a:xfrm>
            <a:off x="201600" y="1600200"/>
            <a:ext cx="871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Rectangle 10"/>
          <p:cNvSpPr/>
          <p:nvPr/>
        </p:nvSpPr>
        <p:spPr>
          <a:xfrm>
            <a:off x="76320" y="76320"/>
            <a:ext cx="8991360" cy="12589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0" name="Picture 11" descr="LeedsUniWhite"/>
          <p:cNvPicPr/>
          <p:nvPr/>
        </p:nvPicPr>
        <p:blipFill>
          <a:blip r:embed="rId3"/>
          <a:stretch/>
        </p:blipFill>
        <p:spPr>
          <a:xfrm>
            <a:off x="6512040" y="441360"/>
            <a:ext cx="2274840" cy="647640"/>
          </a:xfrm>
          <a:prstGeom prst="rect">
            <a:avLst/>
          </a:prstGeom>
          <a:ln w="0">
            <a:noFill/>
          </a:ln>
        </p:spPr>
      </p:pic>
      <p:sp>
        <p:nvSpPr>
          <p:cNvPr id="1271" name="PlaceHolder 1"/>
          <p:cNvSpPr>
            <a:spLocks noGrp="1"/>
          </p:cNvSpPr>
          <p:nvPr>
            <p:ph type="body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PlaceHolder 2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273" name="PlaceHolder 3"/>
          <p:cNvSpPr>
            <a:spLocks noGrp="1"/>
          </p:cNvSpPr>
          <p:nvPr>
            <p:ph type="dt" idx="88"/>
          </p:nvPr>
        </p:nvSpPr>
        <p:spPr>
          <a:xfrm>
            <a:off x="685800" y="694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PlaceHolder 4"/>
          <p:cNvSpPr>
            <a:spLocks noGrp="1"/>
          </p:cNvSpPr>
          <p:nvPr>
            <p:ph type="ftr" idx="89"/>
          </p:nvPr>
        </p:nvSpPr>
        <p:spPr>
          <a:xfrm>
            <a:off x="3124080" y="694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PlaceHolder 5"/>
          <p:cNvSpPr>
            <a:spLocks noGrp="1"/>
          </p:cNvSpPr>
          <p:nvPr>
            <p:ph type="sldNum" idx="90"/>
          </p:nvPr>
        </p:nvSpPr>
        <p:spPr>
          <a:xfrm>
            <a:off x="6553080" y="694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DF01C39-C05F-4EDD-8F45-FAF70C377F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2" name="Rectangle 2"/>
          <p:cNvSpPr/>
          <p:nvPr/>
        </p:nvSpPr>
        <p:spPr>
          <a:xfrm>
            <a:off x="76320" y="76320"/>
            <a:ext cx="8991360" cy="125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3" name="Picture 3" descr="LeedsUniWhite"/>
          <p:cNvPicPr/>
          <p:nvPr/>
        </p:nvPicPr>
        <p:blipFill>
          <a:blip r:embed="rId2"/>
          <a:stretch/>
        </p:blipFill>
        <p:spPr>
          <a:xfrm>
            <a:off x="6512040" y="441360"/>
            <a:ext cx="2274840" cy="647640"/>
          </a:xfrm>
          <a:prstGeom prst="rect">
            <a:avLst/>
          </a:prstGeom>
          <a:ln w="0">
            <a:noFill/>
          </a:ln>
        </p:spPr>
      </p:pic>
      <p:sp>
        <p:nvSpPr>
          <p:cNvPr id="1314" name="Line 9"/>
          <p:cNvSpPr/>
          <p:nvPr/>
        </p:nvSpPr>
        <p:spPr>
          <a:xfrm>
            <a:off x="201600" y="1600200"/>
            <a:ext cx="871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5" name="Rectangle 10"/>
          <p:cNvSpPr/>
          <p:nvPr/>
        </p:nvSpPr>
        <p:spPr>
          <a:xfrm>
            <a:off x="76320" y="76320"/>
            <a:ext cx="8991360" cy="12589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6" name="Picture 11" descr="LeedsUniWhite"/>
          <p:cNvPicPr/>
          <p:nvPr/>
        </p:nvPicPr>
        <p:blipFill>
          <a:blip r:embed="rId3"/>
          <a:stretch/>
        </p:blipFill>
        <p:spPr>
          <a:xfrm>
            <a:off x="6512040" y="441360"/>
            <a:ext cx="2274840" cy="647640"/>
          </a:xfrm>
          <a:prstGeom prst="rect">
            <a:avLst/>
          </a:prstGeom>
          <a:ln w="0">
            <a:noFill/>
          </a:ln>
        </p:spPr>
      </p:pic>
      <p:sp>
        <p:nvSpPr>
          <p:cNvPr id="1317" name="PlaceHolder 1"/>
          <p:cNvSpPr>
            <a:spLocks noGrp="1"/>
          </p:cNvSpPr>
          <p:nvPr>
            <p:ph type="body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19" name="PlaceHolder 3"/>
          <p:cNvSpPr>
            <a:spLocks noGrp="1"/>
          </p:cNvSpPr>
          <p:nvPr>
            <p:ph type="dt" idx="91"/>
          </p:nvPr>
        </p:nvSpPr>
        <p:spPr>
          <a:xfrm>
            <a:off x="685800" y="694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PlaceHolder 4"/>
          <p:cNvSpPr>
            <a:spLocks noGrp="1"/>
          </p:cNvSpPr>
          <p:nvPr>
            <p:ph type="ftr" idx="92"/>
          </p:nvPr>
        </p:nvSpPr>
        <p:spPr>
          <a:xfrm>
            <a:off x="3124080" y="694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5"/>
          <p:cNvSpPr>
            <a:spLocks noGrp="1"/>
          </p:cNvSpPr>
          <p:nvPr>
            <p:ph type="sldNum" idx="93"/>
          </p:nvPr>
        </p:nvSpPr>
        <p:spPr>
          <a:xfrm>
            <a:off x="6553080" y="694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EEAFFFF-6C7B-4468-AE17-DB7F85C877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8" name="Rectangle 2"/>
          <p:cNvSpPr/>
          <p:nvPr/>
        </p:nvSpPr>
        <p:spPr>
          <a:xfrm>
            <a:off x="76320" y="76320"/>
            <a:ext cx="8991360" cy="125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9" name="Picture 3" descr="LeedsUniWhite"/>
          <p:cNvPicPr/>
          <p:nvPr/>
        </p:nvPicPr>
        <p:blipFill>
          <a:blip r:embed="rId2"/>
          <a:stretch/>
        </p:blipFill>
        <p:spPr>
          <a:xfrm>
            <a:off x="6512040" y="441360"/>
            <a:ext cx="2274840" cy="647640"/>
          </a:xfrm>
          <a:prstGeom prst="rect">
            <a:avLst/>
          </a:prstGeom>
          <a:ln w="0">
            <a:noFill/>
          </a:ln>
        </p:spPr>
      </p:pic>
      <p:sp>
        <p:nvSpPr>
          <p:cNvPr id="1360" name="Line 9"/>
          <p:cNvSpPr/>
          <p:nvPr/>
        </p:nvSpPr>
        <p:spPr>
          <a:xfrm>
            <a:off x="201600" y="1600200"/>
            <a:ext cx="871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1" name="Rectangle 10"/>
          <p:cNvSpPr/>
          <p:nvPr/>
        </p:nvSpPr>
        <p:spPr>
          <a:xfrm>
            <a:off x="76320" y="76320"/>
            <a:ext cx="8991360" cy="12589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2" name="Picture 11" descr="LeedsUniWhite"/>
          <p:cNvPicPr/>
          <p:nvPr/>
        </p:nvPicPr>
        <p:blipFill>
          <a:blip r:embed="rId3"/>
          <a:stretch/>
        </p:blipFill>
        <p:spPr>
          <a:xfrm>
            <a:off x="6512040" y="441360"/>
            <a:ext cx="2274840" cy="647640"/>
          </a:xfrm>
          <a:prstGeom prst="rect">
            <a:avLst/>
          </a:prstGeom>
          <a:ln w="0">
            <a:noFill/>
          </a:ln>
        </p:spPr>
      </p:pic>
      <p:sp>
        <p:nvSpPr>
          <p:cNvPr id="1363" name="PlaceHolder 1"/>
          <p:cNvSpPr>
            <a:spLocks noGrp="1"/>
          </p:cNvSpPr>
          <p:nvPr>
            <p:ph type="body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4" name="PlaceHolder 2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65" name="PlaceHolder 3"/>
          <p:cNvSpPr>
            <a:spLocks noGrp="1"/>
          </p:cNvSpPr>
          <p:nvPr>
            <p:ph type="dt" idx="94"/>
          </p:nvPr>
        </p:nvSpPr>
        <p:spPr>
          <a:xfrm>
            <a:off x="685800" y="694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PlaceHolder 4"/>
          <p:cNvSpPr>
            <a:spLocks noGrp="1"/>
          </p:cNvSpPr>
          <p:nvPr>
            <p:ph type="ftr" idx="95"/>
          </p:nvPr>
        </p:nvSpPr>
        <p:spPr>
          <a:xfrm>
            <a:off x="3124080" y="694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7" name="PlaceHolder 5"/>
          <p:cNvSpPr>
            <a:spLocks noGrp="1"/>
          </p:cNvSpPr>
          <p:nvPr>
            <p:ph type="sldNum" idx="96"/>
          </p:nvPr>
        </p:nvSpPr>
        <p:spPr>
          <a:xfrm>
            <a:off x="6553080" y="694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1DB865-702A-44CE-9509-D989806497D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Rectangle 2"/>
          <p:cNvSpPr/>
          <p:nvPr/>
        </p:nvSpPr>
        <p:spPr>
          <a:xfrm>
            <a:off x="76320" y="76320"/>
            <a:ext cx="8991360" cy="67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5" name="Picture 3" descr="LeedsUniWhite"/>
          <p:cNvPicPr/>
          <p:nvPr/>
        </p:nvPicPr>
        <p:blipFill>
          <a:blip r:embed="rId2"/>
          <a:stretch/>
        </p:blipFill>
        <p:spPr>
          <a:xfrm>
            <a:off x="6512040" y="441360"/>
            <a:ext cx="2274840" cy="647640"/>
          </a:xfrm>
          <a:prstGeom prst="rect">
            <a:avLst/>
          </a:prstGeom>
          <a:ln w="0">
            <a:noFill/>
          </a:ln>
        </p:spPr>
      </p:pic>
      <p:sp>
        <p:nvSpPr>
          <p:cNvPr id="1406" name="Line 9"/>
          <p:cNvSpPr/>
          <p:nvPr/>
        </p:nvSpPr>
        <p:spPr>
          <a:xfrm>
            <a:off x="201600" y="1341360"/>
            <a:ext cx="871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7" name="Text Box 10"/>
          <p:cNvSpPr/>
          <p:nvPr/>
        </p:nvSpPr>
        <p:spPr>
          <a:xfrm>
            <a:off x="355680" y="420840"/>
            <a:ext cx="487656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chool of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CULTY OF 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8" name="Rectangle 11"/>
          <p:cNvSpPr/>
          <p:nvPr/>
        </p:nvSpPr>
        <p:spPr>
          <a:xfrm>
            <a:off x="76320" y="76320"/>
            <a:ext cx="8991360" cy="670536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9" name="Picture 12" descr="LeedsUniWhite"/>
          <p:cNvPicPr/>
          <p:nvPr/>
        </p:nvPicPr>
        <p:blipFill>
          <a:blip r:embed="rId3"/>
          <a:stretch/>
        </p:blipFill>
        <p:spPr>
          <a:xfrm>
            <a:off x="6512040" y="441360"/>
            <a:ext cx="2274840" cy="647640"/>
          </a:xfrm>
          <a:prstGeom prst="rect">
            <a:avLst/>
          </a:prstGeom>
          <a:ln w="0">
            <a:noFill/>
          </a:ln>
        </p:spPr>
      </p:pic>
      <p:sp>
        <p:nvSpPr>
          <p:cNvPr id="1410" name="PlaceHolder 1"/>
          <p:cNvSpPr>
            <a:spLocks noGrp="1"/>
          </p:cNvSpPr>
          <p:nvPr>
            <p:ph type="body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1" name="PlaceHolder 2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12" name="PlaceHolder 3"/>
          <p:cNvSpPr>
            <a:spLocks noGrp="1"/>
          </p:cNvSpPr>
          <p:nvPr>
            <p:ph type="dt" idx="97"/>
          </p:nvPr>
        </p:nvSpPr>
        <p:spPr>
          <a:xfrm>
            <a:off x="456840" y="69274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PlaceHolder 4"/>
          <p:cNvSpPr>
            <a:spLocks noGrp="1"/>
          </p:cNvSpPr>
          <p:nvPr>
            <p:ph type="ftr" idx="98"/>
          </p:nvPr>
        </p:nvSpPr>
        <p:spPr>
          <a:xfrm>
            <a:off x="3124080" y="69274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4" name="PlaceHolder 5"/>
          <p:cNvSpPr>
            <a:spLocks noGrp="1"/>
          </p:cNvSpPr>
          <p:nvPr>
            <p:ph type="sldNum" idx="99"/>
          </p:nvPr>
        </p:nvSpPr>
        <p:spPr>
          <a:xfrm>
            <a:off x="6552720" y="69274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DADE9CF-80B7-49F1-B58A-F84F9CA706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Rectangle 2"/>
          <p:cNvSpPr/>
          <p:nvPr/>
        </p:nvSpPr>
        <p:spPr>
          <a:xfrm>
            <a:off x="76320" y="76320"/>
            <a:ext cx="8991360" cy="125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2" name="Picture 3" descr="LeedsUniWhite"/>
          <p:cNvPicPr/>
          <p:nvPr/>
        </p:nvPicPr>
        <p:blipFill>
          <a:blip r:embed="rId2"/>
          <a:stretch/>
        </p:blipFill>
        <p:spPr>
          <a:xfrm>
            <a:off x="6512040" y="441360"/>
            <a:ext cx="2274840" cy="647640"/>
          </a:xfrm>
          <a:prstGeom prst="rect">
            <a:avLst/>
          </a:prstGeom>
          <a:ln w="0">
            <a:noFill/>
          </a:ln>
        </p:spPr>
      </p:pic>
      <p:sp>
        <p:nvSpPr>
          <p:cNvPr id="1453" name="Line 9"/>
          <p:cNvSpPr/>
          <p:nvPr/>
        </p:nvSpPr>
        <p:spPr>
          <a:xfrm>
            <a:off x="201600" y="1600200"/>
            <a:ext cx="871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4" name="Rectangle 10"/>
          <p:cNvSpPr/>
          <p:nvPr/>
        </p:nvSpPr>
        <p:spPr>
          <a:xfrm>
            <a:off x="76320" y="76320"/>
            <a:ext cx="8991360" cy="12589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5" name="Picture 11" descr="LeedsUniWhite"/>
          <p:cNvPicPr/>
          <p:nvPr/>
        </p:nvPicPr>
        <p:blipFill>
          <a:blip r:embed="rId3"/>
          <a:stretch/>
        </p:blipFill>
        <p:spPr>
          <a:xfrm>
            <a:off x="6512040" y="441360"/>
            <a:ext cx="2274840" cy="647640"/>
          </a:xfrm>
          <a:prstGeom prst="rect">
            <a:avLst/>
          </a:prstGeom>
          <a:ln w="0">
            <a:noFill/>
          </a:ln>
        </p:spPr>
      </p:pic>
      <p:sp>
        <p:nvSpPr>
          <p:cNvPr id="1456" name="PlaceHolder 1"/>
          <p:cNvSpPr>
            <a:spLocks noGrp="1"/>
          </p:cNvSpPr>
          <p:nvPr>
            <p:ph type="body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 type="dt" idx="100"/>
          </p:nvPr>
        </p:nvSpPr>
        <p:spPr>
          <a:xfrm>
            <a:off x="685800" y="694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 type="ftr" idx="101"/>
          </p:nvPr>
        </p:nvSpPr>
        <p:spPr>
          <a:xfrm>
            <a:off x="3124080" y="694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0" name="PlaceHolder 5"/>
          <p:cNvSpPr>
            <a:spLocks noGrp="1"/>
          </p:cNvSpPr>
          <p:nvPr>
            <p:ph type="sldNum" idx="102"/>
          </p:nvPr>
        </p:nvSpPr>
        <p:spPr>
          <a:xfrm>
            <a:off x="6553080" y="694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B5E15DA-4E9D-4B4C-887D-1029F2BE58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Rectangle 2"/>
          <p:cNvSpPr/>
          <p:nvPr/>
        </p:nvSpPr>
        <p:spPr>
          <a:xfrm>
            <a:off x="76320" y="76320"/>
            <a:ext cx="8991360" cy="125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8" name="Picture 3" descr="LeedsUniWhite"/>
          <p:cNvPicPr/>
          <p:nvPr/>
        </p:nvPicPr>
        <p:blipFill>
          <a:blip r:embed="rId2"/>
          <a:stretch/>
        </p:blipFill>
        <p:spPr>
          <a:xfrm>
            <a:off x="6512040" y="441360"/>
            <a:ext cx="2274840" cy="647640"/>
          </a:xfrm>
          <a:prstGeom prst="rect">
            <a:avLst/>
          </a:prstGeom>
          <a:ln w="0">
            <a:noFill/>
          </a:ln>
        </p:spPr>
      </p:pic>
      <p:sp>
        <p:nvSpPr>
          <p:cNvPr id="1499" name="Line 9"/>
          <p:cNvSpPr/>
          <p:nvPr/>
        </p:nvSpPr>
        <p:spPr>
          <a:xfrm>
            <a:off x="201600" y="1600200"/>
            <a:ext cx="871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Rectangle 10"/>
          <p:cNvSpPr/>
          <p:nvPr/>
        </p:nvSpPr>
        <p:spPr>
          <a:xfrm>
            <a:off x="76320" y="76320"/>
            <a:ext cx="8991360" cy="12589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1" name="Picture 11" descr="LeedsUniWhite"/>
          <p:cNvPicPr/>
          <p:nvPr/>
        </p:nvPicPr>
        <p:blipFill>
          <a:blip r:embed="rId3"/>
          <a:stretch/>
        </p:blipFill>
        <p:spPr>
          <a:xfrm>
            <a:off x="6512040" y="441360"/>
            <a:ext cx="2274840" cy="647640"/>
          </a:xfrm>
          <a:prstGeom prst="rect">
            <a:avLst/>
          </a:prstGeom>
          <a:ln w="0">
            <a:noFill/>
          </a:ln>
        </p:spPr>
      </p:pic>
      <p:sp>
        <p:nvSpPr>
          <p:cNvPr id="1502" name="PlaceHolder 1"/>
          <p:cNvSpPr>
            <a:spLocks noGrp="1"/>
          </p:cNvSpPr>
          <p:nvPr>
            <p:ph type="body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PlaceHolder 2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04" name="PlaceHolder 3"/>
          <p:cNvSpPr>
            <a:spLocks noGrp="1"/>
          </p:cNvSpPr>
          <p:nvPr>
            <p:ph type="dt" idx="103"/>
          </p:nvPr>
        </p:nvSpPr>
        <p:spPr>
          <a:xfrm>
            <a:off x="685800" y="694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PlaceHolder 4"/>
          <p:cNvSpPr>
            <a:spLocks noGrp="1"/>
          </p:cNvSpPr>
          <p:nvPr>
            <p:ph type="ftr" idx="104"/>
          </p:nvPr>
        </p:nvSpPr>
        <p:spPr>
          <a:xfrm>
            <a:off x="3124080" y="694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6" name="PlaceHolder 5"/>
          <p:cNvSpPr>
            <a:spLocks noGrp="1"/>
          </p:cNvSpPr>
          <p:nvPr>
            <p:ph type="sldNum" idx="105"/>
          </p:nvPr>
        </p:nvSpPr>
        <p:spPr>
          <a:xfrm>
            <a:off x="6553080" y="694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FAD0E9-AFF9-48FC-96EA-ED92D79E06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3" name="Rectangle 2"/>
          <p:cNvSpPr/>
          <p:nvPr/>
        </p:nvSpPr>
        <p:spPr>
          <a:xfrm>
            <a:off x="76320" y="76320"/>
            <a:ext cx="8991360" cy="125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4" name="Picture 3" descr="LeedsUniWhite"/>
          <p:cNvPicPr/>
          <p:nvPr/>
        </p:nvPicPr>
        <p:blipFill>
          <a:blip r:embed="rId2"/>
          <a:stretch/>
        </p:blipFill>
        <p:spPr>
          <a:xfrm>
            <a:off x="6512040" y="441360"/>
            <a:ext cx="2274840" cy="647640"/>
          </a:xfrm>
          <a:prstGeom prst="rect">
            <a:avLst/>
          </a:prstGeom>
          <a:ln w="0">
            <a:noFill/>
          </a:ln>
        </p:spPr>
      </p:pic>
      <p:sp>
        <p:nvSpPr>
          <p:cNvPr id="1545" name="Line 9"/>
          <p:cNvSpPr/>
          <p:nvPr/>
        </p:nvSpPr>
        <p:spPr>
          <a:xfrm>
            <a:off x="201600" y="1600200"/>
            <a:ext cx="871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Rectangle 10"/>
          <p:cNvSpPr/>
          <p:nvPr/>
        </p:nvSpPr>
        <p:spPr>
          <a:xfrm>
            <a:off x="76320" y="76320"/>
            <a:ext cx="8991360" cy="12589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7" name="Picture 11" descr="LeedsUniWhite"/>
          <p:cNvPicPr/>
          <p:nvPr/>
        </p:nvPicPr>
        <p:blipFill>
          <a:blip r:embed="rId3"/>
          <a:stretch/>
        </p:blipFill>
        <p:spPr>
          <a:xfrm>
            <a:off x="6512040" y="441360"/>
            <a:ext cx="2274840" cy="647640"/>
          </a:xfrm>
          <a:prstGeom prst="rect">
            <a:avLst/>
          </a:prstGeom>
          <a:ln w="0">
            <a:noFill/>
          </a:ln>
        </p:spPr>
      </p:pic>
      <p:sp>
        <p:nvSpPr>
          <p:cNvPr id="1548" name="PlaceHolder 1"/>
          <p:cNvSpPr>
            <a:spLocks noGrp="1"/>
          </p:cNvSpPr>
          <p:nvPr>
            <p:ph type="body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50" name="PlaceHolder 3"/>
          <p:cNvSpPr>
            <a:spLocks noGrp="1"/>
          </p:cNvSpPr>
          <p:nvPr>
            <p:ph type="dt" idx="106"/>
          </p:nvPr>
        </p:nvSpPr>
        <p:spPr>
          <a:xfrm>
            <a:off x="685800" y="694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1" name="PlaceHolder 4"/>
          <p:cNvSpPr>
            <a:spLocks noGrp="1"/>
          </p:cNvSpPr>
          <p:nvPr>
            <p:ph type="ftr" idx="107"/>
          </p:nvPr>
        </p:nvSpPr>
        <p:spPr>
          <a:xfrm>
            <a:off x="3124080" y="694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2" name="PlaceHolder 5"/>
          <p:cNvSpPr>
            <a:spLocks noGrp="1"/>
          </p:cNvSpPr>
          <p:nvPr>
            <p:ph type="sldNum" idx="108"/>
          </p:nvPr>
        </p:nvSpPr>
        <p:spPr>
          <a:xfrm>
            <a:off x="6553080" y="694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A273FBF-9C88-4E9B-B060-389D609A86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Rectangle 2"/>
          <p:cNvSpPr/>
          <p:nvPr/>
        </p:nvSpPr>
        <p:spPr>
          <a:xfrm>
            <a:off x="76320" y="76320"/>
            <a:ext cx="8991360" cy="125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0" name="Picture 3" descr="LeedsUniWhite"/>
          <p:cNvPicPr/>
          <p:nvPr/>
        </p:nvPicPr>
        <p:blipFill>
          <a:blip r:embed="rId2"/>
          <a:stretch/>
        </p:blipFill>
        <p:spPr>
          <a:xfrm>
            <a:off x="6512040" y="441360"/>
            <a:ext cx="2274840" cy="647640"/>
          </a:xfrm>
          <a:prstGeom prst="rect">
            <a:avLst/>
          </a:prstGeom>
          <a:ln w="0">
            <a:noFill/>
          </a:ln>
        </p:spPr>
      </p:pic>
      <p:sp>
        <p:nvSpPr>
          <p:cNvPr id="1591" name="Line 9"/>
          <p:cNvSpPr/>
          <p:nvPr/>
        </p:nvSpPr>
        <p:spPr>
          <a:xfrm>
            <a:off x="201600" y="1600200"/>
            <a:ext cx="871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2" name="Rectangle 10"/>
          <p:cNvSpPr/>
          <p:nvPr/>
        </p:nvSpPr>
        <p:spPr>
          <a:xfrm>
            <a:off x="76320" y="76320"/>
            <a:ext cx="8991360" cy="12589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3" name="Picture 11" descr="LeedsUniWhite"/>
          <p:cNvPicPr/>
          <p:nvPr/>
        </p:nvPicPr>
        <p:blipFill>
          <a:blip r:embed="rId3"/>
          <a:stretch/>
        </p:blipFill>
        <p:spPr>
          <a:xfrm>
            <a:off x="6512040" y="441360"/>
            <a:ext cx="2274840" cy="647640"/>
          </a:xfrm>
          <a:prstGeom prst="rect">
            <a:avLst/>
          </a:prstGeom>
          <a:ln w="0">
            <a:noFill/>
          </a:ln>
        </p:spPr>
      </p:pic>
      <p:sp>
        <p:nvSpPr>
          <p:cNvPr id="1594" name="PlaceHolder 1"/>
          <p:cNvSpPr>
            <a:spLocks noGrp="1"/>
          </p:cNvSpPr>
          <p:nvPr>
            <p:ph type="body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5" name="PlaceHolder 2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596" name="PlaceHolder 3"/>
          <p:cNvSpPr>
            <a:spLocks noGrp="1"/>
          </p:cNvSpPr>
          <p:nvPr>
            <p:ph type="dt" idx="109"/>
          </p:nvPr>
        </p:nvSpPr>
        <p:spPr>
          <a:xfrm>
            <a:off x="685800" y="694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PlaceHolder 4"/>
          <p:cNvSpPr>
            <a:spLocks noGrp="1"/>
          </p:cNvSpPr>
          <p:nvPr>
            <p:ph type="ftr" idx="110"/>
          </p:nvPr>
        </p:nvSpPr>
        <p:spPr>
          <a:xfrm>
            <a:off x="3124080" y="694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8" name="PlaceHolder 5"/>
          <p:cNvSpPr>
            <a:spLocks noGrp="1"/>
          </p:cNvSpPr>
          <p:nvPr>
            <p:ph type="sldNum" idx="111"/>
          </p:nvPr>
        </p:nvSpPr>
        <p:spPr>
          <a:xfrm>
            <a:off x="6553080" y="694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BB43D1E-D1E1-47B9-A2B2-27202254DDF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Rectangle 2"/>
          <p:cNvSpPr/>
          <p:nvPr/>
        </p:nvSpPr>
        <p:spPr>
          <a:xfrm>
            <a:off x="76320" y="76320"/>
            <a:ext cx="8991360" cy="125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6" name="Picture 3" descr="LeedsUniWhite"/>
          <p:cNvPicPr/>
          <p:nvPr/>
        </p:nvPicPr>
        <p:blipFill>
          <a:blip r:embed="rId2"/>
          <a:stretch/>
        </p:blipFill>
        <p:spPr>
          <a:xfrm>
            <a:off x="6512040" y="441360"/>
            <a:ext cx="2274840" cy="647640"/>
          </a:xfrm>
          <a:prstGeom prst="rect">
            <a:avLst/>
          </a:prstGeom>
          <a:ln w="0">
            <a:noFill/>
          </a:ln>
        </p:spPr>
      </p:pic>
      <p:sp>
        <p:nvSpPr>
          <p:cNvPr id="1637" name="Line 9"/>
          <p:cNvSpPr/>
          <p:nvPr/>
        </p:nvSpPr>
        <p:spPr>
          <a:xfrm>
            <a:off x="201600" y="1600200"/>
            <a:ext cx="871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Rectangle 10"/>
          <p:cNvSpPr/>
          <p:nvPr/>
        </p:nvSpPr>
        <p:spPr>
          <a:xfrm>
            <a:off x="76320" y="76320"/>
            <a:ext cx="8991360" cy="12589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9" name="Picture 11" descr="LeedsUniWhite"/>
          <p:cNvPicPr/>
          <p:nvPr/>
        </p:nvPicPr>
        <p:blipFill>
          <a:blip r:embed="rId3"/>
          <a:stretch/>
        </p:blipFill>
        <p:spPr>
          <a:xfrm>
            <a:off x="6512040" y="441360"/>
            <a:ext cx="2274840" cy="647640"/>
          </a:xfrm>
          <a:prstGeom prst="rect">
            <a:avLst/>
          </a:prstGeom>
          <a:ln w="0">
            <a:noFill/>
          </a:ln>
        </p:spPr>
      </p:pic>
      <p:sp>
        <p:nvSpPr>
          <p:cNvPr id="1640" name="PlaceHolder 1"/>
          <p:cNvSpPr>
            <a:spLocks noGrp="1"/>
          </p:cNvSpPr>
          <p:nvPr>
            <p:ph type="body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PlaceHolder 2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42" name="PlaceHolder 3"/>
          <p:cNvSpPr>
            <a:spLocks noGrp="1"/>
          </p:cNvSpPr>
          <p:nvPr>
            <p:ph type="dt" idx="112"/>
          </p:nvPr>
        </p:nvSpPr>
        <p:spPr>
          <a:xfrm>
            <a:off x="685800" y="694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PlaceHolder 4"/>
          <p:cNvSpPr>
            <a:spLocks noGrp="1"/>
          </p:cNvSpPr>
          <p:nvPr>
            <p:ph type="ftr" idx="113"/>
          </p:nvPr>
        </p:nvSpPr>
        <p:spPr>
          <a:xfrm>
            <a:off x="3124080" y="694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PlaceHolder 5"/>
          <p:cNvSpPr>
            <a:spLocks noGrp="1"/>
          </p:cNvSpPr>
          <p:nvPr>
            <p:ph type="sldNum" idx="114"/>
          </p:nvPr>
        </p:nvSpPr>
        <p:spPr>
          <a:xfrm>
            <a:off x="6553080" y="694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52D6163C-FDCF-47DE-984B-873838BA7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Rectangle 2"/>
          <p:cNvSpPr/>
          <p:nvPr/>
        </p:nvSpPr>
        <p:spPr>
          <a:xfrm>
            <a:off x="76320" y="76320"/>
            <a:ext cx="8991360" cy="125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2" name="Picture 3" descr="LeedsUniWhite"/>
          <p:cNvPicPr/>
          <p:nvPr/>
        </p:nvPicPr>
        <p:blipFill>
          <a:blip r:embed="rId2"/>
          <a:stretch/>
        </p:blipFill>
        <p:spPr>
          <a:xfrm>
            <a:off x="6512040" y="441360"/>
            <a:ext cx="2274840" cy="647640"/>
          </a:xfrm>
          <a:prstGeom prst="rect">
            <a:avLst/>
          </a:prstGeom>
          <a:ln w="0">
            <a:noFill/>
          </a:ln>
        </p:spPr>
      </p:pic>
      <p:sp>
        <p:nvSpPr>
          <p:cNvPr id="1683" name="Line 9"/>
          <p:cNvSpPr/>
          <p:nvPr/>
        </p:nvSpPr>
        <p:spPr>
          <a:xfrm>
            <a:off x="201600" y="1600200"/>
            <a:ext cx="871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4" name="Rectangle 10"/>
          <p:cNvSpPr/>
          <p:nvPr/>
        </p:nvSpPr>
        <p:spPr>
          <a:xfrm>
            <a:off x="76320" y="76320"/>
            <a:ext cx="8991360" cy="12589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5" name="Picture 11" descr="LeedsUniWhite"/>
          <p:cNvPicPr/>
          <p:nvPr/>
        </p:nvPicPr>
        <p:blipFill>
          <a:blip r:embed="rId3"/>
          <a:stretch/>
        </p:blipFill>
        <p:spPr>
          <a:xfrm>
            <a:off x="6512040" y="441360"/>
            <a:ext cx="2274840" cy="647640"/>
          </a:xfrm>
          <a:prstGeom prst="rect">
            <a:avLst/>
          </a:prstGeom>
          <a:ln w="0">
            <a:noFill/>
          </a:ln>
        </p:spPr>
      </p:pic>
      <p:sp>
        <p:nvSpPr>
          <p:cNvPr id="1686" name="PlaceHolder 1"/>
          <p:cNvSpPr>
            <a:spLocks noGrp="1"/>
          </p:cNvSpPr>
          <p:nvPr>
            <p:ph type="body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 type="dt" idx="115"/>
          </p:nvPr>
        </p:nvSpPr>
        <p:spPr>
          <a:xfrm>
            <a:off x="685800" y="694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 type="ftr" idx="116"/>
          </p:nvPr>
        </p:nvSpPr>
        <p:spPr>
          <a:xfrm>
            <a:off x="3124080" y="694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PlaceHolder 5"/>
          <p:cNvSpPr>
            <a:spLocks noGrp="1"/>
          </p:cNvSpPr>
          <p:nvPr>
            <p:ph type="sldNum" idx="117"/>
          </p:nvPr>
        </p:nvSpPr>
        <p:spPr>
          <a:xfrm>
            <a:off x="6553080" y="694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F9399D0-7B31-4B5D-90C6-4BD8E8B95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2"/>
          <p:cNvSpPr/>
          <p:nvPr/>
        </p:nvSpPr>
        <p:spPr>
          <a:xfrm>
            <a:off x="76320" y="76320"/>
            <a:ext cx="8991360" cy="125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LeedsUniWhite"/>
          <p:cNvPicPr/>
          <p:nvPr/>
        </p:nvPicPr>
        <p:blipFill>
          <a:blip r:embed="rId2"/>
          <a:stretch/>
        </p:blipFill>
        <p:spPr>
          <a:xfrm>
            <a:off x="6512040" y="441360"/>
            <a:ext cx="2274840" cy="6476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body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 type="dt" idx="10"/>
          </p:nvPr>
        </p:nvSpPr>
        <p:spPr>
          <a:xfrm>
            <a:off x="685800" y="694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 type="ftr" idx="11"/>
          </p:nvPr>
        </p:nvSpPr>
        <p:spPr>
          <a:xfrm>
            <a:off x="3124080" y="694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 type="sldNum" idx="12"/>
          </p:nvPr>
        </p:nvSpPr>
        <p:spPr>
          <a:xfrm>
            <a:off x="6553080" y="694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0AECD5-BB19-4F94-9A3D-6A59BC17AB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9"/>
          <p:cNvSpPr/>
          <p:nvPr/>
        </p:nvSpPr>
        <p:spPr>
          <a:xfrm>
            <a:off x="201600" y="1600200"/>
            <a:ext cx="871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10"/>
          <p:cNvSpPr/>
          <p:nvPr/>
        </p:nvSpPr>
        <p:spPr>
          <a:xfrm>
            <a:off x="76320" y="76320"/>
            <a:ext cx="8991360" cy="12589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11" descr="LeedsUniWhite"/>
          <p:cNvPicPr/>
          <p:nvPr/>
        </p:nvPicPr>
        <p:blipFill>
          <a:blip r:embed="rId3"/>
          <a:stretch/>
        </p:blipFill>
        <p:spPr>
          <a:xfrm>
            <a:off x="6512040" y="441360"/>
            <a:ext cx="2274840" cy="647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Rectangle 2"/>
          <p:cNvSpPr/>
          <p:nvPr/>
        </p:nvSpPr>
        <p:spPr>
          <a:xfrm>
            <a:off x="76320" y="76320"/>
            <a:ext cx="8991360" cy="125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8" name="Picture 3" descr="LeedsUniWhite"/>
          <p:cNvPicPr/>
          <p:nvPr/>
        </p:nvPicPr>
        <p:blipFill>
          <a:blip r:embed="rId2"/>
          <a:stretch/>
        </p:blipFill>
        <p:spPr>
          <a:xfrm>
            <a:off x="6512040" y="441360"/>
            <a:ext cx="2274840" cy="647640"/>
          </a:xfrm>
          <a:prstGeom prst="rect">
            <a:avLst/>
          </a:prstGeom>
          <a:ln w="0">
            <a:noFill/>
          </a:ln>
        </p:spPr>
      </p:pic>
      <p:sp>
        <p:nvSpPr>
          <p:cNvPr id="1729" name="Line 9"/>
          <p:cNvSpPr/>
          <p:nvPr/>
        </p:nvSpPr>
        <p:spPr>
          <a:xfrm>
            <a:off x="201600" y="1600200"/>
            <a:ext cx="871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0" name="Rectangle 10"/>
          <p:cNvSpPr/>
          <p:nvPr/>
        </p:nvSpPr>
        <p:spPr>
          <a:xfrm>
            <a:off x="76320" y="76320"/>
            <a:ext cx="8991360" cy="12589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1" name="Picture 11" descr="LeedsUniWhite"/>
          <p:cNvPicPr/>
          <p:nvPr/>
        </p:nvPicPr>
        <p:blipFill>
          <a:blip r:embed="rId3"/>
          <a:stretch/>
        </p:blipFill>
        <p:spPr>
          <a:xfrm>
            <a:off x="6512040" y="441360"/>
            <a:ext cx="2274840" cy="647640"/>
          </a:xfrm>
          <a:prstGeom prst="rect">
            <a:avLst/>
          </a:prstGeom>
          <a:ln w="0">
            <a:noFill/>
          </a:ln>
        </p:spPr>
      </p:pic>
      <p:sp>
        <p:nvSpPr>
          <p:cNvPr id="1732" name="PlaceHolder 1"/>
          <p:cNvSpPr>
            <a:spLocks noGrp="1"/>
          </p:cNvSpPr>
          <p:nvPr>
            <p:ph type="body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3" name="PlaceHolder 2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34" name="PlaceHolder 3"/>
          <p:cNvSpPr>
            <a:spLocks noGrp="1"/>
          </p:cNvSpPr>
          <p:nvPr>
            <p:ph type="dt" idx="118"/>
          </p:nvPr>
        </p:nvSpPr>
        <p:spPr>
          <a:xfrm>
            <a:off x="685800" y="694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PlaceHolder 4"/>
          <p:cNvSpPr>
            <a:spLocks noGrp="1"/>
          </p:cNvSpPr>
          <p:nvPr>
            <p:ph type="ftr" idx="119"/>
          </p:nvPr>
        </p:nvSpPr>
        <p:spPr>
          <a:xfrm>
            <a:off x="3124080" y="694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PlaceHolder 5"/>
          <p:cNvSpPr>
            <a:spLocks noGrp="1"/>
          </p:cNvSpPr>
          <p:nvPr>
            <p:ph type="sldNum" idx="120"/>
          </p:nvPr>
        </p:nvSpPr>
        <p:spPr>
          <a:xfrm>
            <a:off x="6553080" y="694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9A46D2-D4D2-4E72-871B-1A4C996D6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3" name="Rectangle 2"/>
          <p:cNvSpPr/>
          <p:nvPr/>
        </p:nvSpPr>
        <p:spPr>
          <a:xfrm>
            <a:off x="76320" y="76320"/>
            <a:ext cx="8991360" cy="125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4" name="Picture 3" descr="LeedsUniWhite"/>
          <p:cNvPicPr/>
          <p:nvPr/>
        </p:nvPicPr>
        <p:blipFill>
          <a:blip r:embed="rId2"/>
          <a:stretch/>
        </p:blipFill>
        <p:spPr>
          <a:xfrm>
            <a:off x="6512040" y="441360"/>
            <a:ext cx="2274840" cy="647640"/>
          </a:xfrm>
          <a:prstGeom prst="rect">
            <a:avLst/>
          </a:prstGeom>
          <a:ln w="0">
            <a:noFill/>
          </a:ln>
        </p:spPr>
      </p:pic>
      <p:sp>
        <p:nvSpPr>
          <p:cNvPr id="1775" name="Line 9"/>
          <p:cNvSpPr/>
          <p:nvPr/>
        </p:nvSpPr>
        <p:spPr>
          <a:xfrm>
            <a:off x="201600" y="1600200"/>
            <a:ext cx="871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6" name="Rectangle 10"/>
          <p:cNvSpPr/>
          <p:nvPr/>
        </p:nvSpPr>
        <p:spPr>
          <a:xfrm>
            <a:off x="76320" y="76320"/>
            <a:ext cx="8991360" cy="12589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7" name="Picture 11" descr="LeedsUniWhite"/>
          <p:cNvPicPr/>
          <p:nvPr/>
        </p:nvPicPr>
        <p:blipFill>
          <a:blip r:embed="rId3"/>
          <a:stretch/>
        </p:blipFill>
        <p:spPr>
          <a:xfrm>
            <a:off x="6512040" y="441360"/>
            <a:ext cx="2274840" cy="647640"/>
          </a:xfrm>
          <a:prstGeom prst="rect">
            <a:avLst/>
          </a:prstGeom>
          <a:ln w="0">
            <a:noFill/>
          </a:ln>
        </p:spPr>
      </p:pic>
      <p:sp>
        <p:nvSpPr>
          <p:cNvPr id="1778" name="PlaceHolder 1"/>
          <p:cNvSpPr>
            <a:spLocks noGrp="1"/>
          </p:cNvSpPr>
          <p:nvPr>
            <p:ph type="body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9" name="PlaceHolder 2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780" name="PlaceHolder 3"/>
          <p:cNvSpPr>
            <a:spLocks noGrp="1"/>
          </p:cNvSpPr>
          <p:nvPr>
            <p:ph type="dt" idx="121"/>
          </p:nvPr>
        </p:nvSpPr>
        <p:spPr>
          <a:xfrm>
            <a:off x="685800" y="694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PlaceHolder 4"/>
          <p:cNvSpPr>
            <a:spLocks noGrp="1"/>
          </p:cNvSpPr>
          <p:nvPr>
            <p:ph type="ftr" idx="122"/>
          </p:nvPr>
        </p:nvSpPr>
        <p:spPr>
          <a:xfrm>
            <a:off x="3124080" y="694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2" name="PlaceHolder 5"/>
          <p:cNvSpPr>
            <a:spLocks noGrp="1"/>
          </p:cNvSpPr>
          <p:nvPr>
            <p:ph type="sldNum" idx="123"/>
          </p:nvPr>
        </p:nvSpPr>
        <p:spPr>
          <a:xfrm>
            <a:off x="6553080" y="694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6C253A5-BF35-46B9-945D-9B0E0485A4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Rectangle 2"/>
          <p:cNvSpPr/>
          <p:nvPr/>
        </p:nvSpPr>
        <p:spPr>
          <a:xfrm>
            <a:off x="76320" y="76320"/>
            <a:ext cx="8991360" cy="125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0" name="Picture 3" descr="LeedsUniWhite"/>
          <p:cNvPicPr/>
          <p:nvPr/>
        </p:nvPicPr>
        <p:blipFill>
          <a:blip r:embed="rId2"/>
          <a:stretch/>
        </p:blipFill>
        <p:spPr>
          <a:xfrm>
            <a:off x="6512040" y="441360"/>
            <a:ext cx="2274840" cy="647640"/>
          </a:xfrm>
          <a:prstGeom prst="rect">
            <a:avLst/>
          </a:prstGeom>
          <a:ln w="0">
            <a:noFill/>
          </a:ln>
        </p:spPr>
      </p:pic>
      <p:sp>
        <p:nvSpPr>
          <p:cNvPr id="1821" name="Line 9"/>
          <p:cNvSpPr/>
          <p:nvPr/>
        </p:nvSpPr>
        <p:spPr>
          <a:xfrm>
            <a:off x="201600" y="1600200"/>
            <a:ext cx="871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2" name="Rectangle 10"/>
          <p:cNvSpPr/>
          <p:nvPr/>
        </p:nvSpPr>
        <p:spPr>
          <a:xfrm>
            <a:off x="76320" y="76320"/>
            <a:ext cx="8991360" cy="12589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3" name="Picture 11" descr="LeedsUniWhite"/>
          <p:cNvPicPr/>
          <p:nvPr/>
        </p:nvPicPr>
        <p:blipFill>
          <a:blip r:embed="rId3"/>
          <a:stretch/>
        </p:blipFill>
        <p:spPr>
          <a:xfrm>
            <a:off x="6512040" y="441360"/>
            <a:ext cx="2274840" cy="647640"/>
          </a:xfrm>
          <a:prstGeom prst="rect">
            <a:avLst/>
          </a:prstGeom>
          <a:ln w="0">
            <a:noFill/>
          </a:ln>
        </p:spPr>
      </p:pic>
      <p:sp>
        <p:nvSpPr>
          <p:cNvPr id="1824" name="PlaceHolder 1"/>
          <p:cNvSpPr>
            <a:spLocks noGrp="1"/>
          </p:cNvSpPr>
          <p:nvPr>
            <p:ph type="body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5" name="PlaceHolder 2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26" name="PlaceHolder 3"/>
          <p:cNvSpPr>
            <a:spLocks noGrp="1"/>
          </p:cNvSpPr>
          <p:nvPr>
            <p:ph type="dt" idx="124"/>
          </p:nvPr>
        </p:nvSpPr>
        <p:spPr>
          <a:xfrm>
            <a:off x="685800" y="694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PlaceHolder 4"/>
          <p:cNvSpPr>
            <a:spLocks noGrp="1"/>
          </p:cNvSpPr>
          <p:nvPr>
            <p:ph type="ftr" idx="125"/>
          </p:nvPr>
        </p:nvSpPr>
        <p:spPr>
          <a:xfrm>
            <a:off x="3124080" y="694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8" name="PlaceHolder 5"/>
          <p:cNvSpPr>
            <a:spLocks noGrp="1"/>
          </p:cNvSpPr>
          <p:nvPr>
            <p:ph type="sldNum" idx="126"/>
          </p:nvPr>
        </p:nvSpPr>
        <p:spPr>
          <a:xfrm>
            <a:off x="6553080" y="694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C577F3A-E6AF-446D-A8CF-7C6067B4DC7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5" name="Rectangle 2"/>
          <p:cNvSpPr/>
          <p:nvPr/>
        </p:nvSpPr>
        <p:spPr>
          <a:xfrm>
            <a:off x="76320" y="76320"/>
            <a:ext cx="8991360" cy="125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6" name="Picture 3" descr="LeedsUniWhite"/>
          <p:cNvPicPr/>
          <p:nvPr/>
        </p:nvPicPr>
        <p:blipFill>
          <a:blip r:embed="rId2"/>
          <a:stretch/>
        </p:blipFill>
        <p:spPr>
          <a:xfrm>
            <a:off x="6512040" y="441360"/>
            <a:ext cx="2274840" cy="647640"/>
          </a:xfrm>
          <a:prstGeom prst="rect">
            <a:avLst/>
          </a:prstGeom>
          <a:ln w="0">
            <a:noFill/>
          </a:ln>
        </p:spPr>
      </p:pic>
      <p:sp>
        <p:nvSpPr>
          <p:cNvPr id="1867" name="Line 9"/>
          <p:cNvSpPr/>
          <p:nvPr/>
        </p:nvSpPr>
        <p:spPr>
          <a:xfrm>
            <a:off x="201600" y="1600200"/>
            <a:ext cx="871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8" name="Rectangle 10"/>
          <p:cNvSpPr/>
          <p:nvPr/>
        </p:nvSpPr>
        <p:spPr>
          <a:xfrm>
            <a:off x="76320" y="76320"/>
            <a:ext cx="8991360" cy="12589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9" name="Picture 11" descr="LeedsUniWhite"/>
          <p:cNvPicPr/>
          <p:nvPr/>
        </p:nvPicPr>
        <p:blipFill>
          <a:blip r:embed="rId3"/>
          <a:stretch/>
        </p:blipFill>
        <p:spPr>
          <a:xfrm>
            <a:off x="6512040" y="441360"/>
            <a:ext cx="2274840" cy="647640"/>
          </a:xfrm>
          <a:prstGeom prst="rect">
            <a:avLst/>
          </a:prstGeom>
          <a:ln w="0">
            <a:noFill/>
          </a:ln>
        </p:spPr>
      </p:pic>
      <p:sp>
        <p:nvSpPr>
          <p:cNvPr id="1870" name="PlaceHolder 1"/>
          <p:cNvSpPr>
            <a:spLocks noGrp="1"/>
          </p:cNvSpPr>
          <p:nvPr>
            <p:ph type="body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 type="dt" idx="127"/>
          </p:nvPr>
        </p:nvSpPr>
        <p:spPr>
          <a:xfrm>
            <a:off x="685800" y="694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PlaceHolder 4"/>
          <p:cNvSpPr>
            <a:spLocks noGrp="1"/>
          </p:cNvSpPr>
          <p:nvPr>
            <p:ph type="ftr" idx="128"/>
          </p:nvPr>
        </p:nvSpPr>
        <p:spPr>
          <a:xfrm>
            <a:off x="3124080" y="694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4" name="PlaceHolder 5"/>
          <p:cNvSpPr>
            <a:spLocks noGrp="1"/>
          </p:cNvSpPr>
          <p:nvPr>
            <p:ph type="sldNum" idx="129"/>
          </p:nvPr>
        </p:nvSpPr>
        <p:spPr>
          <a:xfrm>
            <a:off x="6553080" y="694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4FB1BA1-60F1-4AD7-BAF1-D47DA11FD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Rectangle 2"/>
          <p:cNvSpPr/>
          <p:nvPr/>
        </p:nvSpPr>
        <p:spPr>
          <a:xfrm>
            <a:off x="76320" y="76320"/>
            <a:ext cx="8991360" cy="125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2" name="Picture 3" descr="LeedsUniWhite"/>
          <p:cNvPicPr/>
          <p:nvPr/>
        </p:nvPicPr>
        <p:blipFill>
          <a:blip r:embed="rId2"/>
          <a:stretch/>
        </p:blipFill>
        <p:spPr>
          <a:xfrm>
            <a:off x="6512040" y="441360"/>
            <a:ext cx="2274840" cy="647640"/>
          </a:xfrm>
          <a:prstGeom prst="rect">
            <a:avLst/>
          </a:prstGeom>
          <a:ln w="0">
            <a:noFill/>
          </a:ln>
        </p:spPr>
      </p:pic>
      <p:sp>
        <p:nvSpPr>
          <p:cNvPr id="1913" name="Line 9"/>
          <p:cNvSpPr/>
          <p:nvPr/>
        </p:nvSpPr>
        <p:spPr>
          <a:xfrm>
            <a:off x="201600" y="1600200"/>
            <a:ext cx="871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Rectangle 10"/>
          <p:cNvSpPr/>
          <p:nvPr/>
        </p:nvSpPr>
        <p:spPr>
          <a:xfrm>
            <a:off x="76320" y="76320"/>
            <a:ext cx="8991360" cy="12589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5" name="Picture 11" descr="LeedsUniWhite"/>
          <p:cNvPicPr/>
          <p:nvPr/>
        </p:nvPicPr>
        <p:blipFill>
          <a:blip r:embed="rId3"/>
          <a:stretch/>
        </p:blipFill>
        <p:spPr>
          <a:xfrm>
            <a:off x="6512040" y="441360"/>
            <a:ext cx="2274840" cy="647640"/>
          </a:xfrm>
          <a:prstGeom prst="rect">
            <a:avLst/>
          </a:prstGeom>
          <a:ln w="0">
            <a:noFill/>
          </a:ln>
        </p:spPr>
      </p:pic>
      <p:sp>
        <p:nvSpPr>
          <p:cNvPr id="1916" name="PlaceHolder 1"/>
          <p:cNvSpPr>
            <a:spLocks noGrp="1"/>
          </p:cNvSpPr>
          <p:nvPr>
            <p:ph type="body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PlaceHolder 2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1918" name="PlaceHolder 3"/>
          <p:cNvSpPr>
            <a:spLocks noGrp="1"/>
          </p:cNvSpPr>
          <p:nvPr>
            <p:ph type="dt" idx="130"/>
          </p:nvPr>
        </p:nvSpPr>
        <p:spPr>
          <a:xfrm>
            <a:off x="685800" y="694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9" name="PlaceHolder 4"/>
          <p:cNvSpPr>
            <a:spLocks noGrp="1"/>
          </p:cNvSpPr>
          <p:nvPr>
            <p:ph type="ftr" idx="131"/>
          </p:nvPr>
        </p:nvSpPr>
        <p:spPr>
          <a:xfrm>
            <a:off x="3124080" y="694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PlaceHolder 5"/>
          <p:cNvSpPr>
            <a:spLocks noGrp="1"/>
          </p:cNvSpPr>
          <p:nvPr>
            <p:ph type="sldNum" idx="132"/>
          </p:nvPr>
        </p:nvSpPr>
        <p:spPr>
          <a:xfrm>
            <a:off x="6553080" y="694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D00C90C-D73D-4288-865E-EABEA0475E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9" name="PlaceHolder 3"/>
          <p:cNvSpPr>
            <a:spLocks noGrp="1"/>
          </p:cNvSpPr>
          <p:nvPr>
            <p:ph type="dt" idx="1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PlaceHolder 4"/>
          <p:cNvSpPr>
            <a:spLocks noGrp="1"/>
          </p:cNvSpPr>
          <p:nvPr>
            <p:ph type="ftr" idx="13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1" name="PlaceHolder 5"/>
          <p:cNvSpPr>
            <a:spLocks noGrp="1"/>
          </p:cNvSpPr>
          <p:nvPr>
            <p:ph type="sldNum" idx="1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00B0A06-1A23-4DDB-85BD-B0F54ABDD50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 type="dt" idx="1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1" name="PlaceHolder 4"/>
          <p:cNvSpPr>
            <a:spLocks noGrp="1"/>
          </p:cNvSpPr>
          <p:nvPr>
            <p:ph type="ftr" idx="13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PlaceHolder 5"/>
          <p:cNvSpPr>
            <a:spLocks noGrp="1"/>
          </p:cNvSpPr>
          <p:nvPr>
            <p:ph type="sldNum" idx="1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7E3910-960A-42B0-9B56-0519C7277FA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1" name="PlaceHolder 3"/>
          <p:cNvSpPr>
            <a:spLocks noGrp="1"/>
          </p:cNvSpPr>
          <p:nvPr>
            <p:ph type="dt" idx="1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2" name="PlaceHolder 4"/>
          <p:cNvSpPr>
            <a:spLocks noGrp="1"/>
          </p:cNvSpPr>
          <p:nvPr>
            <p:ph type="ftr" idx="14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PlaceHolder 5"/>
          <p:cNvSpPr>
            <a:spLocks noGrp="1"/>
          </p:cNvSpPr>
          <p:nvPr>
            <p:ph type="sldNum" idx="1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9450B237-B1CC-4A80-8C5A-8F9243503425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 type="dt" idx="1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3" name="PlaceHolder 4"/>
          <p:cNvSpPr>
            <a:spLocks noGrp="1"/>
          </p:cNvSpPr>
          <p:nvPr>
            <p:ph type="ftr" idx="14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PlaceHolder 5"/>
          <p:cNvSpPr>
            <a:spLocks noGrp="1"/>
          </p:cNvSpPr>
          <p:nvPr>
            <p:ph type="sldNum" idx="1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976A344-F794-4D87-980C-F0DD1B9871C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3" name="PlaceHolder 3"/>
          <p:cNvSpPr>
            <a:spLocks noGrp="1"/>
          </p:cNvSpPr>
          <p:nvPr>
            <p:ph type="dt" idx="1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4" name="PlaceHolder 4"/>
          <p:cNvSpPr>
            <a:spLocks noGrp="1"/>
          </p:cNvSpPr>
          <p:nvPr>
            <p:ph type="ftr" idx="14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5" name="PlaceHolder 5"/>
          <p:cNvSpPr>
            <a:spLocks noGrp="1"/>
          </p:cNvSpPr>
          <p:nvPr>
            <p:ph type="sldNum" idx="1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7480F8A0-EDF1-4844-9467-3826095DC1E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4C40-A184-4EE8-89B8-BA8A3EA4798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4" name="PlaceHolder 3"/>
          <p:cNvSpPr>
            <a:spLocks noGrp="1"/>
          </p:cNvSpPr>
          <p:nvPr>
            <p:ph type="dt" idx="1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5" name="PlaceHolder 4"/>
          <p:cNvSpPr>
            <a:spLocks noGrp="1"/>
          </p:cNvSpPr>
          <p:nvPr>
            <p:ph type="ftr" idx="14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6" name="PlaceHolder 5"/>
          <p:cNvSpPr>
            <a:spLocks noGrp="1"/>
          </p:cNvSpPr>
          <p:nvPr>
            <p:ph type="sldNum" idx="1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B281D0B-EDBE-4164-AD47-72394EB5692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5" name="PlaceHolder 3"/>
          <p:cNvSpPr>
            <a:spLocks noGrp="1"/>
          </p:cNvSpPr>
          <p:nvPr>
            <p:ph type="dt" idx="15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6" name="PlaceHolder 4"/>
          <p:cNvSpPr>
            <a:spLocks noGrp="1"/>
          </p:cNvSpPr>
          <p:nvPr>
            <p:ph type="ftr" idx="15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7" name="PlaceHolder 5"/>
          <p:cNvSpPr>
            <a:spLocks noGrp="1"/>
          </p:cNvSpPr>
          <p:nvPr>
            <p:ph type="sldNum" idx="15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335C7E-55A4-475C-9DD7-399F387AE18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6" name="PlaceHolder 3"/>
          <p:cNvSpPr>
            <a:spLocks noGrp="1"/>
          </p:cNvSpPr>
          <p:nvPr>
            <p:ph type="dt" idx="15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7" name="PlaceHolder 4"/>
          <p:cNvSpPr>
            <a:spLocks noGrp="1"/>
          </p:cNvSpPr>
          <p:nvPr>
            <p:ph type="ftr" idx="15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8" name="PlaceHolder 5"/>
          <p:cNvSpPr>
            <a:spLocks noGrp="1"/>
          </p:cNvSpPr>
          <p:nvPr>
            <p:ph type="sldNum" idx="15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6C798D0-5A95-449D-A80B-5252005ABEC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7" name="PlaceHolder 3"/>
          <p:cNvSpPr>
            <a:spLocks noGrp="1"/>
          </p:cNvSpPr>
          <p:nvPr>
            <p:ph type="dt" idx="15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8" name="PlaceHolder 4"/>
          <p:cNvSpPr>
            <a:spLocks noGrp="1"/>
          </p:cNvSpPr>
          <p:nvPr>
            <p:ph type="ftr" idx="15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9" name="PlaceHolder 5"/>
          <p:cNvSpPr>
            <a:spLocks noGrp="1"/>
          </p:cNvSpPr>
          <p:nvPr>
            <p:ph type="sldNum" idx="15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8E74595-17BE-4247-B74D-A1FA134EF67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8" name="PlaceHolder 3"/>
          <p:cNvSpPr>
            <a:spLocks noGrp="1"/>
          </p:cNvSpPr>
          <p:nvPr>
            <p:ph type="dt" idx="16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9" name="PlaceHolder 4"/>
          <p:cNvSpPr>
            <a:spLocks noGrp="1"/>
          </p:cNvSpPr>
          <p:nvPr>
            <p:ph type="ftr" idx="16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0" name="PlaceHolder 5"/>
          <p:cNvSpPr>
            <a:spLocks noGrp="1"/>
          </p:cNvSpPr>
          <p:nvPr>
            <p:ph type="sldNum" idx="16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4528A4B2-EAB2-41CD-824C-6169CAF0AC6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9" name="PlaceHolder 3"/>
          <p:cNvSpPr>
            <a:spLocks noGrp="1"/>
          </p:cNvSpPr>
          <p:nvPr>
            <p:ph type="dt" idx="16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PlaceHolder 4"/>
          <p:cNvSpPr>
            <a:spLocks noGrp="1"/>
          </p:cNvSpPr>
          <p:nvPr>
            <p:ph type="ftr" idx="16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1" name="PlaceHolder 5"/>
          <p:cNvSpPr>
            <a:spLocks noGrp="1"/>
          </p:cNvSpPr>
          <p:nvPr>
            <p:ph type="sldNum" idx="16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7D513D5-AD7C-4242-AB28-318B1B10ECE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8" name="Rectangle 2"/>
          <p:cNvSpPr/>
          <p:nvPr/>
        </p:nvSpPr>
        <p:spPr>
          <a:xfrm>
            <a:off x="76320" y="76320"/>
            <a:ext cx="8991360" cy="67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9" name="Picture 3" descr="LeedsUniWhite"/>
          <p:cNvPicPr/>
          <p:nvPr/>
        </p:nvPicPr>
        <p:blipFill>
          <a:blip r:embed="rId2"/>
          <a:stretch/>
        </p:blipFill>
        <p:spPr>
          <a:xfrm>
            <a:off x="6512040" y="441360"/>
            <a:ext cx="2274840" cy="647640"/>
          </a:xfrm>
          <a:prstGeom prst="rect">
            <a:avLst/>
          </a:prstGeom>
          <a:ln w="0">
            <a:noFill/>
          </a:ln>
        </p:spPr>
      </p:pic>
      <p:sp>
        <p:nvSpPr>
          <p:cNvPr id="2410" name="Line 9"/>
          <p:cNvSpPr/>
          <p:nvPr/>
        </p:nvSpPr>
        <p:spPr>
          <a:xfrm>
            <a:off x="201600" y="1341360"/>
            <a:ext cx="871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1" name="Text Box 10"/>
          <p:cNvSpPr/>
          <p:nvPr/>
        </p:nvSpPr>
        <p:spPr>
          <a:xfrm>
            <a:off x="355680" y="420840"/>
            <a:ext cx="487656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chool of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CULTY OF 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Rectangle 11"/>
          <p:cNvSpPr/>
          <p:nvPr/>
        </p:nvSpPr>
        <p:spPr>
          <a:xfrm>
            <a:off x="76320" y="76320"/>
            <a:ext cx="8991360" cy="670536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3" name="Picture 12" descr="LeedsUniWhite"/>
          <p:cNvPicPr/>
          <p:nvPr/>
        </p:nvPicPr>
        <p:blipFill>
          <a:blip r:embed="rId3"/>
          <a:stretch/>
        </p:blipFill>
        <p:spPr>
          <a:xfrm>
            <a:off x="6512040" y="441360"/>
            <a:ext cx="2274840" cy="647640"/>
          </a:xfrm>
          <a:prstGeom prst="rect">
            <a:avLst/>
          </a:prstGeom>
          <a:ln w="0">
            <a:noFill/>
          </a:ln>
        </p:spPr>
      </p:pic>
      <p:sp>
        <p:nvSpPr>
          <p:cNvPr id="2414" name="PlaceHolder 1"/>
          <p:cNvSpPr>
            <a:spLocks noGrp="1"/>
          </p:cNvSpPr>
          <p:nvPr>
            <p:ph type="body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5" name="PlaceHolder 2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16" name="PlaceHolder 3"/>
          <p:cNvSpPr>
            <a:spLocks noGrp="1"/>
          </p:cNvSpPr>
          <p:nvPr>
            <p:ph type="dt" idx="166"/>
          </p:nvPr>
        </p:nvSpPr>
        <p:spPr>
          <a:xfrm>
            <a:off x="456840" y="69274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7" name="PlaceHolder 4"/>
          <p:cNvSpPr>
            <a:spLocks noGrp="1"/>
          </p:cNvSpPr>
          <p:nvPr>
            <p:ph type="ftr" idx="167"/>
          </p:nvPr>
        </p:nvSpPr>
        <p:spPr>
          <a:xfrm>
            <a:off x="3124080" y="69274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8" name="PlaceHolder 5"/>
          <p:cNvSpPr>
            <a:spLocks noGrp="1"/>
          </p:cNvSpPr>
          <p:nvPr>
            <p:ph type="sldNum" idx="168"/>
          </p:nvPr>
        </p:nvSpPr>
        <p:spPr>
          <a:xfrm>
            <a:off x="6552720" y="69274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157379A-F5CE-47C2-88BB-DF80509EA7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4"/>
    <p:sldLayoutId id="2147484365" r:id="rId5"/>
    <p:sldLayoutId id="2147484366" r:id="rId6"/>
    <p:sldLayoutId id="2147484367" r:id="rId7"/>
    <p:sldLayoutId id="2147484368" r:id="rId8"/>
    <p:sldLayoutId id="2147484369" r:id="rId9"/>
    <p:sldLayoutId id="2147484370" r:id="rId10"/>
    <p:sldLayoutId id="2147484371" r:id="rId11"/>
    <p:sldLayoutId id="2147484372" r:id="rId12"/>
    <p:sldLayoutId id="2147484373" r:id="rId13"/>
    <p:sldLayoutId id="2147484374" r:id="rId14"/>
    <p:sldLayoutId id="2147484375" r:id="rId15"/>
  </p:sldLayoutIdLst>
</p:sldMaster>
</file>

<file path=ppt/slideMasters/slideMaster5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5" name="Rectangle 2"/>
          <p:cNvSpPr/>
          <p:nvPr/>
        </p:nvSpPr>
        <p:spPr>
          <a:xfrm>
            <a:off x="76320" y="76320"/>
            <a:ext cx="8991360" cy="67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6" name="Picture 3" descr="LeedsUniWhite"/>
          <p:cNvPicPr/>
          <p:nvPr/>
        </p:nvPicPr>
        <p:blipFill>
          <a:blip r:embed="rId2"/>
          <a:stretch/>
        </p:blipFill>
        <p:spPr>
          <a:xfrm>
            <a:off x="6512040" y="441360"/>
            <a:ext cx="2274840" cy="647640"/>
          </a:xfrm>
          <a:prstGeom prst="rect">
            <a:avLst/>
          </a:prstGeom>
          <a:ln w="0">
            <a:noFill/>
          </a:ln>
        </p:spPr>
      </p:pic>
      <p:sp>
        <p:nvSpPr>
          <p:cNvPr id="2457" name="Line 9"/>
          <p:cNvSpPr/>
          <p:nvPr/>
        </p:nvSpPr>
        <p:spPr>
          <a:xfrm>
            <a:off x="201600" y="1341360"/>
            <a:ext cx="871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8" name="Text Box 10"/>
          <p:cNvSpPr/>
          <p:nvPr/>
        </p:nvSpPr>
        <p:spPr>
          <a:xfrm>
            <a:off x="355680" y="420840"/>
            <a:ext cx="487656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chool of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CULTY OF 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9" name="Rectangle 11"/>
          <p:cNvSpPr/>
          <p:nvPr/>
        </p:nvSpPr>
        <p:spPr>
          <a:xfrm>
            <a:off x="76320" y="76320"/>
            <a:ext cx="8991360" cy="670536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0" name="Picture 12" descr="LeedsUniWhite"/>
          <p:cNvPicPr/>
          <p:nvPr/>
        </p:nvPicPr>
        <p:blipFill>
          <a:blip r:embed="rId3"/>
          <a:stretch/>
        </p:blipFill>
        <p:spPr>
          <a:xfrm>
            <a:off x="6512040" y="441360"/>
            <a:ext cx="2274840" cy="647640"/>
          </a:xfrm>
          <a:prstGeom prst="rect">
            <a:avLst/>
          </a:prstGeom>
          <a:ln w="0">
            <a:noFill/>
          </a:ln>
        </p:spPr>
      </p:pic>
      <p:sp>
        <p:nvSpPr>
          <p:cNvPr id="2461" name="PlaceHolder 1"/>
          <p:cNvSpPr>
            <a:spLocks noGrp="1"/>
          </p:cNvSpPr>
          <p:nvPr>
            <p:ph type="body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2" name="PlaceHolder 2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463" name="PlaceHolder 3"/>
          <p:cNvSpPr>
            <a:spLocks noGrp="1"/>
          </p:cNvSpPr>
          <p:nvPr>
            <p:ph type="dt" idx="169"/>
          </p:nvPr>
        </p:nvSpPr>
        <p:spPr>
          <a:xfrm>
            <a:off x="456840" y="69274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4" name="PlaceHolder 4"/>
          <p:cNvSpPr>
            <a:spLocks noGrp="1"/>
          </p:cNvSpPr>
          <p:nvPr>
            <p:ph type="ftr" idx="170"/>
          </p:nvPr>
        </p:nvSpPr>
        <p:spPr>
          <a:xfrm>
            <a:off x="3124080" y="69274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5" name="PlaceHolder 5"/>
          <p:cNvSpPr>
            <a:spLocks noGrp="1"/>
          </p:cNvSpPr>
          <p:nvPr>
            <p:ph type="sldNum" idx="171"/>
          </p:nvPr>
        </p:nvSpPr>
        <p:spPr>
          <a:xfrm>
            <a:off x="6552720" y="69274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17ED1E3-317F-4E8B-827B-31590B1360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77" r:id="rId4"/>
    <p:sldLayoutId id="2147484378" r:id="rId5"/>
    <p:sldLayoutId id="2147484379" r:id="rId6"/>
    <p:sldLayoutId id="2147484380" r:id="rId7"/>
    <p:sldLayoutId id="2147484381" r:id="rId8"/>
    <p:sldLayoutId id="2147484382" r:id="rId9"/>
    <p:sldLayoutId id="2147484383" r:id="rId10"/>
    <p:sldLayoutId id="2147484384" r:id="rId11"/>
    <p:sldLayoutId id="2147484385" r:id="rId12"/>
    <p:sldLayoutId id="2147484386" r:id="rId13"/>
    <p:sldLayoutId id="2147484387" r:id="rId14"/>
    <p:sldLayoutId id="2147484388" r:id="rId15"/>
  </p:sldLayoutIdLst>
</p:sldMaster>
</file>

<file path=ppt/slideMasters/slideMaster5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4" name="PlaceHolder 3"/>
          <p:cNvSpPr>
            <a:spLocks noGrp="1"/>
          </p:cNvSpPr>
          <p:nvPr>
            <p:ph type="dt" idx="17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5" name="PlaceHolder 4"/>
          <p:cNvSpPr>
            <a:spLocks noGrp="1"/>
          </p:cNvSpPr>
          <p:nvPr>
            <p:ph type="ftr" idx="17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6" name="PlaceHolder 5"/>
          <p:cNvSpPr>
            <a:spLocks noGrp="1"/>
          </p:cNvSpPr>
          <p:nvPr>
            <p:ph type="sldNum" idx="17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A730BDE-D2B7-447A-8ED9-0E9F529A0A6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90" r:id="rId2"/>
    <p:sldLayoutId id="2147484391" r:id="rId3"/>
    <p:sldLayoutId id="2147484392" r:id="rId4"/>
    <p:sldLayoutId id="2147484393" r:id="rId5"/>
    <p:sldLayoutId id="2147484394" r:id="rId6"/>
    <p:sldLayoutId id="2147484395" r:id="rId7"/>
    <p:sldLayoutId id="2147484396" r:id="rId8"/>
    <p:sldLayoutId id="2147484397" r:id="rId9"/>
    <p:sldLayoutId id="2147484398" r:id="rId10"/>
    <p:sldLayoutId id="2147484399" r:id="rId11"/>
    <p:sldLayoutId id="2147484400" r:id="rId12"/>
    <p:sldLayoutId id="2147484401" r:id="rId13"/>
  </p:sldLayoutIdLst>
</p:sldMaster>
</file>

<file path=ppt/slideMasters/slideMaster5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5" name="PlaceHolder 3"/>
          <p:cNvSpPr>
            <a:spLocks noGrp="1"/>
          </p:cNvSpPr>
          <p:nvPr>
            <p:ph type="dt" idx="17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6" name="PlaceHolder 4"/>
          <p:cNvSpPr>
            <a:spLocks noGrp="1"/>
          </p:cNvSpPr>
          <p:nvPr>
            <p:ph type="ftr" idx="17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7" name="PlaceHolder 5"/>
          <p:cNvSpPr>
            <a:spLocks noGrp="1"/>
          </p:cNvSpPr>
          <p:nvPr>
            <p:ph type="sldNum" idx="17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ECD26FD6-B186-4091-8981-141F2BFC9B8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03" r:id="rId2"/>
    <p:sldLayoutId id="2147484404" r:id="rId3"/>
    <p:sldLayoutId id="2147484405" r:id="rId4"/>
    <p:sldLayoutId id="2147484406" r:id="rId5"/>
    <p:sldLayoutId id="2147484407" r:id="rId6"/>
    <p:sldLayoutId id="2147484408" r:id="rId7"/>
    <p:sldLayoutId id="2147484409" r:id="rId8"/>
    <p:sldLayoutId id="2147484410" r:id="rId9"/>
    <p:sldLayoutId id="2147484411" r:id="rId10"/>
    <p:sldLayoutId id="2147484412" r:id="rId11"/>
    <p:sldLayoutId id="2147484413" r:id="rId12"/>
    <p:sldLayoutId id="2147484414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2"/>
          <p:cNvSpPr/>
          <p:nvPr/>
        </p:nvSpPr>
        <p:spPr>
          <a:xfrm>
            <a:off x="76320" y="76320"/>
            <a:ext cx="8991360" cy="125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1" name="Picture 3" descr="LeedsUniWhite"/>
          <p:cNvPicPr/>
          <p:nvPr/>
        </p:nvPicPr>
        <p:blipFill>
          <a:blip r:embed="rId2"/>
          <a:stretch/>
        </p:blipFill>
        <p:spPr>
          <a:xfrm>
            <a:off x="6512040" y="441360"/>
            <a:ext cx="2274840" cy="64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1"/>
          <p:cNvSpPr>
            <a:spLocks noGrp="1"/>
          </p:cNvSpPr>
          <p:nvPr>
            <p:ph type="body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 type="dt" idx="16"/>
          </p:nvPr>
        </p:nvSpPr>
        <p:spPr>
          <a:xfrm>
            <a:off x="685800" y="694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 type="ftr" idx="17"/>
          </p:nvPr>
        </p:nvSpPr>
        <p:spPr>
          <a:xfrm>
            <a:off x="3124080" y="694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5"/>
          <p:cNvSpPr>
            <a:spLocks noGrp="1"/>
          </p:cNvSpPr>
          <p:nvPr>
            <p:ph type="sldNum" idx="18"/>
          </p:nvPr>
        </p:nvSpPr>
        <p:spPr>
          <a:xfrm>
            <a:off x="6553080" y="694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AB76D88-F4BB-4309-9A3D-73310D3B4B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Line 9"/>
          <p:cNvSpPr/>
          <p:nvPr/>
        </p:nvSpPr>
        <p:spPr>
          <a:xfrm>
            <a:off x="201600" y="1600200"/>
            <a:ext cx="871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76320" y="76320"/>
            <a:ext cx="8991360" cy="12589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Picture 11" descr="LeedsUniWhite"/>
          <p:cNvPicPr/>
          <p:nvPr/>
        </p:nvPicPr>
        <p:blipFill>
          <a:blip r:embed="rId3"/>
          <a:stretch/>
        </p:blipFill>
        <p:spPr>
          <a:xfrm>
            <a:off x="6512040" y="441360"/>
            <a:ext cx="2274840" cy="647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6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6" name="PlaceHolder 3"/>
          <p:cNvSpPr>
            <a:spLocks noGrp="1"/>
          </p:cNvSpPr>
          <p:nvPr>
            <p:ph type="dt" idx="17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7" name="PlaceHolder 4"/>
          <p:cNvSpPr>
            <a:spLocks noGrp="1"/>
          </p:cNvSpPr>
          <p:nvPr>
            <p:ph type="ftr" idx="17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8" name="PlaceHolder 5"/>
          <p:cNvSpPr>
            <a:spLocks noGrp="1"/>
          </p:cNvSpPr>
          <p:nvPr>
            <p:ph type="sldNum" idx="18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E4C6CC-E48E-46DD-95BD-37278232341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16" r:id="rId2"/>
    <p:sldLayoutId id="2147484417" r:id="rId3"/>
    <p:sldLayoutId id="2147484418" r:id="rId4"/>
    <p:sldLayoutId id="2147484419" r:id="rId5"/>
    <p:sldLayoutId id="2147484420" r:id="rId6"/>
    <p:sldLayoutId id="2147484421" r:id="rId7"/>
    <p:sldLayoutId id="2147484422" r:id="rId8"/>
    <p:sldLayoutId id="2147484423" r:id="rId9"/>
    <p:sldLayoutId id="2147484424" r:id="rId10"/>
    <p:sldLayoutId id="2147484425" r:id="rId11"/>
    <p:sldLayoutId id="2147484426" r:id="rId12"/>
    <p:sldLayoutId id="2147484427" r:id="rId13"/>
  </p:sldLayoutIdLst>
</p:sldMaster>
</file>

<file path=ppt/slideMasters/slideMaster6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7" name="PlaceHolder 3"/>
          <p:cNvSpPr>
            <a:spLocks noGrp="1"/>
          </p:cNvSpPr>
          <p:nvPr>
            <p:ph type="dt" idx="18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8" name="PlaceHolder 4"/>
          <p:cNvSpPr>
            <a:spLocks noGrp="1"/>
          </p:cNvSpPr>
          <p:nvPr>
            <p:ph type="ftr" idx="18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9" name="PlaceHolder 5"/>
          <p:cNvSpPr>
            <a:spLocks noGrp="1"/>
          </p:cNvSpPr>
          <p:nvPr>
            <p:ph type="sldNum" idx="18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F1B12D55-F66B-4790-B9E4-9F478F86C6D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29" r:id="rId2"/>
    <p:sldLayoutId id="2147484430" r:id="rId3"/>
    <p:sldLayoutId id="2147484431" r:id="rId4"/>
    <p:sldLayoutId id="2147484432" r:id="rId5"/>
    <p:sldLayoutId id="2147484433" r:id="rId6"/>
    <p:sldLayoutId id="2147484434" r:id="rId7"/>
    <p:sldLayoutId id="2147484435" r:id="rId8"/>
    <p:sldLayoutId id="2147484436" r:id="rId9"/>
    <p:sldLayoutId id="2147484437" r:id="rId10"/>
    <p:sldLayoutId id="2147484438" r:id="rId11"/>
    <p:sldLayoutId id="2147484439" r:id="rId12"/>
    <p:sldLayoutId id="2147484440" r:id="rId13"/>
  </p:sldLayoutIdLst>
</p:sldMaster>
</file>

<file path=ppt/slideMasters/slideMaster6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 type="dt" idx="18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9" name="PlaceHolder 4"/>
          <p:cNvSpPr>
            <a:spLocks noGrp="1"/>
          </p:cNvSpPr>
          <p:nvPr>
            <p:ph type="ftr" idx="18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0" name="PlaceHolder 5"/>
          <p:cNvSpPr>
            <a:spLocks noGrp="1"/>
          </p:cNvSpPr>
          <p:nvPr>
            <p:ph type="sldNum" idx="18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AD08C62-3456-4457-BEFE-3FDE2D90384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42" r:id="rId2"/>
    <p:sldLayoutId id="2147484443" r:id="rId3"/>
    <p:sldLayoutId id="2147484444" r:id="rId4"/>
    <p:sldLayoutId id="2147484445" r:id="rId5"/>
    <p:sldLayoutId id="2147484446" r:id="rId6"/>
    <p:sldLayoutId id="2147484447" r:id="rId7"/>
    <p:sldLayoutId id="2147484448" r:id="rId8"/>
    <p:sldLayoutId id="2147484449" r:id="rId9"/>
    <p:sldLayoutId id="2147484450" r:id="rId10"/>
    <p:sldLayoutId id="2147484451" r:id="rId11"/>
    <p:sldLayoutId id="2147484452" r:id="rId12"/>
    <p:sldLayoutId id="2147484453" r:id="rId13"/>
  </p:sldLayoutIdLst>
</p:sldMaster>
</file>

<file path=ppt/slideMasters/slideMaster6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9" name="PlaceHolder 3"/>
          <p:cNvSpPr>
            <a:spLocks noGrp="1"/>
          </p:cNvSpPr>
          <p:nvPr>
            <p:ph type="dt" idx="18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PlaceHolder 4"/>
          <p:cNvSpPr>
            <a:spLocks noGrp="1"/>
          </p:cNvSpPr>
          <p:nvPr>
            <p:ph type="ftr" idx="18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1" name="PlaceHolder 5"/>
          <p:cNvSpPr>
            <a:spLocks noGrp="1"/>
          </p:cNvSpPr>
          <p:nvPr>
            <p:ph type="sldNum" idx="18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0E1A23-E2FA-4F5C-A56D-9D8B002B7C3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55" r:id="rId2"/>
    <p:sldLayoutId id="2147484456" r:id="rId3"/>
    <p:sldLayoutId id="2147484457" r:id="rId4"/>
    <p:sldLayoutId id="2147484458" r:id="rId5"/>
    <p:sldLayoutId id="2147484459" r:id="rId6"/>
    <p:sldLayoutId id="2147484460" r:id="rId7"/>
    <p:sldLayoutId id="2147484461" r:id="rId8"/>
    <p:sldLayoutId id="2147484462" r:id="rId9"/>
    <p:sldLayoutId id="2147484463" r:id="rId10"/>
    <p:sldLayoutId id="2147484464" r:id="rId11"/>
    <p:sldLayoutId id="2147484465" r:id="rId12"/>
    <p:sldLayoutId id="2147484466" r:id="rId13"/>
  </p:sldLayoutIdLst>
</p:sldMaster>
</file>

<file path=ppt/slideMasters/slideMaster6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0" name="PlaceHolder 3"/>
          <p:cNvSpPr>
            <a:spLocks noGrp="1"/>
          </p:cNvSpPr>
          <p:nvPr>
            <p:ph type="dt" idx="19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1" name="PlaceHolder 4"/>
          <p:cNvSpPr>
            <a:spLocks noGrp="1"/>
          </p:cNvSpPr>
          <p:nvPr>
            <p:ph type="ftr" idx="19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2" name="PlaceHolder 5"/>
          <p:cNvSpPr>
            <a:spLocks noGrp="1"/>
          </p:cNvSpPr>
          <p:nvPr>
            <p:ph type="sldNum" idx="19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0440F8D0-B4FC-46FF-8DDF-215EB759B56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68" r:id="rId2"/>
    <p:sldLayoutId id="2147484469" r:id="rId3"/>
    <p:sldLayoutId id="2147484470" r:id="rId4"/>
    <p:sldLayoutId id="2147484471" r:id="rId5"/>
    <p:sldLayoutId id="2147484472" r:id="rId6"/>
    <p:sldLayoutId id="2147484473" r:id="rId7"/>
    <p:sldLayoutId id="2147484474" r:id="rId8"/>
    <p:sldLayoutId id="2147484475" r:id="rId9"/>
    <p:sldLayoutId id="2147484476" r:id="rId10"/>
    <p:sldLayoutId id="2147484477" r:id="rId11"/>
    <p:sldLayoutId id="2147484478" r:id="rId12"/>
    <p:sldLayoutId id="2147484479" r:id="rId13"/>
  </p:sldLayoutIdLst>
</p:sldMaster>
</file>

<file path=ppt/slideMasters/slideMaster6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1" name="PlaceHolder 3"/>
          <p:cNvSpPr>
            <a:spLocks noGrp="1"/>
          </p:cNvSpPr>
          <p:nvPr>
            <p:ph type="dt" idx="19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2" name="PlaceHolder 4"/>
          <p:cNvSpPr>
            <a:spLocks noGrp="1"/>
          </p:cNvSpPr>
          <p:nvPr>
            <p:ph type="ftr" idx="19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3" name="PlaceHolder 5"/>
          <p:cNvSpPr>
            <a:spLocks noGrp="1"/>
          </p:cNvSpPr>
          <p:nvPr>
            <p:ph type="sldNum" idx="19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EE004AF-E8A3-421C-A8D8-91DBFCC72F8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81" r:id="rId2"/>
    <p:sldLayoutId id="2147484482" r:id="rId3"/>
    <p:sldLayoutId id="2147484483" r:id="rId4"/>
    <p:sldLayoutId id="2147484484" r:id="rId5"/>
    <p:sldLayoutId id="2147484485" r:id="rId6"/>
    <p:sldLayoutId id="2147484486" r:id="rId7"/>
    <p:sldLayoutId id="2147484487" r:id="rId8"/>
    <p:sldLayoutId id="2147484488" r:id="rId9"/>
    <p:sldLayoutId id="2147484489" r:id="rId10"/>
    <p:sldLayoutId id="2147484490" r:id="rId11"/>
    <p:sldLayoutId id="2147484491" r:id="rId12"/>
    <p:sldLayoutId id="2147484492" r:id="rId13"/>
  </p:sldLayoutIdLst>
</p:sldMaster>
</file>

<file path=ppt/slideMasters/slideMaster6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2" name="PlaceHolder 3"/>
          <p:cNvSpPr>
            <a:spLocks noGrp="1"/>
          </p:cNvSpPr>
          <p:nvPr>
            <p:ph type="dt" idx="19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3" name="PlaceHolder 4"/>
          <p:cNvSpPr>
            <a:spLocks noGrp="1"/>
          </p:cNvSpPr>
          <p:nvPr>
            <p:ph type="ftr" idx="19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4" name="PlaceHolder 5"/>
          <p:cNvSpPr>
            <a:spLocks noGrp="1"/>
          </p:cNvSpPr>
          <p:nvPr>
            <p:ph type="sldNum" idx="19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1A5E5B-DC45-4F91-8B93-471B5A781BF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494" r:id="rId2"/>
    <p:sldLayoutId id="2147484495" r:id="rId3"/>
    <p:sldLayoutId id="2147484496" r:id="rId4"/>
    <p:sldLayoutId id="2147484497" r:id="rId5"/>
    <p:sldLayoutId id="2147484498" r:id="rId6"/>
    <p:sldLayoutId id="2147484499" r:id="rId7"/>
    <p:sldLayoutId id="2147484500" r:id="rId8"/>
    <p:sldLayoutId id="2147484501" r:id="rId9"/>
    <p:sldLayoutId id="2147484502" r:id="rId10"/>
    <p:sldLayoutId id="2147484503" r:id="rId11"/>
    <p:sldLayoutId id="2147484504" r:id="rId12"/>
    <p:sldLayoutId id="2147484505" r:id="rId13"/>
  </p:sldLayoutIdLst>
</p:sldMaster>
</file>

<file path=ppt/slideMasters/slideMaster6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73" name="PlaceHolder 3"/>
          <p:cNvSpPr>
            <a:spLocks noGrp="1"/>
          </p:cNvSpPr>
          <p:nvPr>
            <p:ph type="dt" idx="19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4" name="PlaceHolder 4"/>
          <p:cNvSpPr>
            <a:spLocks noGrp="1"/>
          </p:cNvSpPr>
          <p:nvPr>
            <p:ph type="ftr" idx="20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5" name="PlaceHolder 5"/>
          <p:cNvSpPr>
            <a:spLocks noGrp="1"/>
          </p:cNvSpPr>
          <p:nvPr>
            <p:ph type="sldNum" idx="20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2F01A51A-4722-4FF2-98EE-59EB4C046290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07" r:id="rId2"/>
    <p:sldLayoutId id="2147484508" r:id="rId3"/>
    <p:sldLayoutId id="2147484509" r:id="rId4"/>
    <p:sldLayoutId id="2147484510" r:id="rId5"/>
    <p:sldLayoutId id="2147484511" r:id="rId6"/>
    <p:sldLayoutId id="2147484512" r:id="rId7"/>
    <p:sldLayoutId id="2147484513" r:id="rId8"/>
    <p:sldLayoutId id="2147484514" r:id="rId9"/>
    <p:sldLayoutId id="2147484515" r:id="rId10"/>
    <p:sldLayoutId id="2147484516" r:id="rId11"/>
    <p:sldLayoutId id="2147484517" r:id="rId12"/>
    <p:sldLayoutId id="2147484518" r:id="rId13"/>
  </p:sldLayoutIdLst>
</p:sldMaster>
</file>

<file path=ppt/slideMasters/slideMaster6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4" name="PlaceHolder 3"/>
          <p:cNvSpPr>
            <a:spLocks noGrp="1"/>
          </p:cNvSpPr>
          <p:nvPr>
            <p:ph type="dt" idx="20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5" name="PlaceHolder 4"/>
          <p:cNvSpPr>
            <a:spLocks noGrp="1"/>
          </p:cNvSpPr>
          <p:nvPr>
            <p:ph type="ftr" idx="20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6" name="PlaceHolder 5"/>
          <p:cNvSpPr>
            <a:spLocks noGrp="1"/>
          </p:cNvSpPr>
          <p:nvPr>
            <p:ph type="sldNum" idx="20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59D2910-72FF-4A40-A9A9-391B9D47A04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520" r:id="rId2"/>
    <p:sldLayoutId id="2147484521" r:id="rId3"/>
    <p:sldLayoutId id="2147484522" r:id="rId4"/>
    <p:sldLayoutId id="2147484523" r:id="rId5"/>
    <p:sldLayoutId id="2147484524" r:id="rId6"/>
    <p:sldLayoutId id="2147484525" r:id="rId7"/>
    <p:sldLayoutId id="2147484526" r:id="rId8"/>
    <p:sldLayoutId id="2147484527" r:id="rId9"/>
    <p:sldLayoutId id="2147484528" r:id="rId10"/>
    <p:sldLayoutId id="2147484529" r:id="rId11"/>
    <p:sldLayoutId id="2147484530" r:id="rId12"/>
    <p:sldLayoutId id="2147484531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Rectangle 2"/>
          <p:cNvSpPr/>
          <p:nvPr/>
        </p:nvSpPr>
        <p:spPr>
          <a:xfrm>
            <a:off x="76320" y="76320"/>
            <a:ext cx="8991360" cy="125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7" name="Picture 3" descr="LeedsUniWhite"/>
          <p:cNvPicPr/>
          <p:nvPr/>
        </p:nvPicPr>
        <p:blipFill>
          <a:blip r:embed="rId2"/>
          <a:stretch/>
        </p:blipFill>
        <p:spPr>
          <a:xfrm>
            <a:off x="6512040" y="441360"/>
            <a:ext cx="2274840" cy="647640"/>
          </a:xfrm>
          <a:prstGeom prst="rect">
            <a:avLst/>
          </a:prstGeom>
          <a:ln w="0">
            <a:noFill/>
          </a:ln>
        </p:spPr>
      </p:pic>
      <p:sp>
        <p:nvSpPr>
          <p:cNvPr id="268" name="PlaceHolder 1"/>
          <p:cNvSpPr>
            <a:spLocks noGrp="1"/>
          </p:cNvSpPr>
          <p:nvPr>
            <p:ph type="body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 type="dt" idx="19"/>
          </p:nvPr>
        </p:nvSpPr>
        <p:spPr>
          <a:xfrm>
            <a:off x="685800" y="694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ftr" idx="20"/>
          </p:nvPr>
        </p:nvSpPr>
        <p:spPr>
          <a:xfrm>
            <a:off x="3124080" y="694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 type="sldNum" idx="21"/>
          </p:nvPr>
        </p:nvSpPr>
        <p:spPr>
          <a:xfrm>
            <a:off x="6553080" y="694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F61F4C3-0CAC-40C6-AB3E-90CF4EDC8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Line 9"/>
          <p:cNvSpPr/>
          <p:nvPr/>
        </p:nvSpPr>
        <p:spPr>
          <a:xfrm>
            <a:off x="201600" y="1600200"/>
            <a:ext cx="871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Rectangle 10"/>
          <p:cNvSpPr/>
          <p:nvPr/>
        </p:nvSpPr>
        <p:spPr>
          <a:xfrm>
            <a:off x="76320" y="76320"/>
            <a:ext cx="8991360" cy="125892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Picture 11" descr="LeedsUniWhite"/>
          <p:cNvPicPr/>
          <p:nvPr/>
        </p:nvPicPr>
        <p:blipFill>
          <a:blip r:embed="rId3"/>
          <a:stretch/>
        </p:blipFill>
        <p:spPr>
          <a:xfrm>
            <a:off x="6512040" y="441360"/>
            <a:ext cx="2274840" cy="647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396364-E91D-4A3E-B9C1-FB4B8B0F6CAB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Rectangle 2"/>
          <p:cNvSpPr/>
          <p:nvPr/>
        </p:nvSpPr>
        <p:spPr>
          <a:xfrm>
            <a:off x="76320" y="76320"/>
            <a:ext cx="8991360" cy="67053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4" name="Picture 3" descr="LeedsUniWhite"/>
          <p:cNvPicPr/>
          <p:nvPr/>
        </p:nvPicPr>
        <p:blipFill>
          <a:blip r:embed="rId2"/>
          <a:stretch/>
        </p:blipFill>
        <p:spPr>
          <a:xfrm>
            <a:off x="6512040" y="441360"/>
            <a:ext cx="2274840" cy="647640"/>
          </a:xfrm>
          <a:prstGeom prst="rect">
            <a:avLst/>
          </a:prstGeom>
          <a:ln w="0">
            <a:noFill/>
          </a:ln>
        </p:spPr>
      </p:pic>
      <p:sp>
        <p:nvSpPr>
          <p:cNvPr id="355" name="Line 9"/>
          <p:cNvSpPr/>
          <p:nvPr/>
        </p:nvSpPr>
        <p:spPr>
          <a:xfrm>
            <a:off x="201600" y="1341360"/>
            <a:ext cx="8713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10"/>
          <p:cNvSpPr/>
          <p:nvPr/>
        </p:nvSpPr>
        <p:spPr>
          <a:xfrm>
            <a:off x="355680" y="420840"/>
            <a:ext cx="487656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b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chool of someth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Arial"/>
              </a:rPr>
              <a:t>FACULTY OF OTH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1"/>
          <p:cNvSpPr/>
          <p:nvPr/>
        </p:nvSpPr>
        <p:spPr>
          <a:xfrm>
            <a:off x="76320" y="76320"/>
            <a:ext cx="8991360" cy="670536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8" name="Picture 12" descr="LeedsUniWhite"/>
          <p:cNvPicPr/>
          <p:nvPr/>
        </p:nvPicPr>
        <p:blipFill>
          <a:blip r:embed="rId3"/>
          <a:stretch/>
        </p:blipFill>
        <p:spPr>
          <a:xfrm>
            <a:off x="6512040" y="441360"/>
            <a:ext cx="2274840" cy="647640"/>
          </a:xfrm>
          <a:prstGeom prst="rect">
            <a:avLst/>
          </a:prstGeom>
          <a:ln w="0">
            <a:noFill/>
          </a:ln>
        </p:spPr>
      </p:pic>
      <p:sp>
        <p:nvSpPr>
          <p:cNvPr id="359" name="PlaceHolder 1"/>
          <p:cNvSpPr>
            <a:spLocks noGrp="1"/>
          </p:cNvSpPr>
          <p:nvPr>
            <p:ph type="body"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Aft>
                <a:spcPts val="1199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64646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 type="dt" idx="25"/>
          </p:nvPr>
        </p:nvSpPr>
        <p:spPr>
          <a:xfrm>
            <a:off x="456840" y="69274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 type="ftr" idx="26"/>
          </p:nvPr>
        </p:nvSpPr>
        <p:spPr>
          <a:xfrm>
            <a:off x="3124080" y="692748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 type="sldNum" idx="27"/>
          </p:nvPr>
        </p:nvSpPr>
        <p:spPr>
          <a:xfrm>
            <a:off x="6552720" y="69274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02124F6-D73D-4F84-AF78-8B96AC477D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4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97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2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97.xml"/><Relationship Id="rId2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6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9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4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title"/>
          </p:nvPr>
        </p:nvSpPr>
        <p:spPr>
          <a:xfrm>
            <a:off x="693720" y="1952640"/>
            <a:ext cx="7772400" cy="215424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orking with increasing demands </a:t>
            </a: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Finding and keeping a sense of balance </a:t>
            </a: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indfulness 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61" name="PlaceHolder 2"/>
          <p:cNvSpPr>
            <a:spLocks noGrp="1"/>
          </p:cNvSpPr>
          <p:nvPr>
            <p:ph type="subTitle"/>
          </p:nvPr>
        </p:nvSpPr>
        <p:spPr>
          <a:xfrm>
            <a:off x="1224000" y="4473720"/>
            <a:ext cx="6400800" cy="1379520"/>
          </a:xfrm>
          <a:prstGeom prst="rect">
            <a:avLst/>
          </a:prstGeom>
          <a:solidFill>
            <a:srgbClr val="78d6ea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lnSpc>
                <a:spcPct val="6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ally Ro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taff Counselling and Psychological Support Servi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.rose@leeds.ac.u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1" name="Rectangle 33"/>
          <p:cNvSpPr/>
          <p:nvPr/>
        </p:nvSpPr>
        <p:spPr>
          <a:xfrm>
            <a:off x="74520" y="74520"/>
            <a:ext cx="8991720" cy="125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"/>
          <p:cNvSpPr txBox="1"/>
          <p:nvPr/>
        </p:nvSpPr>
        <p:spPr>
          <a:xfrm>
            <a:off x="356760" y="1413000"/>
            <a:ext cx="842796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3" name="Text Box 35"/>
          <p:cNvSpPr/>
          <p:nvPr/>
        </p:nvSpPr>
        <p:spPr>
          <a:xfrm>
            <a:off x="355680" y="420840"/>
            <a:ext cx="4876560" cy="73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b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Staff Counselling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Psychological Suppor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4" name="Picture 34" descr="LeedsUniWhite"/>
          <p:cNvPicPr/>
          <p:nvPr/>
        </p:nvPicPr>
        <p:blipFill>
          <a:blip r:embed="rId1"/>
          <a:stretch/>
        </p:blipFill>
        <p:spPr>
          <a:xfrm>
            <a:off x="6510240" y="439560"/>
            <a:ext cx="2274840" cy="648000"/>
          </a:xfrm>
          <a:prstGeom prst="rect">
            <a:avLst/>
          </a:prstGeom>
          <a:ln w="0">
            <a:noFill/>
          </a:ln>
        </p:spPr>
      </p:pic>
      <p:sp>
        <p:nvSpPr>
          <p:cNvPr id="3025" name="Rectangle 33"/>
          <p:cNvSpPr/>
          <p:nvPr/>
        </p:nvSpPr>
        <p:spPr>
          <a:xfrm>
            <a:off x="54000" y="74520"/>
            <a:ext cx="8991720" cy="126684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6" name="Title 1"/>
          <p:cNvSpPr/>
          <p:nvPr/>
        </p:nvSpPr>
        <p:spPr>
          <a:xfrm>
            <a:off x="74520" y="365040"/>
            <a:ext cx="6729480" cy="67644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Arial"/>
              </a:rPr>
              <a:t>How do we know?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  <a:ea typeface="Arial"/>
              </a:rPr>
              <a:t>What can we do about it?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7" name="Rectangle 1"/>
          <p:cNvSpPr/>
          <p:nvPr/>
        </p:nvSpPr>
        <p:spPr>
          <a:xfrm>
            <a:off x="179280" y="1341360"/>
            <a:ext cx="8280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15968"/>
                </a:solidFill>
                <a:latin typeface="Arial"/>
                <a:ea typeface="ＭＳ Ｐゴシック"/>
              </a:rPr>
              <a:t>When we are in our workable ran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15968"/>
                </a:solidFill>
                <a:latin typeface="Arial"/>
                <a:ea typeface="ＭＳ Ｐゴシック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15968"/>
                </a:solidFill>
                <a:latin typeface="Arial"/>
                <a:ea typeface="ＭＳ Ｐゴシック"/>
              </a:rPr>
              <a:t>When we are mobilised - charged fragmented - chaoti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15968"/>
                </a:solidFill>
                <a:latin typeface="Arial"/>
                <a:ea typeface="ＭＳ Ｐゴシック"/>
              </a:rPr>
              <a:t>When we are immobilised - closed- shut down - rigi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15968"/>
                </a:solidFill>
                <a:latin typeface="Arial"/>
                <a:ea typeface="ＭＳ Ｐゴシック"/>
              </a:rPr>
              <a:t>When we are on roller coaster wired and tire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8" name="Picture 34" descr="LeedsUniWhite"/>
          <p:cNvPicPr/>
          <p:nvPr/>
        </p:nvPicPr>
        <p:blipFill>
          <a:blip r:embed="rId2"/>
          <a:stretch/>
        </p:blipFill>
        <p:spPr>
          <a:xfrm>
            <a:off x="6662880" y="592200"/>
            <a:ext cx="22748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9" name="Rectangle 33"/>
          <p:cNvSpPr/>
          <p:nvPr/>
        </p:nvSpPr>
        <p:spPr>
          <a:xfrm>
            <a:off x="103320" y="54000"/>
            <a:ext cx="8991360" cy="125892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0" name=""/>
          <p:cNvSpPr txBox="1"/>
          <p:nvPr/>
        </p:nvSpPr>
        <p:spPr>
          <a:xfrm>
            <a:off x="340920" y="1483920"/>
            <a:ext cx="8427960" cy="507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Arial"/>
                <a:ea typeface="Arial"/>
              </a:rPr>
              <a:t>What our minds are usually like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1" name="Text Box 35"/>
          <p:cNvSpPr/>
          <p:nvPr/>
        </p:nvSpPr>
        <p:spPr>
          <a:xfrm>
            <a:off x="179280" y="260280"/>
            <a:ext cx="5440320" cy="73836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Mindful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2" name="Title 1"/>
          <p:cNvSpPr/>
          <p:nvPr/>
        </p:nvSpPr>
        <p:spPr>
          <a:xfrm>
            <a:off x="250920" y="1432080"/>
            <a:ext cx="8229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3" name="TextBox 9"/>
          <p:cNvSpPr/>
          <p:nvPr/>
        </p:nvSpPr>
        <p:spPr>
          <a:xfrm>
            <a:off x="179280" y="2300400"/>
            <a:ext cx="8837640" cy="25650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Arial"/>
                <a:ea typeface="Arial"/>
              </a:rPr>
              <a:t>47% of the time our minds are ………..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4" name="Cloud Callout 1"/>
          <p:cNvSpPr/>
          <p:nvPr/>
        </p:nvSpPr>
        <p:spPr>
          <a:xfrm>
            <a:off x="2963880" y="2970360"/>
            <a:ext cx="2833560" cy="1498320"/>
          </a:xfrm>
          <a:prstGeom prst="cloudCallout">
            <a:avLst>
              <a:gd name="adj1" fmla="val -20833"/>
              <a:gd name="adj2" fmla="val 6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Lost in thought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5" name="TextBox 3"/>
          <p:cNvSpPr/>
          <p:nvPr/>
        </p:nvSpPr>
        <p:spPr>
          <a:xfrm>
            <a:off x="385920" y="5210280"/>
            <a:ext cx="79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his means we have little control over our reactions and get caught in trying to solve problems with the wrong too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6" name="Picture 34" descr="LeedsUniWhite"/>
          <p:cNvPicPr/>
          <p:nvPr/>
        </p:nvPicPr>
        <p:blipFill>
          <a:blip r:embed="rId1"/>
          <a:stretch/>
        </p:blipFill>
        <p:spPr>
          <a:xfrm>
            <a:off x="6662880" y="592200"/>
            <a:ext cx="22748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30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30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3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3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30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7" name="Rectangle 33"/>
          <p:cNvSpPr/>
          <p:nvPr/>
        </p:nvSpPr>
        <p:spPr>
          <a:xfrm>
            <a:off x="60480" y="87480"/>
            <a:ext cx="8991360" cy="125856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8" name="Text Box 35"/>
          <p:cNvSpPr/>
          <p:nvPr/>
        </p:nvSpPr>
        <p:spPr>
          <a:xfrm>
            <a:off x="250920" y="485640"/>
            <a:ext cx="3595680" cy="73836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Mindfuln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9" name="Title 1"/>
          <p:cNvSpPr/>
          <p:nvPr/>
        </p:nvSpPr>
        <p:spPr>
          <a:xfrm>
            <a:off x="250920" y="1432080"/>
            <a:ext cx="8229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0" name=""/>
          <p:cNvSpPr txBox="1"/>
          <p:nvPr/>
        </p:nvSpPr>
        <p:spPr>
          <a:xfrm>
            <a:off x="340920" y="1484280"/>
            <a:ext cx="8427960" cy="471816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/>
          </a:bodyPr>
          <a:p>
            <a:pPr marL="343080" indent="88560">
              <a:lnSpc>
                <a:spcPct val="115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88560">
              <a:lnSpc>
                <a:spcPct val="115000"/>
              </a:lnSpc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The awareness that emerges though paying attention on purpose in the present moment and non-judgmentally to things as they are. Jon Kabat-Zinn 199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8856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88560">
              <a:lnSpc>
                <a:spcPct val="115000"/>
              </a:lnSpc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Calibri"/>
              </a:rPr>
              <a:t>Conscious intentional awarenes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8856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1" name="Picture 34" descr="LeedsUniWhite"/>
          <p:cNvPicPr/>
          <p:nvPr/>
        </p:nvPicPr>
        <p:blipFill>
          <a:blip r:embed="rId1"/>
          <a:stretch/>
        </p:blipFill>
        <p:spPr>
          <a:xfrm>
            <a:off x="6662880" y="592200"/>
            <a:ext cx="2274840" cy="647640"/>
          </a:xfrm>
          <a:prstGeom prst="rect">
            <a:avLst/>
          </a:prstGeom>
          <a:ln w="0">
            <a:noFill/>
          </a:ln>
        </p:spPr>
      </p:pic>
      <p:pic>
        <p:nvPicPr>
          <p:cNvPr id="3042" name="Picture 34" descr="LeedsUniWhite"/>
          <p:cNvPicPr/>
          <p:nvPr/>
        </p:nvPicPr>
        <p:blipFill>
          <a:blip r:embed="rId2"/>
          <a:stretch/>
        </p:blipFill>
        <p:spPr>
          <a:xfrm>
            <a:off x="6815160" y="744480"/>
            <a:ext cx="22748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3" name="Rectangle 33"/>
          <p:cNvSpPr/>
          <p:nvPr/>
        </p:nvSpPr>
        <p:spPr>
          <a:xfrm>
            <a:off x="74520" y="74520"/>
            <a:ext cx="8991720" cy="125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4" name=""/>
          <p:cNvSpPr txBox="1"/>
          <p:nvPr/>
        </p:nvSpPr>
        <p:spPr>
          <a:xfrm>
            <a:off x="356760" y="1413000"/>
            <a:ext cx="842796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5" name="Text Box 35"/>
          <p:cNvSpPr/>
          <p:nvPr/>
        </p:nvSpPr>
        <p:spPr>
          <a:xfrm>
            <a:off x="355680" y="420840"/>
            <a:ext cx="4876560" cy="73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b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Staff Counselling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  <a:ea typeface="ＭＳ Ｐゴシック"/>
              </a:rPr>
              <a:t>Psychological Suppor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46" name="Picture 34" descr="LeedsUniWhite"/>
          <p:cNvPicPr/>
          <p:nvPr/>
        </p:nvPicPr>
        <p:blipFill>
          <a:blip r:embed="rId1"/>
          <a:stretch/>
        </p:blipFill>
        <p:spPr>
          <a:xfrm>
            <a:off x="6510240" y="439560"/>
            <a:ext cx="2274840" cy="648000"/>
          </a:xfrm>
          <a:prstGeom prst="rect">
            <a:avLst/>
          </a:prstGeom>
          <a:ln w="0">
            <a:noFill/>
          </a:ln>
        </p:spPr>
      </p:pic>
      <p:sp>
        <p:nvSpPr>
          <p:cNvPr id="3047" name="Title 1"/>
          <p:cNvSpPr/>
          <p:nvPr/>
        </p:nvSpPr>
        <p:spPr>
          <a:xfrm>
            <a:off x="468360" y="1413000"/>
            <a:ext cx="82296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8" name="Rectangle 33"/>
          <p:cNvSpPr/>
          <p:nvPr/>
        </p:nvSpPr>
        <p:spPr>
          <a:xfrm>
            <a:off x="74520" y="74520"/>
            <a:ext cx="8991720" cy="126684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9" name="Title 1"/>
          <p:cNvSpPr/>
          <p:nvPr/>
        </p:nvSpPr>
        <p:spPr>
          <a:xfrm>
            <a:off x="108000" y="692280"/>
            <a:ext cx="64022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4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indfulness practice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0" name="Rectangle 1"/>
          <p:cNvSpPr/>
          <p:nvPr/>
        </p:nvSpPr>
        <p:spPr>
          <a:xfrm>
            <a:off x="355680" y="1720800"/>
            <a:ext cx="81770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1" name="TextBox 10"/>
          <p:cNvSpPr/>
          <p:nvPr/>
        </p:nvSpPr>
        <p:spPr>
          <a:xfrm>
            <a:off x="117360" y="2421000"/>
            <a:ext cx="8948880" cy="3506040"/>
          </a:xfrm>
          <a:prstGeom prst="rect">
            <a:avLst/>
          </a:prstGeom>
          <a:solidFill>
            <a:srgbClr val="fac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Attention and Awaren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Arriving in the present mo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Coming to your sens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Dropping out of autopi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2" name="Picture 34" descr="LeedsUniWhite"/>
          <p:cNvPicPr/>
          <p:nvPr/>
        </p:nvPicPr>
        <p:blipFill>
          <a:blip r:embed="rId2"/>
          <a:stretch/>
        </p:blipFill>
        <p:spPr>
          <a:xfrm>
            <a:off x="6662880" y="592200"/>
            <a:ext cx="22748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3" name="Rectangle 33"/>
          <p:cNvSpPr/>
          <p:nvPr/>
        </p:nvSpPr>
        <p:spPr>
          <a:xfrm>
            <a:off x="74520" y="74520"/>
            <a:ext cx="8991720" cy="125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4" name=""/>
          <p:cNvSpPr txBox="1"/>
          <p:nvPr/>
        </p:nvSpPr>
        <p:spPr>
          <a:xfrm>
            <a:off x="356760" y="1413000"/>
            <a:ext cx="842796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5" name="Text Box 35"/>
          <p:cNvSpPr/>
          <p:nvPr/>
        </p:nvSpPr>
        <p:spPr>
          <a:xfrm>
            <a:off x="355680" y="420840"/>
            <a:ext cx="4876560" cy="73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Staff Counselling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Psychological Suppor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56" name="Picture 34" descr="LeedsUniWhite"/>
          <p:cNvPicPr/>
          <p:nvPr/>
        </p:nvPicPr>
        <p:blipFill>
          <a:blip r:embed="rId1"/>
          <a:stretch/>
        </p:blipFill>
        <p:spPr>
          <a:xfrm>
            <a:off x="6510240" y="439560"/>
            <a:ext cx="2274840" cy="648000"/>
          </a:xfrm>
          <a:prstGeom prst="rect">
            <a:avLst/>
          </a:prstGeom>
          <a:ln w="0">
            <a:noFill/>
          </a:ln>
        </p:spPr>
      </p:pic>
      <p:sp>
        <p:nvSpPr>
          <p:cNvPr id="3057" name="Title 1"/>
          <p:cNvSpPr/>
          <p:nvPr/>
        </p:nvSpPr>
        <p:spPr>
          <a:xfrm>
            <a:off x="468360" y="1413000"/>
            <a:ext cx="82296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8" name="Rectangle 33"/>
          <p:cNvSpPr/>
          <p:nvPr/>
        </p:nvSpPr>
        <p:spPr>
          <a:xfrm>
            <a:off x="74520" y="74520"/>
            <a:ext cx="8991720" cy="126684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9" name="Title 1"/>
          <p:cNvSpPr/>
          <p:nvPr/>
        </p:nvSpPr>
        <p:spPr>
          <a:xfrm>
            <a:off x="108000" y="692280"/>
            <a:ext cx="593892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Mindfulness practic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0" name="Rectangle 1"/>
          <p:cNvSpPr/>
          <p:nvPr/>
        </p:nvSpPr>
        <p:spPr>
          <a:xfrm>
            <a:off x="355680" y="1720800"/>
            <a:ext cx="817704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1" name="TextBox 10"/>
          <p:cNvSpPr/>
          <p:nvPr/>
        </p:nvSpPr>
        <p:spPr>
          <a:xfrm>
            <a:off x="108000" y="2852640"/>
            <a:ext cx="8947080" cy="2043720"/>
          </a:xfrm>
          <a:prstGeom prst="rect">
            <a:avLst/>
          </a:prstGeom>
          <a:solidFill>
            <a:srgbClr val="c3d6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Posture – waking up – releasing ten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Stabilising atten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Being with wha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Choosing to respond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2" name="Picture 34" descr="LeedsUniWhite"/>
          <p:cNvPicPr/>
          <p:nvPr/>
        </p:nvPicPr>
        <p:blipFill>
          <a:blip r:embed="rId2"/>
          <a:stretch/>
        </p:blipFill>
        <p:spPr>
          <a:xfrm>
            <a:off x="6662880" y="592200"/>
            <a:ext cx="22748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3" name="Rectangle 33"/>
          <p:cNvSpPr/>
          <p:nvPr/>
        </p:nvSpPr>
        <p:spPr>
          <a:xfrm>
            <a:off x="74520" y="74520"/>
            <a:ext cx="8991720" cy="125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4" name=""/>
          <p:cNvSpPr txBox="1"/>
          <p:nvPr/>
        </p:nvSpPr>
        <p:spPr>
          <a:xfrm>
            <a:off x="356760" y="1413000"/>
            <a:ext cx="8427960" cy="45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5" name="Text Box 35"/>
          <p:cNvSpPr/>
          <p:nvPr/>
        </p:nvSpPr>
        <p:spPr>
          <a:xfrm>
            <a:off x="355680" y="420840"/>
            <a:ext cx="4876560" cy="73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b">
            <a:normAutofit fontScale="82000"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taff Counselling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sychological Suppor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6" name="Picture 34" descr="LeedsUniWhite"/>
          <p:cNvPicPr/>
          <p:nvPr/>
        </p:nvPicPr>
        <p:blipFill>
          <a:blip r:embed="rId1"/>
          <a:stretch/>
        </p:blipFill>
        <p:spPr>
          <a:xfrm>
            <a:off x="6510240" y="439560"/>
            <a:ext cx="2274840" cy="648000"/>
          </a:xfrm>
          <a:prstGeom prst="rect">
            <a:avLst/>
          </a:prstGeom>
          <a:ln w="0">
            <a:noFill/>
          </a:ln>
        </p:spPr>
      </p:pic>
      <p:sp>
        <p:nvSpPr>
          <p:cNvPr id="3067" name="Rectangle 33"/>
          <p:cNvSpPr/>
          <p:nvPr/>
        </p:nvSpPr>
        <p:spPr>
          <a:xfrm>
            <a:off x="74520" y="74520"/>
            <a:ext cx="8991720" cy="126684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8" name="Title 1"/>
          <p:cNvSpPr/>
          <p:nvPr/>
        </p:nvSpPr>
        <p:spPr>
          <a:xfrm>
            <a:off x="68400" y="420840"/>
            <a:ext cx="8654760" cy="78264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Short practices: tune-ins / circuit breakers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9" name="Rectangle 1"/>
          <p:cNvSpPr/>
          <p:nvPr/>
        </p:nvSpPr>
        <p:spPr>
          <a:xfrm>
            <a:off x="539640" y="1628640"/>
            <a:ext cx="7891560" cy="259416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215968"/>
                </a:solidFill>
                <a:latin typeface="Arial"/>
                <a:ea typeface="Arial"/>
              </a:rPr>
              <a:t>Stopp techniqu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1596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215968"/>
                </a:solidFill>
                <a:latin typeface="Arial"/>
                <a:ea typeface="Arial"/>
              </a:rPr>
              <a:t>S</a:t>
            </a:r>
            <a:r>
              <a:rPr b="0" lang="en-GB" sz="2000" spc="-1" strike="noStrike">
                <a:solidFill>
                  <a:srgbClr val="215968"/>
                </a:solidFill>
                <a:latin typeface="Arial"/>
                <a:ea typeface="Arial"/>
              </a:rPr>
              <a:t>top and step bac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1596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215968"/>
                </a:solidFill>
                <a:latin typeface="Arial"/>
                <a:ea typeface="Arial"/>
              </a:rPr>
              <a:t>T</a:t>
            </a:r>
            <a:r>
              <a:rPr b="0" lang="en-GB" sz="2000" spc="-1" strike="noStrike">
                <a:solidFill>
                  <a:srgbClr val="215968"/>
                </a:solidFill>
                <a:latin typeface="Arial"/>
                <a:ea typeface="Arial"/>
              </a:rPr>
              <a:t>ake a breath or tw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1596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215968"/>
                </a:solidFill>
                <a:latin typeface="Arial"/>
                <a:ea typeface="Arial"/>
              </a:rPr>
              <a:t>O</a:t>
            </a:r>
            <a:r>
              <a:rPr b="0" lang="en-GB" sz="2000" spc="-1" strike="noStrike">
                <a:solidFill>
                  <a:srgbClr val="215968"/>
                </a:solidFill>
                <a:latin typeface="Arial"/>
                <a:ea typeface="Arial"/>
              </a:rPr>
              <a:t>bserve – where is my attention? What am I thinking/feeling? Am I in a workable range? if not how am I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1596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215968"/>
                </a:solidFill>
                <a:latin typeface="Arial"/>
                <a:ea typeface="Arial"/>
              </a:rPr>
              <a:t>P</a:t>
            </a:r>
            <a:r>
              <a:rPr b="0" lang="en-GB" sz="2000" spc="-1" strike="noStrike">
                <a:solidFill>
                  <a:srgbClr val="215968"/>
                </a:solidFill>
                <a:latin typeface="Arial"/>
                <a:ea typeface="Arial"/>
              </a:rPr>
              <a:t>ull back - take </a:t>
            </a:r>
            <a:r>
              <a:rPr b="1" lang="en-GB" sz="2000" spc="-1" strike="noStrike">
                <a:solidFill>
                  <a:srgbClr val="215968"/>
                </a:solidFill>
                <a:latin typeface="Arial"/>
                <a:ea typeface="Arial"/>
              </a:rPr>
              <a:t>P</a:t>
            </a:r>
            <a:r>
              <a:rPr b="0" lang="en-GB" sz="2000" spc="-1" strike="noStrike">
                <a:solidFill>
                  <a:srgbClr val="215968"/>
                </a:solidFill>
                <a:latin typeface="Arial"/>
                <a:ea typeface="Arial"/>
              </a:rPr>
              <a:t>erspective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1596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215968"/>
                </a:solidFill>
                <a:latin typeface="Arial"/>
                <a:ea typeface="Arial"/>
              </a:rPr>
              <a:t>P</a:t>
            </a:r>
            <a:r>
              <a:rPr b="0" lang="en-GB" sz="2000" spc="-1" strike="noStrike">
                <a:solidFill>
                  <a:srgbClr val="215968"/>
                </a:solidFill>
                <a:latin typeface="Arial"/>
                <a:ea typeface="Arial"/>
              </a:rPr>
              <a:t>ractice what might help or what you know works for yo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15968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0" name="Text Box 2"/>
          <p:cNvSpPr/>
          <p:nvPr/>
        </p:nvSpPr>
        <p:spPr>
          <a:xfrm>
            <a:off x="347760" y="449280"/>
            <a:ext cx="430992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2" marL="914400">
              <a:lnSpc>
                <a:spcPct val="100000"/>
              </a:lnSpc>
              <a:spcAft>
                <a:spcPts val="10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1" name="Rectangle 9"/>
          <p:cNvSpPr/>
          <p:nvPr/>
        </p:nvSpPr>
        <p:spPr>
          <a:xfrm>
            <a:off x="468360" y="4365720"/>
            <a:ext cx="7891560" cy="2288520"/>
          </a:xfrm>
          <a:prstGeom prst="rect">
            <a:avLst/>
          </a:prstGeom>
          <a:solidFill>
            <a:srgbClr val="fdead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400" spc="-1" strike="noStrike">
                <a:solidFill>
                  <a:srgbClr val="215968"/>
                </a:solidFill>
                <a:latin typeface="Arial"/>
                <a:ea typeface="Arial"/>
              </a:rPr>
              <a:t>Every day activity practi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400" spc="-1" strike="noStrike">
                <a:solidFill>
                  <a:srgbClr val="215968"/>
                </a:solidFill>
                <a:latin typeface="Arial"/>
                <a:ea typeface="Arial"/>
              </a:rPr>
              <a:t>Choose a simple and time limited everyday activity that you do everyday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br>
              <a:rPr sz="2400"/>
            </a:br>
            <a:r>
              <a:rPr b="0" lang="en-GB" sz="2400" spc="-1" strike="noStrike">
                <a:solidFill>
                  <a:srgbClr val="215968"/>
                </a:solidFill>
                <a:latin typeface="Arial"/>
                <a:ea typeface="Arial"/>
              </a:rPr>
              <a:t>Bring the same quality of attention to the direct sensory  experience as in other practic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2" name="PlaceHolder 1"/>
          <p:cNvSpPr>
            <a:spLocks noGrp="1"/>
          </p:cNvSpPr>
          <p:nvPr>
            <p:ph/>
          </p:nvPr>
        </p:nvSpPr>
        <p:spPr>
          <a:xfrm>
            <a:off x="355320" y="1547280"/>
            <a:ext cx="84294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2159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5968"/>
                </a:solidFill>
                <a:latin typeface="Arial"/>
                <a:ea typeface="Arial"/>
              </a:rPr>
              <a:t>Becoming aware of the patterns of our minds and bodi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2159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5968"/>
                </a:solidFill>
                <a:latin typeface="Arial"/>
                <a:ea typeface="Arial"/>
              </a:rPr>
              <a:t>Reducing reactions that reinforce stres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2159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5968"/>
                </a:solidFill>
                <a:latin typeface="Arial"/>
                <a:ea typeface="Arial"/>
              </a:rPr>
              <a:t>Stepping away from overthinking and worry – having a mental brea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2159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5968"/>
                </a:solidFill>
                <a:latin typeface="Arial"/>
                <a:ea typeface="Arial"/>
              </a:rPr>
              <a:t>Letting go of tension in the bod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2159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5968"/>
                </a:solidFill>
                <a:latin typeface="Arial"/>
                <a:ea typeface="Arial"/>
              </a:rPr>
              <a:t>Paying more attention to the need to rest and recove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2159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5968"/>
                </a:solidFill>
                <a:latin typeface="Arial"/>
                <a:ea typeface="Arial"/>
              </a:rPr>
              <a:t>Establishing safety in your body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100000"/>
              </a:lnSpc>
              <a:spcBef>
                <a:spcPts val="601"/>
              </a:spcBef>
              <a:buClr>
                <a:srgbClr val="215968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5968"/>
                </a:solidFill>
                <a:latin typeface="Arial"/>
                <a:ea typeface="Arial"/>
              </a:rPr>
              <a:t>Noticing the good as well as the ba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3" name="Rectangle 2"/>
          <p:cNvSpPr/>
          <p:nvPr/>
        </p:nvSpPr>
        <p:spPr>
          <a:xfrm>
            <a:off x="237960" y="322200"/>
            <a:ext cx="5823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Arial"/>
                <a:ea typeface="Arial"/>
              </a:rPr>
              <a:t>Breaking reactive cycles, learning to respond to find and maintain balance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4" name="PlaceHolder 1"/>
          <p:cNvSpPr>
            <a:spLocks noGrp="1"/>
          </p:cNvSpPr>
          <p:nvPr>
            <p:ph type="title"/>
          </p:nvPr>
        </p:nvSpPr>
        <p:spPr>
          <a:xfrm>
            <a:off x="355680" y="421920"/>
            <a:ext cx="487656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ummary</a:t>
            </a:r>
            <a:r>
              <a:rPr b="0" lang="en-GB" sz="2800" spc="-1" strike="noStrike">
                <a:solidFill>
                  <a:srgbClr val="46464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075" name="PlaceHolder 2"/>
          <p:cNvSpPr>
            <a:spLocks noGrp="1"/>
          </p:cNvSpPr>
          <p:nvPr>
            <p:ph/>
          </p:nvPr>
        </p:nvSpPr>
        <p:spPr>
          <a:xfrm>
            <a:off x="355320" y="1665360"/>
            <a:ext cx="8429400" cy="434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Aft>
                <a:spcPts val="1199"/>
              </a:spcAft>
              <a:buClr>
                <a:srgbClr val="227a8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27a8f"/>
                </a:solidFill>
                <a:latin typeface="Arial"/>
              </a:rPr>
              <a:t>Working in workable range is important for heath and performan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227a8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27a8f"/>
                </a:solidFill>
                <a:latin typeface="Arial"/>
              </a:rPr>
              <a:t>Tuning into your body is a good source of information to help regulate stress arousa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227a8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27a8f"/>
                </a:solidFill>
                <a:latin typeface="Arial"/>
              </a:rPr>
              <a:t>Bringing attention away from your thoughts can help break stress circuits and widen your attentional rang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227a8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27a8f"/>
                </a:solidFill>
                <a:latin typeface="Arial"/>
              </a:rPr>
              <a:t>Choosing to notice neutral and positive sensations and experience will reduce stress rea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Aft>
                <a:spcPts val="1199"/>
              </a:spcAft>
              <a:buClr>
                <a:srgbClr val="227a8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27a8f"/>
                </a:solidFill>
                <a:latin typeface="Arial"/>
              </a:rPr>
              <a:t>Regulate first – use thinking skills when more balanc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11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Aft>
                <a:spcPts val="11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6" name="PlaceHolder 1"/>
          <p:cNvSpPr>
            <a:spLocks noGrp="1"/>
          </p:cNvSpPr>
          <p:nvPr>
            <p:ph type="title"/>
          </p:nvPr>
        </p:nvSpPr>
        <p:spPr>
          <a:xfrm>
            <a:off x="693720" y="1952640"/>
            <a:ext cx="7772400" cy="2154240"/>
          </a:xfrm>
          <a:prstGeom prst="rect">
            <a:avLst/>
          </a:prstGeom>
          <a:solidFill>
            <a:srgbClr val="b5b5b5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orking with increasing demands </a:t>
            </a: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Finding and keeping a sense of balance </a:t>
            </a:r>
            <a:br>
              <a:rPr sz="2800"/>
            </a:b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Mindfulness 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3077" name="PlaceHolder 2"/>
          <p:cNvSpPr>
            <a:spLocks noGrp="1"/>
          </p:cNvSpPr>
          <p:nvPr>
            <p:ph type="subTitle"/>
          </p:nvPr>
        </p:nvSpPr>
        <p:spPr>
          <a:xfrm>
            <a:off x="1224000" y="4473720"/>
            <a:ext cx="6400800" cy="1379520"/>
          </a:xfrm>
          <a:prstGeom prst="rect">
            <a:avLst/>
          </a:prstGeom>
          <a:solidFill>
            <a:srgbClr val="78d6ea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lnSpc>
                <a:spcPct val="6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Aft>
                <a:spcPts val="55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ally Ros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taff Counselling and Psychological Support Servic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Aft>
                <a:spcPts val="7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s.rose@leeds.ac.uk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60000"/>
              </a:lnSpc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2" name="PlaceHolder 1"/>
          <p:cNvSpPr>
            <a:spLocks noGrp="1"/>
          </p:cNvSpPr>
          <p:nvPr>
            <p:ph type="title"/>
          </p:nvPr>
        </p:nvSpPr>
        <p:spPr>
          <a:xfrm>
            <a:off x="355320" y="421920"/>
            <a:ext cx="587844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ork demands and stress </a:t>
            </a:r>
            <a:endParaRPr b="0" lang="en-US" sz="28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63" name=""/>
          <p:cNvSpPr txBox="1"/>
          <p:nvPr/>
        </p:nvSpPr>
        <p:spPr>
          <a:xfrm>
            <a:off x="355320" y="1665000"/>
            <a:ext cx="842940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81720" indent="-8172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en-GB" sz="2400" spc="-1" strike="noStrike">
                <a:solidFill>
                  <a:srgbClr val="227a8f"/>
                </a:solidFill>
                <a:latin typeface="Arial"/>
              </a:rPr>
              <a:t>A dynamic interaction between workplace and individual characteristics, demands, control and resource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720" indent="-8172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720" indent="-8172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720" indent="-8172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720" indent="-8172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720" indent="-8172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720" indent="-8172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720" indent="-8172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720" indent="-81720" algn="ctr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27a8f"/>
                </a:solidFill>
                <a:latin typeface="Arial"/>
              </a:rPr>
              <a:t>Responsibilities at all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720" indent="-8172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720" indent="-8172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720" indent="-8172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1720" indent="-8172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64" name="Diagram 4" descr=""/>
          <p:cNvPicPr/>
          <p:nvPr/>
        </p:nvPicPr>
        <p:blipFill>
          <a:blip r:embed="rId1"/>
          <a:stretch/>
        </p:blipFill>
        <p:spPr>
          <a:xfrm>
            <a:off x="1427040" y="2389320"/>
            <a:ext cx="5888160" cy="340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5" name="PlaceHolder 1"/>
          <p:cNvSpPr>
            <a:spLocks noGrp="1"/>
          </p:cNvSpPr>
          <p:nvPr>
            <p:ph type="title"/>
          </p:nvPr>
        </p:nvSpPr>
        <p:spPr>
          <a:xfrm>
            <a:off x="355320" y="421920"/>
            <a:ext cx="587844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Demands on our minds</a:t>
            </a:r>
            <a:endParaRPr b="0" lang="en-US" sz="32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66" name=""/>
          <p:cNvSpPr txBox="1"/>
          <p:nvPr/>
        </p:nvSpPr>
        <p:spPr>
          <a:xfrm>
            <a:off x="340920" y="1484280"/>
            <a:ext cx="842796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27a8f"/>
                </a:solidFill>
                <a:latin typeface="Arial"/>
                <a:ea typeface="Arial"/>
              </a:rPr>
              <a:t>What we expect of our minds today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15968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7" name="TextBox 9"/>
          <p:cNvSpPr/>
          <p:nvPr/>
        </p:nvSpPr>
        <p:spPr>
          <a:xfrm>
            <a:off x="604800" y="2779560"/>
            <a:ext cx="7875720" cy="3049200"/>
          </a:xfrm>
          <a:prstGeom prst="rect">
            <a:avLst/>
          </a:prstGeom>
          <a:solidFill>
            <a:srgbClr val="dbeef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5000"/>
              </a:lnSpc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Arial"/>
                <a:ea typeface="Arial"/>
              </a:rPr>
              <a:t>Knowledge econom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Arial"/>
                <a:ea typeface="Arial"/>
              </a:rPr>
              <a:t>Demands - Information – Complexity – Relationship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15000"/>
              </a:lnSpc>
              <a:spcBef>
                <a:spcPts val="601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15968"/>
                </a:solidFill>
                <a:latin typeface="Arial"/>
                <a:ea typeface="Arial"/>
              </a:rPr>
              <a:t>Spend time on physical health/fitness but not our minds – Why no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8" name="PlaceHolder 1"/>
          <p:cNvSpPr>
            <a:spLocks noGrp="1"/>
          </p:cNvSpPr>
          <p:nvPr>
            <p:ph type="title"/>
          </p:nvPr>
        </p:nvSpPr>
        <p:spPr>
          <a:xfrm>
            <a:off x="355320" y="421920"/>
            <a:ext cx="5878440" cy="73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Balance </a:t>
            </a:r>
            <a:endParaRPr b="0" lang="en-US" sz="4400" spc="-1" strike="noStrike">
              <a:solidFill>
                <a:srgbClr val="464646"/>
              </a:solidFill>
              <a:latin typeface="Arial"/>
            </a:endParaRPr>
          </a:p>
        </p:txBody>
      </p:sp>
      <p:sp>
        <p:nvSpPr>
          <p:cNvPr id="2969" name=""/>
          <p:cNvSpPr txBox="1"/>
          <p:nvPr/>
        </p:nvSpPr>
        <p:spPr>
          <a:xfrm>
            <a:off x="355320" y="1665360"/>
            <a:ext cx="8429400" cy="467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88920" indent="-8892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88920" indent="-88920">
              <a:spcAft>
                <a:spcPts val="11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0" name="TextBox 2"/>
          <p:cNvSpPr/>
          <p:nvPr/>
        </p:nvSpPr>
        <p:spPr>
          <a:xfrm>
            <a:off x="4006800" y="1514520"/>
            <a:ext cx="1135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54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71" name="Picture 3" descr="C:\Users\persro\AppData\Local\Microsoft\Windows\Temporary Internet Files\Content.IE5\3APFZJD9\Scale Question[1].gif"/>
          <p:cNvPicPr/>
          <p:nvPr/>
        </p:nvPicPr>
        <p:blipFill>
          <a:blip r:embed="rId1"/>
          <a:stretch/>
        </p:blipFill>
        <p:spPr>
          <a:xfrm>
            <a:off x="576360" y="2316240"/>
            <a:ext cx="7434000" cy="38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TextBox 3"/>
          <p:cNvSpPr/>
          <p:nvPr/>
        </p:nvSpPr>
        <p:spPr>
          <a:xfrm>
            <a:off x="0" y="2593800"/>
            <a:ext cx="9144000" cy="327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alibri"/>
              </a:rPr>
              <a:t>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800" spc="-1" strike="noStrike">
                <a:solidFill>
                  <a:srgbClr val="008000"/>
                </a:solidFill>
                <a:latin typeface="Calibri"/>
              </a:rPr>
              <a:t>	</a:t>
            </a:r>
            <a:r>
              <a:rPr b="1" lang="en-GB" sz="1800" spc="-1" strike="noStrike">
                <a:solidFill>
                  <a:srgbClr val="008000"/>
                </a:solidFill>
                <a:latin typeface="Calibri"/>
              </a:rPr>
              <a:t>W   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WORKABLE RANGE - window of tolerance and effectivenes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Feelings and reactions are tolerable and can be considere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Thinking is more open flexible and creati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80000"/>
              </a:lnSpc>
              <a:tabLst>
                <a:tab algn="l" pos="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We can adapt  our responses to fit the situation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             </a:t>
            </a:r>
            <a:r>
              <a:rPr b="1" lang="en-GB" sz="2000" spc="-1" strike="noStrike">
                <a:solidFill>
                  <a:srgbClr val="008000"/>
                </a:solidFill>
                <a:latin typeface="Arial"/>
              </a:rPr>
              <a:t>We can take perspective and  focus on workable and wise a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3" name="Straight Connector 5"/>
          <p:cNvSpPr/>
          <p:nvPr/>
        </p:nvSpPr>
        <p:spPr>
          <a:xfrm flipV="1">
            <a:off x="0" y="2568600"/>
            <a:ext cx="9144000" cy="25200"/>
          </a:xfrm>
          <a:prstGeom prst="line">
            <a:avLst/>
          </a:prstGeom>
          <a:ln w="255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Straight Connector 7"/>
          <p:cNvSpPr/>
          <p:nvPr/>
        </p:nvSpPr>
        <p:spPr>
          <a:xfrm>
            <a:off x="0" y="5475240"/>
            <a:ext cx="9144000" cy="1800"/>
          </a:xfrm>
          <a:prstGeom prst="line">
            <a:avLst/>
          </a:prstGeom>
          <a:ln w="255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5" name="TextBox 4"/>
          <p:cNvSpPr/>
          <p:nvPr/>
        </p:nvSpPr>
        <p:spPr>
          <a:xfrm>
            <a:off x="311040" y="290520"/>
            <a:ext cx="675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Arial"/>
              </a:rPr>
              <a:t>Workable Range of stress and emo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6" name="Up-Down Arrow 6"/>
          <p:cNvSpPr/>
          <p:nvPr/>
        </p:nvSpPr>
        <p:spPr>
          <a:xfrm>
            <a:off x="414360" y="2819520"/>
            <a:ext cx="484200" cy="2185920"/>
          </a:xfrm>
          <a:prstGeom prst="upDownArrow">
            <a:avLst>
              <a:gd name="adj1" fmla="val 50000"/>
              <a:gd name="adj2" fmla="val 49994"/>
            </a:avLst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TextBox 8"/>
          <p:cNvSpPr/>
          <p:nvPr/>
        </p:nvSpPr>
        <p:spPr>
          <a:xfrm>
            <a:off x="274680" y="1650960"/>
            <a:ext cx="8156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Chao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8" name="TextBox 10"/>
          <p:cNvSpPr/>
          <p:nvPr/>
        </p:nvSpPr>
        <p:spPr>
          <a:xfrm>
            <a:off x="274680" y="5761080"/>
            <a:ext cx="852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70c0"/>
                </a:solidFill>
                <a:latin typeface="Arial"/>
              </a:rPr>
              <a:t>	</a:t>
            </a:r>
            <a:r>
              <a:rPr b="1" lang="en-GB" sz="2000" spc="-1" strike="noStrike">
                <a:solidFill>
                  <a:srgbClr val="0070c0"/>
                </a:solidFill>
                <a:latin typeface="Arial"/>
              </a:rPr>
              <a:t>  </a:t>
            </a:r>
            <a:r>
              <a:rPr b="1" lang="en-GB" sz="2000" spc="-1" strike="noStrike">
                <a:solidFill>
                  <a:srgbClr val="0070c0"/>
                </a:solidFill>
                <a:latin typeface="Arial"/>
              </a:rPr>
              <a:t>Rigid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9" name="Rectangle 33"/>
          <p:cNvSpPr/>
          <p:nvPr/>
        </p:nvSpPr>
        <p:spPr>
          <a:xfrm>
            <a:off x="74520" y="74520"/>
            <a:ext cx="8991720" cy="125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"/>
          <p:cNvSpPr txBox="1"/>
          <p:nvPr/>
        </p:nvSpPr>
        <p:spPr>
          <a:xfrm>
            <a:off x="394920" y="1413000"/>
            <a:ext cx="842796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1" name="Text Box 35"/>
          <p:cNvSpPr/>
          <p:nvPr/>
        </p:nvSpPr>
        <p:spPr>
          <a:xfrm>
            <a:off x="355680" y="420840"/>
            <a:ext cx="4876560" cy="73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ff Counselling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sychological Suppor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2" name="Picture 34" descr="LeedsUniWhite"/>
          <p:cNvPicPr/>
          <p:nvPr/>
        </p:nvPicPr>
        <p:blipFill>
          <a:blip r:embed="rId1"/>
          <a:stretch/>
        </p:blipFill>
        <p:spPr>
          <a:xfrm>
            <a:off x="6510240" y="439560"/>
            <a:ext cx="2274840" cy="648000"/>
          </a:xfrm>
          <a:prstGeom prst="rect">
            <a:avLst/>
          </a:prstGeom>
          <a:ln w="0">
            <a:noFill/>
          </a:ln>
        </p:spPr>
      </p:pic>
      <p:sp>
        <p:nvSpPr>
          <p:cNvPr id="2983" name="Title 1"/>
          <p:cNvSpPr/>
          <p:nvPr/>
        </p:nvSpPr>
        <p:spPr>
          <a:xfrm>
            <a:off x="468360" y="1413000"/>
            <a:ext cx="82296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4" name="Rectangle 33"/>
          <p:cNvSpPr/>
          <p:nvPr/>
        </p:nvSpPr>
        <p:spPr>
          <a:xfrm>
            <a:off x="74520" y="74520"/>
            <a:ext cx="8991720" cy="1266840"/>
          </a:xfrm>
          <a:prstGeom prst="rect">
            <a:avLst/>
          </a:prstGeom>
          <a:solidFill>
            <a:srgbClr val="2da2bf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5" name="Title 1"/>
          <p:cNvSpPr/>
          <p:nvPr/>
        </p:nvSpPr>
        <p:spPr>
          <a:xfrm>
            <a:off x="108000" y="333360"/>
            <a:ext cx="6402240" cy="782640"/>
          </a:xfrm>
          <a:prstGeom prst="rect">
            <a:avLst/>
          </a:prstGeom>
          <a:solidFill>
            <a:srgbClr val="2da2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Workable Rang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stress and emotional reactiv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Content Placeholder 4"/>
          <p:cNvSpPr/>
          <p:nvPr/>
        </p:nvSpPr>
        <p:spPr>
          <a:xfrm>
            <a:off x="272880" y="1450800"/>
            <a:ext cx="8642520" cy="51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 fontScale="99000"/>
          </a:bodyPr>
          <a:p>
            <a:pPr marL="339480" indent="-339480">
              <a:lnSpc>
                <a:spcPct val="80000"/>
              </a:lnSpc>
              <a:spcAft>
                <a:spcPts val="7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     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Hyper arousal reactions and habi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Aft>
                <a:spcPts val="7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     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HIGH ENERGY -  Mobilisation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HA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Aft>
                <a:spcPts val="700"/>
              </a:spcAft>
              <a:buClr>
                <a:srgbClr val="ff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frazzled, overwhelm and pan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Aft>
                <a:spcPts val="700"/>
              </a:spcAft>
              <a:buClr>
                <a:srgbClr val="ff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fractured attention, racing thoughts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                                  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FIGHT/FLIGH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Aft>
                <a:spcPts val="700"/>
              </a:spcAft>
              <a:buClr>
                <a:srgbClr val="ff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agitation, impulsiv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Aft>
                <a:spcPts val="700"/>
              </a:spcAft>
              <a:buClr>
                <a:srgbClr val="ff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anger-rage,  frazzled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Aft>
                <a:spcPts val="700"/>
              </a:spcAft>
              <a:buClr>
                <a:srgbClr val="ff000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hyper vigilance  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Aft>
                <a:spcPts val="7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Aft>
                <a:spcPts val="7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Comfortable, coherent arousal = calm 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Aft>
                <a:spcPts val="7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WORKABLE RANGE 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- window of tolerance and effective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0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0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Comfortable, coherent slownes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s = calm tired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Aft>
                <a:spcPts val="7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Aft>
                <a:spcPts val="7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Aft>
                <a:spcPts val="7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Hypo arousal reactions and habits 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Aft>
                <a:spcPts val="7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       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LOW ENERGY – Immobilisation 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RIGID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Aft>
                <a:spcPts val="700"/>
              </a:spcAft>
              <a:buClr>
                <a:srgbClr val="3366ff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passive, lack of feelings, numb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Aft>
                <a:spcPts val="700"/>
              </a:spcAft>
              <a:buClr>
                <a:srgbClr val="3366ff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can’t think or critical or pessimistic thoughts 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Aft>
                <a:spcPts val="700"/>
              </a:spcAft>
              <a:buClr>
                <a:srgbClr val="3366ff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shut down,  given in, can’t protest </a:t>
            </a:r>
            <a:r>
              <a:rPr b="1" lang="en-GB" sz="1400" spc="-1" strike="noStrike">
                <a:solidFill>
                  <a:srgbClr val="00b05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b05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b05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b05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b05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b05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b05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b05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b05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FREEZE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7" name="Straight Connector 13"/>
          <p:cNvSpPr/>
          <p:nvPr/>
        </p:nvSpPr>
        <p:spPr>
          <a:xfrm>
            <a:off x="250920" y="3284640"/>
            <a:ext cx="8642160" cy="0"/>
          </a:xfrm>
          <a:prstGeom prst="line">
            <a:avLst/>
          </a:prstGeom>
          <a:ln w="255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8" name="Straight Connector 14"/>
          <p:cNvSpPr/>
          <p:nvPr/>
        </p:nvSpPr>
        <p:spPr>
          <a:xfrm>
            <a:off x="324000" y="5013360"/>
            <a:ext cx="8496000" cy="0"/>
          </a:xfrm>
          <a:prstGeom prst="line">
            <a:avLst/>
          </a:prstGeom>
          <a:ln w="255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9" name="Picture 34" descr="LeedsUniWhite"/>
          <p:cNvPicPr/>
          <p:nvPr/>
        </p:nvPicPr>
        <p:blipFill>
          <a:blip r:embed="rId2"/>
          <a:stretch/>
        </p:blipFill>
        <p:spPr>
          <a:xfrm>
            <a:off x="6662880" y="592200"/>
            <a:ext cx="2274840" cy="64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2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29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2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29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9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9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9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9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9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9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9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9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9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986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98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986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98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986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298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986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298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2986">
                                            <p:txEl>
                                              <p:pRg st="21" end="2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Freeform 5"/>
          <p:cNvSpPr/>
          <p:nvPr/>
        </p:nvSpPr>
        <p:spPr>
          <a:xfrm>
            <a:off x="351000" y="3335400"/>
            <a:ext cx="8367480" cy="1274760"/>
          </a:xfrm>
          <a:custGeom>
            <a:avLst/>
            <a:gdLst/>
            <a:ahLst/>
            <a:rect l="l" t="t" r="r" b="b"/>
            <a:pathLst>
              <a:path w="8367252" h="1273915">
                <a:moveTo>
                  <a:pt x="0" y="900247"/>
                </a:moveTo>
                <a:cubicBezTo>
                  <a:pt x="420329" y="446324"/>
                  <a:pt x="840659" y="-7599"/>
                  <a:pt x="1425678" y="54672"/>
                </a:cubicBezTo>
                <a:cubicBezTo>
                  <a:pt x="2010697" y="116943"/>
                  <a:pt x="2861188" y="1282066"/>
                  <a:pt x="3510117" y="1273872"/>
                </a:cubicBezTo>
                <a:cubicBezTo>
                  <a:pt x="4159046" y="1265679"/>
                  <a:pt x="4509730" y="87446"/>
                  <a:pt x="5319252" y="5511"/>
                </a:cubicBezTo>
                <a:cubicBezTo>
                  <a:pt x="6128774" y="-76424"/>
                  <a:pt x="8367252" y="782260"/>
                  <a:pt x="8367252" y="782260"/>
                </a:cubicBezTo>
                <a:lnTo>
                  <a:pt x="8367252" y="782260"/>
                </a:lnTo>
                <a:lnTo>
                  <a:pt x="8367252" y="782260"/>
                </a:lnTo>
              </a:path>
            </a:pathLst>
          </a:custGeom>
          <a:noFill/>
          <a:ln w="25560">
            <a:solidFill>
              <a:srgbClr val="92d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1" name="Rectangle 33"/>
          <p:cNvSpPr/>
          <p:nvPr/>
        </p:nvSpPr>
        <p:spPr>
          <a:xfrm>
            <a:off x="74520" y="74520"/>
            <a:ext cx="8991720" cy="125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"/>
          <p:cNvSpPr txBox="1"/>
          <p:nvPr/>
        </p:nvSpPr>
        <p:spPr>
          <a:xfrm>
            <a:off x="250560" y="1418760"/>
            <a:ext cx="8427960" cy="459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3" name="Text Box 35"/>
          <p:cNvSpPr/>
          <p:nvPr/>
        </p:nvSpPr>
        <p:spPr>
          <a:xfrm>
            <a:off x="355680" y="420840"/>
            <a:ext cx="4876560" cy="73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b">
            <a:normAutofit fontScale="82000"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taff Counselling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sychological Suppor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4" name="Picture 34" descr="LeedsUniWhite"/>
          <p:cNvPicPr/>
          <p:nvPr/>
        </p:nvPicPr>
        <p:blipFill>
          <a:blip r:embed="rId1"/>
          <a:stretch/>
        </p:blipFill>
        <p:spPr>
          <a:xfrm>
            <a:off x="6510240" y="439560"/>
            <a:ext cx="2274840" cy="648000"/>
          </a:xfrm>
          <a:prstGeom prst="rect">
            <a:avLst/>
          </a:prstGeom>
          <a:ln w="0">
            <a:noFill/>
          </a:ln>
        </p:spPr>
      </p:pic>
      <p:sp>
        <p:nvSpPr>
          <p:cNvPr id="2995" name="Title 1"/>
          <p:cNvSpPr/>
          <p:nvPr/>
        </p:nvSpPr>
        <p:spPr>
          <a:xfrm>
            <a:off x="468360" y="1413000"/>
            <a:ext cx="82296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6" name="Rectangle 33"/>
          <p:cNvSpPr/>
          <p:nvPr/>
        </p:nvSpPr>
        <p:spPr>
          <a:xfrm>
            <a:off x="74520" y="66600"/>
            <a:ext cx="8991720" cy="1266840"/>
          </a:xfrm>
          <a:prstGeom prst="rect">
            <a:avLst/>
          </a:prstGeom>
          <a:solidFill>
            <a:srgbClr val="3da5c1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7" name="Title 1"/>
          <p:cNvSpPr/>
          <p:nvPr/>
        </p:nvSpPr>
        <p:spPr>
          <a:xfrm>
            <a:off x="95400" y="301680"/>
            <a:ext cx="6414840" cy="782640"/>
          </a:xfrm>
          <a:prstGeom prst="rect">
            <a:avLst/>
          </a:prstGeom>
          <a:solidFill>
            <a:srgbClr val="3da5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gulated stress and emotio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Content Placeholder 4"/>
          <p:cNvSpPr/>
          <p:nvPr/>
        </p:nvSpPr>
        <p:spPr>
          <a:xfrm>
            <a:off x="272880" y="1450800"/>
            <a:ext cx="8642520" cy="51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 marL="343080" indent="-343080">
              <a:lnSpc>
                <a:spcPct val="80000"/>
              </a:lnSpc>
              <a:spcAft>
                <a:spcPts val="7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     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Hyper arousal reactions and habi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     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HIGH ENERGY -  Mobilisation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CHA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Comfortable, coherent arousal = Calm 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6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WORKABLE RANGE 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- window of tolerance and effective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0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0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Comfortable, coherent slownes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s = Calm Tired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Hypo arousal reactions and habits 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       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LOW ENERGY – Immobilisation 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ＭＳ Ｐゴシック"/>
              </a:rPr>
              <a:t>RIGID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buClr>
                <a:srgbClr val="00b050"/>
              </a:buClr>
              <a:buFont typeface="Helvetic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00b05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b05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b05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b05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b05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b05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b050"/>
                </a:solidFill>
                <a:latin typeface="Arial"/>
                <a:ea typeface="ＭＳ Ｐゴシック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9" name="Straight Connector 13"/>
          <p:cNvSpPr/>
          <p:nvPr/>
        </p:nvSpPr>
        <p:spPr>
          <a:xfrm>
            <a:off x="214200" y="2997360"/>
            <a:ext cx="8642520" cy="0"/>
          </a:xfrm>
          <a:prstGeom prst="line">
            <a:avLst/>
          </a:prstGeom>
          <a:ln w="255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0" name="Straight Connector 14"/>
          <p:cNvSpPr/>
          <p:nvPr/>
        </p:nvSpPr>
        <p:spPr>
          <a:xfrm>
            <a:off x="272880" y="4869000"/>
            <a:ext cx="8496360" cy="0"/>
          </a:xfrm>
          <a:prstGeom prst="line">
            <a:avLst/>
          </a:prstGeom>
          <a:ln w="255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TextBox 1"/>
          <p:cNvSpPr/>
          <p:nvPr/>
        </p:nvSpPr>
        <p:spPr>
          <a:xfrm>
            <a:off x="1725480" y="6238800"/>
            <a:ext cx="522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2" name="Picture 34" descr="LeedsUniWhite"/>
          <p:cNvPicPr/>
          <p:nvPr/>
        </p:nvPicPr>
        <p:blipFill>
          <a:blip r:embed="rId2"/>
          <a:stretch/>
        </p:blipFill>
        <p:spPr>
          <a:xfrm>
            <a:off x="6662880" y="592200"/>
            <a:ext cx="2274840" cy="64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29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9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3" name="Freeform 17"/>
          <p:cNvSpPr/>
          <p:nvPr/>
        </p:nvSpPr>
        <p:spPr>
          <a:xfrm>
            <a:off x="469800" y="1800360"/>
            <a:ext cx="8380440" cy="3510000"/>
          </a:xfrm>
          <a:custGeom>
            <a:avLst/>
            <a:gdLst/>
            <a:ahLst/>
            <a:rect l="l" t="t" r="r" b="b"/>
            <a:pathLst>
              <a:path w="8380314" h="3510116">
                <a:moveTo>
                  <a:pt x="13062" y="2172929"/>
                </a:moveTo>
                <a:cubicBezTo>
                  <a:pt x="-11025" y="1907968"/>
                  <a:pt x="1723" y="2100943"/>
                  <a:pt x="22894" y="1592826"/>
                </a:cubicBezTo>
                <a:cubicBezTo>
                  <a:pt x="23994" y="1566425"/>
                  <a:pt x="26318" y="1539802"/>
                  <a:pt x="32727" y="1514168"/>
                </a:cubicBezTo>
                <a:cubicBezTo>
                  <a:pt x="36282" y="1499949"/>
                  <a:pt x="46438" y="1488233"/>
                  <a:pt x="52391" y="1474839"/>
                </a:cubicBezTo>
                <a:cubicBezTo>
                  <a:pt x="75214" y="1423487"/>
                  <a:pt x="74918" y="1415662"/>
                  <a:pt x="91720" y="1356852"/>
                </a:cubicBezTo>
                <a:cubicBezTo>
                  <a:pt x="95110" y="1329727"/>
                  <a:pt x="96227" y="1279014"/>
                  <a:pt x="111385" y="1248697"/>
                </a:cubicBezTo>
                <a:cubicBezTo>
                  <a:pt x="116670" y="1238128"/>
                  <a:pt x="126250" y="1229998"/>
                  <a:pt x="131049" y="1219200"/>
                </a:cubicBezTo>
                <a:cubicBezTo>
                  <a:pt x="161442" y="1150817"/>
                  <a:pt x="141479" y="1178080"/>
                  <a:pt x="160546" y="1120878"/>
                </a:cubicBezTo>
                <a:cubicBezTo>
                  <a:pt x="177273" y="1070696"/>
                  <a:pt x="181994" y="1068742"/>
                  <a:pt x="209707" y="1022555"/>
                </a:cubicBezTo>
                <a:cubicBezTo>
                  <a:pt x="212984" y="1006168"/>
                  <a:pt x="209826" y="986993"/>
                  <a:pt x="219539" y="973394"/>
                </a:cubicBezTo>
                <a:cubicBezTo>
                  <a:pt x="270542" y="901990"/>
                  <a:pt x="295624" y="892347"/>
                  <a:pt x="357191" y="855407"/>
                </a:cubicBezTo>
                <a:cubicBezTo>
                  <a:pt x="363746" y="845575"/>
                  <a:pt x="367628" y="833292"/>
                  <a:pt x="376856" y="825910"/>
                </a:cubicBezTo>
                <a:cubicBezTo>
                  <a:pt x="403892" y="804281"/>
                  <a:pt x="466252" y="823565"/>
                  <a:pt x="485010" y="825910"/>
                </a:cubicBezTo>
                <a:cubicBezTo>
                  <a:pt x="491856" y="830017"/>
                  <a:pt x="550702" y="864265"/>
                  <a:pt x="563669" y="875071"/>
                </a:cubicBezTo>
                <a:cubicBezTo>
                  <a:pt x="627875" y="928576"/>
                  <a:pt x="557571" y="878806"/>
                  <a:pt x="622662" y="943897"/>
                </a:cubicBezTo>
                <a:cubicBezTo>
                  <a:pt x="631018" y="952253"/>
                  <a:pt x="642327" y="957007"/>
                  <a:pt x="652159" y="963562"/>
                </a:cubicBezTo>
                <a:cubicBezTo>
                  <a:pt x="698348" y="1040543"/>
                  <a:pt x="668144" y="999211"/>
                  <a:pt x="750481" y="1081549"/>
                </a:cubicBezTo>
                <a:lnTo>
                  <a:pt x="789810" y="1120878"/>
                </a:lnTo>
                <a:lnTo>
                  <a:pt x="819307" y="1150374"/>
                </a:lnTo>
                <a:cubicBezTo>
                  <a:pt x="825862" y="1170039"/>
                  <a:pt x="834907" y="1189042"/>
                  <a:pt x="838972" y="1209368"/>
                </a:cubicBezTo>
                <a:cubicBezTo>
                  <a:pt x="842249" y="1225755"/>
                  <a:pt x="842936" y="1242882"/>
                  <a:pt x="848804" y="1258529"/>
                </a:cubicBezTo>
                <a:cubicBezTo>
                  <a:pt x="852953" y="1269594"/>
                  <a:pt x="863579" y="1277268"/>
                  <a:pt x="868469" y="1288026"/>
                </a:cubicBezTo>
                <a:cubicBezTo>
                  <a:pt x="880056" y="1313518"/>
                  <a:pt x="889730" y="1339920"/>
                  <a:pt x="897965" y="1366684"/>
                </a:cubicBezTo>
                <a:cubicBezTo>
                  <a:pt x="902880" y="1382657"/>
                  <a:pt x="901930" y="1400197"/>
                  <a:pt x="907798" y="1415845"/>
                </a:cubicBezTo>
                <a:cubicBezTo>
                  <a:pt x="911947" y="1426909"/>
                  <a:pt x="922177" y="1434773"/>
                  <a:pt x="927462" y="1445342"/>
                </a:cubicBezTo>
                <a:cubicBezTo>
                  <a:pt x="932097" y="1454612"/>
                  <a:pt x="934017" y="1465007"/>
                  <a:pt x="937294" y="1474839"/>
                </a:cubicBezTo>
                <a:cubicBezTo>
                  <a:pt x="982020" y="1966789"/>
                  <a:pt x="935840" y="1426140"/>
                  <a:pt x="956959" y="2703871"/>
                </a:cubicBezTo>
                <a:cubicBezTo>
                  <a:pt x="957745" y="2751421"/>
                  <a:pt x="964164" y="2764815"/>
                  <a:pt x="976623" y="2802194"/>
                </a:cubicBezTo>
                <a:cubicBezTo>
                  <a:pt x="994233" y="3013500"/>
                  <a:pt x="975871" y="2826166"/>
                  <a:pt x="1006120" y="3048000"/>
                </a:cubicBezTo>
                <a:cubicBezTo>
                  <a:pt x="1010130" y="3077406"/>
                  <a:pt x="1012029" y="3107073"/>
                  <a:pt x="1015952" y="3136491"/>
                </a:cubicBezTo>
                <a:cubicBezTo>
                  <a:pt x="1029428" y="3237559"/>
                  <a:pt x="1019987" y="3156658"/>
                  <a:pt x="1035617" y="3234813"/>
                </a:cubicBezTo>
                <a:cubicBezTo>
                  <a:pt x="1039527" y="3254362"/>
                  <a:pt x="1040614" y="3274466"/>
                  <a:pt x="1045449" y="3293807"/>
                </a:cubicBezTo>
                <a:cubicBezTo>
                  <a:pt x="1050476" y="3313916"/>
                  <a:pt x="1058559" y="3333136"/>
                  <a:pt x="1065114" y="3352800"/>
                </a:cubicBezTo>
                <a:cubicBezTo>
                  <a:pt x="1068851" y="3364010"/>
                  <a:pt x="1077213" y="3373219"/>
                  <a:pt x="1084778" y="3382297"/>
                </a:cubicBezTo>
                <a:cubicBezTo>
                  <a:pt x="1093680" y="3392979"/>
                  <a:pt x="1102960" y="3403712"/>
                  <a:pt x="1114275" y="3411794"/>
                </a:cubicBezTo>
                <a:cubicBezTo>
                  <a:pt x="1139591" y="3429876"/>
                  <a:pt x="1185737" y="3442169"/>
                  <a:pt x="1212598" y="3451123"/>
                </a:cubicBezTo>
                <a:cubicBezTo>
                  <a:pt x="1275751" y="3472174"/>
                  <a:pt x="1247908" y="3464596"/>
                  <a:pt x="1360081" y="3480620"/>
                </a:cubicBezTo>
                <a:cubicBezTo>
                  <a:pt x="1383023" y="3483897"/>
                  <a:pt x="1406106" y="3486306"/>
                  <a:pt x="1428907" y="3490452"/>
                </a:cubicBezTo>
                <a:cubicBezTo>
                  <a:pt x="1442202" y="3492869"/>
                  <a:pt x="1454827" y="3498608"/>
                  <a:pt x="1468236" y="3500284"/>
                </a:cubicBezTo>
                <a:cubicBezTo>
                  <a:pt x="1507397" y="3505179"/>
                  <a:pt x="1546894" y="3506839"/>
                  <a:pt x="1586223" y="3510116"/>
                </a:cubicBezTo>
                <a:cubicBezTo>
                  <a:pt x="1727152" y="3506839"/>
                  <a:pt x="1868176" y="3506407"/>
                  <a:pt x="2009010" y="3500284"/>
                </a:cubicBezTo>
                <a:cubicBezTo>
                  <a:pt x="2019364" y="3499834"/>
                  <a:pt x="2030545" y="3497087"/>
                  <a:pt x="2038507" y="3490452"/>
                </a:cubicBezTo>
                <a:cubicBezTo>
                  <a:pt x="2184871" y="3368484"/>
                  <a:pt x="1975207" y="3512989"/>
                  <a:pt x="2097501" y="3431458"/>
                </a:cubicBezTo>
                <a:cubicBezTo>
                  <a:pt x="2111006" y="3411200"/>
                  <a:pt x="2138190" y="3371437"/>
                  <a:pt x="2146662" y="3352800"/>
                </a:cubicBezTo>
                <a:cubicBezTo>
                  <a:pt x="2155239" y="3333930"/>
                  <a:pt x="2157057" y="3312347"/>
                  <a:pt x="2166327" y="3293807"/>
                </a:cubicBezTo>
                <a:cubicBezTo>
                  <a:pt x="2172882" y="3280697"/>
                  <a:pt x="2180845" y="3268202"/>
                  <a:pt x="2185991" y="3254478"/>
                </a:cubicBezTo>
                <a:cubicBezTo>
                  <a:pt x="2198779" y="3220376"/>
                  <a:pt x="2200898" y="3168211"/>
                  <a:pt x="2205656" y="3136491"/>
                </a:cubicBezTo>
                <a:cubicBezTo>
                  <a:pt x="2211571" y="3097060"/>
                  <a:pt x="2220375" y="3058067"/>
                  <a:pt x="2225320" y="3018503"/>
                </a:cubicBezTo>
                <a:cubicBezTo>
                  <a:pt x="2228597" y="2992284"/>
                  <a:pt x="2231415" y="2966003"/>
                  <a:pt x="2235152" y="2939845"/>
                </a:cubicBezTo>
                <a:cubicBezTo>
                  <a:pt x="2237971" y="2920110"/>
                  <a:pt x="2242512" y="2900634"/>
                  <a:pt x="2244985" y="2880852"/>
                </a:cubicBezTo>
                <a:cubicBezTo>
                  <a:pt x="2246883" y="2865666"/>
                  <a:pt x="2257364" y="2740416"/>
                  <a:pt x="2264649" y="2713703"/>
                </a:cubicBezTo>
                <a:cubicBezTo>
                  <a:pt x="2268506" y="2699562"/>
                  <a:pt x="2277759" y="2687484"/>
                  <a:pt x="2284314" y="2674374"/>
                </a:cubicBezTo>
                <a:cubicBezTo>
                  <a:pt x="2287591" y="2638323"/>
                  <a:pt x="2290544" y="2602240"/>
                  <a:pt x="2294146" y="2566220"/>
                </a:cubicBezTo>
                <a:cubicBezTo>
                  <a:pt x="2297099" y="2536689"/>
                  <a:pt x="2301369" y="2507293"/>
                  <a:pt x="2303978" y="2477729"/>
                </a:cubicBezTo>
                <a:cubicBezTo>
                  <a:pt x="2311203" y="2395850"/>
                  <a:pt x="2317088" y="2313858"/>
                  <a:pt x="2323643" y="2231923"/>
                </a:cubicBezTo>
                <a:cubicBezTo>
                  <a:pt x="2324976" y="2215265"/>
                  <a:pt x="2330486" y="2199204"/>
                  <a:pt x="2333475" y="2182762"/>
                </a:cubicBezTo>
                <a:cubicBezTo>
                  <a:pt x="2349547" y="2094366"/>
                  <a:pt x="2335748" y="2154003"/>
                  <a:pt x="2353139" y="2084439"/>
                </a:cubicBezTo>
                <a:cubicBezTo>
                  <a:pt x="2356417" y="2045110"/>
                  <a:pt x="2360783" y="2005857"/>
                  <a:pt x="2362972" y="1966452"/>
                </a:cubicBezTo>
                <a:cubicBezTo>
                  <a:pt x="2367339" y="1887847"/>
                  <a:pt x="2367567" y="1809030"/>
                  <a:pt x="2372804" y="1730478"/>
                </a:cubicBezTo>
                <a:cubicBezTo>
                  <a:pt x="2374130" y="1710586"/>
                  <a:pt x="2380307" y="1691283"/>
                  <a:pt x="2382636" y="1671484"/>
                </a:cubicBezTo>
                <a:cubicBezTo>
                  <a:pt x="2386866" y="1635532"/>
                  <a:pt x="2390138" y="1599454"/>
                  <a:pt x="2392469" y="1563329"/>
                </a:cubicBezTo>
                <a:cubicBezTo>
                  <a:pt x="2396695" y="1497835"/>
                  <a:pt x="2399179" y="1432240"/>
                  <a:pt x="2402301" y="1366684"/>
                </a:cubicBezTo>
                <a:cubicBezTo>
                  <a:pt x="2405734" y="1294588"/>
                  <a:pt x="2407167" y="1222381"/>
                  <a:pt x="2412133" y="1150374"/>
                </a:cubicBezTo>
                <a:cubicBezTo>
                  <a:pt x="2413727" y="1127254"/>
                  <a:pt x="2418688" y="1104491"/>
                  <a:pt x="2421965" y="1081549"/>
                </a:cubicBezTo>
                <a:cubicBezTo>
                  <a:pt x="2425243" y="1025833"/>
                  <a:pt x="2429611" y="970170"/>
                  <a:pt x="2431798" y="914400"/>
                </a:cubicBezTo>
                <a:cubicBezTo>
                  <a:pt x="2451796" y="404473"/>
                  <a:pt x="2418317" y="713242"/>
                  <a:pt x="2451462" y="530942"/>
                </a:cubicBezTo>
                <a:cubicBezTo>
                  <a:pt x="2465305" y="454806"/>
                  <a:pt x="2453790" y="494459"/>
                  <a:pt x="2471127" y="442452"/>
                </a:cubicBezTo>
                <a:cubicBezTo>
                  <a:pt x="2474903" y="465107"/>
                  <a:pt x="2478689" y="506739"/>
                  <a:pt x="2490791" y="530942"/>
                </a:cubicBezTo>
                <a:cubicBezTo>
                  <a:pt x="2496076" y="541511"/>
                  <a:pt x="2503901" y="550607"/>
                  <a:pt x="2510456" y="560439"/>
                </a:cubicBezTo>
                <a:cubicBezTo>
                  <a:pt x="2528582" y="632944"/>
                  <a:pt x="2509105" y="567120"/>
                  <a:pt x="2539952" y="639097"/>
                </a:cubicBezTo>
                <a:cubicBezTo>
                  <a:pt x="2544035" y="648623"/>
                  <a:pt x="2545496" y="659159"/>
                  <a:pt x="2549785" y="668594"/>
                </a:cubicBezTo>
                <a:cubicBezTo>
                  <a:pt x="2561915" y="695281"/>
                  <a:pt x="2589114" y="747252"/>
                  <a:pt x="2589114" y="747252"/>
                </a:cubicBezTo>
                <a:cubicBezTo>
                  <a:pt x="2592391" y="760362"/>
                  <a:pt x="2592242" y="774848"/>
                  <a:pt x="2598946" y="786581"/>
                </a:cubicBezTo>
                <a:cubicBezTo>
                  <a:pt x="2605845" y="798654"/>
                  <a:pt x="2619394" y="805520"/>
                  <a:pt x="2628443" y="816078"/>
                </a:cubicBezTo>
                <a:cubicBezTo>
                  <a:pt x="2639107" y="828520"/>
                  <a:pt x="2649254" y="841511"/>
                  <a:pt x="2657939" y="855407"/>
                </a:cubicBezTo>
                <a:cubicBezTo>
                  <a:pt x="2669666" y="874171"/>
                  <a:pt x="2681860" y="901928"/>
                  <a:pt x="2687436" y="924233"/>
                </a:cubicBezTo>
                <a:cubicBezTo>
                  <a:pt x="2691489" y="940446"/>
                  <a:pt x="2691401" y="957746"/>
                  <a:pt x="2697269" y="973394"/>
                </a:cubicBezTo>
                <a:cubicBezTo>
                  <a:pt x="2701418" y="984458"/>
                  <a:pt x="2710378" y="993059"/>
                  <a:pt x="2716933" y="1002891"/>
                </a:cubicBezTo>
                <a:cubicBezTo>
                  <a:pt x="2723488" y="1029110"/>
                  <a:pt x="2728052" y="1055910"/>
                  <a:pt x="2736598" y="1081549"/>
                </a:cubicBezTo>
                <a:lnTo>
                  <a:pt x="2756262" y="1140542"/>
                </a:lnTo>
                <a:cubicBezTo>
                  <a:pt x="2759539" y="1173316"/>
                  <a:pt x="2761741" y="1206216"/>
                  <a:pt x="2766094" y="1238865"/>
                </a:cubicBezTo>
                <a:cubicBezTo>
                  <a:pt x="2768303" y="1255430"/>
                  <a:pt x="2773564" y="1271482"/>
                  <a:pt x="2775927" y="1288026"/>
                </a:cubicBezTo>
                <a:cubicBezTo>
                  <a:pt x="2786189" y="1359855"/>
                  <a:pt x="2787424" y="1411168"/>
                  <a:pt x="2795591" y="1484671"/>
                </a:cubicBezTo>
                <a:cubicBezTo>
                  <a:pt x="2798150" y="1507704"/>
                  <a:pt x="2802715" y="1530481"/>
                  <a:pt x="2805423" y="1553497"/>
                </a:cubicBezTo>
                <a:cubicBezTo>
                  <a:pt x="2809272" y="1586209"/>
                  <a:pt x="2811619" y="1619084"/>
                  <a:pt x="2815256" y="1651820"/>
                </a:cubicBezTo>
                <a:cubicBezTo>
                  <a:pt x="2818174" y="1678082"/>
                  <a:pt x="2822459" y="1704186"/>
                  <a:pt x="2825088" y="1730478"/>
                </a:cubicBezTo>
                <a:cubicBezTo>
                  <a:pt x="2832446" y="1804062"/>
                  <a:pt x="2833742" y="1912579"/>
                  <a:pt x="2854585" y="1995949"/>
                </a:cubicBezTo>
                <a:cubicBezTo>
                  <a:pt x="2857099" y="2006003"/>
                  <a:pt x="2861140" y="2015613"/>
                  <a:pt x="2864417" y="2025445"/>
                </a:cubicBezTo>
                <a:cubicBezTo>
                  <a:pt x="2886670" y="2292490"/>
                  <a:pt x="2862323" y="2039246"/>
                  <a:pt x="2884081" y="2202426"/>
                </a:cubicBezTo>
                <a:cubicBezTo>
                  <a:pt x="2888004" y="2231844"/>
                  <a:pt x="2889035" y="2261642"/>
                  <a:pt x="2893914" y="2290916"/>
                </a:cubicBezTo>
                <a:cubicBezTo>
                  <a:pt x="2897531" y="2312618"/>
                  <a:pt x="2914455" y="2341831"/>
                  <a:pt x="2923410" y="2359742"/>
                </a:cubicBezTo>
                <a:cubicBezTo>
                  <a:pt x="2926688" y="2379407"/>
                  <a:pt x="2929333" y="2399187"/>
                  <a:pt x="2933243" y="2418736"/>
                </a:cubicBezTo>
                <a:cubicBezTo>
                  <a:pt x="2939169" y="2448365"/>
                  <a:pt x="2947656" y="2477470"/>
                  <a:pt x="2952907" y="2507226"/>
                </a:cubicBezTo>
                <a:cubicBezTo>
                  <a:pt x="2970531" y="2607100"/>
                  <a:pt x="2945252" y="2559655"/>
                  <a:pt x="2982404" y="2615381"/>
                </a:cubicBezTo>
                <a:cubicBezTo>
                  <a:pt x="3000531" y="2687892"/>
                  <a:pt x="2981051" y="2622055"/>
                  <a:pt x="3011901" y="2694039"/>
                </a:cubicBezTo>
                <a:cubicBezTo>
                  <a:pt x="3015984" y="2703565"/>
                  <a:pt x="3018886" y="2713571"/>
                  <a:pt x="3021733" y="2723536"/>
                </a:cubicBezTo>
                <a:cubicBezTo>
                  <a:pt x="3025445" y="2736529"/>
                  <a:pt x="3026077" y="2750517"/>
                  <a:pt x="3031565" y="2762865"/>
                </a:cubicBezTo>
                <a:cubicBezTo>
                  <a:pt x="3039326" y="2780328"/>
                  <a:pt x="3052516" y="2794933"/>
                  <a:pt x="3061062" y="2812026"/>
                </a:cubicBezTo>
                <a:cubicBezTo>
                  <a:pt x="3085017" y="2859936"/>
                  <a:pt x="3055537" y="2824175"/>
                  <a:pt x="3080727" y="2880852"/>
                </a:cubicBezTo>
                <a:cubicBezTo>
                  <a:pt x="3088488" y="2898315"/>
                  <a:pt x="3100942" y="2913308"/>
                  <a:pt x="3110223" y="2930013"/>
                </a:cubicBezTo>
                <a:cubicBezTo>
                  <a:pt x="3117341" y="2942826"/>
                  <a:pt x="3123333" y="2956232"/>
                  <a:pt x="3129888" y="2969342"/>
                </a:cubicBezTo>
                <a:cubicBezTo>
                  <a:pt x="3161536" y="3095939"/>
                  <a:pt x="3108469" y="2899886"/>
                  <a:pt x="3169217" y="3057833"/>
                </a:cubicBezTo>
                <a:cubicBezTo>
                  <a:pt x="3178919" y="3083058"/>
                  <a:pt x="3176794" y="3112318"/>
                  <a:pt x="3188881" y="3136491"/>
                </a:cubicBezTo>
                <a:cubicBezTo>
                  <a:pt x="3195436" y="3149601"/>
                  <a:pt x="3202772" y="3162348"/>
                  <a:pt x="3208546" y="3175820"/>
                </a:cubicBezTo>
                <a:cubicBezTo>
                  <a:pt x="3232315" y="3231280"/>
                  <a:pt x="3203264" y="3178122"/>
                  <a:pt x="3228210" y="3244645"/>
                </a:cubicBezTo>
                <a:cubicBezTo>
                  <a:pt x="3233356" y="3258369"/>
                  <a:pt x="3241320" y="3270864"/>
                  <a:pt x="3247875" y="3283974"/>
                </a:cubicBezTo>
                <a:cubicBezTo>
                  <a:pt x="3258629" y="3326989"/>
                  <a:pt x="3254520" y="3322642"/>
                  <a:pt x="3277372" y="3362633"/>
                </a:cubicBezTo>
                <a:cubicBezTo>
                  <a:pt x="3283235" y="3372893"/>
                  <a:pt x="3287016" y="3385866"/>
                  <a:pt x="3297036" y="3392129"/>
                </a:cubicBezTo>
                <a:cubicBezTo>
                  <a:pt x="3356787" y="3429473"/>
                  <a:pt x="3530065" y="3420496"/>
                  <a:pt x="3552675" y="3421626"/>
                </a:cubicBezTo>
                <a:cubicBezTo>
                  <a:pt x="3708565" y="3452803"/>
                  <a:pt x="3648780" y="3444652"/>
                  <a:pt x="3955798" y="3421626"/>
                </a:cubicBezTo>
                <a:cubicBezTo>
                  <a:pt x="3970414" y="3420530"/>
                  <a:pt x="3982017" y="3408517"/>
                  <a:pt x="3995127" y="3401962"/>
                </a:cubicBezTo>
                <a:lnTo>
                  <a:pt x="4014791" y="3372465"/>
                </a:lnTo>
                <a:cubicBezTo>
                  <a:pt x="4046933" y="3276036"/>
                  <a:pt x="3994823" y="3412250"/>
                  <a:pt x="4054120" y="3323303"/>
                </a:cubicBezTo>
                <a:cubicBezTo>
                  <a:pt x="4061616" y="3312059"/>
                  <a:pt x="4056790" y="3295433"/>
                  <a:pt x="4063952" y="3283974"/>
                </a:cubicBezTo>
                <a:cubicBezTo>
                  <a:pt x="4073778" y="3268252"/>
                  <a:pt x="4090171" y="3257755"/>
                  <a:pt x="4103281" y="3244645"/>
                </a:cubicBezTo>
                <a:cubicBezTo>
                  <a:pt x="4125499" y="3177997"/>
                  <a:pt x="4094119" y="3257475"/>
                  <a:pt x="4152443" y="3175820"/>
                </a:cubicBezTo>
                <a:cubicBezTo>
                  <a:pt x="4158467" y="3167386"/>
                  <a:pt x="4157986" y="3155758"/>
                  <a:pt x="4162275" y="3146323"/>
                </a:cubicBezTo>
                <a:cubicBezTo>
                  <a:pt x="4174405" y="3119636"/>
                  <a:pt x="4188494" y="3093884"/>
                  <a:pt x="4201604" y="3067665"/>
                </a:cubicBezTo>
                <a:cubicBezTo>
                  <a:pt x="4223679" y="2935220"/>
                  <a:pt x="4203438" y="2985340"/>
                  <a:pt x="4240933" y="2910349"/>
                </a:cubicBezTo>
                <a:cubicBezTo>
                  <a:pt x="4243014" y="2895782"/>
                  <a:pt x="4256048" y="2800729"/>
                  <a:pt x="4260598" y="2782529"/>
                </a:cubicBezTo>
                <a:cubicBezTo>
                  <a:pt x="4265625" y="2762420"/>
                  <a:pt x="4273707" y="2743200"/>
                  <a:pt x="4280262" y="2723536"/>
                </a:cubicBezTo>
                <a:cubicBezTo>
                  <a:pt x="4281831" y="2710982"/>
                  <a:pt x="4293849" y="2606142"/>
                  <a:pt x="4299927" y="2585884"/>
                </a:cubicBezTo>
                <a:cubicBezTo>
                  <a:pt x="4304139" y="2571845"/>
                  <a:pt x="4313638" y="2559949"/>
                  <a:pt x="4319591" y="2546555"/>
                </a:cubicBezTo>
                <a:cubicBezTo>
                  <a:pt x="4326759" y="2530427"/>
                  <a:pt x="4332701" y="2513781"/>
                  <a:pt x="4339256" y="2497394"/>
                </a:cubicBezTo>
                <a:cubicBezTo>
                  <a:pt x="4342533" y="2428568"/>
                  <a:pt x="4344920" y="2359694"/>
                  <a:pt x="4349088" y="2290916"/>
                </a:cubicBezTo>
                <a:cubicBezTo>
                  <a:pt x="4359751" y="2114979"/>
                  <a:pt x="4355791" y="2233490"/>
                  <a:pt x="4368752" y="2084439"/>
                </a:cubicBezTo>
                <a:cubicBezTo>
                  <a:pt x="4384015" y="1908923"/>
                  <a:pt x="4368024" y="1999594"/>
                  <a:pt x="4388417" y="1897626"/>
                </a:cubicBezTo>
                <a:cubicBezTo>
                  <a:pt x="4409196" y="1523600"/>
                  <a:pt x="4387053" y="1863459"/>
                  <a:pt x="4408081" y="1632155"/>
                </a:cubicBezTo>
                <a:cubicBezTo>
                  <a:pt x="4411950" y="1589598"/>
                  <a:pt x="4413662" y="1546856"/>
                  <a:pt x="4417914" y="1504336"/>
                </a:cubicBezTo>
                <a:cubicBezTo>
                  <a:pt x="4420220" y="1481276"/>
                  <a:pt x="4425549" y="1458581"/>
                  <a:pt x="4427746" y="1435510"/>
                </a:cubicBezTo>
                <a:cubicBezTo>
                  <a:pt x="4437361" y="1334547"/>
                  <a:pt x="4434836" y="1293837"/>
                  <a:pt x="4447410" y="1199536"/>
                </a:cubicBezTo>
                <a:cubicBezTo>
                  <a:pt x="4449619" y="1182971"/>
                  <a:pt x="4453965" y="1166761"/>
                  <a:pt x="4457243" y="1150374"/>
                </a:cubicBezTo>
                <a:cubicBezTo>
                  <a:pt x="4460520" y="1111045"/>
                  <a:pt x="4461859" y="1071506"/>
                  <a:pt x="4467075" y="1032387"/>
                </a:cubicBezTo>
                <a:cubicBezTo>
                  <a:pt x="4468445" y="1022114"/>
                  <a:pt x="4474393" y="1012945"/>
                  <a:pt x="4476907" y="1002891"/>
                </a:cubicBezTo>
                <a:cubicBezTo>
                  <a:pt x="4480960" y="986678"/>
                  <a:pt x="4482342" y="969852"/>
                  <a:pt x="4486739" y="953729"/>
                </a:cubicBezTo>
                <a:cubicBezTo>
                  <a:pt x="4492193" y="933731"/>
                  <a:pt x="4497134" y="913276"/>
                  <a:pt x="4506404" y="894736"/>
                </a:cubicBezTo>
                <a:cubicBezTo>
                  <a:pt x="4523539" y="860467"/>
                  <a:pt x="4533177" y="843913"/>
                  <a:pt x="4545733" y="806245"/>
                </a:cubicBezTo>
                <a:cubicBezTo>
                  <a:pt x="4549979" y="793508"/>
                  <a:pt x="4557504" y="751629"/>
                  <a:pt x="4565398" y="737420"/>
                </a:cubicBezTo>
                <a:cubicBezTo>
                  <a:pt x="4576876" y="716760"/>
                  <a:pt x="4591617" y="698091"/>
                  <a:pt x="4604727" y="678426"/>
                </a:cubicBezTo>
                <a:cubicBezTo>
                  <a:pt x="4623748" y="649894"/>
                  <a:pt x="4676929" y="629190"/>
                  <a:pt x="4703049" y="609600"/>
                </a:cubicBezTo>
                <a:cubicBezTo>
                  <a:pt x="4758842" y="567755"/>
                  <a:pt x="4704088" y="589342"/>
                  <a:pt x="4771875" y="550607"/>
                </a:cubicBezTo>
                <a:cubicBezTo>
                  <a:pt x="4782330" y="544633"/>
                  <a:pt x="4832859" y="532685"/>
                  <a:pt x="4840701" y="530942"/>
                </a:cubicBezTo>
                <a:cubicBezTo>
                  <a:pt x="4857772" y="527149"/>
                  <a:pt x="4934980" y="511990"/>
                  <a:pt x="4948856" y="511278"/>
                </a:cubicBezTo>
                <a:cubicBezTo>
                  <a:pt x="5056918" y="505736"/>
                  <a:pt x="5165165" y="504723"/>
                  <a:pt x="5273320" y="501445"/>
                </a:cubicBezTo>
                <a:cubicBezTo>
                  <a:pt x="5299539" y="498168"/>
                  <a:pt x="5325654" y="493902"/>
                  <a:pt x="5351978" y="491613"/>
                </a:cubicBezTo>
                <a:cubicBezTo>
                  <a:pt x="5677833" y="463279"/>
                  <a:pt x="5360888" y="497178"/>
                  <a:pt x="5587952" y="471949"/>
                </a:cubicBezTo>
                <a:cubicBezTo>
                  <a:pt x="5601062" y="468671"/>
                  <a:pt x="5614338" y="465999"/>
                  <a:pt x="5627281" y="462116"/>
                </a:cubicBezTo>
                <a:cubicBezTo>
                  <a:pt x="5647135" y="456160"/>
                  <a:pt x="5666007" y="446795"/>
                  <a:pt x="5686275" y="442452"/>
                </a:cubicBezTo>
                <a:cubicBezTo>
                  <a:pt x="5712993" y="436727"/>
                  <a:pt x="5844127" y="425037"/>
                  <a:pt x="5863256" y="422787"/>
                </a:cubicBezTo>
                <a:cubicBezTo>
                  <a:pt x="5886272" y="420079"/>
                  <a:pt x="5909280" y="417101"/>
                  <a:pt x="5932081" y="412955"/>
                </a:cubicBezTo>
                <a:cubicBezTo>
                  <a:pt x="5945376" y="410538"/>
                  <a:pt x="5958033" y="405034"/>
                  <a:pt x="5971410" y="403123"/>
                </a:cubicBezTo>
                <a:cubicBezTo>
                  <a:pt x="6047587" y="392241"/>
                  <a:pt x="6062654" y="398141"/>
                  <a:pt x="6128727" y="383458"/>
                </a:cubicBezTo>
                <a:cubicBezTo>
                  <a:pt x="6138844" y="381210"/>
                  <a:pt x="6148391" y="376903"/>
                  <a:pt x="6158223" y="373626"/>
                </a:cubicBezTo>
                <a:cubicBezTo>
                  <a:pt x="6171333" y="380181"/>
                  <a:pt x="6186292" y="383908"/>
                  <a:pt x="6197552" y="393291"/>
                </a:cubicBezTo>
                <a:cubicBezTo>
                  <a:pt x="6206630" y="400856"/>
                  <a:pt x="6210267" y="413230"/>
                  <a:pt x="6217217" y="422787"/>
                </a:cubicBezTo>
                <a:cubicBezTo>
                  <a:pt x="6279415" y="508308"/>
                  <a:pt x="6250341" y="484199"/>
                  <a:pt x="6305707" y="521110"/>
                </a:cubicBezTo>
                <a:cubicBezTo>
                  <a:pt x="6338752" y="620249"/>
                  <a:pt x="6288330" y="466465"/>
                  <a:pt x="6325372" y="589936"/>
                </a:cubicBezTo>
                <a:cubicBezTo>
                  <a:pt x="6331328" y="609790"/>
                  <a:pt x="6338481" y="629265"/>
                  <a:pt x="6345036" y="648929"/>
                </a:cubicBezTo>
                <a:cubicBezTo>
                  <a:pt x="6348314" y="658761"/>
                  <a:pt x="6352355" y="668371"/>
                  <a:pt x="6354869" y="678426"/>
                </a:cubicBezTo>
                <a:cubicBezTo>
                  <a:pt x="6358146" y="691536"/>
                  <a:pt x="6362051" y="704504"/>
                  <a:pt x="6364701" y="717755"/>
                </a:cubicBezTo>
                <a:cubicBezTo>
                  <a:pt x="6368611" y="737304"/>
                  <a:pt x="6370356" y="757256"/>
                  <a:pt x="6374533" y="776749"/>
                </a:cubicBezTo>
                <a:cubicBezTo>
                  <a:pt x="6380196" y="803175"/>
                  <a:pt x="6388121" y="829073"/>
                  <a:pt x="6394198" y="855407"/>
                </a:cubicBezTo>
                <a:cubicBezTo>
                  <a:pt x="6420323" y="968613"/>
                  <a:pt x="6382858" y="830463"/>
                  <a:pt x="6423694" y="973394"/>
                </a:cubicBezTo>
                <a:cubicBezTo>
                  <a:pt x="6426972" y="1002891"/>
                  <a:pt x="6427308" y="1032865"/>
                  <a:pt x="6433527" y="1061884"/>
                </a:cubicBezTo>
                <a:cubicBezTo>
                  <a:pt x="6437225" y="1079142"/>
                  <a:pt x="6447610" y="1094301"/>
                  <a:pt x="6453191" y="1111045"/>
                </a:cubicBezTo>
                <a:cubicBezTo>
                  <a:pt x="6457464" y="1123865"/>
                  <a:pt x="6459746" y="1137264"/>
                  <a:pt x="6463023" y="1150374"/>
                </a:cubicBezTo>
                <a:cubicBezTo>
                  <a:pt x="6466301" y="1288026"/>
                  <a:pt x="6466742" y="1425774"/>
                  <a:pt x="6472856" y="1563329"/>
                </a:cubicBezTo>
                <a:cubicBezTo>
                  <a:pt x="6473316" y="1573683"/>
                  <a:pt x="6480174" y="1582771"/>
                  <a:pt x="6482688" y="1592826"/>
                </a:cubicBezTo>
                <a:cubicBezTo>
                  <a:pt x="6486741" y="1609039"/>
                  <a:pt x="6490157" y="1625443"/>
                  <a:pt x="6492520" y="1641987"/>
                </a:cubicBezTo>
                <a:cubicBezTo>
                  <a:pt x="6496717" y="1671367"/>
                  <a:pt x="6498429" y="1701060"/>
                  <a:pt x="6502352" y="1730478"/>
                </a:cubicBezTo>
                <a:cubicBezTo>
                  <a:pt x="6504987" y="1750239"/>
                  <a:pt x="6509712" y="1769689"/>
                  <a:pt x="6512185" y="1789471"/>
                </a:cubicBezTo>
                <a:cubicBezTo>
                  <a:pt x="6519547" y="1848369"/>
                  <a:pt x="6517453" y="1908867"/>
                  <a:pt x="6531849" y="1966452"/>
                </a:cubicBezTo>
                <a:cubicBezTo>
                  <a:pt x="6544188" y="2015811"/>
                  <a:pt x="6545109" y="2013761"/>
                  <a:pt x="6551514" y="2074607"/>
                </a:cubicBezTo>
                <a:cubicBezTo>
                  <a:pt x="6562205" y="2176172"/>
                  <a:pt x="6555260" y="2171997"/>
                  <a:pt x="6571178" y="2251587"/>
                </a:cubicBezTo>
                <a:cubicBezTo>
                  <a:pt x="6573828" y="2264838"/>
                  <a:pt x="6578179" y="2277703"/>
                  <a:pt x="6581010" y="2290916"/>
                </a:cubicBezTo>
                <a:cubicBezTo>
                  <a:pt x="6588013" y="2323597"/>
                  <a:pt x="6600675" y="2389239"/>
                  <a:pt x="6600675" y="2389239"/>
                </a:cubicBezTo>
                <a:cubicBezTo>
                  <a:pt x="6607230" y="2464620"/>
                  <a:pt x="6605499" y="2541185"/>
                  <a:pt x="6620339" y="2615381"/>
                </a:cubicBezTo>
                <a:cubicBezTo>
                  <a:pt x="6623617" y="2631768"/>
                  <a:pt x="6627182" y="2648100"/>
                  <a:pt x="6630172" y="2664542"/>
                </a:cubicBezTo>
                <a:cubicBezTo>
                  <a:pt x="6655345" y="2802988"/>
                  <a:pt x="6625538" y="2651204"/>
                  <a:pt x="6649836" y="2772697"/>
                </a:cubicBezTo>
                <a:cubicBezTo>
                  <a:pt x="6653114" y="2949678"/>
                  <a:pt x="6653462" y="3126737"/>
                  <a:pt x="6659669" y="3303639"/>
                </a:cubicBezTo>
                <a:cubicBezTo>
                  <a:pt x="6660032" y="3313997"/>
                  <a:pt x="6667468" y="3322973"/>
                  <a:pt x="6669501" y="3333136"/>
                </a:cubicBezTo>
                <a:cubicBezTo>
                  <a:pt x="6674046" y="3355861"/>
                  <a:pt x="6674122" y="3379381"/>
                  <a:pt x="6679333" y="3401962"/>
                </a:cubicBezTo>
                <a:cubicBezTo>
                  <a:pt x="6691721" y="3455645"/>
                  <a:pt x="6693779" y="3453126"/>
                  <a:pt x="6718662" y="3490452"/>
                </a:cubicBezTo>
                <a:cubicBezTo>
                  <a:pt x="6725217" y="3467510"/>
                  <a:pt x="6729466" y="3443780"/>
                  <a:pt x="6738327" y="3421626"/>
                </a:cubicBezTo>
                <a:cubicBezTo>
                  <a:pt x="6742716" y="3410654"/>
                  <a:pt x="6753192" y="3402927"/>
                  <a:pt x="6757991" y="3392129"/>
                </a:cubicBezTo>
                <a:cubicBezTo>
                  <a:pt x="6766409" y="3373187"/>
                  <a:pt x="6771101" y="3352800"/>
                  <a:pt x="6777656" y="3333136"/>
                </a:cubicBezTo>
                <a:lnTo>
                  <a:pt x="6777656" y="3333136"/>
                </a:lnTo>
                <a:cubicBezTo>
                  <a:pt x="6780933" y="3320026"/>
                  <a:pt x="6783776" y="3306800"/>
                  <a:pt x="6787488" y="3293807"/>
                </a:cubicBezTo>
                <a:cubicBezTo>
                  <a:pt x="6790335" y="3283842"/>
                  <a:pt x="6794806" y="3274365"/>
                  <a:pt x="6797320" y="3264310"/>
                </a:cubicBezTo>
                <a:cubicBezTo>
                  <a:pt x="6800122" y="3253102"/>
                  <a:pt x="6810926" y="3189957"/>
                  <a:pt x="6816985" y="3175820"/>
                </a:cubicBezTo>
                <a:cubicBezTo>
                  <a:pt x="6821640" y="3164959"/>
                  <a:pt x="6830094" y="3156155"/>
                  <a:pt x="6836649" y="3146323"/>
                </a:cubicBezTo>
                <a:cubicBezTo>
                  <a:pt x="6842603" y="3110600"/>
                  <a:pt x="6858285" y="3012590"/>
                  <a:pt x="6866146" y="2989007"/>
                </a:cubicBezTo>
                <a:lnTo>
                  <a:pt x="6885810" y="2930013"/>
                </a:lnTo>
                <a:cubicBezTo>
                  <a:pt x="6890531" y="2896969"/>
                  <a:pt x="6898656" y="2836290"/>
                  <a:pt x="6905475" y="2802194"/>
                </a:cubicBezTo>
                <a:cubicBezTo>
                  <a:pt x="6911401" y="2772564"/>
                  <a:pt x="6918808" y="2743249"/>
                  <a:pt x="6925139" y="2713703"/>
                </a:cubicBezTo>
                <a:cubicBezTo>
                  <a:pt x="6947832" y="2607802"/>
                  <a:pt x="6918694" y="2729657"/>
                  <a:pt x="6954636" y="2585884"/>
                </a:cubicBezTo>
                <a:cubicBezTo>
                  <a:pt x="6963434" y="2506709"/>
                  <a:pt x="6963079" y="2501514"/>
                  <a:pt x="6974301" y="2428568"/>
                </a:cubicBezTo>
                <a:cubicBezTo>
                  <a:pt x="6988782" y="2334440"/>
                  <a:pt x="6978629" y="2404757"/>
                  <a:pt x="6993965" y="2320413"/>
                </a:cubicBezTo>
                <a:cubicBezTo>
                  <a:pt x="6997531" y="2300799"/>
                  <a:pt x="6998661" y="2280682"/>
                  <a:pt x="7003798" y="2261420"/>
                </a:cubicBezTo>
                <a:cubicBezTo>
                  <a:pt x="7011809" y="2231377"/>
                  <a:pt x="7024020" y="2202606"/>
                  <a:pt x="7033294" y="2172929"/>
                </a:cubicBezTo>
                <a:cubicBezTo>
                  <a:pt x="7040411" y="2150155"/>
                  <a:pt x="7047172" y="2127251"/>
                  <a:pt x="7052959" y="2104103"/>
                </a:cubicBezTo>
                <a:cubicBezTo>
                  <a:pt x="7060287" y="2074789"/>
                  <a:pt x="7063737" y="2044493"/>
                  <a:pt x="7072623" y="2015613"/>
                </a:cubicBezTo>
                <a:cubicBezTo>
                  <a:pt x="7076933" y="2001604"/>
                  <a:pt x="7085733" y="1989394"/>
                  <a:pt x="7092288" y="1976284"/>
                </a:cubicBezTo>
                <a:cubicBezTo>
                  <a:pt x="7095565" y="1959897"/>
                  <a:pt x="7098416" y="1943419"/>
                  <a:pt x="7102120" y="1927123"/>
                </a:cubicBezTo>
                <a:cubicBezTo>
                  <a:pt x="7130574" y="1801926"/>
                  <a:pt x="7135624" y="1783272"/>
                  <a:pt x="7161114" y="1681316"/>
                </a:cubicBezTo>
                <a:cubicBezTo>
                  <a:pt x="7168613" y="1651320"/>
                  <a:pt x="7193888" y="1628877"/>
                  <a:pt x="7210275" y="1602658"/>
                </a:cubicBezTo>
                <a:cubicBezTo>
                  <a:pt x="7228433" y="1511866"/>
                  <a:pt x="7207352" y="1594852"/>
                  <a:pt x="7249604" y="1494503"/>
                </a:cubicBezTo>
                <a:cubicBezTo>
                  <a:pt x="7267318" y="1452431"/>
                  <a:pt x="7282378" y="1409290"/>
                  <a:pt x="7298765" y="1366684"/>
                </a:cubicBezTo>
                <a:cubicBezTo>
                  <a:pt x="7306657" y="1346164"/>
                  <a:pt x="7319450" y="1327833"/>
                  <a:pt x="7328262" y="1307691"/>
                </a:cubicBezTo>
                <a:cubicBezTo>
                  <a:pt x="7350015" y="1257971"/>
                  <a:pt x="7377390" y="1183238"/>
                  <a:pt x="7397088" y="1130710"/>
                </a:cubicBezTo>
                <a:cubicBezTo>
                  <a:pt x="7400727" y="1121006"/>
                  <a:pt x="7402285" y="1110483"/>
                  <a:pt x="7406920" y="1101213"/>
                </a:cubicBezTo>
                <a:cubicBezTo>
                  <a:pt x="7464867" y="985320"/>
                  <a:pt x="7407366" y="1132950"/>
                  <a:pt x="7475746" y="973394"/>
                </a:cubicBezTo>
                <a:cubicBezTo>
                  <a:pt x="7483911" y="954342"/>
                  <a:pt x="7486833" y="933270"/>
                  <a:pt x="7495410" y="914400"/>
                </a:cubicBezTo>
                <a:cubicBezTo>
                  <a:pt x="7503318" y="897002"/>
                  <a:pt x="7517379" y="882804"/>
                  <a:pt x="7524907" y="865239"/>
                </a:cubicBezTo>
                <a:cubicBezTo>
                  <a:pt x="7537155" y="836661"/>
                  <a:pt x="7539663" y="804125"/>
                  <a:pt x="7554404" y="776749"/>
                </a:cubicBezTo>
                <a:cubicBezTo>
                  <a:pt x="7563194" y="760425"/>
                  <a:pt x="7582351" y="752055"/>
                  <a:pt x="7593733" y="737420"/>
                </a:cubicBezTo>
                <a:cubicBezTo>
                  <a:pt x="7676690" y="630760"/>
                  <a:pt x="7570769" y="749473"/>
                  <a:pt x="7642894" y="629265"/>
                </a:cubicBezTo>
                <a:cubicBezTo>
                  <a:pt x="7662120" y="597222"/>
                  <a:pt x="7691513" y="572208"/>
                  <a:pt x="7711720" y="540774"/>
                </a:cubicBezTo>
                <a:cubicBezTo>
                  <a:pt x="7721264" y="525928"/>
                  <a:pt x="7722933" y="507107"/>
                  <a:pt x="7731385" y="491613"/>
                </a:cubicBezTo>
                <a:cubicBezTo>
                  <a:pt x="7742702" y="470865"/>
                  <a:pt x="7758328" y="452748"/>
                  <a:pt x="7770714" y="432620"/>
                </a:cubicBezTo>
                <a:cubicBezTo>
                  <a:pt x="7784562" y="410116"/>
                  <a:pt x="7797390" y="386991"/>
                  <a:pt x="7810043" y="363794"/>
                </a:cubicBezTo>
                <a:cubicBezTo>
                  <a:pt x="7817061" y="350927"/>
                  <a:pt x="7821939" y="336894"/>
                  <a:pt x="7829707" y="324465"/>
                </a:cubicBezTo>
                <a:cubicBezTo>
                  <a:pt x="7838392" y="310569"/>
                  <a:pt x="7850773" y="299188"/>
                  <a:pt x="7859204" y="285136"/>
                </a:cubicBezTo>
                <a:cubicBezTo>
                  <a:pt x="7966028" y="107097"/>
                  <a:pt x="7847481" y="298748"/>
                  <a:pt x="7898533" y="196645"/>
                </a:cubicBezTo>
                <a:cubicBezTo>
                  <a:pt x="7907079" y="179552"/>
                  <a:pt x="7919484" y="164577"/>
                  <a:pt x="7928030" y="147484"/>
                </a:cubicBezTo>
                <a:cubicBezTo>
                  <a:pt x="7932665" y="138214"/>
                  <a:pt x="7932113" y="126610"/>
                  <a:pt x="7937862" y="117987"/>
                </a:cubicBezTo>
                <a:cubicBezTo>
                  <a:pt x="7945575" y="106418"/>
                  <a:pt x="7957527" y="98323"/>
                  <a:pt x="7967359" y="88491"/>
                </a:cubicBezTo>
                <a:cubicBezTo>
                  <a:pt x="7990760" y="18286"/>
                  <a:pt x="7975525" y="46744"/>
                  <a:pt x="8006688" y="0"/>
                </a:cubicBezTo>
                <a:cubicBezTo>
                  <a:pt x="8013243" y="22942"/>
                  <a:pt x="8022429" y="45291"/>
                  <a:pt x="8026352" y="68826"/>
                </a:cubicBezTo>
                <a:cubicBezTo>
                  <a:pt x="8035575" y="124163"/>
                  <a:pt x="8039059" y="180307"/>
                  <a:pt x="8046017" y="235974"/>
                </a:cubicBezTo>
                <a:cubicBezTo>
                  <a:pt x="8048892" y="258970"/>
                  <a:pt x="8050638" y="282219"/>
                  <a:pt x="8055849" y="304800"/>
                </a:cubicBezTo>
                <a:cubicBezTo>
                  <a:pt x="8060510" y="324998"/>
                  <a:pt x="8068959" y="344129"/>
                  <a:pt x="8075514" y="363794"/>
                </a:cubicBezTo>
                <a:cubicBezTo>
                  <a:pt x="8078791" y="412955"/>
                  <a:pt x="8080885" y="462210"/>
                  <a:pt x="8085346" y="511278"/>
                </a:cubicBezTo>
                <a:cubicBezTo>
                  <a:pt x="8090720" y="570391"/>
                  <a:pt x="8100781" y="629053"/>
                  <a:pt x="8105010" y="688258"/>
                </a:cubicBezTo>
                <a:cubicBezTo>
                  <a:pt x="8116726" y="852266"/>
                  <a:pt x="8109137" y="780264"/>
                  <a:pt x="8124675" y="904568"/>
                </a:cubicBezTo>
                <a:cubicBezTo>
                  <a:pt x="8127952" y="960284"/>
                  <a:pt x="8131720" y="1015973"/>
                  <a:pt x="8134507" y="1071716"/>
                </a:cubicBezTo>
                <a:cubicBezTo>
                  <a:pt x="8138275" y="1147074"/>
                  <a:pt x="8137707" y="1222698"/>
                  <a:pt x="8144339" y="1297858"/>
                </a:cubicBezTo>
                <a:cubicBezTo>
                  <a:pt x="8147560" y="1334359"/>
                  <a:pt x="8159315" y="1369672"/>
                  <a:pt x="8164004" y="1406013"/>
                </a:cubicBezTo>
                <a:cubicBezTo>
                  <a:pt x="8199310" y="1679624"/>
                  <a:pt x="8171275" y="1522752"/>
                  <a:pt x="8193501" y="1789471"/>
                </a:cubicBezTo>
                <a:cubicBezTo>
                  <a:pt x="8194889" y="1806125"/>
                  <a:pt x="8201124" y="1822068"/>
                  <a:pt x="8203333" y="1838633"/>
                </a:cubicBezTo>
                <a:cubicBezTo>
                  <a:pt x="8207686" y="1871282"/>
                  <a:pt x="8209888" y="1904181"/>
                  <a:pt x="8213165" y="1936955"/>
                </a:cubicBezTo>
                <a:cubicBezTo>
                  <a:pt x="8216443" y="2077884"/>
                  <a:pt x="8217364" y="2218888"/>
                  <a:pt x="8222998" y="2359742"/>
                </a:cubicBezTo>
                <a:cubicBezTo>
                  <a:pt x="8223924" y="2382898"/>
                  <a:pt x="8230271" y="2405535"/>
                  <a:pt x="8232830" y="2428568"/>
                </a:cubicBezTo>
                <a:cubicBezTo>
                  <a:pt x="8236828" y="2464547"/>
                  <a:pt x="8238872" y="2500722"/>
                  <a:pt x="8242662" y="2536723"/>
                </a:cubicBezTo>
                <a:cubicBezTo>
                  <a:pt x="8245428" y="2563001"/>
                  <a:pt x="8249407" y="2589139"/>
                  <a:pt x="8252494" y="2615381"/>
                </a:cubicBezTo>
                <a:cubicBezTo>
                  <a:pt x="8255962" y="2644856"/>
                  <a:pt x="8258405" y="2674453"/>
                  <a:pt x="8262327" y="2703871"/>
                </a:cubicBezTo>
                <a:cubicBezTo>
                  <a:pt x="8264962" y="2723632"/>
                  <a:pt x="8269958" y="2743051"/>
                  <a:pt x="8272159" y="2762865"/>
                </a:cubicBezTo>
                <a:cubicBezTo>
                  <a:pt x="8284027" y="2869683"/>
                  <a:pt x="8277955" y="2872268"/>
                  <a:pt x="8291823" y="2969342"/>
                </a:cubicBezTo>
                <a:cubicBezTo>
                  <a:pt x="8294186" y="2985886"/>
                  <a:pt x="8298378" y="3002116"/>
                  <a:pt x="8301656" y="3018503"/>
                </a:cubicBezTo>
                <a:cubicBezTo>
                  <a:pt x="8304933" y="3057832"/>
                  <a:pt x="8307130" y="3097267"/>
                  <a:pt x="8311488" y="3136491"/>
                </a:cubicBezTo>
                <a:cubicBezTo>
                  <a:pt x="8314999" y="3168093"/>
                  <a:pt x="8322275" y="3203745"/>
                  <a:pt x="8331152" y="3234813"/>
                </a:cubicBezTo>
                <a:cubicBezTo>
                  <a:pt x="8333999" y="3244778"/>
                  <a:pt x="8338138" y="3254345"/>
                  <a:pt x="8340985" y="3264310"/>
                </a:cubicBezTo>
                <a:cubicBezTo>
                  <a:pt x="8365685" y="3350758"/>
                  <a:pt x="8337068" y="3262392"/>
                  <a:pt x="8360649" y="3333136"/>
                </a:cubicBezTo>
                <a:cubicBezTo>
                  <a:pt x="8371144" y="3448589"/>
                  <a:pt x="8354290" y="3408913"/>
                  <a:pt x="8380314" y="3460955"/>
                </a:cubicBezTo>
              </a:path>
            </a:pathLst>
          </a:custGeom>
          <a:noFill/>
          <a:ln w="25560">
            <a:solidFill>
              <a:srgbClr val="b6890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Rectangle 33"/>
          <p:cNvSpPr/>
          <p:nvPr/>
        </p:nvSpPr>
        <p:spPr>
          <a:xfrm>
            <a:off x="74520" y="74520"/>
            <a:ext cx="8991720" cy="12589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5" name=""/>
          <p:cNvSpPr txBox="1"/>
          <p:nvPr/>
        </p:nvSpPr>
        <p:spPr>
          <a:xfrm>
            <a:off x="421920" y="1557360"/>
            <a:ext cx="8427960" cy="459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6" name="Text Box 35"/>
          <p:cNvSpPr/>
          <p:nvPr/>
        </p:nvSpPr>
        <p:spPr>
          <a:xfrm>
            <a:off x="355680" y="420840"/>
            <a:ext cx="4876560" cy="73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360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taff Counselling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sychological Support Ser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7" name="Picture 34" descr="LeedsUniWhite"/>
          <p:cNvPicPr/>
          <p:nvPr/>
        </p:nvPicPr>
        <p:blipFill>
          <a:blip r:embed="rId1"/>
          <a:stretch/>
        </p:blipFill>
        <p:spPr>
          <a:xfrm>
            <a:off x="6510240" y="439560"/>
            <a:ext cx="2274840" cy="648000"/>
          </a:xfrm>
          <a:prstGeom prst="rect">
            <a:avLst/>
          </a:prstGeom>
          <a:ln w="0">
            <a:noFill/>
          </a:ln>
        </p:spPr>
      </p:pic>
      <p:sp>
        <p:nvSpPr>
          <p:cNvPr id="3008" name="Title 1"/>
          <p:cNvSpPr/>
          <p:nvPr/>
        </p:nvSpPr>
        <p:spPr>
          <a:xfrm>
            <a:off x="468360" y="1413000"/>
            <a:ext cx="8229600" cy="77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9" name="Rectangle 33"/>
          <p:cNvSpPr/>
          <p:nvPr/>
        </p:nvSpPr>
        <p:spPr>
          <a:xfrm>
            <a:off x="74520" y="66600"/>
            <a:ext cx="8991720" cy="1266840"/>
          </a:xfrm>
          <a:prstGeom prst="rect">
            <a:avLst/>
          </a:prstGeom>
          <a:solidFill>
            <a:srgbClr val="3da5c1"/>
          </a:solidFill>
          <a:ln w="25560">
            <a:solidFill>
              <a:srgbClr val="1e76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Title 1"/>
          <p:cNvSpPr/>
          <p:nvPr/>
        </p:nvSpPr>
        <p:spPr>
          <a:xfrm>
            <a:off x="108000" y="333360"/>
            <a:ext cx="6116760" cy="782640"/>
          </a:xfrm>
          <a:prstGeom prst="rect">
            <a:avLst/>
          </a:prstGeom>
          <a:solidFill>
            <a:srgbClr val="3da5c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Dys-regulated stres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  <a:ea typeface="Arial"/>
              </a:rPr>
              <a:t>and emotion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1" name="Content Placeholder 4"/>
          <p:cNvSpPr/>
          <p:nvPr/>
        </p:nvSpPr>
        <p:spPr>
          <a:xfrm>
            <a:off x="272880" y="1450800"/>
            <a:ext cx="8642520" cy="51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0000"/>
              </a:lnSpc>
              <a:spcAft>
                <a:spcPts val="7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ＭＳ Ｐゴシック"/>
              </a:rPr>
              <a:t>      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Arial"/>
              </a:rPr>
              <a:t>Hyper arousal reactions and habit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Arial"/>
              </a:rPr>
              <a:t>      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Arial"/>
              </a:rPr>
              <a:t>HIGH ENERGY -  Mobilisation 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ff0000"/>
                </a:solidFill>
                <a:latin typeface="Arial"/>
                <a:ea typeface="Arial"/>
              </a:rPr>
              <a:t>CHAO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Arial"/>
              </a:rPr>
              <a:t>Comfortable, coherent arousal = calm energ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n-GB" sz="1600" spc="-1" strike="noStrike">
                <a:solidFill>
                  <a:srgbClr val="008000"/>
                </a:solidFill>
                <a:latin typeface="Arial"/>
                <a:ea typeface="Arial"/>
              </a:rPr>
              <a:t>WORKABLE RANGE 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Arial"/>
              </a:rPr>
              <a:t>- window of tolerance and effective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0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n-GB" sz="1000" spc="-1" strike="noStrike">
                <a:solidFill>
                  <a:srgbClr val="008000"/>
                </a:solidFill>
                <a:latin typeface="Arial"/>
                <a:ea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Arial"/>
              </a:rPr>
              <a:t>Comfortable, coherent slownes</a:t>
            </a: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s = calm tiredne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ＭＳ Ｐゴシック"/>
              </a:rPr>
              <a:t>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Arial"/>
              </a:rPr>
              <a:t>Hypo arousal reactions and habits 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Arial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Arial"/>
              </a:rPr>
              <a:t>       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Arial"/>
              </a:rPr>
              <a:t>LOW ENERGY – Immobilisation 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3366ff"/>
                </a:solidFill>
                <a:latin typeface="Arial"/>
                <a:ea typeface="Arial"/>
              </a:rPr>
              <a:t>RIGIDITY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Aft>
                <a:spcPts val="700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GB" sz="1400" spc="-1" strike="noStrike">
                <a:solidFill>
                  <a:srgbClr val="00b050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00b050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00b050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00b050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00b050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00b050"/>
                </a:solidFill>
                <a:latin typeface="Arial"/>
                <a:ea typeface="Arial"/>
              </a:rPr>
              <a:t>	</a:t>
            </a:r>
            <a:r>
              <a:rPr b="1" lang="en-GB" sz="1400" spc="-1" strike="noStrike">
                <a:solidFill>
                  <a:srgbClr val="00b05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2" name="Straight Connector 13"/>
          <p:cNvSpPr/>
          <p:nvPr/>
        </p:nvSpPr>
        <p:spPr>
          <a:xfrm>
            <a:off x="214200" y="2997360"/>
            <a:ext cx="8642520" cy="0"/>
          </a:xfrm>
          <a:prstGeom prst="line">
            <a:avLst/>
          </a:prstGeom>
          <a:ln w="255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Straight Connector 14"/>
          <p:cNvSpPr/>
          <p:nvPr/>
        </p:nvSpPr>
        <p:spPr>
          <a:xfrm>
            <a:off x="272880" y="4869000"/>
            <a:ext cx="8496360" cy="0"/>
          </a:xfrm>
          <a:prstGeom prst="line">
            <a:avLst/>
          </a:prstGeom>
          <a:ln w="25560">
            <a:solidFill>
              <a:srgbClr val="2da2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4" name="Picture 34" descr="LeedsUniWhite"/>
          <p:cNvPicPr/>
          <p:nvPr/>
        </p:nvPicPr>
        <p:blipFill>
          <a:blip r:embed="rId2"/>
          <a:stretch/>
        </p:blipFill>
        <p:spPr>
          <a:xfrm>
            <a:off x="6662880" y="592200"/>
            <a:ext cx="2274840" cy="647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0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0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5" name="Freeform 6"/>
          <p:cNvSpPr/>
          <p:nvPr/>
        </p:nvSpPr>
        <p:spPr>
          <a:xfrm>
            <a:off x="514440" y="1514520"/>
            <a:ext cx="8043840" cy="4405320"/>
          </a:xfrm>
          <a:custGeom>
            <a:avLst/>
            <a:gdLst/>
            <a:ahLst/>
            <a:rect l="l" t="t" r="r" b="b"/>
            <a:pathLst>
              <a:path w="8194382" h="4404033">
                <a:moveTo>
                  <a:pt x="0" y="2493288"/>
                </a:moveTo>
                <a:cubicBezTo>
                  <a:pt x="1040" y="2489129"/>
                  <a:pt x="22856" y="2391745"/>
                  <a:pt x="34956" y="2365128"/>
                </a:cubicBezTo>
                <a:cubicBezTo>
                  <a:pt x="49331" y="2333505"/>
                  <a:pt x="68661" y="2304173"/>
                  <a:pt x="81564" y="2271921"/>
                </a:cubicBezTo>
                <a:cubicBezTo>
                  <a:pt x="89332" y="2252503"/>
                  <a:pt x="92320" y="2230398"/>
                  <a:pt x="104869" y="2213667"/>
                </a:cubicBezTo>
                <a:cubicBezTo>
                  <a:pt x="116521" y="2198132"/>
                  <a:pt x="135941" y="2190365"/>
                  <a:pt x="151477" y="2178714"/>
                </a:cubicBezTo>
                <a:cubicBezTo>
                  <a:pt x="169868" y="2141936"/>
                  <a:pt x="193266" y="2090327"/>
                  <a:pt x="221390" y="2062206"/>
                </a:cubicBezTo>
                <a:cubicBezTo>
                  <a:pt x="236926" y="2046671"/>
                  <a:pt x="253530" y="2032136"/>
                  <a:pt x="267998" y="2015602"/>
                </a:cubicBezTo>
                <a:cubicBezTo>
                  <a:pt x="363219" y="1906788"/>
                  <a:pt x="249691" y="2029580"/>
                  <a:pt x="326259" y="1922395"/>
                </a:cubicBezTo>
                <a:cubicBezTo>
                  <a:pt x="335837" y="1908987"/>
                  <a:pt x="348704" y="1898165"/>
                  <a:pt x="361215" y="1887442"/>
                </a:cubicBezTo>
                <a:cubicBezTo>
                  <a:pt x="432303" y="1826516"/>
                  <a:pt x="380989" y="1875085"/>
                  <a:pt x="454432" y="1829188"/>
                </a:cubicBezTo>
                <a:cubicBezTo>
                  <a:pt x="501934" y="1799502"/>
                  <a:pt x="542772" y="1758045"/>
                  <a:pt x="594258" y="1735981"/>
                </a:cubicBezTo>
                <a:cubicBezTo>
                  <a:pt x="621446" y="1724330"/>
                  <a:pt x="649778" y="1715050"/>
                  <a:pt x="675822" y="1701028"/>
                </a:cubicBezTo>
                <a:cubicBezTo>
                  <a:pt x="700482" y="1687751"/>
                  <a:pt x="720684" y="1666949"/>
                  <a:pt x="745735" y="1654425"/>
                </a:cubicBezTo>
                <a:cubicBezTo>
                  <a:pt x="775417" y="1639586"/>
                  <a:pt x="808450" y="1632543"/>
                  <a:pt x="838952" y="1619472"/>
                </a:cubicBezTo>
                <a:cubicBezTo>
                  <a:pt x="862900" y="1609209"/>
                  <a:pt x="885924" y="1596870"/>
                  <a:pt x="908865" y="1584519"/>
                </a:cubicBezTo>
                <a:cubicBezTo>
                  <a:pt x="936436" y="1569675"/>
                  <a:pt x="962859" y="1552760"/>
                  <a:pt x="990430" y="1537916"/>
                </a:cubicBezTo>
                <a:cubicBezTo>
                  <a:pt x="1013371" y="1525565"/>
                  <a:pt x="1037836" y="1516090"/>
                  <a:pt x="1060342" y="1502963"/>
                </a:cubicBezTo>
                <a:cubicBezTo>
                  <a:pt x="1084535" y="1488852"/>
                  <a:pt x="1105595" y="1469637"/>
                  <a:pt x="1130255" y="1456360"/>
                </a:cubicBezTo>
                <a:cubicBezTo>
                  <a:pt x="1156300" y="1442338"/>
                  <a:pt x="1184962" y="1433802"/>
                  <a:pt x="1211820" y="1421407"/>
                </a:cubicBezTo>
                <a:cubicBezTo>
                  <a:pt x="1235477" y="1410490"/>
                  <a:pt x="1258859" y="1398929"/>
                  <a:pt x="1281733" y="1386454"/>
                </a:cubicBezTo>
                <a:cubicBezTo>
                  <a:pt x="1326222" y="1362190"/>
                  <a:pt x="1361284" y="1333912"/>
                  <a:pt x="1409906" y="1316549"/>
                </a:cubicBezTo>
                <a:cubicBezTo>
                  <a:pt x="1440069" y="1305778"/>
                  <a:pt x="1472738" y="1303374"/>
                  <a:pt x="1503123" y="1293247"/>
                </a:cubicBezTo>
                <a:cubicBezTo>
                  <a:pt x="1531185" y="1283894"/>
                  <a:pt x="1556455" y="1267117"/>
                  <a:pt x="1584688" y="1258295"/>
                </a:cubicBezTo>
                <a:cubicBezTo>
                  <a:pt x="1618867" y="1247615"/>
                  <a:pt x="1654957" y="1244219"/>
                  <a:pt x="1689557" y="1234993"/>
                </a:cubicBezTo>
                <a:cubicBezTo>
                  <a:pt x="1771521" y="1213138"/>
                  <a:pt x="1854823" y="1194871"/>
                  <a:pt x="1934251" y="1165088"/>
                </a:cubicBezTo>
                <a:lnTo>
                  <a:pt x="2027468" y="1130135"/>
                </a:lnTo>
                <a:cubicBezTo>
                  <a:pt x="2050602" y="1121874"/>
                  <a:pt x="2074573" y="1115955"/>
                  <a:pt x="2097381" y="1106833"/>
                </a:cubicBezTo>
                <a:cubicBezTo>
                  <a:pt x="2113508" y="1100383"/>
                  <a:pt x="2127725" y="1089629"/>
                  <a:pt x="2143989" y="1083531"/>
                </a:cubicBezTo>
                <a:cubicBezTo>
                  <a:pt x="2158984" y="1077909"/>
                  <a:pt x="2175200" y="1076280"/>
                  <a:pt x="2190598" y="1071881"/>
                </a:cubicBezTo>
                <a:cubicBezTo>
                  <a:pt x="2270926" y="1048934"/>
                  <a:pt x="2169277" y="1069608"/>
                  <a:pt x="2295467" y="1048579"/>
                </a:cubicBezTo>
                <a:cubicBezTo>
                  <a:pt x="2318771" y="1052463"/>
                  <a:pt x="2343790" y="1050636"/>
                  <a:pt x="2365380" y="1060230"/>
                </a:cubicBezTo>
                <a:cubicBezTo>
                  <a:pt x="2380438" y="1066921"/>
                  <a:pt x="2386927" y="1085605"/>
                  <a:pt x="2400336" y="1095182"/>
                </a:cubicBezTo>
                <a:cubicBezTo>
                  <a:pt x="2414471" y="1105277"/>
                  <a:pt x="2431408" y="1110717"/>
                  <a:pt x="2446944" y="1118484"/>
                </a:cubicBezTo>
                <a:cubicBezTo>
                  <a:pt x="2454712" y="1134019"/>
                  <a:pt x="2461043" y="1150360"/>
                  <a:pt x="2470249" y="1165088"/>
                </a:cubicBezTo>
                <a:cubicBezTo>
                  <a:pt x="2519041" y="1243147"/>
                  <a:pt x="2494925" y="1179483"/>
                  <a:pt x="2540161" y="1269946"/>
                </a:cubicBezTo>
                <a:cubicBezTo>
                  <a:pt x="2549515" y="1288652"/>
                  <a:pt x="2554112" y="1309494"/>
                  <a:pt x="2563466" y="1328200"/>
                </a:cubicBezTo>
                <a:cubicBezTo>
                  <a:pt x="2573594" y="1348454"/>
                  <a:pt x="2588294" y="1366199"/>
                  <a:pt x="2598422" y="1386454"/>
                </a:cubicBezTo>
                <a:cubicBezTo>
                  <a:pt x="2611650" y="1412908"/>
                  <a:pt x="2620982" y="1441156"/>
                  <a:pt x="2633378" y="1468011"/>
                </a:cubicBezTo>
                <a:cubicBezTo>
                  <a:pt x="2644297" y="1491665"/>
                  <a:pt x="2659510" y="1513404"/>
                  <a:pt x="2668335" y="1537916"/>
                </a:cubicBezTo>
                <a:cubicBezTo>
                  <a:pt x="2694548" y="1610722"/>
                  <a:pt x="2714661" y="1685584"/>
                  <a:pt x="2738247" y="1759283"/>
                </a:cubicBezTo>
                <a:cubicBezTo>
                  <a:pt x="2738259" y="1759321"/>
                  <a:pt x="2784845" y="1899054"/>
                  <a:pt x="2784856" y="1899093"/>
                </a:cubicBezTo>
                <a:lnTo>
                  <a:pt x="2808160" y="1980649"/>
                </a:lnTo>
                <a:cubicBezTo>
                  <a:pt x="2809108" y="2008140"/>
                  <a:pt x="2803698" y="2277380"/>
                  <a:pt x="2831464" y="2388430"/>
                </a:cubicBezTo>
                <a:cubicBezTo>
                  <a:pt x="2841299" y="2427766"/>
                  <a:pt x="2852563" y="2466834"/>
                  <a:pt x="2866421" y="2504939"/>
                </a:cubicBezTo>
                <a:cubicBezTo>
                  <a:pt x="2921941" y="2657603"/>
                  <a:pt x="2925635" y="2623509"/>
                  <a:pt x="2971290" y="2772909"/>
                </a:cubicBezTo>
                <a:cubicBezTo>
                  <a:pt x="3000756" y="2869333"/>
                  <a:pt x="3021816" y="2968252"/>
                  <a:pt x="3052855" y="3064181"/>
                </a:cubicBezTo>
                <a:cubicBezTo>
                  <a:pt x="3064630" y="3100573"/>
                  <a:pt x="3084898" y="3133671"/>
                  <a:pt x="3099463" y="3169039"/>
                </a:cubicBezTo>
                <a:cubicBezTo>
                  <a:pt x="3112098" y="3199721"/>
                  <a:pt x="3119578" y="3232568"/>
                  <a:pt x="3134419" y="3262246"/>
                </a:cubicBezTo>
                <a:cubicBezTo>
                  <a:pt x="3154676" y="3302755"/>
                  <a:pt x="3182642" y="3338994"/>
                  <a:pt x="3204332" y="3378755"/>
                </a:cubicBezTo>
                <a:cubicBezTo>
                  <a:pt x="3229285" y="3424497"/>
                  <a:pt x="3254892" y="3470188"/>
                  <a:pt x="3274245" y="3518566"/>
                </a:cubicBezTo>
                <a:cubicBezTo>
                  <a:pt x="3282013" y="3537984"/>
                  <a:pt x="3288195" y="3558114"/>
                  <a:pt x="3297549" y="3576820"/>
                </a:cubicBezTo>
                <a:cubicBezTo>
                  <a:pt x="3312948" y="3607614"/>
                  <a:pt x="3356332" y="3654841"/>
                  <a:pt x="3379114" y="3670027"/>
                </a:cubicBezTo>
                <a:cubicBezTo>
                  <a:pt x="3390766" y="3677794"/>
                  <a:pt x="3401198" y="3687813"/>
                  <a:pt x="3414070" y="3693329"/>
                </a:cubicBezTo>
                <a:cubicBezTo>
                  <a:pt x="3428790" y="3699637"/>
                  <a:pt x="3445143" y="3701096"/>
                  <a:pt x="3460679" y="3704980"/>
                </a:cubicBezTo>
                <a:cubicBezTo>
                  <a:pt x="3480099" y="3701096"/>
                  <a:pt x="3500735" y="3701130"/>
                  <a:pt x="3518939" y="3693329"/>
                </a:cubicBezTo>
                <a:cubicBezTo>
                  <a:pt x="3529036" y="3689002"/>
                  <a:pt x="3532824" y="3675679"/>
                  <a:pt x="3542244" y="3670027"/>
                </a:cubicBezTo>
                <a:cubicBezTo>
                  <a:pt x="3552776" y="3663708"/>
                  <a:pt x="3565548" y="3662260"/>
                  <a:pt x="3577200" y="3658376"/>
                </a:cubicBezTo>
                <a:cubicBezTo>
                  <a:pt x="3622147" y="3568492"/>
                  <a:pt x="3585132" y="3651933"/>
                  <a:pt x="3623808" y="3506915"/>
                </a:cubicBezTo>
                <a:cubicBezTo>
                  <a:pt x="3641722" y="3439745"/>
                  <a:pt x="3656863" y="3426604"/>
                  <a:pt x="3670417" y="3355453"/>
                </a:cubicBezTo>
                <a:cubicBezTo>
                  <a:pt x="3680502" y="3302513"/>
                  <a:pt x="3696969" y="3166361"/>
                  <a:pt x="3705373" y="3099134"/>
                </a:cubicBezTo>
                <a:cubicBezTo>
                  <a:pt x="3697605" y="3056414"/>
                  <a:pt x="3687455" y="3014059"/>
                  <a:pt x="3682069" y="2970974"/>
                </a:cubicBezTo>
                <a:cubicBezTo>
                  <a:pt x="3675788" y="2920729"/>
                  <a:pt x="3675812" y="2869861"/>
                  <a:pt x="3670417" y="2819513"/>
                </a:cubicBezTo>
                <a:cubicBezTo>
                  <a:pt x="3664155" y="2761078"/>
                  <a:pt x="3654881" y="2703004"/>
                  <a:pt x="3647113" y="2644750"/>
                </a:cubicBezTo>
                <a:cubicBezTo>
                  <a:pt x="3650997" y="2532125"/>
                  <a:pt x="3659990" y="2419560"/>
                  <a:pt x="3658765" y="2306874"/>
                </a:cubicBezTo>
                <a:cubicBezTo>
                  <a:pt x="3656104" y="2062097"/>
                  <a:pt x="3644751" y="1817484"/>
                  <a:pt x="3635461" y="1572869"/>
                </a:cubicBezTo>
                <a:cubicBezTo>
                  <a:pt x="3633021" y="1508630"/>
                  <a:pt x="3617200" y="1293958"/>
                  <a:pt x="3612156" y="1223342"/>
                </a:cubicBezTo>
                <a:cubicBezTo>
                  <a:pt x="3616040" y="1130135"/>
                  <a:pt x="3616060" y="1036687"/>
                  <a:pt x="3623808" y="943721"/>
                </a:cubicBezTo>
                <a:cubicBezTo>
                  <a:pt x="3627732" y="896638"/>
                  <a:pt x="3636863" y="850031"/>
                  <a:pt x="3647113" y="803910"/>
                </a:cubicBezTo>
                <a:cubicBezTo>
                  <a:pt x="3667340" y="712900"/>
                  <a:pt x="3714534" y="520113"/>
                  <a:pt x="3751982" y="407780"/>
                </a:cubicBezTo>
                <a:cubicBezTo>
                  <a:pt x="3770241" y="353009"/>
                  <a:pt x="3787744" y="297839"/>
                  <a:pt x="3810242" y="244668"/>
                </a:cubicBezTo>
                <a:cubicBezTo>
                  <a:pt x="3830546" y="196681"/>
                  <a:pt x="3863676" y="154288"/>
                  <a:pt x="3880155" y="104857"/>
                </a:cubicBezTo>
                <a:cubicBezTo>
                  <a:pt x="3907888" y="21668"/>
                  <a:pt x="3889833" y="55388"/>
                  <a:pt x="3926764" y="0"/>
                </a:cubicBezTo>
                <a:cubicBezTo>
                  <a:pt x="4029884" y="68738"/>
                  <a:pt x="3975627" y="26685"/>
                  <a:pt x="4113197" y="233017"/>
                </a:cubicBezTo>
                <a:cubicBezTo>
                  <a:pt x="4204329" y="369700"/>
                  <a:pt x="4166047" y="299487"/>
                  <a:pt x="4229719" y="442733"/>
                </a:cubicBezTo>
                <a:cubicBezTo>
                  <a:pt x="4253143" y="548132"/>
                  <a:pt x="4247216" y="554182"/>
                  <a:pt x="4299631" y="652449"/>
                </a:cubicBezTo>
                <a:cubicBezTo>
                  <a:pt x="4350035" y="746946"/>
                  <a:pt x="4343629" y="694593"/>
                  <a:pt x="4381196" y="792259"/>
                </a:cubicBezTo>
                <a:cubicBezTo>
                  <a:pt x="4391346" y="818648"/>
                  <a:pt x="4394990" y="847190"/>
                  <a:pt x="4404500" y="873816"/>
                </a:cubicBezTo>
                <a:cubicBezTo>
                  <a:pt x="4414449" y="901670"/>
                  <a:pt x="4427805" y="928187"/>
                  <a:pt x="4439457" y="955372"/>
                </a:cubicBezTo>
                <a:cubicBezTo>
                  <a:pt x="4443341" y="982557"/>
                  <a:pt x="4445571" y="1010031"/>
                  <a:pt x="4451109" y="1036928"/>
                </a:cubicBezTo>
                <a:cubicBezTo>
                  <a:pt x="4472772" y="1142137"/>
                  <a:pt x="4521022" y="1351502"/>
                  <a:pt x="4521022" y="1351502"/>
                </a:cubicBezTo>
                <a:cubicBezTo>
                  <a:pt x="4531514" y="1456412"/>
                  <a:pt x="4557563" y="1722838"/>
                  <a:pt x="4567630" y="1770933"/>
                </a:cubicBezTo>
                <a:cubicBezTo>
                  <a:pt x="4581975" y="1839462"/>
                  <a:pt x="4614239" y="1902976"/>
                  <a:pt x="4637543" y="1968998"/>
                </a:cubicBezTo>
                <a:cubicBezTo>
                  <a:pt x="4645311" y="2046671"/>
                  <a:pt x="4654743" y="2124195"/>
                  <a:pt x="4660847" y="2202016"/>
                </a:cubicBezTo>
                <a:cubicBezTo>
                  <a:pt x="4670281" y="2322289"/>
                  <a:pt x="4654888" y="2446153"/>
                  <a:pt x="4684151" y="2563193"/>
                </a:cubicBezTo>
                <a:cubicBezTo>
                  <a:pt x="4699687" y="2625331"/>
                  <a:pt x="4712183" y="2688310"/>
                  <a:pt x="4730760" y="2749608"/>
                </a:cubicBezTo>
                <a:cubicBezTo>
                  <a:pt x="4751066" y="2816612"/>
                  <a:pt x="4782006" y="2880193"/>
                  <a:pt x="4800672" y="2947672"/>
                </a:cubicBezTo>
                <a:cubicBezTo>
                  <a:pt x="4832569" y="3062981"/>
                  <a:pt x="4856819" y="3180291"/>
                  <a:pt x="4882237" y="3297199"/>
                </a:cubicBezTo>
                <a:cubicBezTo>
                  <a:pt x="4895668" y="3358977"/>
                  <a:pt x="4904384" y="3421703"/>
                  <a:pt x="4917194" y="3483613"/>
                </a:cubicBezTo>
                <a:cubicBezTo>
                  <a:pt x="4957172" y="3676816"/>
                  <a:pt x="4940466" y="3583697"/>
                  <a:pt x="4987106" y="3751583"/>
                </a:cubicBezTo>
                <a:cubicBezTo>
                  <a:pt x="4995678" y="3782440"/>
                  <a:pt x="5000283" y="3814408"/>
                  <a:pt x="5010411" y="3844790"/>
                </a:cubicBezTo>
                <a:cubicBezTo>
                  <a:pt x="5019765" y="3872849"/>
                  <a:pt x="5034748" y="3898741"/>
                  <a:pt x="5045367" y="3926347"/>
                </a:cubicBezTo>
                <a:cubicBezTo>
                  <a:pt x="5077182" y="4009058"/>
                  <a:pt x="5057398" y="3986915"/>
                  <a:pt x="5103627" y="4066157"/>
                </a:cubicBezTo>
                <a:cubicBezTo>
                  <a:pt x="5117740" y="4090347"/>
                  <a:pt x="5137710" y="4111013"/>
                  <a:pt x="5150236" y="4136062"/>
                </a:cubicBezTo>
                <a:cubicBezTo>
                  <a:pt x="5239864" y="4315299"/>
                  <a:pt x="5132644" y="4146771"/>
                  <a:pt x="5220149" y="4310826"/>
                </a:cubicBezTo>
                <a:cubicBezTo>
                  <a:pt x="5237392" y="4343154"/>
                  <a:pt x="5258989" y="4372964"/>
                  <a:pt x="5278409" y="4404033"/>
                </a:cubicBezTo>
                <a:cubicBezTo>
                  <a:pt x="5315910" y="4391534"/>
                  <a:pt x="5337757" y="4387061"/>
                  <a:pt x="5371626" y="4357429"/>
                </a:cubicBezTo>
                <a:cubicBezTo>
                  <a:pt x="5386241" y="4344642"/>
                  <a:pt x="5395811" y="4326983"/>
                  <a:pt x="5406583" y="4310826"/>
                </a:cubicBezTo>
                <a:cubicBezTo>
                  <a:pt x="5448888" y="4247376"/>
                  <a:pt x="5440114" y="4256845"/>
                  <a:pt x="5464843" y="4182666"/>
                </a:cubicBezTo>
                <a:cubicBezTo>
                  <a:pt x="5460959" y="4066157"/>
                  <a:pt x="5453191" y="3949713"/>
                  <a:pt x="5453191" y="3833139"/>
                </a:cubicBezTo>
                <a:cubicBezTo>
                  <a:pt x="5453191" y="3682380"/>
                  <a:pt x="5463301" y="3724340"/>
                  <a:pt x="5488147" y="3600122"/>
                </a:cubicBezTo>
                <a:cubicBezTo>
                  <a:pt x="5505180" y="3514968"/>
                  <a:pt x="5526522" y="3430252"/>
                  <a:pt x="5534756" y="3343802"/>
                </a:cubicBezTo>
                <a:cubicBezTo>
                  <a:pt x="5542524" y="3262246"/>
                  <a:pt x="5545786" y="3180134"/>
                  <a:pt x="5558060" y="3099134"/>
                </a:cubicBezTo>
                <a:cubicBezTo>
                  <a:pt x="5565257" y="3051638"/>
                  <a:pt x="5582810" y="3006265"/>
                  <a:pt x="5593016" y="2959323"/>
                </a:cubicBezTo>
                <a:cubicBezTo>
                  <a:pt x="5602241" y="2916894"/>
                  <a:pt x="5608553" y="2873884"/>
                  <a:pt x="5616321" y="2831164"/>
                </a:cubicBezTo>
                <a:cubicBezTo>
                  <a:pt x="5627973" y="2695237"/>
                  <a:pt x="5637141" y="2559074"/>
                  <a:pt x="5651277" y="2423383"/>
                </a:cubicBezTo>
                <a:cubicBezTo>
                  <a:pt x="5658573" y="2353348"/>
                  <a:pt x="5684662" y="2216485"/>
                  <a:pt x="5697886" y="2143762"/>
                </a:cubicBezTo>
                <a:cubicBezTo>
                  <a:pt x="5705087" y="1942165"/>
                  <a:pt x="5702987" y="1790206"/>
                  <a:pt x="5732842" y="1596170"/>
                </a:cubicBezTo>
                <a:cubicBezTo>
                  <a:pt x="5737142" y="1568225"/>
                  <a:pt x="5748378" y="1541799"/>
                  <a:pt x="5756146" y="1514614"/>
                </a:cubicBezTo>
                <a:cubicBezTo>
                  <a:pt x="5760030" y="1452476"/>
                  <a:pt x="5765309" y="1390410"/>
                  <a:pt x="5767798" y="1328200"/>
                </a:cubicBezTo>
                <a:cubicBezTo>
                  <a:pt x="5773078" y="1196205"/>
                  <a:pt x="5772684" y="1063997"/>
                  <a:pt x="5779450" y="932070"/>
                </a:cubicBezTo>
                <a:cubicBezTo>
                  <a:pt x="5780983" y="902182"/>
                  <a:pt x="5798766" y="840583"/>
                  <a:pt x="5814407" y="815561"/>
                </a:cubicBezTo>
                <a:cubicBezTo>
                  <a:pt x="5830427" y="789931"/>
                  <a:pt x="5860161" y="773411"/>
                  <a:pt x="5884319" y="757307"/>
                </a:cubicBezTo>
                <a:cubicBezTo>
                  <a:pt x="5892087" y="745656"/>
                  <a:pt x="5893893" y="725100"/>
                  <a:pt x="5907624" y="722354"/>
                </a:cubicBezTo>
                <a:cubicBezTo>
                  <a:pt x="5948015" y="714277"/>
                  <a:pt x="5964466" y="811307"/>
                  <a:pt x="5965884" y="815561"/>
                </a:cubicBezTo>
                <a:cubicBezTo>
                  <a:pt x="5969768" y="838863"/>
                  <a:pt x="5972223" y="862449"/>
                  <a:pt x="5977536" y="885467"/>
                </a:cubicBezTo>
                <a:cubicBezTo>
                  <a:pt x="5983894" y="913016"/>
                  <a:pt x="5991899" y="940201"/>
                  <a:pt x="6000841" y="967023"/>
                </a:cubicBezTo>
                <a:cubicBezTo>
                  <a:pt x="6042402" y="1091693"/>
                  <a:pt x="6085726" y="1215770"/>
                  <a:pt x="6129014" y="1339851"/>
                </a:cubicBezTo>
                <a:cubicBezTo>
                  <a:pt x="6143988" y="1382771"/>
                  <a:pt x="6164596" y="1423911"/>
                  <a:pt x="6175622" y="1468011"/>
                </a:cubicBezTo>
                <a:cubicBezTo>
                  <a:pt x="6195042" y="1545683"/>
                  <a:pt x="6216772" y="1622814"/>
                  <a:pt x="6233883" y="1701028"/>
                </a:cubicBezTo>
                <a:cubicBezTo>
                  <a:pt x="6243981" y="1747183"/>
                  <a:pt x="6247149" y="1794671"/>
                  <a:pt x="6257187" y="1840839"/>
                </a:cubicBezTo>
                <a:cubicBezTo>
                  <a:pt x="6266594" y="1884108"/>
                  <a:pt x="6281809" y="1925941"/>
                  <a:pt x="6292144" y="1968998"/>
                </a:cubicBezTo>
                <a:cubicBezTo>
                  <a:pt x="6305122" y="2023068"/>
                  <a:pt x="6314595" y="2077930"/>
                  <a:pt x="6327100" y="2132111"/>
                </a:cubicBezTo>
                <a:cubicBezTo>
                  <a:pt x="6337903" y="2178918"/>
                  <a:pt x="6352257" y="2224893"/>
                  <a:pt x="6362056" y="2271921"/>
                </a:cubicBezTo>
                <a:cubicBezTo>
                  <a:pt x="6371693" y="2318174"/>
                  <a:pt x="6374832" y="2365673"/>
                  <a:pt x="6385361" y="2411732"/>
                </a:cubicBezTo>
                <a:cubicBezTo>
                  <a:pt x="6405933" y="2501724"/>
                  <a:pt x="6438758" y="2588878"/>
                  <a:pt x="6455273" y="2679702"/>
                </a:cubicBezTo>
                <a:cubicBezTo>
                  <a:pt x="6463041" y="2722422"/>
                  <a:pt x="6469157" y="2765476"/>
                  <a:pt x="6478577" y="2807862"/>
                </a:cubicBezTo>
                <a:cubicBezTo>
                  <a:pt x="6492473" y="2870387"/>
                  <a:pt x="6512623" y="2931469"/>
                  <a:pt x="6525186" y="2994276"/>
                </a:cubicBezTo>
                <a:cubicBezTo>
                  <a:pt x="6539838" y="3067528"/>
                  <a:pt x="6548490" y="3141854"/>
                  <a:pt x="6560142" y="3215643"/>
                </a:cubicBezTo>
                <a:cubicBezTo>
                  <a:pt x="6567910" y="3378755"/>
                  <a:pt x="6567816" y="3542433"/>
                  <a:pt x="6583447" y="3704980"/>
                </a:cubicBezTo>
                <a:cubicBezTo>
                  <a:pt x="6587328" y="3745340"/>
                  <a:pt x="6607734" y="3782371"/>
                  <a:pt x="6618403" y="3821489"/>
                </a:cubicBezTo>
                <a:cubicBezTo>
                  <a:pt x="6633039" y="3875148"/>
                  <a:pt x="6665007" y="4021206"/>
                  <a:pt x="6688316" y="4077808"/>
                </a:cubicBezTo>
                <a:cubicBezTo>
                  <a:pt x="6704608" y="4117369"/>
                  <a:pt x="6757099" y="4192623"/>
                  <a:pt x="6781533" y="4229269"/>
                </a:cubicBezTo>
                <a:cubicBezTo>
                  <a:pt x="6733546" y="3893395"/>
                  <a:pt x="6673908" y="3746892"/>
                  <a:pt x="6711620" y="3460311"/>
                </a:cubicBezTo>
                <a:cubicBezTo>
                  <a:pt x="6722452" y="3377998"/>
                  <a:pt x="6742692" y="3297199"/>
                  <a:pt x="6758228" y="3215643"/>
                </a:cubicBezTo>
                <a:cubicBezTo>
                  <a:pt x="6765996" y="2978742"/>
                  <a:pt x="6772183" y="2741783"/>
                  <a:pt x="6781533" y="2504939"/>
                </a:cubicBezTo>
                <a:cubicBezTo>
                  <a:pt x="6783836" y="2446601"/>
                  <a:pt x="6793185" y="2388560"/>
                  <a:pt x="6793185" y="2330176"/>
                </a:cubicBezTo>
                <a:cubicBezTo>
                  <a:pt x="6793185" y="2233008"/>
                  <a:pt x="6789603" y="2135737"/>
                  <a:pt x="6781533" y="2038904"/>
                </a:cubicBezTo>
                <a:cubicBezTo>
                  <a:pt x="6777927" y="1995633"/>
                  <a:pt x="6764369" y="1953728"/>
                  <a:pt x="6758228" y="1910744"/>
                </a:cubicBezTo>
                <a:cubicBezTo>
                  <a:pt x="6752708" y="1872106"/>
                  <a:pt x="6750460" y="1833071"/>
                  <a:pt x="6746576" y="1794235"/>
                </a:cubicBezTo>
                <a:cubicBezTo>
                  <a:pt x="6742692" y="1689377"/>
                  <a:pt x="6745577" y="1584049"/>
                  <a:pt x="6734924" y="1479661"/>
                </a:cubicBezTo>
                <a:cubicBezTo>
                  <a:pt x="6727855" y="1410395"/>
                  <a:pt x="6692686" y="1226987"/>
                  <a:pt x="6665011" y="1130135"/>
                </a:cubicBezTo>
                <a:cubicBezTo>
                  <a:pt x="6625591" y="992181"/>
                  <a:pt x="6654469" y="1124032"/>
                  <a:pt x="6630055" y="1001975"/>
                </a:cubicBezTo>
                <a:cubicBezTo>
                  <a:pt x="6633939" y="963139"/>
                  <a:pt x="6604951" y="898593"/>
                  <a:pt x="6641707" y="885467"/>
                </a:cubicBezTo>
                <a:cubicBezTo>
                  <a:pt x="6731298" y="853474"/>
                  <a:pt x="6819217" y="962841"/>
                  <a:pt x="6851445" y="1025277"/>
                </a:cubicBezTo>
                <a:cubicBezTo>
                  <a:pt x="6960558" y="1236662"/>
                  <a:pt x="6969410" y="1276316"/>
                  <a:pt x="7037879" y="1468011"/>
                </a:cubicBezTo>
                <a:cubicBezTo>
                  <a:pt x="7067895" y="1678104"/>
                  <a:pt x="7066302" y="1728449"/>
                  <a:pt x="7166052" y="1968998"/>
                </a:cubicBezTo>
                <a:cubicBezTo>
                  <a:pt x="7187508" y="2020738"/>
                  <a:pt x="7229458" y="2061388"/>
                  <a:pt x="7259269" y="2108809"/>
                </a:cubicBezTo>
                <a:cubicBezTo>
                  <a:pt x="7314924" y="2197342"/>
                  <a:pt x="7422399" y="2376779"/>
                  <a:pt x="7422399" y="2376779"/>
                </a:cubicBezTo>
                <a:cubicBezTo>
                  <a:pt x="7430167" y="2407848"/>
                  <a:pt x="7436666" y="2439262"/>
                  <a:pt x="7445703" y="2469986"/>
                </a:cubicBezTo>
                <a:cubicBezTo>
                  <a:pt x="7456100" y="2505332"/>
                  <a:pt x="7470965" y="2539299"/>
                  <a:pt x="7480660" y="2574844"/>
                </a:cubicBezTo>
                <a:cubicBezTo>
                  <a:pt x="7515559" y="2702794"/>
                  <a:pt x="7550600" y="2860396"/>
                  <a:pt x="7585529" y="2994276"/>
                </a:cubicBezTo>
                <a:cubicBezTo>
                  <a:pt x="7596708" y="3037122"/>
                  <a:pt x="7610670" y="3079257"/>
                  <a:pt x="7620485" y="3122436"/>
                </a:cubicBezTo>
                <a:cubicBezTo>
                  <a:pt x="7663808" y="3313037"/>
                  <a:pt x="7677734" y="3399022"/>
                  <a:pt x="7737006" y="3576820"/>
                </a:cubicBezTo>
                <a:cubicBezTo>
                  <a:pt x="7746360" y="3604879"/>
                  <a:pt x="7761344" y="3630771"/>
                  <a:pt x="7771963" y="3658376"/>
                </a:cubicBezTo>
                <a:cubicBezTo>
                  <a:pt x="7780781" y="3681301"/>
                  <a:pt x="7787499" y="3704980"/>
                  <a:pt x="7795267" y="3728282"/>
                </a:cubicBezTo>
                <a:cubicBezTo>
                  <a:pt x="7799151" y="3774885"/>
                  <a:pt x="7821709" y="3823727"/>
                  <a:pt x="7806919" y="3868092"/>
                </a:cubicBezTo>
                <a:cubicBezTo>
                  <a:pt x="7795595" y="3902060"/>
                  <a:pt x="7792842" y="3797830"/>
                  <a:pt x="7783615" y="3763234"/>
                </a:cubicBezTo>
                <a:cubicBezTo>
                  <a:pt x="7777286" y="3739501"/>
                  <a:pt x="7767535" y="3716805"/>
                  <a:pt x="7760311" y="3693329"/>
                </a:cubicBezTo>
                <a:cubicBezTo>
                  <a:pt x="7722417" y="3570187"/>
                  <a:pt x="7746148" y="3639339"/>
                  <a:pt x="7713702" y="3483613"/>
                </a:cubicBezTo>
                <a:cubicBezTo>
                  <a:pt x="7703133" y="3432888"/>
                  <a:pt x="7690398" y="3382639"/>
                  <a:pt x="7678746" y="3332152"/>
                </a:cubicBezTo>
                <a:cubicBezTo>
                  <a:pt x="7670978" y="3262247"/>
                  <a:pt x="7660453" y="3192593"/>
                  <a:pt x="7655441" y="3122436"/>
                </a:cubicBezTo>
                <a:cubicBezTo>
                  <a:pt x="7644911" y="2975029"/>
                  <a:pt x="7646056" y="2826827"/>
                  <a:pt x="7632137" y="2679702"/>
                </a:cubicBezTo>
                <a:cubicBezTo>
                  <a:pt x="7618843" y="2539177"/>
                  <a:pt x="7597789" y="2399383"/>
                  <a:pt x="7573877" y="2260271"/>
                </a:cubicBezTo>
                <a:cubicBezTo>
                  <a:pt x="7476364" y="1692983"/>
                  <a:pt x="7558546" y="2128366"/>
                  <a:pt x="7434051" y="1782584"/>
                </a:cubicBezTo>
                <a:cubicBezTo>
                  <a:pt x="7417778" y="1737386"/>
                  <a:pt x="7412293" y="1688963"/>
                  <a:pt x="7399095" y="1642774"/>
                </a:cubicBezTo>
                <a:cubicBezTo>
                  <a:pt x="7388972" y="1607348"/>
                  <a:pt x="7375790" y="1572869"/>
                  <a:pt x="7364138" y="1537916"/>
                </a:cubicBezTo>
                <a:cubicBezTo>
                  <a:pt x="7355191" y="1466344"/>
                  <a:pt x="7351555" y="1432830"/>
                  <a:pt x="7340834" y="1363153"/>
                </a:cubicBezTo>
                <a:cubicBezTo>
                  <a:pt x="7337242" y="1339804"/>
                  <a:pt x="7333066" y="1316549"/>
                  <a:pt x="7329182" y="1293247"/>
                </a:cubicBezTo>
                <a:cubicBezTo>
                  <a:pt x="7325298" y="1231109"/>
                  <a:pt x="7324048" y="1168750"/>
                  <a:pt x="7317530" y="1106833"/>
                </a:cubicBezTo>
                <a:cubicBezTo>
                  <a:pt x="7310073" y="1035996"/>
                  <a:pt x="7293915" y="1107767"/>
                  <a:pt x="7317530" y="1036928"/>
                </a:cubicBezTo>
                <a:cubicBezTo>
                  <a:pt x="7345263" y="1092389"/>
                  <a:pt x="7365071" y="1135232"/>
                  <a:pt x="7399095" y="1188389"/>
                </a:cubicBezTo>
                <a:cubicBezTo>
                  <a:pt x="7444389" y="1259153"/>
                  <a:pt x="7498114" y="1324662"/>
                  <a:pt x="7538920" y="1398105"/>
                </a:cubicBezTo>
                <a:cubicBezTo>
                  <a:pt x="7576075" y="1464976"/>
                  <a:pt x="7599030" y="1538856"/>
                  <a:pt x="7632137" y="1607821"/>
                </a:cubicBezTo>
                <a:cubicBezTo>
                  <a:pt x="7645688" y="1636049"/>
                  <a:pt x="7664742" y="1661372"/>
                  <a:pt x="7678746" y="1689377"/>
                </a:cubicBezTo>
                <a:cubicBezTo>
                  <a:pt x="7691974" y="1715831"/>
                  <a:pt x="7698484" y="1745571"/>
                  <a:pt x="7713702" y="1770933"/>
                </a:cubicBezTo>
                <a:cubicBezTo>
                  <a:pt x="7745298" y="1823588"/>
                  <a:pt x="7794950" y="1865712"/>
                  <a:pt x="7818571" y="1922395"/>
                </a:cubicBezTo>
                <a:cubicBezTo>
                  <a:pt x="7837991" y="1968999"/>
                  <a:pt x="7857607" y="2015521"/>
                  <a:pt x="7876832" y="2062206"/>
                </a:cubicBezTo>
                <a:cubicBezTo>
                  <a:pt x="7884796" y="2081545"/>
                  <a:pt x="7892988" y="2100805"/>
                  <a:pt x="7900136" y="2120460"/>
                </a:cubicBezTo>
                <a:cubicBezTo>
                  <a:pt x="7915672" y="2163180"/>
                  <a:pt x="7928033" y="2207192"/>
                  <a:pt x="7946744" y="2248620"/>
                </a:cubicBezTo>
                <a:cubicBezTo>
                  <a:pt x="7982490" y="2327764"/>
                  <a:pt x="8009013" y="2413827"/>
                  <a:pt x="8063266" y="2481637"/>
                </a:cubicBezTo>
                <a:cubicBezTo>
                  <a:pt x="8078802" y="2501055"/>
                  <a:pt x="8096078" y="2519201"/>
                  <a:pt x="8109874" y="2539892"/>
                </a:cubicBezTo>
                <a:cubicBezTo>
                  <a:pt x="8137490" y="2581312"/>
                  <a:pt x="8157794" y="2624070"/>
                  <a:pt x="8179787" y="2668051"/>
                </a:cubicBezTo>
                <a:cubicBezTo>
                  <a:pt x="8199176" y="2357859"/>
                  <a:pt x="8199320" y="2441510"/>
                  <a:pt x="8179787" y="1992300"/>
                </a:cubicBezTo>
                <a:cubicBezTo>
                  <a:pt x="8179091" y="1976303"/>
                  <a:pt x="8171736" y="1961299"/>
                  <a:pt x="8168135" y="1945697"/>
                </a:cubicBezTo>
                <a:cubicBezTo>
                  <a:pt x="8160083" y="1910809"/>
                  <a:pt x="8150717" y="1876157"/>
                  <a:pt x="8144830" y="1840839"/>
                </a:cubicBezTo>
                <a:cubicBezTo>
                  <a:pt x="8135167" y="1782869"/>
                  <a:pt x="8130693" y="1724127"/>
                  <a:pt x="8121526" y="1666076"/>
                </a:cubicBezTo>
                <a:cubicBezTo>
                  <a:pt x="8119028" y="1650259"/>
                  <a:pt x="8113348" y="1635103"/>
                  <a:pt x="8109874" y="1619472"/>
                </a:cubicBezTo>
                <a:cubicBezTo>
                  <a:pt x="8105578" y="1600141"/>
                  <a:pt x="8101765" y="1580701"/>
                  <a:pt x="8098222" y="1561218"/>
                </a:cubicBezTo>
                <a:cubicBezTo>
                  <a:pt x="8093996" y="1537976"/>
                  <a:pt x="8091695" y="1514373"/>
                  <a:pt x="8086570" y="1491312"/>
                </a:cubicBezTo>
                <a:cubicBezTo>
                  <a:pt x="8080811" y="1465399"/>
                  <a:pt x="8074301" y="1455127"/>
                  <a:pt x="8063266" y="1433058"/>
                </a:cubicBezTo>
              </a:path>
            </a:pathLst>
          </a:custGeom>
          <a:noFill/>
          <a:ln w="38160">
            <a:solidFill>
              <a:srgbClr val="ffff00"/>
            </a:solidFill>
            <a:round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"/>
          <p:cNvSpPr txBox="1"/>
          <p:nvPr/>
        </p:nvSpPr>
        <p:spPr>
          <a:xfrm>
            <a:off x="426600" y="1514520"/>
            <a:ext cx="8466120" cy="49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lvl="4" marL="76212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Calibri"/>
              </a:rPr>
              <a:t> 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762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504d"/>
                </a:solidFill>
                <a:latin typeface="Arial"/>
                <a:ea typeface="Arial"/>
              </a:rPr>
              <a:t>WIR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8000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008000"/>
                </a:solidFill>
                <a:latin typeface="Arial"/>
                <a:ea typeface="Arial"/>
              </a:rPr>
              <a:t>WORKABLE RANG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0000ff"/>
                </a:solidFill>
                <a:latin typeface="Arial"/>
                <a:ea typeface="Arial"/>
              </a:rPr>
              <a:t>TIRED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7" name="PlaceHolder 1"/>
          <p:cNvSpPr>
            <a:spLocks noGrp="1"/>
          </p:cNvSpPr>
          <p:nvPr>
            <p:ph type="title"/>
          </p:nvPr>
        </p:nvSpPr>
        <p:spPr>
          <a:xfrm>
            <a:off x="71280" y="43920"/>
            <a:ext cx="8964720" cy="1143000"/>
          </a:xfrm>
          <a:prstGeom prst="rect">
            <a:avLst/>
          </a:prstGeom>
          <a:solidFill>
            <a:srgbClr val="4bacc6"/>
          </a:solidFill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nworkable dysreg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8" name="Straight Connector 4"/>
          <p:cNvSpPr/>
          <p:nvPr/>
        </p:nvSpPr>
        <p:spPr>
          <a:xfrm>
            <a:off x="324000" y="2781360"/>
            <a:ext cx="8424720" cy="934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Straight Connector 5"/>
          <p:cNvSpPr/>
          <p:nvPr/>
        </p:nvSpPr>
        <p:spPr>
          <a:xfrm flipV="1">
            <a:off x="539640" y="4292640"/>
            <a:ext cx="8209080" cy="9367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0" name="Picture 34" descr="LeedsUniWhite"/>
          <p:cNvPicPr/>
          <p:nvPr/>
        </p:nvPicPr>
        <p:blipFill>
          <a:blip r:embed="rId1"/>
          <a:stretch/>
        </p:blipFill>
        <p:spPr>
          <a:xfrm>
            <a:off x="6662880" y="436680"/>
            <a:ext cx="2274840" cy="64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05T06:45:17Z</dcterms:created>
  <dc:creator>Sally Rose</dc:creator>
  <dc:description/>
  <dc:language>en-US</dc:language>
  <cp:lastModifiedBy>Jasmine Hinton</cp:lastModifiedBy>
  <cp:lastPrinted>2015-06-23T12:20:46Z</cp:lastPrinted>
  <dcterms:modified xsi:type="dcterms:W3CDTF">2015-06-29T07:42:28Z</dcterms:modified>
  <cp:revision>143</cp:revision>
  <dc:subject/>
  <dc:title>Working with stress and change</dc:title>
</cp:coreProperties>
</file>