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BCCF-0FD0-491F-872E-FC65E971C5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4C02-B49C-4055-AAF4-29A31D502C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E98D-294B-456B-988C-3C2E0D68CA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8760" cy="52372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8807-F4CA-4ACB-9252-D5B9EE9E597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FF5B-1C7C-452A-B068-DBCD2E6DCB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6601-6C66-462D-8351-D7214A470D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ABEA-83A2-4CD7-9707-24DD731B3E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1D77-C1BD-4585-A194-1EA932E61A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D4F9-2E90-4E25-9E66-83059C2C0E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44E8-54CA-4E16-8D80-8C49F933A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1BAB-17FC-4BFB-B946-1F4D7B4E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BC16E5-04F2-4BE6-94F9-0F02C99F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77E857-BC1D-4F8F-8B8B-4FD88C79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2C53E1-3089-4FF2-8943-F003AB34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6B5852-4117-4789-B78E-E6BB3E44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97DDAC-6183-47DE-B589-9ECDB563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A01FEB-9A5F-4EF8-A566-2D621415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CF105-E7D6-4A76-88A3-26A7B263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46200E-0C90-47DA-9A14-1306E919D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FE83B6-4AF9-4410-AE51-F7AFB6DCB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5610B0-729B-4BEC-A137-857184158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3F1E-5605-4B93-BAD3-C6657AA79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D3E9CC-FF7C-45FD-B9D3-C9C37A73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66272F-2B97-4B7E-87D5-8EBF0866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942717-3FF6-475C-9149-6096C731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3E0E1A-E55F-4D9C-B0E4-7D148977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AE949B-7CAD-4A1B-83B3-76A2BE1A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79DFA2-111F-4B73-8152-24D049C0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C6B0CE-7EE7-42F6-92AE-3DA08429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D74ADA-F33F-44A3-B703-ED219451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5B0FEB-5C31-4ADF-B60D-1329CE86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FEBB1C-4558-48E7-AAA3-49A35D613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E7E3-5796-4220-9CDE-60E1F5ABE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B900AA-A549-44EA-9BCA-82132332C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84310-F1CB-4A68-800A-259D0AC74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91BCE-1991-45CE-A5A8-716AAB3F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FEDDD4-8C1C-44A9-9ED1-171824BE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6F429-42CC-4739-A24C-2011195A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2A91AE-4A98-4989-A327-9335A91D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3AE5F3-1D3D-42B7-AD38-E3CFF9FC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19111C-4F03-41AC-8DD5-FE5B7775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66B31A-06D1-4B89-A492-6C427BC4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4A373-C8AF-4693-BD68-B8E65DE4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89B78-F80C-4492-B1DA-A3A6405E6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AA36E2-770C-4546-B83A-54A57082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05CEB-8825-4892-B8BD-9B98D0941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891AE-4ED1-465E-BF84-BF75458D6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49DE35-D78C-4E79-96FD-530BBBC07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FEC36F-EB59-459D-AB54-956B5868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A055EB-656E-4639-95F2-5877C5F7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D97AA2-FCA7-4263-B8D8-60541BD1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105B42-8B83-4B1D-988C-8337194D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3A2575-07FD-4BA8-9629-C3B93368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F33BDC-97A8-471A-B3B7-8F7FB72E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078E-C314-4A16-A61E-E1F90079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A9E6AB-7D5A-4251-80A3-50893F11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2FB74E-A286-429D-9496-496D51D7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77B575-3406-413E-BECA-EC6AEA94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3E70A1-7A86-4B4F-8608-B279EA139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00FDE6-8731-49ED-BCCA-B2349FBF2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92BC-CE7F-4BBA-9E0D-AE45AD08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6237-A73D-4254-8531-D6182F10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D1D39-52AD-433D-9094-26CE5DD3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7C39-92A5-4DDB-9DAA-967A5B81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665C-BFBF-467F-8080-F5158B95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42A6-386F-4243-B51A-53FBD61D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DFAF-B6CA-4461-B00F-72CAE901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6985-4F59-4BAE-86B0-2D145F90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E3E5-DC11-4FEC-B8BC-281CF827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7910C-DB77-4F18-B2DB-0D88D5160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D1A5-D531-4E93-8722-45DC401F6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3EEF1-880D-4294-B021-E5420B979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5FA9E-5303-4DC9-B902-FB3A61A3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6F297-5081-42B8-9ECE-90FF3421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B44A7-EBE0-4AA9-986D-68386D6C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A1E74-8A8F-47D6-B211-398F5AE4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C1DE-8686-40C5-BF2D-A05CC45D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6F294-2C69-40C4-AAA4-9A52574E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AEFC0-6D8E-4014-85F2-8956D60B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391F0-37E6-45AC-A802-057D64D8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22889-A9C9-4A1E-BBC6-7ED69924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2587D-80EF-4F4F-B397-FA9A283D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5CFA3-C6E4-4A92-9344-2CDB4F868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E691B-81AC-4B50-AF23-D308CB7F7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BE084-DDC4-4AD6-B898-3852E9DE1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04108-9EC0-4A0F-9A2C-0FEE451B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CF4C2-BC5B-499D-9CA3-80DF0DF8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7327-0A78-47DA-846C-A389DD57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D0C24-4158-418E-B703-8AFC83D3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1AEA2-775C-4485-B4A8-4F992BF8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10081-DAB8-4B99-B24B-4AEFF0F4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E1818-93D0-4186-A32F-6BF09648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D08B5-594A-49C3-A301-E6569A94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598BA-4354-4322-A1A3-7FC2AE0D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391C8-A0BD-4ED8-AB20-10907C29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93A41-3649-4458-955C-56016947E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DAE9B-8A25-44AA-9727-3E308A9B8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BF8EF-8C0B-4FC9-B9FA-F0534EE8E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D1FF-BB55-4365-995E-8EBFFE19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33D59-274A-4758-9DB4-A50827AE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F26A0-D4FF-475C-A3B5-180CFC56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9AFAE-CB4C-45A1-81EB-319E1C35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280E3-1044-480C-B7D6-13FBCEA6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A9898-70CE-4BC7-A1BF-D7F2B219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E4EAC-3984-407B-BF7D-7A9EC12E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E45F3-052B-474D-A4BA-59DB4B33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83A28-42D6-4379-8871-FE823DAF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29124-77D0-4315-9F03-99F155F9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00B90-C651-4AFE-A65F-7EE1C67EF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3337-994D-40AE-B2D0-B1197501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1A2D6-0FDE-48FE-9162-98B3AB156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26B1F-DC28-4333-945E-522D2EC6D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5C5A0-F2B9-482E-8AFD-7D893EED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5E844-E94A-434C-B41E-076993BA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1705A-BAEA-49F9-956E-18003A05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B87D2-101C-4069-B9EF-72271CA2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AA287-715C-40DD-AF35-D36EFF2F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AD021-1723-46C8-A362-07BB9B64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78FB2-EAFF-41B8-AF1E-E5E23CD8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8E386-BDAF-406D-95CF-F7F993B2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F842-9520-42EF-A5C8-FEC20E51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C8055-18F8-46D2-8544-DD49A2EA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3F958-3998-40E6-892F-504BE80D3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7908E-A76A-4D87-9813-FD9D7C1DA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36AB9-09A6-410E-87E6-2068796B3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CB8D1-8596-462B-BC4C-4927E540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71835-8199-47C5-832F-8EC33F70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007CE-6D51-4B53-AE09-95BDFE85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69591-BA10-4D59-A96B-B4322050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C70A2-990F-4906-B81B-DE57E8C5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8A563-3D73-4035-B871-614D4912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3C96-5188-4245-8003-527A33C8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A8BCC-96AE-4A6B-90C5-1B6C09DA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A5DBB-FCBE-4EA6-9D7F-3EFB2BEE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2221A-1CC6-4494-B665-84B670EA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EC9F2-ED5F-4CBA-97C1-0165BAFA8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3C868-4B40-41C6-B8D1-1B71335E0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773CC-8FB9-49F8-A38E-E114C4A76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92F4A-E016-4C48-88DD-73046CB2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D0DDB-531E-46F4-8F37-AE44B373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FFBED-3CA4-4C3E-BC66-7DD6D6AD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0B0F0-6F04-44A8-BD2B-C7272DBC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BDBB-7FA1-42D2-89CD-E3403406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8DB61-7DF4-49A7-8EF1-62A80C82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41AC6-B859-4A80-979E-D8AE5E10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CAB29-67F6-42A8-91E5-A18C9603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D8D2F-D13A-4C3B-9208-97D6A9CE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A0E34-7E1E-404E-8090-317AC6CF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7BDBE-43EA-4B83-9841-84D43B199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087C6-2C03-4BFF-AE47-01DBC5202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61D7BE-4257-4654-A883-E6853BF1C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74B365-9FB9-424E-B398-A2218223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B3367-5B3E-4BF7-8727-B9A19EF5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ciencecouncil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D8C4-BA63-4F8D-B263-1062B76E8F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" descr="sciencecouncil_logo_rgb.jpg"/>
          <p:cNvPicPr/>
          <p:nvPr/>
        </p:nvPicPr>
        <p:blipFill>
          <a:blip r:embed="rId3"/>
          <a:stretch/>
        </p:blipFill>
        <p:spPr>
          <a:xfrm>
            <a:off x="7596360" y="5661000"/>
            <a:ext cx="1225440" cy="1165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1" descr="sciencecouncil_logo_rgb.jpg"/>
          <p:cNvPicPr/>
          <p:nvPr/>
        </p:nvPicPr>
        <p:blipFill>
          <a:blip r:embed="rId3"/>
          <a:stretch/>
        </p:blipFill>
        <p:spPr>
          <a:xfrm>
            <a:off x="7596360" y="5661000"/>
            <a:ext cx="1225440" cy="116532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ciencecouncil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C9AF-C6A6-4863-AC79-A809AEADB725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1" descr="sciencecouncil_logo_rgb.jpg"/>
          <p:cNvPicPr/>
          <p:nvPr/>
        </p:nvPicPr>
        <p:blipFill>
          <a:blip r:embed="rId3"/>
          <a:stretch/>
        </p:blipFill>
        <p:spPr>
          <a:xfrm>
            <a:off x="7596360" y="5661000"/>
            <a:ext cx="1225440" cy="116532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ciencecouncil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27D3-3AE1-4BBA-8C20-A59BE24F73DD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1" descr="sciencecouncil_logo_rgb.jpg"/>
          <p:cNvPicPr/>
          <p:nvPr/>
        </p:nvPicPr>
        <p:blipFill>
          <a:blip r:embed="rId3"/>
          <a:stretch/>
        </p:blipFill>
        <p:spPr>
          <a:xfrm>
            <a:off x="7596360" y="5661000"/>
            <a:ext cx="1225440" cy="116532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ciencecouncil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9C57-1029-4A5D-9214-4F74663FEB49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sciencecouncil_logo_rgb.jpg"/>
          <p:cNvPicPr/>
          <p:nvPr/>
        </p:nvPicPr>
        <p:blipFill>
          <a:blip r:embed="rId3"/>
          <a:stretch/>
        </p:blipFill>
        <p:spPr>
          <a:xfrm>
            <a:off x="7596360" y="5661000"/>
            <a:ext cx="1225440" cy="1165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ciencecouncil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F028-9C86-4DB9-8BBF-4ABE212CD36D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sciencecouncil_logo_rgb.jpg"/>
          <p:cNvPicPr/>
          <p:nvPr/>
        </p:nvPicPr>
        <p:blipFill>
          <a:blip r:embed="rId3"/>
          <a:stretch/>
        </p:blipFill>
        <p:spPr>
          <a:xfrm>
            <a:off x="7596360" y="5661000"/>
            <a:ext cx="1225440" cy="1165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ciencecouncil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7E94-CE5A-43D3-AB9C-E86D985F4684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sciencecouncil_logo_rgb.jpg"/>
          <p:cNvPicPr/>
          <p:nvPr/>
        </p:nvPicPr>
        <p:blipFill>
          <a:blip r:embed="rId3"/>
          <a:stretch/>
        </p:blipFill>
        <p:spPr>
          <a:xfrm>
            <a:off x="7596360" y="5661000"/>
            <a:ext cx="1225440" cy="1165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ciencecouncil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F7E81-3163-4157-8737-8707247B5CA6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" descr="sciencecouncil_logo_rgb.jpg"/>
          <p:cNvPicPr/>
          <p:nvPr/>
        </p:nvPicPr>
        <p:blipFill>
          <a:blip r:embed="rId3"/>
          <a:stretch/>
        </p:blipFill>
        <p:spPr>
          <a:xfrm>
            <a:off x="7596360" y="5661000"/>
            <a:ext cx="1225440" cy="1165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ciencecouncil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02E3-E6C5-43FB-B99D-6B8DBC8F591A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" descr="sciencecouncil_logo_rgb.jpg"/>
          <p:cNvPicPr/>
          <p:nvPr/>
        </p:nvPicPr>
        <p:blipFill>
          <a:blip r:embed="rId3"/>
          <a:stretch/>
        </p:blipFill>
        <p:spPr>
          <a:xfrm>
            <a:off x="7596360" y="5661000"/>
            <a:ext cx="1225440" cy="11653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ciencecouncil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00FC-536D-412E-9C1D-532489CEF86E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1" descr="sciencecouncil_logo_rgb.jpg"/>
          <p:cNvPicPr/>
          <p:nvPr/>
        </p:nvPicPr>
        <p:blipFill>
          <a:blip r:embed="rId3"/>
          <a:stretch/>
        </p:blipFill>
        <p:spPr>
          <a:xfrm>
            <a:off x="7596360" y="5661000"/>
            <a:ext cx="1225440" cy="116532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ciencecouncil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5CC8-E373-4817-AD7E-CDFF8547003F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1" descr="sciencecouncil_logo_rgb.jpg"/>
          <p:cNvPicPr/>
          <p:nvPr/>
        </p:nvPicPr>
        <p:blipFill>
          <a:blip r:embed="rId3"/>
          <a:stretch/>
        </p:blipFill>
        <p:spPr>
          <a:xfrm>
            <a:off x="7596360" y="5661000"/>
            <a:ext cx="1225440" cy="116532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ciencecouncil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CB96-C4BA-4C29-BD8F-7C1F7A31B476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1" descr="sciencecouncil_logo_rgb.jpg"/>
          <p:cNvPicPr/>
          <p:nvPr/>
        </p:nvPicPr>
        <p:blipFill>
          <a:blip r:embed="rId3"/>
          <a:stretch/>
        </p:blipFill>
        <p:spPr>
          <a:xfrm>
            <a:off x="7596360" y="5661000"/>
            <a:ext cx="1225440" cy="11653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www.sciencecouncil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C284-F447-4CDD-B28A-1D4956C917A4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94920" y="476280"/>
            <a:ext cx="83739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Professional registrati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ith the Science Counci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E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6 November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Date Placeholder 3"/>
          <p:cNvSpPr/>
          <p:nvPr/>
        </p:nvSpPr>
        <p:spPr>
          <a:xfrm>
            <a:off x="457200" y="6356520"/>
            <a:ext cx="2298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85ea9"/>
                </a:solidFill>
                <a:latin typeface="Arial"/>
                <a:ea typeface="MS PGothic"/>
              </a:rPr>
              <a:t>www.sciencecouncil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9" descr="C:\Users\alisdair\AppData\Local\Microsoft\Windows\Temporary Internet Files\Content.Outlook\VJ8RXARR\RSciTech_logo_boxRGB.jpg"/>
          <p:cNvPicPr/>
          <p:nvPr/>
        </p:nvPicPr>
        <p:blipFill>
          <a:blip r:embed="rId1"/>
          <a:stretch/>
        </p:blipFill>
        <p:spPr>
          <a:xfrm>
            <a:off x="1403280" y="2708280"/>
            <a:ext cx="1441440" cy="7207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2" descr="C:\Users\alisdair\AppData\Local\Microsoft\Windows\Temporary Internet Files\Content.Outlook\VJ8RXARR\RSci_logo_boxRGB.jpg"/>
          <p:cNvPicPr/>
          <p:nvPr/>
        </p:nvPicPr>
        <p:blipFill>
          <a:blip r:embed="rId2"/>
          <a:stretch/>
        </p:blipFill>
        <p:spPr>
          <a:xfrm>
            <a:off x="3780000" y="2689200"/>
            <a:ext cx="1441440" cy="7207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3" descr="W:\New Registers\marketing\FINAL Sci logos\RGB for screen and Word\CSci_logo_boxRGB.jpg"/>
          <p:cNvPicPr/>
          <p:nvPr/>
        </p:nvPicPr>
        <p:blipFill>
          <a:blip r:embed="rId3"/>
          <a:stretch/>
        </p:blipFill>
        <p:spPr>
          <a:xfrm>
            <a:off x="6300720" y="2689200"/>
            <a:ext cx="1438200" cy="719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Application ti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at, How and Wh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e are looking for wha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you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have d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examples from recent exper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you answered the ques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ad through your 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Arial"/>
              </a:rPr>
              <a:t>www.sciencecouncil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9" descr="C:\Users\alisdair\AppData\Local\Microsoft\Windows\Temporary Internet Files\Content.Outlook\VJ8RXARR\RSciTech_logo_boxRGB.jpg"/>
          <p:cNvPicPr/>
          <p:nvPr/>
        </p:nvPicPr>
        <p:blipFill>
          <a:blip r:embed="rId2"/>
          <a:stretch/>
        </p:blipFill>
        <p:spPr>
          <a:xfrm>
            <a:off x="468360" y="476280"/>
            <a:ext cx="1441440" cy="7207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2" descr="C:\Users\alisdair\AppData\Local\Microsoft\Windows\Temporary Internet Files\Content.Outlook\VJ8RXARR\RSci_logo_boxRGB.jpg"/>
          <p:cNvPicPr/>
          <p:nvPr/>
        </p:nvPicPr>
        <p:blipFill>
          <a:blip r:embed="rId3"/>
          <a:stretch/>
        </p:blipFill>
        <p:spPr>
          <a:xfrm>
            <a:off x="7236000" y="476280"/>
            <a:ext cx="1441440" cy="720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040" y="260280"/>
            <a:ext cx="74739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oday’s presentation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914040" y="1773000"/>
            <a:ext cx="7402680" cy="39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Overview of registr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Group session to consider the competencies and how you can meet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Date Placeholder 3"/>
          <p:cNvSpPr/>
          <p:nvPr/>
        </p:nvSpPr>
        <p:spPr>
          <a:xfrm>
            <a:off x="687240" y="6165720"/>
            <a:ext cx="258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85ea9"/>
                </a:solidFill>
                <a:latin typeface="Arial"/>
                <a:ea typeface="MS PGothic"/>
              </a:rPr>
              <a:t>www.sciencecouncil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73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Calibri"/>
              </a:rPr>
              <a:t>Professional body membership </a:t>
            </a:r>
            <a:br>
              <a:rPr sz="2900"/>
            </a:br>
            <a:r>
              <a:rPr b="1" lang="en-US" sz="2900" spc="-1" strike="noStrike" u="sng">
                <a:solidFill>
                  <a:srgbClr val="000000"/>
                </a:solidFill>
                <a:uFillTx/>
                <a:latin typeface="Calibri"/>
              </a:rPr>
              <a:t>and registrat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95280" y="1773000"/>
            <a:ext cx="8353440" cy="39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oin a professional body relevant to you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eck the application form for a full li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pply for Science Council registration at one of three levels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echnician (</a:t>
            </a:r>
            <a:r>
              <a:rPr b="0" lang="en-US" sz="2600" spc="-1" strike="noStrike">
                <a:solidFill>
                  <a:srgbClr val="4597a0"/>
                </a:solidFill>
                <a:latin typeface="Calibri"/>
              </a:rPr>
              <a:t>RSciTec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cientist (</a:t>
            </a:r>
            <a:r>
              <a:rPr b="0" lang="en-US" sz="2600" spc="-1" strike="noStrike">
                <a:solidFill>
                  <a:srgbClr val="7030a0"/>
                </a:solidFill>
                <a:latin typeface="Calibri"/>
              </a:rPr>
              <a:t>RSc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artered (</a:t>
            </a:r>
            <a:r>
              <a:rPr b="0" lang="en-US" sz="2600" spc="-1" strike="noStrike">
                <a:solidFill>
                  <a:srgbClr val="0033cc"/>
                </a:solidFill>
                <a:latin typeface="Calibri"/>
              </a:rPr>
              <a:t>CSc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Date Placeholder 3"/>
          <p:cNvSpPr/>
          <p:nvPr/>
        </p:nvSpPr>
        <p:spPr>
          <a:xfrm>
            <a:off x="646200" y="6159600"/>
            <a:ext cx="2589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85ea9"/>
                </a:solidFill>
                <a:latin typeface="Arial"/>
                <a:ea typeface="MS PGothic"/>
              </a:rPr>
              <a:t>www.sciencecouncil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400" y="333360"/>
            <a:ext cx="73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 u="sng">
                <a:solidFill>
                  <a:srgbClr val="000000"/>
                </a:solidFill>
                <a:uFillTx/>
                <a:latin typeface="Calibri"/>
              </a:rPr>
              <a:t>Professional pathways</a:t>
            </a:r>
            <a:br>
              <a:rPr sz="2900"/>
            </a:br>
            <a:r>
              <a:rPr b="1" lang="en-GB" sz="2900" spc="-1" strike="noStrike" u="sng">
                <a:solidFill>
                  <a:srgbClr val="000000"/>
                </a:solidFill>
                <a:uFillTx/>
                <a:latin typeface="Calibri"/>
              </a:rPr>
              <a:t>through registrat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2"/>
          <p:cNvSpPr/>
          <p:nvPr/>
        </p:nvSpPr>
        <p:spPr>
          <a:xfrm>
            <a:off x="395280" y="3932280"/>
            <a:ext cx="81374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PGothic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PGothic"/>
              </a:rPr>
              <a:t>QCF level 3/4                  QCF level 5 / 6                 QCF level 7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PGothic"/>
              </a:rPr>
              <a:t> 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MS PGothic"/>
              </a:rPr>
              <a:t>BTEC, NVQ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NC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MS PGothic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ND, FdSc, BSc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           MSc, Ph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9" descr="C:\Users\alisdair\AppData\Local\Microsoft\Windows\Temporary Internet Files\Content.Outlook\VJ8RXARR\RSciTech_logo_boxRGB.jpg"/>
          <p:cNvPicPr/>
          <p:nvPr/>
        </p:nvPicPr>
        <p:blipFill>
          <a:blip r:embed="rId1"/>
          <a:stretch/>
        </p:blipFill>
        <p:spPr>
          <a:xfrm>
            <a:off x="611280" y="2349360"/>
            <a:ext cx="2305080" cy="11527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12" descr="C:\Users\alisdair\AppData\Local\Microsoft\Windows\Temporary Internet Files\Content.Outlook\VJ8RXARR\RSci_logo_boxRGB.jpg"/>
          <p:cNvPicPr/>
          <p:nvPr/>
        </p:nvPicPr>
        <p:blipFill>
          <a:blip r:embed="rId2"/>
          <a:stretch/>
        </p:blipFill>
        <p:spPr>
          <a:xfrm>
            <a:off x="3419640" y="2349360"/>
            <a:ext cx="2304720" cy="11527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3" descr="W:\New Registers\marketing\FINAL Sci logos\RGB for screen and Word\CSci_logo_boxRGB.jpg"/>
          <p:cNvPicPr/>
          <p:nvPr/>
        </p:nvPicPr>
        <p:blipFill>
          <a:blip r:embed="rId3"/>
          <a:stretch/>
        </p:blipFill>
        <p:spPr>
          <a:xfrm>
            <a:off x="6227640" y="2349360"/>
            <a:ext cx="2324160" cy="1162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73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ow to app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94920" y="1484280"/>
            <a:ext cx="8497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RSciTech and RSci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ommon application proces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lows you to apply for membership and registration in one g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ou can submit to the Science Council, indicating which professional body you want to jo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oose between written and face-to-face assess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Sci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ou will first need to become a member and then submit your application for chartered stat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pplication directly to the professional bod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Date Placeholder 3"/>
          <p:cNvSpPr/>
          <p:nvPr/>
        </p:nvSpPr>
        <p:spPr>
          <a:xfrm>
            <a:off x="687240" y="6165720"/>
            <a:ext cx="258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85ea9"/>
                </a:solidFill>
                <a:latin typeface="Arial"/>
                <a:ea typeface="MS PGothic"/>
              </a:rPr>
              <a:t>www.sciencecouncil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14040" y="260280"/>
            <a:ext cx="72579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hy registration’s good for you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395280" y="1557360"/>
            <a:ext cx="842472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Recognition for what you already know and d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Demonstrate you maintain the knowledge and competence developed over ti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Demonstrate your professionalism to colleagues and to the wider worl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Recognition beyond your workplace and professional bod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Be part of a growing community of scientists across all sec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Date Placeholder 3"/>
          <p:cNvSpPr/>
          <p:nvPr/>
        </p:nvSpPr>
        <p:spPr>
          <a:xfrm>
            <a:off x="687240" y="6165720"/>
            <a:ext cx="258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85ea9"/>
                </a:solidFill>
                <a:latin typeface="Arial"/>
                <a:ea typeface="MS PGothic"/>
              </a:rPr>
              <a:t>www.sciencecouncil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…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nd also good for your compa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Demonstrates quality and competence of staff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positive demonstration of their support for your career develop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benchmark across departments, sectors and ro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Date Placeholder 3"/>
          <p:cNvSpPr/>
          <p:nvPr/>
        </p:nvSpPr>
        <p:spPr>
          <a:xfrm>
            <a:off x="457200" y="6356520"/>
            <a:ext cx="2243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85ea9"/>
                </a:solidFill>
                <a:latin typeface="Arial"/>
                <a:ea typeface="MS PGothic"/>
              </a:rPr>
              <a:t>www.sciencecouncil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How the registers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amework of professional recognition, development and progr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mpetence in 5 key are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: Applica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knowledge and understa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: Personal respons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: Interpersonal ski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: Professional pract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: Professional standa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ngoing commitment to professional development and conduc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Arial"/>
              </a:rPr>
              <a:t>www.sciencecouncil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Registered Scientists and Technicians are everywher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611280" y="1773360"/>
            <a:ext cx="4032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Astra Zenec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Babcock Internation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Castro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Dst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EDF Energ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FER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GSK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HP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Johnson &amp; Johns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Kraf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LGC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Date Placeholder 3"/>
          <p:cNvSpPr/>
          <p:nvPr/>
        </p:nvSpPr>
        <p:spPr>
          <a:xfrm>
            <a:off x="457200" y="6356520"/>
            <a:ext cx="2243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85ea9"/>
                </a:solidFill>
                <a:latin typeface="Arial"/>
                <a:ea typeface="MS PGothic"/>
              </a:rPr>
              <a:t>www.sciencecouncil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Content Placeholder 2"/>
          <p:cNvSpPr/>
          <p:nvPr/>
        </p:nvSpPr>
        <p:spPr>
          <a:xfrm>
            <a:off x="4643280" y="1700280"/>
            <a:ext cx="403416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  <a:ea typeface="MS PGothic"/>
              </a:rPr>
              <a:t>Marks &amp; Spenc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  <a:ea typeface="MS PGothic"/>
              </a:rPr>
              <a:t>Nik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  <a:ea typeface="MS PGothic"/>
              </a:rPr>
              <a:t>Open Universi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  <a:ea typeface="MS PGothic"/>
              </a:rPr>
              <a:t>Q Chi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  <a:ea typeface="MS PGothic"/>
              </a:rPr>
              <a:t>Rolls Roy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  <a:ea typeface="MS PGothic"/>
              </a:rPr>
              <a:t>Sheffield Universi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  <a:ea typeface="MS PGothic"/>
              </a:rPr>
              <a:t>Thames Wat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  <a:ea typeface="MS PGothic"/>
              </a:rPr>
              <a:t>Unilev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  <a:ea typeface="MS PGothic"/>
              </a:rPr>
              <a:t>Veol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  <a:ea typeface="MS PGothic"/>
              </a:rPr>
              <a:t>Welsh Wat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14:06:38Z</dcterms:created>
  <dc:creator>kxm</dc:creator>
  <dc:description/>
  <dc:language>en-US</dc:language>
  <cp:lastModifiedBy>Jasmine Hinton</cp:lastModifiedBy>
  <cp:lastPrinted>2014-11-03T10:08:52Z</cp:lastPrinted>
  <dcterms:modified xsi:type="dcterms:W3CDTF">2014-12-18T11:09:02Z</dcterms:modified>
  <cp:revision>177</cp:revision>
  <dc:subject/>
  <dc:title>From Excellence in Education to  Excellence in Practice: the skills base for effective applied research</dc:title>
</cp:coreProperties>
</file>