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DC446-D13A-4442-82DB-0ADD32AC87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47ED8-058F-4DD1-9120-E0F2901EF81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DEC2E-416F-4D41-BF9A-71557ACD738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4C74C-6D76-4DD8-8C78-BD04713BBCF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B6B5E-020D-415D-B1AD-AE2D6E2D091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FF1FB-D406-432C-B07A-8F601C65D4A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FE0-6B34-492B-84DE-C4622D3E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D07-E64D-4D23-9560-C6E54D2B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D82-0BD6-4083-9C62-E4B29B1C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7CD-E597-4774-9B66-389597CA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B7C-61DE-4CFD-91A4-5412B5F4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D09-D5F0-4013-9BDF-B0BF7948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287-433E-49C5-87A4-1B24D604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7F4-33C3-44C7-A54D-8E42C5C3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774-6708-44A1-809B-A19AE19C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90D-4FF6-4D61-8C82-37E0081E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13E-AC70-47D8-9BFF-FFDE58F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D9A-CFA3-4392-91F8-AC47B76D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3BB67-7DE9-4A75-A9AF-85770F09F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2894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lide.jpg"/>
          <p:cNvPicPr/>
          <p:nvPr/>
        </p:nvPicPr>
        <p:blipFill>
          <a:blip r:embed="rId2"/>
          <a:srcRect l="0" t="66367" r="63783" b="0"/>
          <a:stretch/>
        </p:blipFill>
        <p:spPr>
          <a:xfrm>
            <a:off x="-357120" y="4530600"/>
            <a:ext cx="3311280" cy="2306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0" y="33685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mpetency Assessment Toolkit for Technical Staf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CATT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076400" y="2054160"/>
            <a:ext cx="806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olkit addresses 5 key competency areas as modu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essional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tudent Exper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lanning and organising resour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overnance and compliance (incl.H&amp;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ithin each module there are 5 levels of competency for the reviewee to be matched agains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ar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eriment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tio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e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101600" y="137808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CAT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1101600" y="1378080"/>
            <a:ext cx="59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CATTS –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076400" y="2054160"/>
            <a:ext cx="8067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2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viewer and reviewee agree date for revie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792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viewee assesses him/herself against the competencies and levels against the appropriate modules for the po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792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veiwee completes form and sends to review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792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viewer adds comments to 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792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view takes pl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792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on plan agreed - learning needs capt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7920" indent="-7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n on-going process means that the plan needs to be regularly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1076400" y="2054160"/>
            <a:ext cx="806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1101600" y="41436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al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rcRect l="22782" t="29126" r="22976" b="13576"/>
          <a:stretch/>
        </p:blipFill>
        <p:spPr>
          <a:xfrm>
            <a:off x="155520" y="1380960"/>
            <a:ext cx="88884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1076400" y="2054160"/>
            <a:ext cx="8067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odule: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he Student Experi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petency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and advice about procedures for using equipment/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oring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atrix approa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need to be consistent across a leve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your final score will be at the lowest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dentifies development needs as you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bably have some higher scores in some area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nd lower scores in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01600" y="137808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al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076400" y="1571760"/>
            <a:ext cx="8067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viewe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 HEaTED framework please rate yourself from levels 1 - 5 for the Student Experience module competence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and advice about procedures for using equipment/ resour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 choices from Learner – Expert lis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lease add comments and evidence on how you came to make this judg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view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lease add your score and make notes based on your decision in the comments box belo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 choices from Learner – Expert lis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1101600" y="1046160"/>
            <a:ext cx="63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al Example – Record she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136520" y="1406520"/>
            <a:ext cx="7928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The coming months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1063800" y="1351080"/>
            <a:ext cx="7304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coming months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1025640" y="2313000"/>
            <a:ext cx="798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ing awareness via the regional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ing for pilot sites / volunteers to evaluate the toolk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ale for £250 from Dec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at HEaTED Con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204920" y="512640"/>
            <a:ext cx="7991640" cy="45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Contact us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aTED Central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min@heated.ac.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1904 32817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 Rachel Crossl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aTED Programme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.crossley@slcs.ac.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l: 07772 3415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560600" y="519120"/>
            <a:ext cx="6099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orking to be the lead organisation supporting professional development of the technical workfor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579680" y="1646280"/>
            <a:ext cx="676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 Black"/>
              </a:rPr>
              <a:t>Setting the scen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1076400" y="2087640"/>
            <a:ext cx="806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ceived many requests for help with organisational and individual performance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 response to these requests, and a wider UK need, we have developed a new resource exclusively for HEaTED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101600" y="139536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076400" y="2054160"/>
            <a:ext cx="806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TTS has been designed to change the way that the professional technicians in HE (and FE) explore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provides a benchmark for all professionals (regardless of specialism or discipline) of their current competencies, development areas, and future dire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101600" y="139536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076400" y="2087640"/>
            <a:ext cx="8067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align HE with the national technical skills agenda (http://www.professional-technician.org.uk/) and support the Professional Registration programme for science, engineering and ICT technicians (http://www.professional-technician.org.uk/technicians_links.ph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provide an overarching set of inclusive, quality, professional standards for all HE technical staff so that all professional and specialist disciplines can be recognis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101600" y="139536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 of CAT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076400" y="2054160"/>
            <a:ext cx="8067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ensure recognition of the crucial contribution made by technical staff towards the achievement of a high quality student experience by providing a HEaTED ‘kitemark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provide an evidence base and planning mechanism for technical staff within higher education to meet the changing and challenging nature of demands within the s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facilitate the mapping of technical skills as part of an integrated organisational workforce plan to meet institutional (and UK wide) business plan objectiv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101600" y="137808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 of CAT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1076400" y="2054160"/>
            <a:ext cx="8067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ource pack/Toolkit to help Managers assess current competency and plan for future demands and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t requires a shift in thinking from the traditional annual appraisal process to more of a continuous review process which aims to deliver excellence through an ongoing conversation around performance, capability and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1101600" y="137808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579680" y="1646280"/>
            <a:ext cx="676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 Black"/>
              </a:rPr>
              <a:t>How CATTS work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15:57:35Z</dcterms:created>
  <dc:creator>iMac 27</dc:creator>
  <dc:description/>
  <dc:language>en-US</dc:language>
  <cp:lastModifiedBy>Cindy Martin</cp:lastModifiedBy>
  <dcterms:modified xsi:type="dcterms:W3CDTF">2013-11-20T08:31:05Z</dcterms:modified>
  <cp:revision>332</cp:revision>
  <dc:subject/>
  <dc:title>PowerPoint Presentation</dc:title>
</cp:coreProperties>
</file>