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40880-9E8B-4941-A522-63D781EB95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04F9B-8D54-49FA-9075-2896955DA6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545C8-1E88-4413-9927-9B7DB492F2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B83F6-A55C-45DA-88BF-6025F41E19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heated.ac.uk/our-course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ndout to give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B4F0F-4F4B-456A-8781-F34FB7A5F3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3A5C5-3E77-4B1E-919B-72702A24DC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C208E-E0DD-42FF-BB8E-7BB8F05369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TED is a vehicle, we can sign post you to professional bodies, give you the tools to meet the competencies and have matched our courses to the Science and Engineering Council’s compet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heated.ac.uk/professional-registratio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201E5-DF55-466F-B8E7-B37EB1D676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9D6B8-2D8C-4408-B164-E2A4511F9F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4DACE-8568-4724-AE90-20F6F570E5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nationalstemcentre.org.uk/h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AA802-1190-4271-A4A0-09101215F9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1C093-5501-4E5B-9EA6-51F0092536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20B-6A4C-4578-A000-C82C4E31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B1B-DDD3-4398-BB17-9EF128F2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6A0-4BD9-47A3-BE12-3F32E2BE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664-4F25-475A-BC0D-C8A13910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14A-9E20-4D35-9107-42026C08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E7D-4C09-4119-8393-E5201836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00F-1AFC-49DF-BED0-21E72630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6C0-5FBD-4661-B9C3-DF21393B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AAB-D6A2-4AE2-B47C-7AEAE436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8D5-D667-4721-8ACB-F8E0BCC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716-A65E-4330-9AC5-9781CBF7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172-178F-42F8-9803-D4B86F0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5C758-16A5-4452-8F9F-BFD59CA3C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heated.ac.uk/our-course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s://www.heated.ac.uk/our-courses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eated.ac.uk/courses/use-and-maintenance-of-pipettors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heated.ac.uk/register-your-institution/" TargetMode="External"/><Relationship Id="rId3" Type="http://schemas.openxmlformats.org/officeDocument/2006/relationships/hyperlink" Target="https://www.heated.ac.uk/register-a-technici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nationalstemcentre.org.uk/heated" TargetMode="External"/><Relationship Id="rId4" Type="http://schemas.openxmlformats.org/officeDocument/2006/relationships/hyperlink" Target="http://www.nationalstemcentre.org.uk/heated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dmin@heated.ac.uk" TargetMode="External"/><Relationship Id="rId3" Type="http://schemas.openxmlformats.org/officeDocument/2006/relationships/hyperlink" Target="http://www.heated.ac.uk/new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lide.jpg"/>
          <p:cNvPicPr/>
          <p:nvPr/>
        </p:nvPicPr>
        <p:blipFill>
          <a:blip r:embed="rId1"/>
          <a:srcRect l="0" t="29711" r="0" b="31412"/>
          <a:stretch/>
        </p:blipFill>
        <p:spPr>
          <a:xfrm>
            <a:off x="0" y="650880"/>
            <a:ext cx="9144000" cy="2665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61800" y="3624120"/>
            <a:ext cx="84204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orth East Regional Network Ev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March 201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hanging Role of the Technician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lide.jpg"/>
          <p:cNvPicPr/>
          <p:nvPr/>
        </p:nvPicPr>
        <p:blipFill>
          <a:blip r:embed="rId2"/>
          <a:srcRect l="0" t="66367" r="63783" b="0"/>
          <a:stretch/>
        </p:blipFill>
        <p:spPr>
          <a:xfrm>
            <a:off x="-357120" y="4530600"/>
            <a:ext cx="33112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slide3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1063800" y="915840"/>
            <a:ext cx="7304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coming month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025640" y="1557360"/>
            <a:ext cx="798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membership to Science Parks and FE Colleges, pilot to be started April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support for Science Council, Engineering Council, and associated awarding bodies in promoting and supporting Professional Reg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 the way in supporting technical staff in The Arts: setting up a group which aims to support a National Network of Arts Technicians (NNA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slide3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1198440" y="1198440"/>
            <a:ext cx="7304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coming months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181160" y="1967040"/>
            <a:ext cx="7342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member HEIs to work out action plans ensuring we deliver value for money and benefits to all technical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course provision based on member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will be our focus for the next 10 m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560600" y="1135080"/>
            <a:ext cx="73454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ver to you..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unning HEaTED training events in your HEI / reg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slide3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093680" y="1638360"/>
            <a:ext cx="796464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 Lifting and Slinging Procedures                                        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cing and Maintaining Routine Optical Microscopes           New date coming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rasive Wheels (New provider for 2012-13!)                       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age of Dangerous Goods by Air Certification                   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ing &amp; Learning Skills for Technical Staff                             Edinburgh 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slide3.jpg"/>
          <p:cNvPicPr/>
          <p:nvPr/>
        </p:nvPicPr>
        <p:blipFill>
          <a:blip r:embed="rId2"/>
          <a:srcRect l="57295" t="3549" r="1665" b="74803"/>
          <a:stretch/>
        </p:blipFill>
        <p:spPr>
          <a:xfrm>
            <a:off x="5391000" y="71280"/>
            <a:ext cx="3753000" cy="1484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117440" y="581040"/>
            <a:ext cx="7621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urses arranged by                       HEaTED to run in your region in 20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>
            <a:hlinkClick r:id="rId3"/>
          </p:cNvPr>
          <p:cNvSpPr/>
          <p:nvPr/>
        </p:nvSpPr>
        <p:spPr>
          <a:xfrm>
            <a:off x="2830680" y="5884920"/>
            <a:ext cx="631332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Browse our full Course Direct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http://www.heated.ac.uk/our-courses/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slide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slide3.jpg"/>
          <p:cNvPicPr/>
          <p:nvPr/>
        </p:nvPicPr>
        <p:blipFill>
          <a:blip r:embed="rId2"/>
          <a:srcRect l="57295" t="3549" r="1665" b="74803"/>
          <a:stretch/>
        </p:blipFill>
        <p:spPr>
          <a:xfrm>
            <a:off x="5391000" y="7920"/>
            <a:ext cx="3753000" cy="1484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131840" y="846000"/>
            <a:ext cx="742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urse Brochur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df links on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cours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1131840" y="1492200"/>
            <a:ext cx="3100320" cy="311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5391000" y="1461960"/>
            <a:ext cx="3549960" cy="361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6"/>
          <a:stretch/>
        </p:blipFill>
        <p:spPr>
          <a:xfrm>
            <a:off x="3098880" y="2666880"/>
            <a:ext cx="32954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090440" y="600120"/>
            <a:ext cx="805356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urse brochures to identify potential courses for you / your HE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DOWN THE COURSE CODE &amp; TITLE </a:t>
            </a:r>
            <a:r>
              <a:rPr b="1" lang="en-US" sz="2000" spc="-1" strike="noStrike">
                <a:solidFill>
                  <a:srgbClr val="d99694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which on-demand courses you would like to see running in your Region  </a:t>
            </a:r>
            <a:r>
              <a:rPr b="1" lang="en-US" sz="2000" spc="-1" strike="noStrike">
                <a:solidFill>
                  <a:srgbClr val="d99694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Use and Maintenance of Pipet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asic maintenance/repair of electrical equip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AT Trai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suggestions / ideas?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wood bending and steaming; laser cutting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ll response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ourses could you deliver?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G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rain the Technical Trai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7035840" y="624852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HEaTEDtec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http://www.clickconsult.com/Internet-Marketing-Blog/wp-content/uploads/2011/01/twitter_newbird_boxed_blueonwhite.png"/>
          <p:cNvPicPr/>
          <p:nvPr/>
        </p:nvPicPr>
        <p:blipFill>
          <a:blip r:embed="rId2"/>
          <a:srcRect l="0" t="15205" r="0" b="8025"/>
          <a:stretch/>
        </p:blipFill>
        <p:spPr>
          <a:xfrm>
            <a:off x="6216480" y="6068880"/>
            <a:ext cx="1028880" cy="7891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1216080" y="1077840"/>
            <a:ext cx="71643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Calls to action…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your profile on the new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nd post in your Regional Onlin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spread the word in your HEI – posters,  email info, RNM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co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t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560600" y="324000"/>
            <a:ext cx="758340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tac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inda Robins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aTED North East Regional Network Coordina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rtheast@heated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aTED Central T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: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admin@heated.ac.u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: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01904 32817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@HEaTEDtech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http://www.clickconsult.com/Internet-Marketing-Blog/wp-content/uploads/2011/01/twitter_newbird_boxed_blueonwhite.png"/>
          <p:cNvPicPr/>
          <p:nvPr/>
        </p:nvPicPr>
        <p:blipFill>
          <a:blip r:embed="rId2"/>
          <a:stretch/>
        </p:blipFill>
        <p:spPr>
          <a:xfrm>
            <a:off x="1359000" y="4199040"/>
            <a:ext cx="968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077840" y="1484280"/>
            <a:ext cx="82393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r next           Regional Network Ev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7035840" y="624852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HEaTEDtec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http://www.clickconsult.com/Internet-Marketing-Blog/wp-content/uploads/2011/01/twitter_newbird_boxed_blueonwhite.png"/>
          <p:cNvPicPr/>
          <p:nvPr/>
        </p:nvPicPr>
        <p:blipFill>
          <a:blip r:embed="rId2"/>
          <a:srcRect l="0" t="15205" r="0" b="8025"/>
          <a:stretch/>
        </p:blipFill>
        <p:spPr>
          <a:xfrm>
            <a:off x="6216480" y="6068880"/>
            <a:ext cx="1028880" cy="789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1206360" y="1790640"/>
            <a:ext cx="768852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ics for discussion? The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ducts of the meet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n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076400" y="1309680"/>
            <a:ext cx="806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30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lcome and Intro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da Robin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ED North EST Regional Network 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40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aTED Up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 Katherine Forse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ED Course &amp; Regional Networks 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00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hanging Role of the Technic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an Moulson, Sheffield Un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.00p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nch and networ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035840" y="624852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HEaTEDtec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http://www.clickconsult.com/Internet-Marketing-Blog/wp-content/uploads/2011/01/twitter_newbird_boxed_blueonwhite.png"/>
          <p:cNvPicPr/>
          <p:nvPr/>
        </p:nvPicPr>
        <p:blipFill>
          <a:blip r:embed="rId2"/>
          <a:srcRect l="0" t="15205" r="0" b="8025"/>
          <a:stretch/>
        </p:blipFill>
        <p:spPr>
          <a:xfrm>
            <a:off x="6216480" y="6068880"/>
            <a:ext cx="1028880" cy="789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1101600" y="3729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16080" y="1406520"/>
            <a:ext cx="79279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upporting     Professional Regist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1141560" y="1552680"/>
            <a:ext cx="776448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nk of HEaTED as a vehicl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HEaTED courses are linked to competencies for Professional Registr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ional Network Events and contribution to the online communities demonstrate your commitment to professional development and contribution to the Technical Commun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HEaTED website will signpost routes to Professional Registr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TED’s quick guide should hel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www.sciencecouncil.org/themes/sciencecouncil/image.php/professional_registers_home.png?image=/sites/default/files/professional_registers_home.png&amp;width=700"/>
          <p:cNvPicPr/>
          <p:nvPr/>
        </p:nvPicPr>
        <p:blipFill>
          <a:blip r:embed="rId2"/>
          <a:srcRect l="0" t="0" r="9001" b="0"/>
          <a:stretch/>
        </p:blipFill>
        <p:spPr>
          <a:xfrm>
            <a:off x="6600960" y="5905440"/>
            <a:ext cx="2436840" cy="84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engc.org.uk/media/12796/engtech_small.jpg"/>
          <p:cNvPicPr/>
          <p:nvPr/>
        </p:nvPicPr>
        <p:blipFill>
          <a:blip r:embed="rId3"/>
          <a:stretch/>
        </p:blipFill>
        <p:spPr>
          <a:xfrm>
            <a:off x="3162240" y="5799240"/>
            <a:ext cx="963720" cy="105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rcRect l="29192" t="31462" r="56737" b="52744"/>
          <a:stretch/>
        </p:blipFill>
        <p:spPr>
          <a:xfrm>
            <a:off x="4578480" y="5989680"/>
            <a:ext cx="1547640" cy="67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slide3.jpg"/>
          <p:cNvPicPr/>
          <p:nvPr/>
        </p:nvPicPr>
        <p:blipFill>
          <a:blip r:embed="rId5"/>
          <a:srcRect l="57295" t="3549" r="1665" b="74803"/>
          <a:stretch/>
        </p:blipFill>
        <p:spPr>
          <a:xfrm>
            <a:off x="5391000" y="71280"/>
            <a:ext cx="3753000" cy="1484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1131840" y="892080"/>
            <a:ext cx="797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Professional Reg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076400" y="1054080"/>
            <a:ext cx="8067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.45p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n Professional Registration Event at Newcast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thcoming North East technical training ev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e/venue/themes for 2013 North East Regional Network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da Robin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TED North EST Regional Network 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valuation of 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ur of Sunderland University’s Analytical/Sport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00 p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035840" y="624852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HEaTEDtec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http://www.clickconsult.com/Internet-Marketing-Blog/wp-content/uploads/2011/01/twitter_newbird_boxed_blueonwhite.png"/>
          <p:cNvPicPr/>
          <p:nvPr/>
        </p:nvPicPr>
        <p:blipFill>
          <a:blip r:embed="rId2"/>
          <a:srcRect l="0" t="15205" r="0" b="8025"/>
          <a:stretch/>
        </p:blipFill>
        <p:spPr>
          <a:xfrm>
            <a:off x="6216480" y="6068880"/>
            <a:ext cx="1028880" cy="78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1101600" y="3729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112760" y="1068480"/>
            <a:ext cx="725976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EaTED Updat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ing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o you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 Katherine For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ED Course &amp; Regional Networks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035840" y="6248520"/>
            <a:ext cx="23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HEaTEDtec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http://www.clickconsult.com/Internet-Marketing-Blog/wp-content/uploads/2011/01/twitter_newbird_boxed_blueonwhite.png"/>
          <p:cNvPicPr/>
          <p:nvPr/>
        </p:nvPicPr>
        <p:blipFill>
          <a:blip r:embed="rId2"/>
          <a:srcRect l="0" t="15205" r="0" b="8025"/>
          <a:stretch/>
        </p:blipFill>
        <p:spPr>
          <a:xfrm>
            <a:off x="6216480" y="6068880"/>
            <a:ext cx="10288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560600" y="519120"/>
            <a:ext cx="609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orking to be the lead organisation supporting professional development of the technical workfor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slide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130400" y="1074600"/>
            <a:ext cx="7304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Sta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092240" y="1662120"/>
            <a:ext cx="73422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ember Institutions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oin 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or li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00+ individual members signed up from those HEIs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egister a technic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6.5 training days booked for 229 individuals sinc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pt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50+ attendees at Regional Network Events across the UK in the Autumn 2012 t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series of Regional events will take place in all regions this/next t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lide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30400" y="887400"/>
            <a:ext cx="7304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neral Sta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092240" y="1662120"/>
            <a:ext cx="73422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ED Conference:  100+ attendees, Report available in members only area of website (log in, documents to view on Member dashboard) and in Online Communities (members only), following up on action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ine Groups: like a forum,  23% members using them - please register yourself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you registered since last ev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slide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slide3.jpg"/>
          <p:cNvPicPr/>
          <p:nvPr/>
        </p:nvPicPr>
        <p:blipFill>
          <a:blip r:embed="rId2"/>
          <a:srcRect l="57295" t="3549" r="1665" b="74803"/>
          <a:stretch/>
        </p:blipFill>
        <p:spPr>
          <a:xfrm>
            <a:off x="5391000" y="7920"/>
            <a:ext cx="3753000" cy="1484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131840" y="846000"/>
            <a:ext cx="6099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EaTED Online Group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1263600" y="1488960"/>
            <a:ext cx="6667560" cy="4648320"/>
            <a:chOff x="1263600" y="1488960"/>
            <a:chExt cx="6667560" cy="4648320"/>
          </a:xfrm>
        </p:grpSpPr>
        <p:pic>
          <p:nvPicPr>
            <p:cNvPr id="77" name="Picture 4" descr="">
              <a:hlinkClick r:id="rId4"/>
            </p:cNvPr>
            <p:cNvPicPr/>
            <p:nvPr/>
          </p:nvPicPr>
          <p:blipFill>
            <a:blip r:embed="rId5"/>
            <a:srcRect l="0" t="10604" r="52475" b="3791"/>
            <a:stretch/>
          </p:blipFill>
          <p:spPr>
            <a:xfrm>
              <a:off x="1263600" y="1488960"/>
              <a:ext cx="666756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5"/>
            <p:cNvSpPr/>
            <p:nvPr/>
          </p:nvSpPr>
          <p:spPr>
            <a:xfrm>
              <a:off x="1263600" y="5972400"/>
              <a:ext cx="80316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slide3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074600" y="1052640"/>
            <a:ext cx="730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mbers’ Photo Competi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1081080" y="1716120"/>
            <a:ext cx="79837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would like to find out more about what you do at 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nd us your best photos. It might be a picture of a Technician working with equipment or engaging with students in a lab, studio or workshop. Or something completely different  but relevant to HEaTED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ning photos will be used in future HEaTED Updates and maybe even on the front cov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verall winner will also receive £250 in Amazon voucher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enter send your high res. images to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dmin@heated.ac.u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ing date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ugust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eated.ac.uk/n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erms and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5:57:35Z</dcterms:created>
  <dc:creator>iMac 27</dc:creator>
  <dc:description/>
  <dc:language>en-US</dc:language>
  <cp:lastModifiedBy>General User</cp:lastModifiedBy>
  <dcterms:modified xsi:type="dcterms:W3CDTF">2013-03-28T14:24:43Z</dcterms:modified>
  <cp:revision>183</cp:revision>
  <dc:subject/>
  <dc:title>PowerPoint Presentation</dc:title>
</cp:coreProperties>
</file>