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AF5-A849-40BD-94ED-1464D38D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B4E-5000-4B4C-B3AB-8227CD68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427-0EB9-41E4-AA4A-A1AAB762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EC4-0EA3-463C-B592-757EEE1D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8D83-947E-4C1E-83BD-06BE9B40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7524-CEAE-4810-AE8D-3C2F9647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3253-5E8B-40F2-B3DD-7D64C003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1745-D7BF-49B4-942A-4FAFB425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1C59-6D15-4C07-A897-5F31F7CD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F858-31AB-452F-A5A7-78116E8E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9878-B6E1-40C4-9EE9-D8007F8A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1C6-047F-4260-BA2D-26B0FAD2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38E1-F406-4B97-8014-671A4D6F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239F-93DF-41DE-8434-FF7F2DC4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CE28-91BF-49D7-9562-64A53773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5461-2C5F-405E-BA46-3F9D47F3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2EC6-F29B-4E50-B4F5-3F976E00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3FF-12B5-4014-9770-FDF95478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A69-60F6-4D2A-82D2-0C429533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39B-F8E9-44DD-A0BB-A9733C3D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545-A97D-48E8-9E4D-321E1B87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5CA-BB00-43A0-9829-103CDA7E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27F-B644-4CAA-A155-E29345CA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4AC-4BB1-48CB-98BA-F32F42B9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EE66-63E9-43AB-9AF8-2E84EAFAFC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D448-5FD6-45D1-BC64-2AB162C7CC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rth West HEaTED Regional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practice sharing in Staff and Profession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rses for courses but not courses for everything! Meeting 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f organised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aching/on the job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iting other areas and institutions/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b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eting need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ing a personal reflective learning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on Learn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Modern Technician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sion no longer gendered - large proportion of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now qualified to at least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gree level, many higher. Ph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ing with advanced and often cutting edge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ried roles bordering on the researcher/academic, critical to REF/NSS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ing and sophisticated skills set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ing work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rsonal Mastery increasingly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le person holist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inuing Professional Development rather than periodic/fragmented training injections or top 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al reflection, insight and awareness, self criticality and reflex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-assertion and re-recognition of professionalism and accredited professiona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 of a community of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dividual – balanced performance – inputs + outp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79280" y="1484280"/>
            <a:ext cx="3745080" cy="94716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ft and technical knowledge/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179280" y="2924280"/>
            <a:ext cx="3745080" cy="52056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179280" y="3789360"/>
            <a:ext cx="3745080" cy="94716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al 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179280" y="5084640"/>
            <a:ext cx="3745080" cy="137376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sional Accreditation and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6"/>
          <p:cNvCxnSpPr/>
          <p:nvPr/>
        </p:nvCxnSpPr>
        <p:spPr>
          <a:xfrm>
            <a:off x="3995280" y="1988640"/>
            <a:ext cx="505800" cy="10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94" name="Straight Arrow Connector 20"/>
          <p:cNvCxnSpPr/>
          <p:nvPr/>
        </p:nvCxnSpPr>
        <p:spPr>
          <a:xfrm>
            <a:off x="3995280" y="3212640"/>
            <a:ext cx="505800" cy="10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95" name="Straight Arrow Connector 21"/>
          <p:cNvCxnSpPr/>
          <p:nvPr/>
        </p:nvCxnSpPr>
        <p:spPr>
          <a:xfrm>
            <a:off x="3995280" y="4220640"/>
            <a:ext cx="505800" cy="10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3995280" y="5805000"/>
            <a:ext cx="505800" cy="10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97" name="TextBox 23"/>
          <p:cNvSpPr/>
          <p:nvPr/>
        </p:nvSpPr>
        <p:spPr>
          <a:xfrm>
            <a:off x="4643280" y="1484280"/>
            <a:ext cx="3745080" cy="94716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ed technic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4643280" y="2781360"/>
            <a:ext cx="3745080" cy="94716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fective working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4643280" y="3933720"/>
            <a:ext cx="3745080" cy="94716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f responsibility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4643280" y="5084640"/>
            <a:ext cx="3745080" cy="137376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alue added – making the difference, being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aft and Technical Knowledge/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tuational Knowledge – University structures an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ipline Knowledge – lower level processes a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ientific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ing Equipment and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 Working - ensuring compliance and best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t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withi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unication skills, developing rapport, listening, empathising, questioning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luencing others, managing the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ship building with wide range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ndl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sonal Management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s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y Working/Work Life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ing Their Own Learning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ing a Profes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hics and ju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ing autonomy, taking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ing own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ing ‘Habitus’ (Bourdieu) – ‘practical skills and dispositions necessary to navigate within different fields (sports, professional life, art, etc)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 of a community of practice – sharing skills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sional recognition, accreditation and CP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dentifying Development Needs – when/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servation of day to day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of new processes or kit, any othe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back from others, 360 degre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inite ways int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20:51Z</dcterms:created>
  <dc:creator>RSD Admin Support Staff</dc:creator>
  <dc:description/>
  <dc:language>en-US</dc:language>
  <cp:lastModifiedBy>r.crossley</cp:lastModifiedBy>
  <dcterms:modified xsi:type="dcterms:W3CDTF">2012-10-15T09:34:29Z</dcterms:modified>
  <cp:revision>11</cp:revision>
  <dc:subject/>
  <dc:title>Pursuing a ‘Balanced Scorecard’ in Technical Staff Development Presentation to UMBA – March 2008</dc:title>
</cp:coreProperties>
</file>