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4A1D-724C-4934-A773-276276D6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448D-390A-4C64-B3EB-7FD6D56D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A781-88C0-40AC-BE63-0D65AE53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C12F-9AC2-4AA3-B0EE-9947F10B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321-EB42-4891-8CEF-5CFCC2E4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FF0-B531-411D-805F-2841D003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9106-E27A-4CC5-A2BE-38D65338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F0C-9FBA-4276-9D68-5E84AC52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A5A6-2710-4D81-8FF7-E54C6E83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AD7-4927-4806-9216-44E382B3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7E9E-860F-4B8A-8377-D51282DC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5E3-A1B4-4E67-8E22-C5777976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F00D-7A1E-462D-A650-16561D770D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2448000" cy="70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Penguin Divers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852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9900"/>
                </a:solidFill>
                <a:latin typeface="Arial"/>
              </a:rPr>
              <a:t>Well Don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989000"/>
            <a:ext cx="9144000" cy="37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Penguins can fl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989000"/>
            <a:ext cx="9144000" cy="37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 Penguins lay eg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TRUE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89000"/>
            <a:ext cx="9144000" cy="37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. A young penguin is called a ch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TRU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89000"/>
            <a:ext cx="9144000" cy="37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Penguins are covered in 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89000"/>
            <a:ext cx="9144000" cy="37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. Penguins are very good swi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89000"/>
            <a:ext cx="9144000" cy="37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6. Penguins are mam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89000"/>
            <a:ext cx="9144000" cy="37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. Penguins live at the North P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989000"/>
            <a:ext cx="9144000" cy="37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8. Emperor penguins are the largest pengu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3:23:24Z</dcterms:created>
  <dc:creator>Laura Sutherland</dc:creator>
  <dc:description/>
  <dc:language>en-US</dc:language>
  <cp:lastModifiedBy>Lucie Muir</cp:lastModifiedBy>
  <dcterms:modified xsi:type="dcterms:W3CDTF">2011-06-08T11:07:26Z</dcterms:modified>
  <cp:revision>4</cp:revision>
  <dc:subject/>
  <dc:title>Slide 1</dc:title>
</cp:coreProperties>
</file>