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404-6BD4-4D59-ADC1-C2231AE6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432-D34A-4BA7-A3D9-28F5855F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562-B645-478B-AB38-0FA6020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307-FDB3-45D7-A0E6-BD08764E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CD4-AC65-4B07-89CB-9A446A03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4BF-264E-4DA6-9209-6263BD07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818-C176-4069-A917-6240F4F8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A40-AB99-4AB1-8804-925B764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8DF-FE03-45CC-8925-42746F61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0BD-CA80-4B49-8190-DA18266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670-C088-44E1-BE91-6924D971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B07-2E5B-45DD-91C5-4C4C8099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70ED-8EF0-4029-A7E9-E9DBC5DF9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35280" cy="85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596360" y="57240"/>
            <a:ext cx="1512720" cy="8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1163" b="0"/>
          <a:stretch/>
        </p:blipFill>
        <p:spPr>
          <a:xfrm>
            <a:off x="704880" y="1362240"/>
            <a:ext cx="7827840" cy="528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717840" y="6289560"/>
            <a:ext cx="4501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le coloured, speckled peppered m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257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ppered m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28520" y="8301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odern example of 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1163" b="0"/>
          <a:stretch/>
        </p:blipFill>
        <p:spPr>
          <a:xfrm>
            <a:off x="704880" y="1366920"/>
            <a:ext cx="7827840" cy="527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05960" y="6280200"/>
            <a:ext cx="34329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rk coloured peppered m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57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ppered m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8520" y="8301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odern example of 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1163" b="0"/>
          <a:stretch/>
        </p:blipFill>
        <p:spPr>
          <a:xfrm>
            <a:off x="704880" y="1366920"/>
            <a:ext cx="7827840" cy="527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71640" y="257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ppered m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28520" y="8301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odern example of 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5960" y="6275520"/>
            <a:ext cx="34329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ppered moths on tree 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1:30:44Z</dcterms:created>
  <dc:creator>Michelle Lindley</dc:creator>
  <dc:description/>
  <dc:language>en-US</dc:language>
  <cp:lastModifiedBy>Michelle Lindley</cp:lastModifiedBy>
  <dcterms:modified xsi:type="dcterms:W3CDTF">2009-06-25T10:30:13Z</dcterms:modified>
  <cp:revision>33</cp:revision>
  <dc:subject/>
  <dc:title>Slide 1</dc:title>
</cp:coreProperties>
</file>