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2FB-0568-4937-8726-BD0B8091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5AA-EE38-4594-A20B-5913791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36D-2E9F-4DD5-B5D0-5766B1EF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0AC-1388-43AF-B67E-48C17A2A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CBA-0789-43C5-B7AD-F562AF43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FCB-2CFF-489C-B8EC-EAAC0DE7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10A-8590-4288-AAD7-FB733914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93A-072C-4D2D-A901-DBE18288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520-E4A8-44DE-90FE-E2626394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9DC-75EC-467F-977A-526110EE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78B-25EC-46BF-8DE4-264CB1D3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942-EC9C-401B-81D6-16FE3D1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8A1C2-8C8B-43DA-9356-FAD1B3748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057400" y="2286000"/>
            <a:ext cx="5181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93d3"/>
                </a:solidFill>
                <a:latin typeface="Arial"/>
                <a:ea typeface="Arial"/>
              </a:rPr>
              <a:t>Global Transpor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"/>
              </a:rPr>
              <a:t>What is the future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0"/>
          <p:cNvGrpSpPr/>
          <p:nvPr/>
        </p:nvGrpSpPr>
        <p:grpSpPr>
          <a:xfrm>
            <a:off x="87480" y="6310440"/>
            <a:ext cx="3003480" cy="337320"/>
            <a:chOff x="87480" y="6310440"/>
            <a:chExt cx="3003480" cy="337320"/>
          </a:xfrm>
        </p:grpSpPr>
        <p:pic>
          <p:nvPicPr>
            <p:cNvPr id="43" name="Picture 12" descr=""/>
            <p:cNvPicPr/>
            <p:nvPr/>
          </p:nvPicPr>
          <p:blipFill>
            <a:blip r:embed="rId2"/>
            <a:stretch/>
          </p:blipFill>
          <p:spPr>
            <a:xfrm>
              <a:off x="87480" y="6320160"/>
              <a:ext cx="626040" cy="3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9"/>
            <p:cNvSpPr/>
            <p:nvPr/>
          </p:nvSpPr>
          <p:spPr>
            <a:xfrm>
              <a:off x="713520" y="6310440"/>
              <a:ext cx="23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lore engineering careers at www.tomorrowsengineers.org.uk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5" descr="Boy_2.jpg"/>
          <p:cNvPicPr/>
          <p:nvPr/>
        </p:nvPicPr>
        <p:blipFill>
          <a:blip r:embed="rId2"/>
          <a:stretch/>
        </p:blipFill>
        <p:spPr>
          <a:xfrm>
            <a:off x="433440" y="3816360"/>
            <a:ext cx="1011240" cy="100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Girl.jpg"/>
          <p:cNvPicPr/>
          <p:nvPr/>
        </p:nvPicPr>
        <p:blipFill>
          <a:blip r:embed="rId3"/>
          <a:stretch/>
        </p:blipFill>
        <p:spPr>
          <a:xfrm>
            <a:off x="433440" y="2762280"/>
            <a:ext cx="1011240" cy="101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Boy_1.jpg"/>
          <p:cNvPicPr/>
          <p:nvPr/>
        </p:nvPicPr>
        <p:blipFill>
          <a:blip r:embed="rId4"/>
          <a:stretch/>
        </p:blipFill>
        <p:spPr>
          <a:xfrm>
            <a:off x="433440" y="1712880"/>
            <a:ext cx="1011240" cy="10112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1424160" y="1863720"/>
            <a:ext cx="7251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We won’t do any better than aeroplanes. In the future they will become even bigger and f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1403280" y="2925720"/>
            <a:ext cx="727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Planes cause pollution! The carbon footprint of a plane journey is just too high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1459080" y="3957480"/>
            <a:ext cx="721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Planes use non renewable fuels. That’s the main issue here – what are we going to do when these run out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439560" y="1268280"/>
            <a:ext cx="8704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100" spc="-1" strike="noStrike">
                <a:solidFill>
                  <a:srgbClr val="0093d3"/>
                </a:solidFill>
                <a:latin typeface="Arial"/>
                <a:ea typeface="Arial"/>
              </a:rPr>
              <a:t>What is the future of global transport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20"/>
          <p:cNvSpPr/>
          <p:nvPr/>
        </p:nvSpPr>
        <p:spPr>
          <a:xfrm>
            <a:off x="488880" y="4943520"/>
            <a:ext cx="81867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93d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542880" y="4917960"/>
            <a:ext cx="3038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  <a:ea typeface="Arial"/>
              </a:rPr>
              <a:t>Leave a comment.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0"/>
          <p:cNvGrpSpPr/>
          <p:nvPr/>
        </p:nvGrpSpPr>
        <p:grpSpPr>
          <a:xfrm>
            <a:off x="87480" y="6310440"/>
            <a:ext cx="3003480" cy="337320"/>
            <a:chOff x="87480" y="6310440"/>
            <a:chExt cx="3003480" cy="337320"/>
          </a:xfrm>
        </p:grpSpPr>
        <p:pic>
          <p:nvPicPr>
            <p:cNvPr id="55" name="Picture 12" descr=""/>
            <p:cNvPicPr/>
            <p:nvPr/>
          </p:nvPicPr>
          <p:blipFill>
            <a:blip r:embed="rId5"/>
            <a:stretch/>
          </p:blipFill>
          <p:spPr>
            <a:xfrm>
              <a:off x="87480" y="6320160"/>
              <a:ext cx="626040" cy="3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9"/>
            <p:cNvSpPr/>
            <p:nvPr/>
          </p:nvSpPr>
          <p:spPr>
            <a:xfrm>
              <a:off x="713520" y="6310440"/>
              <a:ext cx="237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lore engineering careers at www.tomorrowsengineers.org.uk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20:57Z</dcterms:created>
  <dc:creator>Theresa Potts</dc:creator>
  <dc:description/>
  <dc:language>en-US</dc:language>
  <cp:lastModifiedBy>Margerison,Holly</cp:lastModifiedBy>
  <dcterms:modified xsi:type="dcterms:W3CDTF">2014-10-15T14:38:00Z</dcterms:modified>
  <cp:revision>38</cp:revision>
  <dc:subject/>
  <dc:title>Slide 1</dc:title>
</cp:coreProperties>
</file>