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2679-0E31-447F-AD6A-124B972004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A04C-B65D-432A-AA45-DCA9E0FABF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B843-1E82-418E-B9E1-BBC8323E78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876C-118E-43FA-ACBD-9C1BF1CB96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D7AB-7023-459D-B702-AEA148D96C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1C1C-2CCB-4C8B-A054-30F6A299AD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E14C-2DB3-438D-949A-E59B3BF187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5AA9-577F-4439-8127-AAD5433124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A3E5-2324-4E50-A81D-BA2336D5D9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2325-51DD-44D0-A2A9-0CB3D2ABA3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263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0"/>
          <p:cNvSpPr/>
          <p:nvPr/>
        </p:nvSpPr>
        <p:spPr>
          <a:xfrm>
            <a:off x="152280" y="304920"/>
            <a:ext cx="3886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GATSBY SCIENCE ENHANCEMENT PROGRAM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1"/>
          <p:cNvSpPr/>
          <p:nvPr/>
        </p:nvSpPr>
        <p:spPr>
          <a:xfrm>
            <a:off x="4191120" y="304920"/>
            <a:ext cx="4724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Arial"/>
              </a:rPr>
              <a:t>INNOVATIONS IN PRACTICAL WORK: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 FANTASTIC PLA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2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263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PLS_P015a"/>
          <p:cNvPicPr/>
          <p:nvPr/>
        </p:nvPicPr>
        <p:blipFill>
          <a:blip r:embed="rId1"/>
          <a:stretch/>
        </p:blipFill>
        <p:spPr>
          <a:xfrm>
            <a:off x="1260360" y="1343160"/>
            <a:ext cx="3346560" cy="36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PLS_P019a"/>
          <p:cNvPicPr/>
          <p:nvPr/>
        </p:nvPicPr>
        <p:blipFill>
          <a:blip r:embed="rId2"/>
          <a:stretch/>
        </p:blipFill>
        <p:spPr>
          <a:xfrm>
            <a:off x="5051520" y="1343160"/>
            <a:ext cx="2833560" cy="143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PLS_P020a"/>
          <p:cNvPicPr/>
          <p:nvPr/>
        </p:nvPicPr>
        <p:blipFill>
          <a:blip r:embed="rId3"/>
          <a:stretch/>
        </p:blipFill>
        <p:spPr>
          <a:xfrm>
            <a:off x="5051520" y="2962440"/>
            <a:ext cx="2832120" cy="18079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king a rubber b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PLS_P021a"/>
          <p:cNvPicPr/>
          <p:nvPr/>
        </p:nvPicPr>
        <p:blipFill>
          <a:blip r:embed="rId1"/>
          <a:stretch/>
        </p:blipFill>
        <p:spPr>
          <a:xfrm>
            <a:off x="3479760" y="1343160"/>
            <a:ext cx="2184480" cy="3600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asuring extension of rubber band against f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ages19"/>
          <p:cNvPicPr/>
          <p:nvPr/>
        </p:nvPicPr>
        <p:blipFill>
          <a:blip r:embed="rId1"/>
          <a:stretch/>
        </p:blipFill>
        <p:spPr>
          <a:xfrm>
            <a:off x="2013120" y="1343160"/>
            <a:ext cx="5117760" cy="3600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stretched rubber band contracts when he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mages20"/>
          <p:cNvPicPr/>
          <p:nvPr/>
        </p:nvPicPr>
        <p:blipFill>
          <a:blip r:embed="rId1"/>
          <a:stretch/>
        </p:blipFill>
        <p:spPr>
          <a:xfrm>
            <a:off x="2325600" y="1343160"/>
            <a:ext cx="4492800" cy="3600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am rubber can be made from rubber latex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tric acid and sodium bicarbon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images21"/>
          <p:cNvPicPr/>
          <p:nvPr/>
        </p:nvPicPr>
        <p:blipFill>
          <a:blip r:embed="rId1"/>
          <a:stretch/>
        </p:blipFill>
        <p:spPr>
          <a:xfrm>
            <a:off x="611280" y="1343160"/>
            <a:ext cx="7921440" cy="3600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king foam rub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images22"/>
          <p:cNvPicPr/>
          <p:nvPr/>
        </p:nvPicPr>
        <p:blipFill>
          <a:blip r:embed="rId1"/>
          <a:stretch/>
        </p:blipFill>
        <p:spPr>
          <a:xfrm>
            <a:off x="2921040" y="1343160"/>
            <a:ext cx="330192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balloon can be electrically charged by fri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cause it is a good electrical insul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images23"/>
          <p:cNvPicPr/>
          <p:nvPr/>
        </p:nvPicPr>
        <p:blipFill>
          <a:blip r:embed="rId1"/>
          <a:stretch/>
        </p:blipFill>
        <p:spPr>
          <a:xfrm>
            <a:off x="372960" y="1343160"/>
            <a:ext cx="8398080" cy="36003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strip of shape memory polymer compos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verts to its original shape when wa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images24"/>
          <p:cNvPicPr/>
          <p:nvPr/>
        </p:nvPicPr>
        <p:blipFill>
          <a:blip r:embed="rId1"/>
          <a:stretch/>
        </p:blipFill>
        <p:spPr>
          <a:xfrm>
            <a:off x="2233440" y="1343160"/>
            <a:ext cx="4677120" cy="36003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ydrogels are used in disposable napp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images25"/>
          <p:cNvPicPr/>
          <p:nvPr/>
        </p:nvPicPr>
        <p:blipFill>
          <a:blip r:embed="rId1"/>
          <a:stretch/>
        </p:blipFill>
        <p:spPr>
          <a:xfrm>
            <a:off x="674640" y="1343160"/>
            <a:ext cx="7794720" cy="3600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ydrogel can absorb several time its own m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6:06:17Z</dcterms:created>
  <dc:creator>charlotteh</dc:creator>
  <dc:description/>
  <dc:language>en-US</dc:language>
  <cp:lastModifiedBy>Richard Boohan</cp:lastModifiedBy>
  <dcterms:modified xsi:type="dcterms:W3CDTF">2011-07-22T10:53:11Z</dcterms:modified>
  <cp:revision>77</cp:revision>
  <dc:subject/>
  <dc:title>No Slide Title</dc:title>
</cp:coreProperties>
</file>