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858-4B12-442D-AE36-A8F3083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4DA-3746-47B4-A215-269862E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FF2-37C0-4D09-AF6B-0AD42108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DFA-A5FC-488D-9155-5DDE3168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347-3706-4869-8908-C14BBD46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2AB-7470-43CF-9F07-35AF396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81-21CF-49E9-9CDE-2D8BB7FD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26A-713B-45B8-AA11-BF1C9EA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BC9-A5F8-418C-B6DA-2C4AA202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33B-E645-4F1E-8ADD-528E600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B8A-EBDC-48A3-AFA3-6D1DE4A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701-94FD-4BC0-A91B-7738DE07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BF0-F7BC-42E0-ACF9-5C131F0DC3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2:44:05Z</dcterms:created>
  <dc:creator>Harriet M. Truscott</dc:creator>
  <dc:description/>
  <dc:language>en-US</dc:language>
  <cp:lastModifiedBy>Harriet M. Truscott</cp:lastModifiedBy>
  <dcterms:modified xsi:type="dcterms:W3CDTF">2013-11-08T16:36:37Z</dcterms:modified>
  <cp:revision>2</cp:revision>
  <dc:subject/>
  <dc:title>PowerPoint Presentation</dc:title>
</cp:coreProperties>
</file>