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B9C7-B4BA-48CC-B6D8-6E8CCF5F1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5A2C-F438-48F2-B558-0CA2CED6E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92EE-09E5-4AAD-8AE0-861FA24F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6845-9711-44AD-9EF3-05F163EC6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FF77-2464-42CA-996B-033E866CB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7126-ECDB-4F8A-B3A1-86D00D0097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FBFC-0FA4-4A6C-9C2A-4D2E804A4F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40B8-F12C-43A2-8353-C1B8EDEE18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80D6-8FBE-40BC-9E38-7216E5EC45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031C-5F1A-4F8E-913D-E570822A3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3E31-6AF7-4028-A90D-E786C1E7FA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BA95-DF2A-4F70-96CC-0991DD14E0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5419-BCDF-4CE8-B71A-E63EA88681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29153-49D3-4768-B24C-8044737122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6E84-7CE5-4691-A19D-EA382F30CB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C6D0-A194-42DB-82A7-368F10E3CD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6AB1-AD63-4C3A-9685-D387E5B9B0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0678-2336-49BB-9E51-A525F0963B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C75-90C1-4650-B389-755974C377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9BA-26EB-401C-90B4-C1F2D7EED9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4E4-9EF0-4259-872E-607E31CD9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38B7-4EEA-45F4-B6B7-DA613F85FE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65A-937A-415E-BE6E-42619D2907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6EF-B7F1-4D7B-BAB8-FAB07BA8D4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3C2-09B5-4EF2-919F-FAD51640C1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51B-B3BF-4341-80BF-E083A9F8C4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6DD-8A60-464F-9DEB-A59BCF29AA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3FC-6EF3-44DD-BA68-D712A569CF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65F9-89A8-48F7-87F2-22A7635FBB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1A5-3539-4730-87AA-6457FFA944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18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29680"/>
            <a:ext cx="264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691-E445-4F87-A164-1375D5FB1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3FBC-15CA-49AB-8C07-AEFAEAF5A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0893-E456-41D6-85F8-696EA318F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78E5-0441-46AF-A796-E98533484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9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4177-60E9-4D90-80C7-72A3E8C52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18680"/>
            <a:ext cx="40158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9680"/>
            <a:ext cx="8229600" cy="22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5F4A-D868-4F4B-B81E-D854EDE26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7680" y="6151320"/>
            <a:ext cx="13287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AC3CE184-FAF2-419A-8393-8EF9BE2F7105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and Using Data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esting a New 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and Using Data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esting a New 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7248600" y="6161040"/>
            <a:ext cx="1054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and Using Data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esting a New 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7153200" y="6151320"/>
            <a:ext cx="1533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E8D64257-8C4E-42E7-9641-75E98CDF0B9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2590920" y="6159600"/>
            <a:ext cx="39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preting and Using Data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esting a New 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57200" y="6159600"/>
            <a:ext cx="14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6648480" y="6151320"/>
            <a:ext cx="20383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P-</a:t>
            </a:r>
            <a:fld id="{D70EA78A-7DAD-463E-8027-BA5038D7B593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68436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Interpreting and Using Data: </a:t>
            </a: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Testing A New Product</a:t>
            </a:r>
            <a:endParaRPr b="1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226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Resources</a:t>
            </a:r>
            <a:endParaRPr b="1" lang="en-US" sz="28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Examples of Response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534A3EDD-C49C-4798-9531-8816D6C8CE8D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Screen Shot 2014-03-28 at 10.41.59.jpg"/>
          <p:cNvPicPr/>
          <p:nvPr/>
        </p:nvPicPr>
        <p:blipFill>
          <a:blip r:embed="rId1"/>
          <a:stretch/>
        </p:blipFill>
        <p:spPr>
          <a:xfrm>
            <a:off x="236520" y="1432080"/>
            <a:ext cx="8450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Planning a Joint Method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AF040F6D-BD89-43D4-8431-2147DA1CEEE3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57200" y="146844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turns to explain your ideas for a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carefully to each other and ask questions if you d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understand or a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710e0e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veryone in the group has explained their ideas, try to agree on a joint method that is better than all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at everyone in your group can explain your chosen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710e0e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brief outline of your planned method on your large sheet of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ample Responses to Discus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B8A082DD-16BE-4FE0-8983-9E6BD2C76DBB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57200" y="1498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turns to explain to the rest of the group what the student in your sample response has done and what your answers are to the questions on the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0000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 carefully to the explanations.  Ask questions if you d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und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veryone is satisfied with the explanations,  you may want to change some of your own ide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ample Student Work: Penn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368A124C-9BA9-4238-9C23-E04498A08E32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1031760" y="1306440"/>
            <a:ext cx="72421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ample Student Work: Harry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071D5664-4C85-426E-B9ED-01259AF5F089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1735200"/>
            <a:ext cx="4300560" cy="32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4637160" y="1814400"/>
            <a:ext cx="4348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solidFill>
            <a:srgbClr val="6c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Compare Strategies</a:t>
            </a:r>
            <a:endParaRPr b="1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7358040" y="6151680"/>
            <a:ext cx="13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P-</a:t>
            </a:r>
            <a:fld id="{48362A7B-C447-4F5A-B922-ED159101EFFD}" type="slidenum">
              <a:rPr b="0" lang="en-US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1120" y="947880"/>
            <a:ext cx="5459400" cy="277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2116080" y="3368520"/>
            <a:ext cx="6685200" cy="27831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6573960" y="1135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987480" y="41274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09:12:14Z</dcterms:created>
  <dc:creator>Daniel</dc:creator>
  <dc:description/>
  <dc:language>en-US</dc:language>
  <cp:lastModifiedBy>Michael Galan</cp:lastModifiedBy>
  <cp:lastPrinted>2013-03-14T11:02:33Z</cp:lastPrinted>
  <dcterms:modified xsi:type="dcterms:W3CDTF">2015-03-09T09:07:06Z</dcterms:modified>
  <cp:revision>106</cp:revision>
  <dc:subject/>
  <dc:title>Solving Linear Equations in Two Variables</dc:title>
</cp:coreProperties>
</file>