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9.jpeg" ContentType="image/jpeg"/>
  <Override PartName="/ppt/media/image24.png" ContentType="image/pn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27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819E-9B91-4BEF-ABB8-99E3AA7C00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98E5-014E-40CC-ABE7-F33498D197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8938-B855-4489-8483-BE5D44EAE1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68F4-15A2-47CF-B965-F84D56170F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D07A-0C6A-4602-9A22-20C1B5012C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DB82-A00B-4B00-96A5-75C1F768CC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615B-1C8B-4470-9874-48E0B01763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54BF-FB57-437B-B3AE-12D6D532A8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C7E5-2E1D-4168-8ADD-2FD8F1F0FC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604C-0A78-4642-844F-A5679FF68D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A346-44CA-4F63-9508-10B5E2332C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92F8-9BC9-47FA-A1EA-DE4F61CECE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ADA1-111A-44E6-8E07-369F89967C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222E-24C1-4489-B9F3-AF4CCA8FC5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CFDF-7026-4133-B118-046D45805F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6C1F-0BC6-4A86-8F45-051EB227F6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104F-7142-4B4D-BAE7-3A946E5020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7646-4ED0-48FC-B4C5-70C915D966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82AB-552B-4578-964B-1D235A4968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-7920" y="0"/>
            <a:ext cx="9151920" cy="690480"/>
          </a:xfrm>
          <a:prstGeom prst="rect">
            <a:avLst/>
          </a:prstGeom>
          <a:solidFill>
            <a:srgbClr val="192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0"/>
          <p:cNvSpPr/>
          <p:nvPr/>
        </p:nvSpPr>
        <p:spPr>
          <a:xfrm>
            <a:off x="160200" y="3049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GATSBY SCIENCE ENHANCEMENT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4199040" y="3049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Arial"/>
                <a:ea typeface="Arial"/>
              </a:rPr>
              <a:t>INNOVATIONS IN PRACTICAL WORK: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 STUFF AND SUB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792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34"/>
          <p:cNvSpPr/>
          <p:nvPr/>
        </p:nvSpPr>
        <p:spPr>
          <a:xfrm>
            <a:off x="792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-7920" y="6324480"/>
            <a:ext cx="9151920" cy="533520"/>
          </a:xfrm>
          <a:prstGeom prst="rect">
            <a:avLst/>
          </a:prstGeom>
          <a:solidFill>
            <a:srgbClr val="192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copper (top) is heated in air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pper oxide is produced (botto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SSB_P307d.jpg"/>
          <p:cNvPicPr/>
          <p:nvPr/>
        </p:nvPicPr>
        <p:blipFill>
          <a:blip r:embed="rId1"/>
          <a:stretch/>
        </p:blipFill>
        <p:spPr>
          <a:xfrm>
            <a:off x="3043080" y="1343160"/>
            <a:ext cx="305784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SSB_P308d.jpg"/>
          <p:cNvPicPr/>
          <p:nvPr/>
        </p:nvPicPr>
        <p:blipFill>
          <a:blip r:embed="rId2"/>
          <a:stretch/>
        </p:blipFill>
        <p:spPr>
          <a:xfrm>
            <a:off x="3038400" y="3143160"/>
            <a:ext cx="30672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first piece of iron wool added to the test tube rusts but the second piece added later does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SSB_P021a.jpg"/>
          <p:cNvPicPr/>
          <p:nvPr/>
        </p:nvPicPr>
        <p:blipFill>
          <a:blip r:embed="rId1"/>
          <a:stretch/>
        </p:blipFill>
        <p:spPr>
          <a:xfrm>
            <a:off x="3224160" y="1343160"/>
            <a:ext cx="26956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ron uses up about 20% of the air when it rusts, suggesting the ‘something’ it reacts with is oxy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SSB_P022a.jpg"/>
          <p:cNvPicPr/>
          <p:nvPr/>
        </p:nvPicPr>
        <p:blipFill>
          <a:blip r:embed="rId1"/>
          <a:stretch/>
        </p:blipFill>
        <p:spPr>
          <a:xfrm>
            <a:off x="2179800" y="1343160"/>
            <a:ext cx="4784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ydrogen burning in a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SSB_P316a.jpg"/>
          <p:cNvPicPr/>
          <p:nvPr/>
        </p:nvPicPr>
        <p:blipFill>
          <a:blip r:embed="rId1"/>
          <a:stretch/>
        </p:blipFill>
        <p:spPr>
          <a:xfrm>
            <a:off x="2325600" y="1343160"/>
            <a:ext cx="4492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om structures of the reactants and products for methane bur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SSB_P228.PNG"/>
          <p:cNvPicPr/>
          <p:nvPr/>
        </p:nvPicPr>
        <p:blipFill>
          <a:blip r:embed="rId1"/>
          <a:stretch/>
        </p:blipFill>
        <p:spPr>
          <a:xfrm>
            <a:off x="1492200" y="1343160"/>
            <a:ext cx="6159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ubstance in the liquid state (propanone) burning using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ass wool wi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SSB_P317a.jpg"/>
          <p:cNvPicPr/>
          <p:nvPr/>
        </p:nvPicPr>
        <p:blipFill>
          <a:blip r:embed="rId1"/>
          <a:stretch/>
        </p:blipFill>
        <p:spPr>
          <a:xfrm>
            <a:off x="2325600" y="1343160"/>
            <a:ext cx="4492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ubstance in the liquid state (oleic acid) being heated before it bur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SSB_P318a.jpg"/>
          <p:cNvPicPr/>
          <p:nvPr/>
        </p:nvPicPr>
        <p:blipFill>
          <a:blip r:embed="rId1"/>
          <a:stretch/>
        </p:blipFill>
        <p:spPr>
          <a:xfrm>
            <a:off x="2325600" y="1343160"/>
            <a:ext cx="4492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conventional candle and a candle with a glass wool wi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SSB_P024a.jpg"/>
          <p:cNvPicPr/>
          <p:nvPr/>
        </p:nvPicPr>
        <p:blipFill>
          <a:blip r:embed="rId1"/>
          <a:stretch/>
        </p:blipFill>
        <p:spPr>
          <a:xfrm>
            <a:off x="2338560" y="1343160"/>
            <a:ext cx="4466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ghting the ‘white’ smoke from a candle after it has been blown 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SSB_P035a.jpg"/>
          <p:cNvPicPr/>
          <p:nvPr/>
        </p:nvPicPr>
        <p:blipFill>
          <a:blip r:embed="rId1"/>
          <a:stretch/>
        </p:blipFill>
        <p:spPr>
          <a:xfrm>
            <a:off x="2173320" y="1343160"/>
            <a:ext cx="4797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beaker is placed over a lighted candle in order to identify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s of combustion (water and carbon dioxid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SSB_P029a.jpg"/>
          <p:cNvPicPr/>
          <p:nvPr/>
        </p:nvPicPr>
        <p:blipFill>
          <a:blip r:embed="rId1"/>
          <a:stretch/>
        </p:blipFill>
        <p:spPr>
          <a:xfrm>
            <a:off x="3224160" y="1343160"/>
            <a:ext cx="26956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magnesium is added to acid solution, hydrogen and another substance in solution are produ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SSB_P309e.jpg"/>
          <p:cNvPicPr/>
          <p:nvPr/>
        </p:nvPicPr>
        <p:blipFill>
          <a:blip r:embed="rId1"/>
          <a:stretch/>
        </p:blipFill>
        <p:spPr>
          <a:xfrm>
            <a:off x="2835360" y="1343160"/>
            <a:ext cx="3473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stearin reacts with sodium carbonate solution, a new substance (sodium stearate) is produ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SSB_P012_3a.jpg"/>
          <p:cNvPicPr/>
          <p:nvPr/>
        </p:nvPicPr>
        <p:blipFill>
          <a:blip r:embed="rId1"/>
          <a:stretch/>
        </p:blipFill>
        <p:spPr>
          <a:xfrm>
            <a:off x="2166840" y="1343160"/>
            <a:ext cx="4810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new substance has properties different from those of the reactants e.g. it forms a lather when shaken with hot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SSB_P013_1a.jpg"/>
          <p:cNvPicPr/>
          <p:nvPr/>
        </p:nvPicPr>
        <p:blipFill>
          <a:blip r:embed="rId1"/>
          <a:stretch/>
        </p:blipFill>
        <p:spPr>
          <a:xfrm>
            <a:off x="2179800" y="1343160"/>
            <a:ext cx="4784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e has a molecular structure: the particles are water molecules (left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dium chloride has a giant structure: there is a repeating unit (righ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P217-18a.png"/>
          <p:cNvPicPr/>
          <p:nvPr/>
        </p:nvPicPr>
        <p:blipFill>
          <a:blip r:embed="rId1"/>
          <a:stretch/>
        </p:blipFill>
        <p:spPr>
          <a:xfrm>
            <a:off x="539640" y="1347840"/>
            <a:ext cx="3600720" cy="3591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P219-20a.png"/>
          <p:cNvPicPr/>
          <p:nvPr/>
        </p:nvPicPr>
        <p:blipFill>
          <a:blip r:embed="rId2"/>
          <a:stretch/>
        </p:blipFill>
        <p:spPr>
          <a:xfrm>
            <a:off x="5003640" y="1347840"/>
            <a:ext cx="36007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cium reacts with water to form calcium hydroxide and hydrogen. The substances are shown (top) along with atom structures (botto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SSB_P221.PNG"/>
          <p:cNvPicPr/>
          <p:nvPr/>
        </p:nvPicPr>
        <p:blipFill>
          <a:blip r:embed="rId1"/>
          <a:stretch/>
        </p:blipFill>
        <p:spPr>
          <a:xfrm>
            <a:off x="541440" y="3089160"/>
            <a:ext cx="197640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SSB_P222.PNG"/>
          <p:cNvPicPr/>
          <p:nvPr/>
        </p:nvPicPr>
        <p:blipFill>
          <a:blip r:embed="rId2"/>
          <a:stretch/>
        </p:blipFill>
        <p:spPr>
          <a:xfrm>
            <a:off x="2567160" y="3090960"/>
            <a:ext cx="1979280" cy="1797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SSB_P223.PNG"/>
          <p:cNvPicPr/>
          <p:nvPr/>
        </p:nvPicPr>
        <p:blipFill>
          <a:blip r:embed="rId3"/>
          <a:stretch/>
        </p:blipFill>
        <p:spPr>
          <a:xfrm>
            <a:off x="4597560" y="3090960"/>
            <a:ext cx="1979280" cy="179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SSB_P224.PNG"/>
          <p:cNvPicPr/>
          <p:nvPr/>
        </p:nvPicPr>
        <p:blipFill>
          <a:blip r:embed="rId4"/>
          <a:stretch/>
        </p:blipFill>
        <p:spPr>
          <a:xfrm>
            <a:off x="6626160" y="3089160"/>
            <a:ext cx="1976400" cy="180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SSB_P310a.jpg"/>
          <p:cNvPicPr/>
          <p:nvPr/>
        </p:nvPicPr>
        <p:blipFill>
          <a:blip r:embed="rId5"/>
          <a:stretch/>
        </p:blipFill>
        <p:spPr>
          <a:xfrm>
            <a:off x="581040" y="1397160"/>
            <a:ext cx="1862280" cy="158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SSB_P311_ 2a.jpg"/>
          <p:cNvPicPr/>
          <p:nvPr/>
        </p:nvPicPr>
        <p:blipFill>
          <a:blip r:embed="rId6"/>
          <a:stretch/>
        </p:blipFill>
        <p:spPr>
          <a:xfrm>
            <a:off x="2604960" y="1397160"/>
            <a:ext cx="1868760" cy="158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SSB_P312_2a.jpg"/>
          <p:cNvPicPr/>
          <p:nvPr/>
        </p:nvPicPr>
        <p:blipFill>
          <a:blip r:embed="rId7"/>
          <a:stretch/>
        </p:blipFill>
        <p:spPr>
          <a:xfrm>
            <a:off x="4635360" y="1397160"/>
            <a:ext cx="1868760" cy="158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SSB_P313a.jpg"/>
          <p:cNvPicPr/>
          <p:nvPr/>
        </p:nvPicPr>
        <p:blipFill>
          <a:blip r:embed="rId8"/>
          <a:stretch/>
        </p:blipFill>
        <p:spPr>
          <a:xfrm>
            <a:off x="6664320" y="1397160"/>
            <a:ext cx="186228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ating magnesium in a boiling tube attached to a bag of oxy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SSB_P314a.jpg"/>
          <p:cNvPicPr/>
          <p:nvPr/>
        </p:nvPicPr>
        <p:blipFill>
          <a:blip r:embed="rId1"/>
          <a:stretch/>
        </p:blipFill>
        <p:spPr>
          <a:xfrm>
            <a:off x="2325600" y="1343160"/>
            <a:ext cx="4492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 the magnesium reacts with the oxygen, the plastic bag cru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SSB_P315a.jpg"/>
          <p:cNvPicPr/>
          <p:nvPr/>
        </p:nvPicPr>
        <p:blipFill>
          <a:blip r:embed="rId1"/>
          <a:stretch/>
        </p:blipFill>
        <p:spPr>
          <a:xfrm>
            <a:off x="2325600" y="1343160"/>
            <a:ext cx="4492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resentations of the atom structures of magnesium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xygen and magnesium ox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SSB_P225b.png"/>
          <p:cNvPicPr/>
          <p:nvPr/>
        </p:nvPicPr>
        <p:blipFill>
          <a:blip r:embed="rId1"/>
          <a:stretch/>
        </p:blipFill>
        <p:spPr>
          <a:xfrm>
            <a:off x="539640" y="2135160"/>
            <a:ext cx="2521080" cy="201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SSB_P227b.png"/>
          <p:cNvPicPr/>
          <p:nvPr/>
        </p:nvPicPr>
        <p:blipFill>
          <a:blip r:embed="rId2"/>
          <a:stretch/>
        </p:blipFill>
        <p:spPr>
          <a:xfrm>
            <a:off x="3311640" y="2135160"/>
            <a:ext cx="2520720" cy="201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SSB_P226b.png"/>
          <p:cNvPicPr/>
          <p:nvPr/>
        </p:nvPicPr>
        <p:blipFill>
          <a:blip r:embed="rId3"/>
          <a:stretch/>
        </p:blipFill>
        <p:spPr>
          <a:xfrm>
            <a:off x="6083280" y="2135160"/>
            <a:ext cx="2521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6:17Z</dcterms:created>
  <dc:creator>SEP</dc:creator>
  <dc:description/>
  <dc:language>en-US</dc:language>
  <cp:lastModifiedBy/>
  <dcterms:modified xsi:type="dcterms:W3CDTF">2011-10-21T09:36:53Z</dcterms:modified>
  <cp:revision>187</cp:revision>
  <dc:subject/>
  <dc:title>SEP</dc:title>
</cp:coreProperties>
</file>