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jpeg" ContentType="image/jpeg"/>
  <Override PartName="/ppt/media/image16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83B7-A83F-4472-95FF-41C23C109F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B3F8-73B2-4A85-AB40-A265BFEB4B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E8D7-5A8F-4503-92A9-F68D3CA139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08A5-8036-4074-BE60-7EF36DDC2B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4F3C-024F-4931-911C-249F3EEA84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9D99-18A9-4CE4-A572-3B9B65751B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AA83-3247-4BA3-A2CB-C79698D331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8261-EC3D-46C5-91A4-D37C085C0C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7477-35AD-45B7-B63D-4D0B819CB3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7901-EB0A-4628-9DB1-92ECA598B4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5C83-EB91-4894-95AA-FEA8F70C17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688F-E81E-4513-883E-45C45C9C6C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1CE6-7162-45ED-B5EC-9BD2952944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3FD1-2A5A-4246-90B1-84212F25B6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9D22-2B98-404F-9B91-6D45040912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-7920" y="0"/>
            <a:ext cx="9151920" cy="690480"/>
          </a:xfrm>
          <a:prstGeom prst="rect">
            <a:avLst/>
          </a:prstGeom>
          <a:solidFill>
            <a:srgbClr val="192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0"/>
          <p:cNvSpPr/>
          <p:nvPr/>
        </p:nvSpPr>
        <p:spPr>
          <a:xfrm>
            <a:off x="160200" y="304920"/>
            <a:ext cx="388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GATSBY SCIENCE ENHANCEMENT PROGRAM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1"/>
          <p:cNvSpPr/>
          <p:nvPr/>
        </p:nvSpPr>
        <p:spPr>
          <a:xfrm>
            <a:off x="4199040" y="30492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Arial"/>
                <a:ea typeface="Arial"/>
              </a:rPr>
              <a:t>INNOVATIONS IN PRACTICAL WORK: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 STUFF AND SUBS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2"/>
          <p:cNvSpPr/>
          <p:nvPr/>
        </p:nvSpPr>
        <p:spPr>
          <a:xfrm>
            <a:off x="792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34"/>
          <p:cNvSpPr/>
          <p:nvPr/>
        </p:nvSpPr>
        <p:spPr>
          <a:xfrm>
            <a:off x="7920" y="541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-7920" y="6324480"/>
            <a:ext cx="9151920" cy="533520"/>
          </a:xfrm>
          <a:prstGeom prst="rect">
            <a:avLst/>
          </a:prstGeom>
          <a:solidFill>
            <a:srgbClr val="192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ocolate is a mixture of substances and does no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ave a well-defined melting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SSB_P004a.jpg"/>
          <p:cNvPicPr/>
          <p:nvPr/>
        </p:nvPicPr>
        <p:blipFill>
          <a:blip r:embed="rId1"/>
          <a:stretch/>
        </p:blipFill>
        <p:spPr>
          <a:xfrm>
            <a:off x="3220920" y="1343160"/>
            <a:ext cx="27021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find out how much carbon dioxide is dissolved, a measured volume in a boiling tube can be heated in a beaker of hot water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SSB_P018a.jpg"/>
          <p:cNvPicPr/>
          <p:nvPr/>
        </p:nvPicPr>
        <p:blipFill>
          <a:blip r:embed="rId1"/>
          <a:stretch/>
        </p:blipFill>
        <p:spPr>
          <a:xfrm>
            <a:off x="3222720" y="1343160"/>
            <a:ext cx="26985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carbon dioxide can be collected with a plastic bag, and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olume estimated by squashing it inside a measuring ju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SSB_P052a.jpg"/>
          <p:cNvPicPr/>
          <p:nvPr/>
        </p:nvPicPr>
        <p:blipFill>
          <a:blip r:embed="rId1"/>
          <a:stretch/>
        </p:blipFill>
        <p:spPr>
          <a:xfrm>
            <a:off x="2173320" y="1343160"/>
            <a:ext cx="4797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le representation of evaporation, showing a water particle being knocked out by a high energy air p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SSB_P216.PNG"/>
          <p:cNvPicPr/>
          <p:nvPr/>
        </p:nvPicPr>
        <p:blipFill>
          <a:blip r:embed="rId1"/>
          <a:stretch/>
        </p:blipFill>
        <p:spPr>
          <a:xfrm>
            <a:off x="1353960" y="1343160"/>
            <a:ext cx="6436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le representation of evaporation, showing a high energy water particle leaving on its 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SSB_P229.PNG"/>
          <p:cNvPicPr/>
          <p:nvPr/>
        </p:nvPicPr>
        <p:blipFill>
          <a:blip r:embed="rId1"/>
          <a:stretch/>
        </p:blipFill>
        <p:spPr>
          <a:xfrm>
            <a:off x="1542960" y="1343160"/>
            <a:ext cx="6058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ter will evaporate faster from the container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ith the larger surface are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SSB_P019a.jpg"/>
          <p:cNvPicPr/>
          <p:nvPr/>
        </p:nvPicPr>
        <p:blipFill>
          <a:blip r:embed="rId1"/>
          <a:stretch/>
        </p:blipFill>
        <p:spPr>
          <a:xfrm>
            <a:off x="3220920" y="1343160"/>
            <a:ext cx="27021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mixture of substances does not have a well-defined melting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SSB_P210.PNG"/>
          <p:cNvPicPr/>
          <p:nvPr/>
        </p:nvPicPr>
        <p:blipFill>
          <a:blip r:embed="rId1"/>
          <a:stretch/>
        </p:blipFill>
        <p:spPr>
          <a:xfrm>
            <a:off x="2906640" y="1343160"/>
            <a:ext cx="333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concept map summarizing key id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D102b.jpg"/>
          <p:cNvPicPr/>
          <p:nvPr/>
        </p:nvPicPr>
        <p:blipFill>
          <a:blip r:embed="rId1"/>
          <a:stretch/>
        </p:blipFill>
        <p:spPr>
          <a:xfrm>
            <a:off x="1978200" y="1343160"/>
            <a:ext cx="5187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ples of testing for dissolving: salt, sugar, chalk, copper sulfate, glycerine, olive oil and green food colou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SSB_P006-11c.jpg"/>
          <p:cNvPicPr/>
          <p:nvPr/>
        </p:nvPicPr>
        <p:blipFill>
          <a:blip r:embed="rId1"/>
          <a:stretch/>
        </p:blipFill>
        <p:spPr>
          <a:xfrm>
            <a:off x="749160" y="1703520"/>
            <a:ext cx="76456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le representations of dissolving: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grain of sugar in water (left) and after dissolving (righ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SSB_P211b.png"/>
          <p:cNvPicPr/>
          <p:nvPr/>
        </p:nvPicPr>
        <p:blipFill>
          <a:blip r:embed="rId1"/>
          <a:stretch/>
        </p:blipFill>
        <p:spPr>
          <a:xfrm>
            <a:off x="539640" y="1703520"/>
            <a:ext cx="3811680" cy="287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SSB_P212b.png"/>
          <p:cNvPicPr/>
          <p:nvPr/>
        </p:nvPicPr>
        <p:blipFill>
          <a:blip r:embed="rId2"/>
          <a:stretch/>
        </p:blipFill>
        <p:spPr>
          <a:xfrm>
            <a:off x="4809960" y="1703520"/>
            <a:ext cx="37944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le representations of solutions of three differen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bstances in water: sugar; glycerine; and ammon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7" descr="SSB_P213.PNG"/>
          <p:cNvPicPr/>
          <p:nvPr/>
        </p:nvPicPr>
        <p:blipFill>
          <a:blip r:embed="rId1"/>
          <a:stretch/>
        </p:blipFill>
        <p:spPr>
          <a:xfrm>
            <a:off x="539640" y="1522440"/>
            <a:ext cx="2611440" cy="324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SSB_P214.PNG"/>
          <p:cNvPicPr/>
          <p:nvPr/>
        </p:nvPicPr>
        <p:blipFill>
          <a:blip r:embed="rId2"/>
          <a:stretch/>
        </p:blipFill>
        <p:spPr>
          <a:xfrm>
            <a:off x="3252960" y="1522440"/>
            <a:ext cx="2638080" cy="324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SSB_P215.PNG"/>
          <p:cNvPicPr/>
          <p:nvPr/>
        </p:nvPicPr>
        <p:blipFill>
          <a:blip r:embed="rId3"/>
          <a:stretch/>
        </p:blipFill>
        <p:spPr>
          <a:xfrm>
            <a:off x="6012000" y="1522440"/>
            <a:ext cx="2592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ter is introduced into a glass syringe filled with ammon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SSB_P305a.jpg"/>
          <p:cNvPicPr/>
          <p:nvPr/>
        </p:nvPicPr>
        <p:blipFill>
          <a:blip r:embed="rId1"/>
          <a:stretch/>
        </p:blipFill>
        <p:spPr>
          <a:xfrm>
            <a:off x="2322360" y="1343160"/>
            <a:ext cx="4499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plunger starts to move as the ammonia dissolves in the w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9" descr="SSB_P306a.jpg"/>
          <p:cNvPicPr/>
          <p:nvPr/>
        </p:nvPicPr>
        <p:blipFill>
          <a:blip r:embed="rId1"/>
          <a:stretch/>
        </p:blipFill>
        <p:spPr>
          <a:xfrm>
            <a:off x="2322360" y="1343160"/>
            <a:ext cx="4499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a bottle of carbonated water is opened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bbles of carbon dioxide app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SSB_P014a.jpg"/>
          <p:cNvPicPr/>
          <p:nvPr/>
        </p:nvPicPr>
        <p:blipFill>
          <a:blip r:embed="rId1"/>
          <a:stretch/>
        </p:blipFill>
        <p:spPr>
          <a:xfrm>
            <a:off x="3220920" y="1343160"/>
            <a:ext cx="27021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6:06:17Z</dcterms:created>
  <dc:creator>SEP</dc:creator>
  <dc:description/>
  <dc:language>en-US</dc:language>
  <cp:lastModifiedBy/>
  <dcterms:modified xsi:type="dcterms:W3CDTF">2011-10-21T09:36:45Z</dcterms:modified>
  <cp:revision>159</cp:revision>
  <dc:subject/>
  <dc:title>SEP</dc:title>
</cp:coreProperties>
</file>