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B00-19D5-4FDB-8D75-0026D6859E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5DF-EE17-4B37-A497-F26DE08AB3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A42-E987-4434-9CDB-E49ED33C7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6FDF-5C86-474E-A0BA-E983DFE7C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740D-5009-4269-97C0-8ECF1C2977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7C6-698B-4572-8377-16BB06CB0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1073-47E9-4075-AE6A-F0E9250903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BEC6-C08E-4CBC-BE43-B6166E5A5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113-73B2-4149-B213-28830453CA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5C5C-7569-48F3-9EDE-D19914934A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20E2-409F-4EBE-A7C3-A87AFF82A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CD38-1902-47DD-98AB-E4C3286F21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A28-CC0D-471D-9EA4-BC8467AECF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487-BD8A-429D-B1B7-94D71A487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7D1-158F-448F-B40F-8A1F97214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8EA2-E89E-4448-8C9E-3B803A36C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F41-8597-4217-9184-3CFB536BFB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64DF-6810-4F9C-91AF-6B94F97CE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7920" y="0"/>
            <a:ext cx="9151920" cy="69048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6020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904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  <a:ea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STUFF AND SUB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792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34"/>
          <p:cNvSpPr/>
          <p:nvPr/>
        </p:nvSpPr>
        <p:spPr>
          <a:xfrm>
            <a:off x="792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-7920" y="6324480"/>
            <a:ext cx="9151920" cy="533520"/>
          </a:xfrm>
          <a:prstGeom prst="rect">
            <a:avLst/>
          </a:prstGeom>
          <a:solidFill>
            <a:srgbClr val="192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tate of a substance depends on the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: Big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Tom Schmucker, © Katia Jirasova, © Yusaku Take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SSB_P101.jpg"/>
          <p:cNvPicPr/>
          <p:nvPr/>
        </p:nvPicPr>
        <p:blipFill>
          <a:blip r:embed="rId1"/>
          <a:stretch/>
        </p:blipFill>
        <p:spPr>
          <a:xfrm>
            <a:off x="539640" y="1522440"/>
            <a:ext cx="2160720" cy="32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SB_P102.jpg"/>
          <p:cNvPicPr/>
          <p:nvPr/>
        </p:nvPicPr>
        <p:blipFill>
          <a:blip r:embed="rId2"/>
          <a:stretch/>
        </p:blipFill>
        <p:spPr>
          <a:xfrm>
            <a:off x="2638440" y="1522440"/>
            <a:ext cx="3867120" cy="32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SB_P103.jpg"/>
          <p:cNvPicPr/>
          <p:nvPr/>
        </p:nvPicPr>
        <p:blipFill>
          <a:blip r:embed="rId3"/>
          <a:srcRect l="12011" t="0" r="7967" b="0"/>
          <a:stretch/>
        </p:blipFill>
        <p:spPr>
          <a:xfrm>
            <a:off x="6443640" y="1522440"/>
            <a:ext cx="21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ten lead being poured onto a slab of metal to cool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SSB_P302a.jpg"/>
          <p:cNvPicPr/>
          <p:nvPr/>
        </p:nvPicPr>
        <p:blipFill>
          <a:blip r:embed="rId1"/>
          <a:stretch/>
        </p:blipFill>
        <p:spPr>
          <a:xfrm>
            <a:off x="2322360" y="1343160"/>
            <a:ext cx="449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s of candle wax in the solid state (left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quid state (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SSB_P203.PNG"/>
          <p:cNvPicPr/>
          <p:nvPr/>
        </p:nvPicPr>
        <p:blipFill>
          <a:blip r:embed="rId1"/>
          <a:stretch/>
        </p:blipFill>
        <p:spPr>
          <a:xfrm>
            <a:off x="539640" y="1703520"/>
            <a:ext cx="3881520" cy="287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4" name="Picture 5" descr="SSB_P204.PNG"/>
          <p:cNvPicPr/>
          <p:nvPr/>
        </p:nvPicPr>
        <p:blipFill>
          <a:blip r:embed="rId2"/>
          <a:stretch/>
        </p:blipFill>
        <p:spPr>
          <a:xfrm>
            <a:off x="4711680" y="1706400"/>
            <a:ext cx="3894120" cy="288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id state representations of candle wax (left) and lead (righ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lead particles are drawn with thicker lines to represent greater ‘grip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SSB_P205.png"/>
          <p:cNvPicPr/>
          <p:nvPr/>
        </p:nvPicPr>
        <p:blipFill>
          <a:blip r:embed="rId1"/>
          <a:stretch/>
        </p:blipFill>
        <p:spPr>
          <a:xfrm>
            <a:off x="539640" y="1703520"/>
            <a:ext cx="3881520" cy="287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7" name="Picture 6" descr="SSB_P206.PNG"/>
          <p:cNvPicPr/>
          <p:nvPr/>
        </p:nvPicPr>
        <p:blipFill>
          <a:blip r:embed="rId2"/>
          <a:stretch/>
        </p:blipFill>
        <p:spPr>
          <a:xfrm>
            <a:off x="4708440" y="1703520"/>
            <a:ext cx="3897360" cy="287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would happen, if a drop of water insid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ealed plastic bag is he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SSB_P043a.jpg"/>
          <p:cNvPicPr/>
          <p:nvPr/>
        </p:nvPicPr>
        <p:blipFill>
          <a:blip r:embed="rId1"/>
          <a:stretch/>
        </p:blipFill>
        <p:spPr>
          <a:xfrm>
            <a:off x="2171880" y="13431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drop of water being injected into a hot gas syri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SSB_P303b.jpg"/>
          <p:cNvPicPr/>
          <p:nvPr/>
        </p:nvPicPr>
        <p:blipFill>
          <a:blip r:embed="rId1"/>
          <a:stretch/>
        </p:blipFill>
        <p:spPr>
          <a:xfrm>
            <a:off x="2320920" y="1343160"/>
            <a:ext cx="4502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lunger in the syringe moves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SSB_P304_1b.jpg"/>
          <p:cNvPicPr/>
          <p:nvPr/>
        </p:nvPicPr>
        <p:blipFill>
          <a:blip r:embed="rId1"/>
          <a:stretch/>
        </p:blipFill>
        <p:spPr>
          <a:xfrm>
            <a:off x="2322360" y="1343160"/>
            <a:ext cx="449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roup of particles representing a droplet (left). With enough energy the particles can move away from each other (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SSB_P207.PNG"/>
          <p:cNvPicPr/>
          <p:nvPr/>
        </p:nvPicPr>
        <p:blipFill>
          <a:blip r:embed="rId1"/>
          <a:stretch/>
        </p:blipFill>
        <p:spPr>
          <a:xfrm>
            <a:off x="539640" y="1703520"/>
            <a:ext cx="3934080" cy="287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Picture 6" descr="SSB_P208.PNG"/>
          <p:cNvPicPr/>
          <p:nvPr/>
        </p:nvPicPr>
        <p:blipFill>
          <a:blip r:embed="rId2"/>
          <a:stretch/>
        </p:blipFill>
        <p:spPr>
          <a:xfrm>
            <a:off x="4719600" y="1703520"/>
            <a:ext cx="3884760" cy="2879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lting and boiling points of three sub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SSB_P209.jpg"/>
          <p:cNvPicPr/>
          <p:nvPr/>
        </p:nvPicPr>
        <p:blipFill>
          <a:blip r:embed="rId1"/>
          <a:stretch/>
        </p:blipFill>
        <p:spPr>
          <a:xfrm>
            <a:off x="3171960" y="1343160"/>
            <a:ext cx="280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everyday materials are mixtures of substances (left); in the laboratory pure samples of substances are often required (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 (left image): Big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Lucie Rihov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SSB_P104.jpg"/>
          <p:cNvPicPr/>
          <p:nvPr/>
        </p:nvPicPr>
        <p:blipFill>
          <a:blip r:embed="rId1"/>
          <a:stretch/>
        </p:blipFill>
        <p:spPr>
          <a:xfrm>
            <a:off x="1619280" y="1343160"/>
            <a:ext cx="287172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SB_P105.jpg"/>
          <p:cNvPicPr/>
          <p:nvPr/>
        </p:nvPicPr>
        <p:blipFill>
          <a:blip r:embed="rId2"/>
          <a:stretch/>
        </p:blipFill>
        <p:spPr>
          <a:xfrm>
            <a:off x="4838760" y="1343160"/>
            <a:ext cx="268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rning a fuel and breaking a windscreen are both difficul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reverse, but only burning is a chemical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: Big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Ilya Glovatskiy, © Rafa Fabrykiewic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SSB_P106.jpg"/>
          <p:cNvPicPr/>
          <p:nvPr/>
        </p:nvPicPr>
        <p:blipFill>
          <a:blip r:embed="rId1"/>
          <a:stretch/>
        </p:blipFill>
        <p:spPr>
          <a:xfrm>
            <a:off x="539640" y="1522440"/>
            <a:ext cx="39988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SB_P107.jpg"/>
          <p:cNvPicPr/>
          <p:nvPr/>
        </p:nvPicPr>
        <p:blipFill>
          <a:blip r:embed="rId2"/>
          <a:stretch/>
        </p:blipFill>
        <p:spPr>
          <a:xfrm>
            <a:off x="4665600" y="1522440"/>
            <a:ext cx="3938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ing the concept of substance to ideas about particle theory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essential in developing students understa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 (left image): Big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Daniel7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SSB_P108.jpg"/>
          <p:cNvPicPr/>
          <p:nvPr/>
        </p:nvPicPr>
        <p:blipFill>
          <a:blip r:embed="rId1"/>
          <a:stretch/>
        </p:blipFill>
        <p:spPr>
          <a:xfrm>
            <a:off x="539640" y="1522440"/>
            <a:ext cx="421956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SB_P201b.png"/>
          <p:cNvPicPr/>
          <p:nvPr/>
        </p:nvPicPr>
        <p:blipFill>
          <a:blip r:embed="rId2"/>
          <a:stretch/>
        </p:blipFill>
        <p:spPr>
          <a:xfrm>
            <a:off x="4603680" y="1522440"/>
            <a:ext cx="3998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SSB_P110.jpg"/>
          <p:cNvPicPr/>
          <p:nvPr/>
        </p:nvPicPr>
        <p:blipFill>
          <a:blip r:embed="rId1"/>
          <a:stretch/>
        </p:blipFill>
        <p:spPr>
          <a:xfrm>
            <a:off x="4560840" y="1343160"/>
            <a:ext cx="2675160" cy="1800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gen cylinders (top left), oxygen cylinder (bottom left)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(top right), model of a water molecule (bottom righ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 (top left, bottom left): i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Ben Russel, © G Wurk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 (top right, bottom right): BigStockPhoto.com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Peter Gudella, © Carolina K. Smi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SSB_P109.jpg"/>
          <p:cNvPicPr/>
          <p:nvPr/>
        </p:nvPicPr>
        <p:blipFill>
          <a:blip r:embed="rId2"/>
          <a:stretch/>
        </p:blipFill>
        <p:spPr>
          <a:xfrm>
            <a:off x="1908000" y="1341360"/>
            <a:ext cx="2673360" cy="179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SB_P111.jpg"/>
          <p:cNvPicPr/>
          <p:nvPr/>
        </p:nvPicPr>
        <p:blipFill>
          <a:blip r:embed="rId3"/>
          <a:stretch/>
        </p:blipFill>
        <p:spPr>
          <a:xfrm>
            <a:off x="1908000" y="3141720"/>
            <a:ext cx="267516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SB_P112.jpg"/>
          <p:cNvPicPr/>
          <p:nvPr/>
        </p:nvPicPr>
        <p:blipFill>
          <a:blip r:embed="rId4"/>
          <a:stretch/>
        </p:blipFill>
        <p:spPr>
          <a:xfrm>
            <a:off x="4560840" y="3143160"/>
            <a:ext cx="267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dle wax melts in hot water but not in c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SSB_P003a.jpg"/>
          <p:cNvPicPr/>
          <p:nvPr/>
        </p:nvPicPr>
        <p:blipFill>
          <a:blip r:embed="rId1"/>
          <a:stretch/>
        </p:blipFill>
        <p:spPr>
          <a:xfrm>
            <a:off x="2173320" y="1343160"/>
            <a:ext cx="4797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melting point can be found by heating a water bath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th the wax floating in an aluminium foil ‘boat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SSB_P051b.jpg"/>
          <p:cNvPicPr/>
          <p:nvPr/>
        </p:nvPicPr>
        <p:blipFill>
          <a:blip r:embed="rId1"/>
          <a:stretch/>
        </p:blipFill>
        <p:spPr>
          <a:xfrm>
            <a:off x="3222720" y="1343160"/>
            <a:ext cx="2698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ubstance has a well defined melting point at which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changes from the solid state to the liquid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SSB_P202.PNG"/>
          <p:cNvPicPr/>
          <p:nvPr/>
        </p:nvPicPr>
        <p:blipFill>
          <a:blip r:embed="rId1"/>
          <a:stretch/>
        </p:blipFill>
        <p:spPr>
          <a:xfrm>
            <a:off x="3193920" y="1343160"/>
            <a:ext cx="2756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541008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dium chloride melts at a high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SSB_P301a.jpg"/>
          <p:cNvPicPr/>
          <p:nvPr/>
        </p:nvPicPr>
        <p:blipFill>
          <a:blip r:embed="rId1"/>
          <a:stretch/>
        </p:blipFill>
        <p:spPr>
          <a:xfrm>
            <a:off x="2270160" y="1343160"/>
            <a:ext cx="4603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/>
  <dcterms:modified xsi:type="dcterms:W3CDTF">2011-10-21T09:36:37Z</dcterms:modified>
  <cp:revision>146</cp:revision>
  <dc:subject/>
  <dc:title>SEP</dc:title>
</cp:coreProperties>
</file>