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F174-E19E-4326-96ED-5134D616FC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F9EA-C7C4-4259-97ED-9FDF1216AC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AB51-D737-41F0-BB9F-41EBFB2E39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E0E1-6946-4C9E-A6BB-10A709475B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5603-D823-4B14-A03E-5B1C04C05B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3E86-2175-4D2A-93AE-27473F6618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4BA-6012-4E0A-979A-788F139A4B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7236-CAEE-49EA-B114-104D514801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005E-E8C3-4348-9E5C-77419697E2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3A6F-0389-43F1-AB38-33D9D18D6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DE38-136F-4FD3-9A51-7732C31529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DB91-20F9-430A-8124-AFD4CA25C1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CE6-2D0E-427A-B8A2-20C0D16FB9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8112-A0FD-44D3-B930-2A091DDDE0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0B2B-BFF5-43E2-81EE-0CBB78726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15C6-6A61-4F63-948D-D60437FCB2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C75-478E-4107-AE62-380E7C4813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B680-9A69-47CF-A718-86BC42E4E3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1B2-429C-4B1D-AABC-244D9A1FC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25A8-AEE3-403A-90A2-3AD6497CB2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0754-2A44-4F76-9D35-624F378AB2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1BE6-5FC4-43CF-AD52-543186F543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0A0D-EFF4-47E6-B78F-02F3FD8A09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CF2D-B6A2-4AFD-A4BC-14AAE9D0F1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-7920" y="0"/>
            <a:ext cx="9151920" cy="69048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STUFF AND SUB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-7920" y="6324480"/>
            <a:ext cx="9151920" cy="53352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lting w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SSB_D010b.jpg"/>
          <p:cNvPicPr/>
          <p:nvPr/>
        </p:nvPicPr>
        <p:blipFill>
          <a:blip r:embed="rId1"/>
          <a:stretch/>
        </p:blipFill>
        <p:spPr>
          <a:xfrm>
            <a:off x="2292480" y="1343160"/>
            <a:ext cx="4559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much carbon dioxide is in carbonated wa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SSB_D009d.jpg"/>
          <p:cNvPicPr/>
          <p:nvPr/>
        </p:nvPicPr>
        <p:blipFill>
          <a:blip r:embed="rId1"/>
          <a:stretch/>
        </p:blipFill>
        <p:spPr>
          <a:xfrm>
            <a:off x="3184560" y="1343160"/>
            <a:ext cx="2774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effect does surface area have on evapo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SB_D011c.jpg"/>
          <p:cNvPicPr/>
          <p:nvPr/>
        </p:nvPicPr>
        <p:blipFill>
          <a:blip r:embed="rId1"/>
          <a:stretch/>
        </p:blipFill>
        <p:spPr>
          <a:xfrm>
            <a:off x="2670120" y="1343160"/>
            <a:ext cx="380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ng evaporation of different sub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SSB_D012c.jpg"/>
          <p:cNvPicPr/>
          <p:nvPr/>
        </p:nvPicPr>
        <p:blipFill>
          <a:blip r:embed="rId1"/>
          <a:stretch/>
        </p:blipFill>
        <p:spPr>
          <a:xfrm>
            <a:off x="2446200" y="1343160"/>
            <a:ext cx="4251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effect does temperature have on evapo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SSB_D014d.jpg"/>
          <p:cNvPicPr/>
          <p:nvPr/>
        </p:nvPicPr>
        <p:blipFill>
          <a:blip r:embed="rId1"/>
          <a:stretch/>
        </p:blipFill>
        <p:spPr>
          <a:xfrm>
            <a:off x="1365120" y="1343160"/>
            <a:ext cx="641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effect does a breeze have on evapo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SSB_D013c.jpg"/>
          <p:cNvPicPr/>
          <p:nvPr/>
        </p:nvPicPr>
        <p:blipFill>
          <a:blip r:embed="rId1"/>
          <a:stretch/>
        </p:blipFill>
        <p:spPr>
          <a:xfrm>
            <a:off x="2208240" y="1343160"/>
            <a:ext cx="472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xing stearin and sod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SSB_D015b.jpg"/>
          <p:cNvPicPr/>
          <p:nvPr/>
        </p:nvPicPr>
        <p:blipFill>
          <a:blip r:embed="rId1"/>
          <a:stretch/>
        </p:blipFill>
        <p:spPr>
          <a:xfrm>
            <a:off x="1006560" y="1343160"/>
            <a:ext cx="7130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ng the different sub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SSB_D016a.jpg"/>
          <p:cNvPicPr/>
          <p:nvPr/>
        </p:nvPicPr>
        <p:blipFill>
          <a:blip r:embed="rId1"/>
          <a:stretch/>
        </p:blipFill>
        <p:spPr>
          <a:xfrm>
            <a:off x="1455840" y="1343160"/>
            <a:ext cx="6232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cting magnesium with oxy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SSB_D017a.jpg"/>
          <p:cNvPicPr/>
          <p:nvPr/>
        </p:nvPicPr>
        <p:blipFill>
          <a:blip r:embed="rId1"/>
          <a:stretch/>
        </p:blipFill>
        <p:spPr>
          <a:xfrm>
            <a:off x="2198520" y="1343160"/>
            <a:ext cx="4746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ing the change in mass of magnes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SSB_D018b.jpg"/>
          <p:cNvPicPr/>
          <p:nvPr/>
        </p:nvPicPr>
        <p:blipFill>
          <a:blip r:embed="rId1"/>
          <a:stretch/>
        </p:blipFill>
        <p:spPr>
          <a:xfrm>
            <a:off x="2535120" y="1343160"/>
            <a:ext cx="407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igating rusting through qualitative obser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SSB_D019b.jpg"/>
          <p:cNvPicPr/>
          <p:nvPr/>
        </p:nvPicPr>
        <p:blipFill>
          <a:blip r:embed="rId1"/>
          <a:stretch/>
        </p:blipFill>
        <p:spPr>
          <a:xfrm>
            <a:off x="2828880" y="1343160"/>
            <a:ext cx="3486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ing the melting point of w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SSB_D001c.jpg"/>
          <p:cNvPicPr/>
          <p:nvPr/>
        </p:nvPicPr>
        <p:blipFill>
          <a:blip r:embed="rId1"/>
          <a:stretch/>
        </p:blipFill>
        <p:spPr>
          <a:xfrm>
            <a:off x="3384720" y="982800"/>
            <a:ext cx="237456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igating rusting through quantitative obser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SSB_D020b.jpg"/>
          <p:cNvPicPr/>
          <p:nvPr/>
        </p:nvPicPr>
        <p:blipFill>
          <a:blip r:embed="rId1"/>
          <a:stretch/>
        </p:blipFill>
        <p:spPr>
          <a:xfrm>
            <a:off x="2414520" y="1343160"/>
            <a:ext cx="4314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ll boiling wax set al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SB_D021b.jpg"/>
          <p:cNvPicPr/>
          <p:nvPr/>
        </p:nvPicPr>
        <p:blipFill>
          <a:blip r:embed="rId1"/>
          <a:stretch/>
        </p:blipFill>
        <p:spPr>
          <a:xfrm>
            <a:off x="2454120" y="1343160"/>
            <a:ext cx="4235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lass wick candle: lighting the ‘smoke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SSB_D022c.jpg"/>
          <p:cNvPicPr/>
          <p:nvPr/>
        </p:nvPicPr>
        <p:blipFill>
          <a:blip r:embed="rId1"/>
          <a:stretch/>
        </p:blipFill>
        <p:spPr>
          <a:xfrm>
            <a:off x="539640" y="2448000"/>
            <a:ext cx="3457800" cy="216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SB_D023b.jpg"/>
          <p:cNvPicPr/>
          <p:nvPr/>
        </p:nvPicPr>
        <p:blipFill>
          <a:blip r:embed="rId2"/>
          <a:stretch/>
        </p:blipFill>
        <p:spPr>
          <a:xfrm>
            <a:off x="4875120" y="2494080"/>
            <a:ext cx="3225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the products of a lighted cand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SSB_D024c.jpg"/>
          <p:cNvPicPr/>
          <p:nvPr/>
        </p:nvPicPr>
        <p:blipFill>
          <a:blip r:embed="rId1"/>
          <a:stretch/>
        </p:blipFill>
        <p:spPr>
          <a:xfrm>
            <a:off x="2565360" y="1343160"/>
            <a:ext cx="401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lting sodium chlo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SSB_D002b.jpg"/>
          <p:cNvPicPr/>
          <p:nvPr/>
        </p:nvPicPr>
        <p:blipFill>
          <a:blip r:embed="rId1"/>
          <a:stretch/>
        </p:blipFill>
        <p:spPr>
          <a:xfrm>
            <a:off x="3314880" y="134316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lting l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SSB_D003d.jpg"/>
          <p:cNvPicPr/>
          <p:nvPr/>
        </p:nvPicPr>
        <p:blipFill>
          <a:blip r:embed="rId1"/>
          <a:stretch/>
        </p:blipFill>
        <p:spPr>
          <a:xfrm>
            <a:off x="3168720" y="1079640"/>
            <a:ext cx="4741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dicting with the particle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SSB_D004e.jpg"/>
          <p:cNvPicPr/>
          <p:nvPr/>
        </p:nvPicPr>
        <p:blipFill>
          <a:blip r:embed="rId1"/>
          <a:stretch/>
        </p:blipFill>
        <p:spPr>
          <a:xfrm>
            <a:off x="2516040" y="1343160"/>
            <a:ext cx="4111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ating a drop of water in a glass syri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SSB_D005d.jpg"/>
          <p:cNvPicPr/>
          <p:nvPr/>
        </p:nvPicPr>
        <p:blipFill>
          <a:blip r:embed="rId1"/>
          <a:stretch/>
        </p:blipFill>
        <p:spPr>
          <a:xfrm>
            <a:off x="1432080" y="1343160"/>
            <a:ext cx="6279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lting behaviour of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SSB_D006d.jpg"/>
          <p:cNvPicPr/>
          <p:nvPr/>
        </p:nvPicPr>
        <p:blipFill>
          <a:blip r:embed="rId1"/>
          <a:stretch/>
        </p:blipFill>
        <p:spPr>
          <a:xfrm>
            <a:off x="2709720" y="1344600"/>
            <a:ext cx="37245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gnising dissolving: which substances dissolv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which do not dissol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SSB_D007b.jpg"/>
          <p:cNvPicPr/>
          <p:nvPr/>
        </p:nvPicPr>
        <p:blipFill>
          <a:blip r:embed="rId1"/>
          <a:stretch/>
        </p:blipFill>
        <p:spPr>
          <a:xfrm>
            <a:off x="663480" y="1703520"/>
            <a:ext cx="7817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olving gases: ammonia and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SB_D008d.jpg"/>
          <p:cNvPicPr/>
          <p:nvPr/>
        </p:nvPicPr>
        <p:blipFill>
          <a:blip r:embed="rId1"/>
          <a:stretch/>
        </p:blipFill>
        <p:spPr>
          <a:xfrm>
            <a:off x="949320" y="1343160"/>
            <a:ext cx="724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10-21T09:36:27Z</dcterms:modified>
  <cp:revision>208</cp:revision>
  <dc:subject/>
  <dc:title>SEP</dc:title>
</cp:coreProperties>
</file>