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F6C0-EEC0-4F1D-A0C7-26271B6FE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5BDF-133E-4E7C-A967-D1975F93B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CF5F-1F4B-49E3-AFB1-031D6EE65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BDE3-6CB2-4863-93E2-AA0334100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FDAA-F096-4AEB-BC52-723C94BF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667A-A4FF-448B-8242-F71E95B61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4F61-F824-4847-83E2-1C7856A76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B233-4DAC-484E-AA01-C1F9F8F4E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287F-4706-4064-A4B2-9BEAD282D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2707-13CD-430B-80C9-B2616168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34A4-9BD5-4F6C-8FF1-6A714ECF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D704-C2AF-4506-823D-4D802E0B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03280" y="6244920"/>
            <a:ext cx="662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7A0C3-4AA5-4639-ADBD-C518F4D95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50920" y="5734080"/>
            <a:ext cx="91908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508360" y="2349360"/>
            <a:ext cx="2663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 Condensed Extra Bold"/>
              </a:rPr>
              <a:t>5.9 Writing an 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588000" y="549360"/>
            <a:ext cx="1897200" cy="1252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372360" y="5157720"/>
            <a:ext cx="2286000" cy="885960"/>
          </a:xfrm>
          <a:prstGeom prst="rect">
            <a:avLst/>
          </a:prstGeom>
          <a:ln w="0">
            <a:noFill/>
          </a:ln>
        </p:spPr>
      </p:pic>
      <p:grpSp>
        <p:nvGrpSpPr>
          <p:cNvPr id="45" name=""/>
          <p:cNvGrpSpPr/>
          <p:nvPr/>
        </p:nvGrpSpPr>
        <p:grpSpPr>
          <a:xfrm>
            <a:off x="900000" y="1052640"/>
            <a:ext cx="3855960" cy="4273560"/>
            <a:chOff x="900000" y="1052640"/>
            <a:chExt cx="3855960" cy="4273560"/>
          </a:xfrm>
        </p:grpSpPr>
        <p:pic>
          <p:nvPicPr>
            <p:cNvPr id="46" name="" descr=""/>
            <p:cNvPicPr/>
            <p:nvPr/>
          </p:nvPicPr>
          <p:blipFill>
            <a:blip r:embed="rId3"/>
            <a:stretch/>
          </p:blipFill>
          <p:spPr>
            <a:xfrm>
              <a:off x="900000" y="1052640"/>
              <a:ext cx="3855960" cy="384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4"/>
            <a:stretch/>
          </p:blipFill>
          <p:spPr>
            <a:xfrm>
              <a:off x="975960" y="4653000"/>
              <a:ext cx="3780000" cy="673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795240" y="4554360"/>
            <a:ext cx="4176720" cy="1324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atsby Technical Education Projects 2008. This slide may be used solely in the purchaser’s school or college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n abstrac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497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t is the ‘shop window’ of scientific activity, and accompanies articles, papers and reviews as well as presentations and posters given at conference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t will generally be the first thing read by somebody when they encounter the article or activity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t should be concise and clear, presenting the aims, components and conclusions of the work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atsby Technical Education Projects 2008. This slide may be used solely in the purchaser’s school or college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key features of an abstrac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497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 should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 short (150-200 words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ve 1 or 2 sentences of introductio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tain a condensed description of the contents of the article and any arguments presented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tain a description of the most important findings in the articl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tain a 1 or 2 sentence summary of the conclusions / recommendations presented in the articl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 written as one paragraph with no secondary heading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atsby Technical Education Projects 2008. This slide may be used solely in the purchaser’s school or college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would an abstract for a research paper differ from one for a revie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 research paper focuses on the use of specific techniques and methodologies to answer a question posed by the researcher.  The abstract will make mention of the question, the methodologies and the results / conclusion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 review draws together research from a large number of research papers or other sources.  As such, the abstract will centre on the themes of the review and the conclusions drawn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atsby Technical Education Projects 2008. This slide may be used solely in the purchaser’s school or college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79280" y="5589720"/>
            <a:ext cx="1224000" cy="12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71640" y="2349360"/>
            <a:ext cx="7056360" cy="1806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Gatsby Technical Education Projects 2008. This slide may be used solely in the purchaser’s school or college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7:48:27Z</dcterms:created>
  <dc:creator>dr1d06</dc:creator>
  <dc:description/>
  <dc:language>en-US</dc:language>
  <cp:lastModifiedBy>jdavies</cp:lastModifiedBy>
  <dcterms:modified xsi:type="dcterms:W3CDTF">2008-10-29T12:55:45Z</dcterms:modified>
  <cp:revision>11</cp:revision>
  <dc:subject/>
  <dc:title>Plastics from Potatoes</dc:title>
</cp:coreProperties>
</file>