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84872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42920" y="3818520"/>
            <a:ext cx="784872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42920" y="381852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840" y="381852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50760" y="134136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42920" y="381852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50760" y="381852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435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42920" y="381852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4840" y="381852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42920" y="3818520"/>
            <a:ext cx="784872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84872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42920" y="3818520"/>
            <a:ext cx="784872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42920" y="381852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4840" y="381852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50760" y="134136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42920" y="381852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50760" y="3818520"/>
            <a:ext cx="25272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435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920" y="381852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840" y="381852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840" y="1341360"/>
            <a:ext cx="383004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2920" y="3818520"/>
            <a:ext cx="784872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grpSp>
        <p:nvGrpSpPr>
          <p:cNvPr id="2" name="Group 6"/>
          <p:cNvGrpSpPr/>
          <p:nvPr/>
        </p:nvGrpSpPr>
        <p:grpSpPr>
          <a:xfrm>
            <a:off x="108000" y="71280"/>
            <a:ext cx="1491480" cy="285840"/>
            <a:chOff x="108000" y="71280"/>
            <a:chExt cx="1491480" cy="285840"/>
          </a:xfrm>
        </p:grpSpPr>
        <p:pic>
          <p:nvPicPr>
            <p:cNvPr id="3" name="Picture 7" descr="Faculty logo.gif"/>
            <p:cNvPicPr/>
            <p:nvPr/>
          </p:nvPicPr>
          <p:blipFill>
            <a:blip r:embed="rId2"/>
            <a:stretch/>
          </p:blipFill>
          <p:spPr>
            <a:xfrm>
              <a:off x="108000" y="71280"/>
              <a:ext cx="2854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Box 8"/>
            <p:cNvSpPr/>
            <p:nvPr/>
          </p:nvSpPr>
          <p:spPr>
            <a:xfrm>
              <a:off x="400680" y="71280"/>
              <a:ext cx="119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6699ff"/>
                  </a:solidFill>
                  <a:latin typeface="Verdana"/>
                </a:rPr>
                <a:t>Computing at SJ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icture 14" descr="hero-border-left-223x306"/>
          <p:cNvPicPr/>
          <p:nvPr/>
        </p:nvPicPr>
        <p:blipFill>
          <a:blip r:embed="rId3"/>
          <a:stretch/>
        </p:blipFill>
        <p:spPr>
          <a:xfrm>
            <a:off x="468360" y="1341360"/>
            <a:ext cx="504720" cy="4751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Wheat image"/>
          <p:cNvPicPr/>
          <p:nvPr/>
        </p:nvPicPr>
        <p:blipFill>
          <a:blip r:embed="rId4"/>
          <a:stretch/>
        </p:blipFill>
        <p:spPr>
          <a:xfrm>
            <a:off x="6337440" y="2349360"/>
            <a:ext cx="2771640" cy="3419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2" descr="microsite_edexcellogo"/>
          <p:cNvPicPr/>
          <p:nvPr/>
        </p:nvPicPr>
        <p:blipFill>
          <a:blip r:embed="rId5"/>
          <a:stretch/>
        </p:blipFill>
        <p:spPr>
          <a:xfrm>
            <a:off x="7667640" y="6308640"/>
            <a:ext cx="12286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3"/>
          <p:cNvSpPr/>
          <p:nvPr/>
        </p:nvSpPr>
        <p:spPr>
          <a:xfrm>
            <a:off x="179280" y="6308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 Shared &gt; ICT &gt; Year 9 &gt; Soci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1"/>
          <p:cNvSpPr/>
          <p:nvPr/>
        </p:nvSpPr>
        <p:spPr>
          <a:xfrm>
            <a:off x="7451640" y="609300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3"/>
          <p:cNvSpPr/>
          <p:nvPr/>
        </p:nvSpPr>
        <p:spPr>
          <a:xfrm>
            <a:off x="36360" y="6211800"/>
            <a:ext cx="5543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108000" y="71280"/>
            <a:ext cx="1491480" cy="285840"/>
            <a:chOff x="108000" y="71280"/>
            <a:chExt cx="1491480" cy="285840"/>
          </a:xfrm>
        </p:grpSpPr>
        <p:pic>
          <p:nvPicPr>
            <p:cNvPr id="48" name="Picture 7" descr="Faculty logo.gif"/>
            <p:cNvPicPr/>
            <p:nvPr/>
          </p:nvPicPr>
          <p:blipFill>
            <a:blip r:embed="rId2"/>
            <a:stretch/>
          </p:blipFill>
          <p:spPr>
            <a:xfrm>
              <a:off x="108000" y="71280"/>
              <a:ext cx="2854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8"/>
            <p:cNvSpPr/>
            <p:nvPr/>
          </p:nvSpPr>
          <p:spPr>
            <a:xfrm>
              <a:off x="400680" y="71280"/>
              <a:ext cx="119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6699ff"/>
                  </a:solidFill>
                  <a:latin typeface="Verdana"/>
                </a:rPr>
                <a:t>Computing at SJ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4" descr="hero-border-left-223x306"/>
          <p:cNvPicPr/>
          <p:nvPr/>
        </p:nvPicPr>
        <p:blipFill>
          <a:blip r:embed="rId3"/>
          <a:stretch/>
        </p:blipFill>
        <p:spPr>
          <a:xfrm>
            <a:off x="468360" y="1341360"/>
            <a:ext cx="504720" cy="475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Wheat image"/>
          <p:cNvPicPr/>
          <p:nvPr/>
        </p:nvPicPr>
        <p:blipFill>
          <a:blip r:embed="rId4"/>
          <a:stretch/>
        </p:blipFill>
        <p:spPr>
          <a:xfrm>
            <a:off x="6337440" y="2349360"/>
            <a:ext cx="2771640" cy="341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microsite_edexcellogo"/>
          <p:cNvPicPr/>
          <p:nvPr/>
        </p:nvPicPr>
        <p:blipFill>
          <a:blip r:embed="rId5"/>
          <a:stretch/>
        </p:blipFill>
        <p:spPr>
          <a:xfrm>
            <a:off x="7667640" y="6308640"/>
            <a:ext cx="1228680" cy="247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3"/>
          <p:cNvSpPr/>
          <p:nvPr/>
        </p:nvSpPr>
        <p:spPr>
          <a:xfrm>
            <a:off x="179280" y="6308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 Shared &gt; ICT &gt; Year 9 &gt; Soci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7451640" y="609300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36360" y="6211800"/>
            <a:ext cx="5543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36360" y="6211800"/>
            <a:ext cx="5543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k0xgjUhEG3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5160" y="2460240"/>
            <a:ext cx="7270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99"/>
                </a:solidFill>
                <a:latin typeface="Verdana"/>
              </a:rPr>
              <a:t>Algorithms: Flowcharts and Pseudocode</a:t>
            </a:r>
            <a:endParaRPr b="0" lang="en-US" sz="54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ntent Placeholder 3" descr=""/>
          <p:cNvPicPr/>
          <p:nvPr/>
        </p:nvPicPr>
        <p:blipFill>
          <a:blip r:embed="rId1">
            <a:alphaModFix amt="0"/>
          </a:blip>
          <a:srcRect l="14176" t="30358" r="65034" b="42310"/>
          <a:stretch/>
        </p:blipFill>
        <p:spPr>
          <a:xfrm>
            <a:off x="1390680" y="1481040"/>
            <a:ext cx="3894120" cy="4095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Example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403280" y="1576440"/>
            <a:ext cx="3600360" cy="360360"/>
          </a:xfrm>
          <a:prstGeom prst="rect">
            <a:avLst/>
          </a:prstGeom>
          <a:solidFill>
            <a:srgbClr val="bbe0e3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5722920" y="1177920"/>
            <a:ext cx="2952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the program a name that describes what it will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492200" y="5342040"/>
            <a:ext cx="3529080" cy="360360"/>
          </a:xfrm>
          <a:prstGeom prst="rect">
            <a:avLst/>
          </a:prstGeom>
          <a:solidFill>
            <a:srgbClr val="bbe0e3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5718240" y="5396040"/>
            <a:ext cx="3174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 must end with “en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5722920" y="233028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ructions one after the other (“in sequenc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1476360" y="2565360"/>
            <a:ext cx="3527280" cy="719280"/>
          </a:xfrm>
          <a:prstGeom prst="rect">
            <a:avLst/>
          </a:prstGeom>
          <a:solidFill>
            <a:srgbClr val="bbe0e3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5722920" y="3432240"/>
            <a:ext cx="2952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of a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501920" y="4221000"/>
            <a:ext cx="3519360" cy="981360"/>
          </a:xfrm>
          <a:prstGeom prst="rect">
            <a:avLst/>
          </a:prstGeom>
          <a:solidFill>
            <a:srgbClr val="bbe0e3">
              <a:alpha val="4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722920" y="4413240"/>
            <a:ext cx="2952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 of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8"/>
          <p:cNvCxnSpPr>
            <a:stCxn id="116" idx="1"/>
          </p:cNvCxnSpPr>
          <p:nvPr/>
        </p:nvCxnSpPr>
        <p:spPr>
          <a:xfrm flipH="1">
            <a:off x="5003280" y="1639440"/>
            <a:ext cx="72000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25" name="Straight Arrow Connector 16"/>
          <p:cNvCxnSpPr>
            <a:stCxn id="121" idx="1"/>
          </p:cNvCxnSpPr>
          <p:nvPr/>
        </p:nvCxnSpPr>
        <p:spPr>
          <a:xfrm flipH="1" flipV="1">
            <a:off x="5003280" y="2975760"/>
            <a:ext cx="720000" cy="640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26" name="Straight Arrow Connector 18"/>
          <p:cNvCxnSpPr>
            <a:stCxn id="123" idx="1"/>
            <a:endCxn id="122" idx="3"/>
          </p:cNvCxnSpPr>
          <p:nvPr/>
        </p:nvCxnSpPr>
        <p:spPr>
          <a:xfrm flipH="1">
            <a:off x="5020560" y="4598640"/>
            <a:ext cx="702360" cy="1134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27" name="Straight Arrow Connector 21"/>
          <p:cNvCxnSpPr/>
          <p:nvPr/>
        </p:nvCxnSpPr>
        <p:spPr>
          <a:xfrm flipH="1">
            <a:off x="4995360" y="5589360"/>
            <a:ext cx="864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28" name="Straight Arrow Connector 24"/>
          <p:cNvCxnSpPr>
            <a:stCxn id="118" idx="1"/>
            <a:endCxn id="117" idx="3"/>
          </p:cNvCxnSpPr>
          <p:nvPr/>
        </p:nvCxnSpPr>
        <p:spPr>
          <a:xfrm flipH="1" flipV="1">
            <a:off x="5020920" y="5522040"/>
            <a:ext cx="697680" cy="57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Task 3: Pseudocode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Complete the pseudocode worksheet you are given. 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Extension: </a:t>
            </a: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write your own pseudocode for one or more of the following programs: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Writing “hello world” to the screen.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Asking the user their name and then saying “hello, [name]”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Asking the user whether they have computing today. If yes, they are told “today is a happy day”. If no, they are told “today is a sad day”.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Asking the user for the length and height of a triangle and then calculating the area.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Plenary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1978200" y="1563840"/>
            <a:ext cx="2604960" cy="711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Terminator 3"/>
          <p:cNvSpPr/>
          <p:nvPr/>
        </p:nvSpPr>
        <p:spPr>
          <a:xfrm>
            <a:off x="4508640" y="2657520"/>
            <a:ext cx="3349440" cy="692280"/>
          </a:xfrm>
          <a:prstGeom prst="flowChartTerminator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Data 4"/>
          <p:cNvSpPr/>
          <p:nvPr/>
        </p:nvSpPr>
        <p:spPr>
          <a:xfrm>
            <a:off x="1978200" y="3763800"/>
            <a:ext cx="3678120" cy="733680"/>
          </a:xfrm>
          <a:prstGeom prst="flowChartInputOutpu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lowchart: Decision 5"/>
          <p:cNvSpPr/>
          <p:nvPr/>
        </p:nvSpPr>
        <p:spPr>
          <a:xfrm>
            <a:off x="6315120" y="4130640"/>
            <a:ext cx="1893960" cy="1457280"/>
          </a:xfrm>
          <a:prstGeom prst="flowChartDecision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Lesson Objectives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16000" y="1341360"/>
            <a:ext cx="48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To know what an algorithm is and why these are so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To be able to produce flow diagrams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To know what pseudocode is and be able to interpret basic pseudo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\\hera\sscott$\My Settings\Temporary Internet Files\Content.IE5\WHC46Q5I\MP900442488[1].jpg"/>
          <p:cNvPicPr/>
          <p:nvPr/>
        </p:nvPicPr>
        <p:blipFill>
          <a:blip r:embed="rId1"/>
          <a:stretch/>
        </p:blipFill>
        <p:spPr>
          <a:xfrm>
            <a:off x="6156360" y="1773360"/>
            <a:ext cx="23288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Algorithm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41120" y="1184400"/>
            <a:ext cx="78483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ff"/>
                </a:solidFill>
                <a:latin typeface="Arial"/>
              </a:rPr>
              <a:t>Do you remember what an algorithm is?</a:t>
            </a:r>
            <a:endParaRPr b="0" lang="en-US" sz="26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6600"/>
                </a:solidFill>
                <a:latin typeface="Arial"/>
              </a:rPr>
              <a:t>An algorithm is a series of steps to solve a problem.</a:t>
            </a:r>
            <a:endParaRPr b="0" lang="en-US" sz="26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ff"/>
                </a:solidFill>
                <a:latin typeface="Arial"/>
              </a:rPr>
              <a:t>Computer scientists turn algorithms into programs – series of instructions for computers to follow to solve a problem.</a:t>
            </a:r>
            <a:endParaRPr b="0" lang="en-US" sz="26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ff"/>
                </a:solidFill>
                <a:latin typeface="Arial"/>
              </a:rPr>
              <a:t>Without computers, could we have algorithms?</a:t>
            </a:r>
            <a:endParaRPr b="0" lang="en-US" sz="26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ff"/>
                </a:solidFill>
                <a:latin typeface="Arial"/>
              </a:rPr>
              <a:t>Without algorithms, could we have computers?</a:t>
            </a:r>
            <a:endParaRPr b="0" lang="en-US" sz="26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Video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 friendship algorithm</a:t>
            </a: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(Optional if have Internet access)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Programmers often represent the stages of their algorithm as a flowchart before they write their programs. This is a skill you are going to work on today.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Flowcharts and Pseudocode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52360" y="1395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It is very important for programmers to plan their algorithms before writing them in code to make sure the know what they are making and any problems can be identified.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Two ways of doing this are: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Drawing flowcharts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Writing pseudocode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"/>
              </a:rPr>
              <a:t>This is what you are going to do today</a:t>
            </a:r>
            <a:endParaRPr b="0" lang="en-US" sz="24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Task 1: Key Words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Complete task 1 in the workbook filling in the missing words: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ff"/>
                </a:solidFill>
                <a:latin typeface="Arial"/>
              </a:rPr>
              <a:t>Algorithm</a:t>
            </a: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 – a series of ___________ to solve a ______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ff"/>
                </a:solidFill>
                <a:latin typeface="Arial"/>
              </a:rPr>
              <a:t>Program</a:t>
            </a: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 – a series of ___________ to be followed by a ____________ to solve a ______.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Task 2: Flowcharts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332000" y="1341360"/>
            <a:ext cx="741672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ff"/>
                </a:solidFill>
                <a:latin typeface="Arial"/>
              </a:rPr>
              <a:t>Complete the flowcharts worksh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ff"/>
                </a:solidFill>
                <a:latin typeface="Arial"/>
              </a:rPr>
              <a:t>After you complete a task use the answers provided to check your solu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GB" sz="2600" spc="-1" strike="noStrike">
                <a:solidFill>
                  <a:srgbClr val="3366ff"/>
                </a:solidFill>
                <a:latin typeface="Arial"/>
              </a:rPr>
              <a:t>There’s an extension task on the worksheet for you to complete if you have found this straight man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Pseudocode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42920" y="1341360"/>
            <a:ext cx="7848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Don’t worry – it sounds more confusing than it is!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Does anyone know what pseudo means at the start of a word?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HINT: What is a pseudonym?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Verdana"/>
              </a:rPr>
              <a:t>Pseudocode</a:t>
            </a:r>
            <a:endParaRPr b="0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28520" y="1184040"/>
            <a:ext cx="784836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Pseudocode means “fake code”. It looks like code, but it is written so that humans understand it, rather than computers.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Programmers use pseudocode to plan their algorithms. It can be understood by any programmer.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Arial"/>
              </a:rPr>
              <a:t>The algorithms can then be coded in a variety of programming languages.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0:37:49Z</dcterms:created>
  <dc:creator>SJL User</dc:creator>
  <dc:description/>
  <dc:language>en-US</dc:language>
  <cp:lastModifiedBy>Marty Edwards</cp:lastModifiedBy>
  <cp:lastPrinted>2015-09-07T17:19:21Z</cp:lastPrinted>
  <dcterms:modified xsi:type="dcterms:W3CDTF">2020-04-21T13:29:13Z</dcterms:modified>
  <cp:revision>324</cp:revision>
  <dc:subject/>
  <dc:title>ICT Master</dc:title>
</cp:coreProperties>
</file>