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683-0A05-4859-9E8B-FB6E2837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62B-5729-4C38-960E-8E58A9A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F1B-4844-4ABB-9990-12B30CED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E3D-0750-4135-BB03-A511D6AE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0D0-2BAD-41B6-BE4A-BFF6971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4DA-F967-49BC-A0FE-ED74C75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CBF-72E9-4265-B68F-7199D7E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F2E-EB76-4FC4-9B24-500D3764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93F-A830-491D-BFA1-E39C9F1D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741-1BB6-44ED-BFBA-99EAEA28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790-EC55-4F3D-A79E-2960EB0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607-8FF1-475E-89F7-E1D8395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44817-902F-4509-8997-AC0A0FAB1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057400" y="2286000"/>
            <a:ext cx="5181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93d3"/>
                </a:solidFill>
                <a:latin typeface="Arial"/>
                <a:ea typeface="Arial"/>
              </a:rPr>
              <a:t>Global Transpor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What is the fu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87480" y="6310440"/>
            <a:ext cx="3003480" cy="337320"/>
            <a:chOff x="87480" y="6310440"/>
            <a:chExt cx="3003480" cy="337320"/>
          </a:xfrm>
        </p:grpSpPr>
        <p:pic>
          <p:nvPicPr>
            <p:cNvPr id="43" name="Picture 12" descr=""/>
            <p:cNvPicPr/>
            <p:nvPr/>
          </p:nvPicPr>
          <p:blipFill>
            <a:blip r:embed="rId2"/>
            <a:stretch/>
          </p:blipFill>
          <p:spPr>
            <a:xfrm>
              <a:off x="87480" y="6320160"/>
              <a:ext cx="62604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9"/>
            <p:cNvSpPr/>
            <p:nvPr/>
          </p:nvSpPr>
          <p:spPr>
            <a:xfrm>
              <a:off x="713520" y="631044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e engineering careers at www.tomorrowsengineers.org.uk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5" descr="Boy_2.jpg"/>
          <p:cNvPicPr/>
          <p:nvPr/>
        </p:nvPicPr>
        <p:blipFill>
          <a:blip r:embed="rId2"/>
          <a:stretch/>
        </p:blipFill>
        <p:spPr>
          <a:xfrm>
            <a:off x="433440" y="3816360"/>
            <a:ext cx="1011240" cy="10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Girl.jpg"/>
          <p:cNvPicPr/>
          <p:nvPr/>
        </p:nvPicPr>
        <p:blipFill>
          <a:blip r:embed="rId3"/>
          <a:stretch/>
        </p:blipFill>
        <p:spPr>
          <a:xfrm>
            <a:off x="433440" y="276228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oy_1.jpg"/>
          <p:cNvPicPr/>
          <p:nvPr/>
        </p:nvPicPr>
        <p:blipFill>
          <a:blip r:embed="rId4"/>
          <a:stretch/>
        </p:blipFill>
        <p:spPr>
          <a:xfrm>
            <a:off x="433440" y="1712880"/>
            <a:ext cx="1011240" cy="1011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1424160" y="1863720"/>
            <a:ext cx="7251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We won’t do any better than aeroplanes. In the future they will become even bigger and f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1403280" y="2925720"/>
            <a:ext cx="727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Planes cause pollution! The carbon footprint of a plane journey is just too hig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1459080" y="3957480"/>
            <a:ext cx="721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Planes use non renewable fuels. That’s the main issue here – what are we going to do when these run out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439560" y="1268280"/>
            <a:ext cx="8704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0093d3"/>
                </a:solidFill>
                <a:latin typeface="Arial"/>
                <a:ea typeface="Arial"/>
              </a:rPr>
              <a:t>What is the future of global transpor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20"/>
          <p:cNvSpPr/>
          <p:nvPr/>
        </p:nvSpPr>
        <p:spPr>
          <a:xfrm>
            <a:off x="488880" y="4943520"/>
            <a:ext cx="81867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93d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542880" y="4917960"/>
            <a:ext cx="3038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Leave a comment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87480" y="6310440"/>
            <a:ext cx="3003480" cy="337320"/>
            <a:chOff x="87480" y="6310440"/>
            <a:chExt cx="3003480" cy="337320"/>
          </a:xfrm>
        </p:grpSpPr>
        <p:pic>
          <p:nvPicPr>
            <p:cNvPr id="55" name="Picture 12" descr=""/>
            <p:cNvPicPr/>
            <p:nvPr/>
          </p:nvPicPr>
          <p:blipFill>
            <a:blip r:embed="rId5"/>
            <a:stretch/>
          </p:blipFill>
          <p:spPr>
            <a:xfrm>
              <a:off x="87480" y="6320160"/>
              <a:ext cx="62604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9"/>
            <p:cNvSpPr/>
            <p:nvPr/>
          </p:nvSpPr>
          <p:spPr>
            <a:xfrm>
              <a:off x="713520" y="631044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e engineering careers at www.tomorrowsengineers.org.uk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20:57Z</dcterms:created>
  <dc:creator>Theresa Potts</dc:creator>
  <dc:description/>
  <dc:language>en-US</dc:language>
  <cp:lastModifiedBy>Margerison,Holly</cp:lastModifiedBy>
  <dcterms:modified xsi:type="dcterms:W3CDTF">2014-10-15T14:38:00Z</dcterms:modified>
  <cp:revision>38</cp:revision>
  <dc:subject/>
  <dc:title>Slide 1</dc:title>
</cp:coreProperties>
</file>