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FF32-B141-4519-9E5D-2ADBCBD7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126D-1396-42D5-A623-143ED3D0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EAB7-22D0-41D3-B784-A23B9B56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B656-A021-4568-BB16-E1496EB2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4CAF-0464-441F-BCB6-24A66502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D9C-3371-4641-A16B-96337D5B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2868-1E1F-4D09-8CFA-B7BDCA14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FA38-3C8B-4E85-8BAF-12DE63A0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6E8-FBD0-416D-9AD7-30A85A84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D825-B988-4536-9E3E-AE5F349D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219-B287-44B0-A803-534473C2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409-904F-4589-8224-0322B045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3221-8A9D-4154-B940-95417CF8A8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2448000" cy="70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Penguin Divers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852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9900"/>
                </a:solidFill>
                <a:latin typeface="Arial"/>
              </a:rPr>
              <a:t>Well Don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989000"/>
            <a:ext cx="9144000" cy="37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Penguins can fl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989000"/>
            <a:ext cx="9144000" cy="37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 Penguins lay eg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TRUE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89000"/>
            <a:ext cx="9144000" cy="37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. A young penguin is called a ch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TRU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89000"/>
            <a:ext cx="9144000" cy="37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Penguins are covered in 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89000"/>
            <a:ext cx="9144000" cy="37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. Penguins are very good swi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89000"/>
            <a:ext cx="9144000" cy="37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6. Penguins are mam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89000"/>
            <a:ext cx="9144000" cy="37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. Penguins live at the North P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989000"/>
            <a:ext cx="9144000" cy="37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8. Emperor penguins are the largest pengu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3:23:24Z</dcterms:created>
  <dc:creator>Laura Sutherland</dc:creator>
  <dc:description/>
  <dc:language>en-US</dc:language>
  <cp:lastModifiedBy>Lucie Muir</cp:lastModifiedBy>
  <dcterms:modified xsi:type="dcterms:W3CDTF">2011-06-08T11:07:26Z</dcterms:modified>
  <cp:revision>4</cp:revision>
  <dc:subject/>
  <dc:title>Slide 1</dc:title>
</cp:coreProperties>
</file>