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B8E-CDB0-405A-9B1E-F06116BD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the largest species of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lives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well adapted to survive in the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a large body with small head and fli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old their flippers close to their body, imagine standing with your arms crossed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uddle together to keep warm (adults and chicks both do th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ip up their feet, stand on their heels, reduce contact with the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don’t build a nest for their eggs, instead the male carries the egg on its feet to incubate it, in a pouch of feathery skin to keep it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he only Antarctic bird that breeds in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t all penguins live in cold environments – this is the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Galapagos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t is one of the smallest penguins in the world (height about 50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t is the most northerly penguin in the world, lives at the equator (Galapagos Is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y are adapted to a </a:t>
            </a: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"/>
              </a:rPr>
              <a:t>war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environment – different adaptations because their habitat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lose heat through flippers and feet (opposite problem to penguins that live in cold habita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pends lots of time in the water keeping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ants like a dog to lose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eek shade, stay ou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uffle feathers to release air trapped beneath (like opening your coat zip when you’re too 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nests in burrows where it is cool and she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ckhopper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ctive yellow feathers on the sides of the head – part of the group of ‘crested penguin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e for life, always return to the same place every year to lay their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it in turns to sit on the egg (unlike the emperor pengu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st on cliffs (as seen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’ across rocks in their cliff-top nesting sites – hence their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elie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camouflage – black on top, white below – look like they are wearing a tuxedo, or like a waiter in a posh restaur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a white ring around their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nest using small stones where they lay their egg then incubate it, rather than laying it in a burrow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lapagos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or keeping the egg on its feet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instrap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nother penguin with very distinctive markings – looks a bit like its wearing a helmet with its ‘chinstrap’ – hence th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eate nest in a circular platform made of small stones (similar to the Adelie pengu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Usually lays two eggs, and often both chicks will survive (rather than just on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Male and female share incubation d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eeds mainly on crustaceans (krill, like shrim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18 different species of penguin – if you want to learn more about the different types of penguin you can find them all on the ARKive website (www.arkive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its time to do the activity – we want you each to make your own penguin m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choose to make any type of penguin mask, here are a few examples showing the different species you could cho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the way animals and plants become better at living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llow them to live successfully in their habitat e.g. help with get the food they need, to communicate with each other, and to avoi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penguins species (types) are adapted to their differen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day we are going to talk specifically about pengu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xplore what the class already knows about pengu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re birds, so they 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annot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at fish, squid and crustaceans (such as kr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ng penguins are called ch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re are 18 different species of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re very good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ive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y are warm blooded, like mammals, so it is very important they are able to keep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penguins live in very cold environments, so they have adaptations to keep them warm (all these examples are illustrated with images of the emperor pengu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have a thick layer of blubber under their feathers which acts as insulation (like wh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have a very dense layer of feathers which acts to trap warm air and keep wate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y huddle together to reduce heat loss (adults and chicks both do th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 emperor penguin even raises its feet to reduce contact with the ice (balance on their heels and tail, like a trip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ment is also important for penguins, whether this is on land or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guins need to be able to move across the snow (or sand in this cas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ellanic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harder for penguins to move on land than in water, as penguins have short legs and large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have claws to grip onto the ice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too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pecies (like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prefer to slide across the ice – called tobogg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may not be very graceful on land, however when they are in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water penguins are very agile and graceful and also very sp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Lef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ng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Righ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too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guins are much more graceful in water than on land – they have a streamlined body (which is tapered at both ends) and can swim very quickly, up to 15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generate speed using their flippers (which are modified wings), and steer using their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very important for penguins to move effectively underwater because they enter the water is to hunt - find and catch food (fish, squid, crustacea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are a predator (such a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then you need adaptations that make it easier for you to catch your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eamlined body shape, move quickly through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unt in groups and work together to catch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*This slide contains animation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well as being good at hunting it is also very important that penguins are able to avoid predators – such as leopard seals and killer wh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can tell me what camouflage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ay for animals to hide from other animals by changing their appea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y might not look it, penguins are actually well camouflaged when swimming in water, because they are black on top and white undern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e you are a seal swimming in the ocean looking for pengu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(Left) if you are really deep and looking up, then you are looking towards the sky which is really bright, and all you will see is a penguins white belly 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(Right) if you are swimming near the surface and looking down where it is really dark, you will be looking at the penguins back which is also dark, so it’s well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nerall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predators of adult penguins – leopard seals and orcas, main predators of penguin chicks and eggs – skuas and pet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448000" cy="70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dn2.arkive.org/media/D0/D02DB7C5-7563-4CDE-B577-0372AF0269BB/Presentation.Large/Emperor-penguin-profil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cdn2.arkive.org/media/A5/A587C487-2669-4FDD-B503-4147A818AE3F/Presentation.Large/Emperor-penguin-chicks-with-adult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cdn2.arkive.org/media/E0/E0CB5710-569B-41A3-BC00-7EB35A70C5CF/Presentation.Large/Emperor-penguins-entering-water-en-masse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dn1.arkive.org/media/25/25058922-3C76-42F5-B867-4CDEDAC75047/Presentation.Large/Galapagos-penguin-in-nes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cdn2.arkive.org/media/97/979C9A23-FF61-4EF2-BAD5-C2E2655CEABE/Presentation.Large/Galapagos-penguin-in-surf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cdn2.arkive.org/media/C1/C1B606FD-0EAE-4CD1-8FE5-8D17DE7DD349/Presentation.Large/Galapagos-penguin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dn1.arkive.org/media/4D/4D39C17D-2D69-46F8-B89D-2FA60F3EAAEA/Presentation.Large/Southern-rockhopper-penguin-E-c-chrysocome-leaping-out-of-surf-onto-rocky-shore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dn2.arkive.org/media/92/92C598B0-F4B6-4C23-9288-5986B8A2F408/Presentation.Large/Pair-of-southern-rockhopper-penguins-E-c-chrysocome-allopreening-as-part-of-courtship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cdn2.arkive.org/media/C2/C275CFE0-F3D9-4222-BA7A-A1B23E516BD5/Presentation.Large/Southern-rockhopper-penguin-group-in-habitat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dn1.arkive.org/media/7B/7B2DF3C9-CE99-4F54-9ACC-BFDBED4E8081/Presentation.Large/Ad&#233;lie-penguin-walking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cdn2.arkive.org/media/8C/8C02FE80-1C1B-43C7-8739-A61557C383F6/Presentation.Large/Ad&#233;lie-penguin-incubating-egg-in-nest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cdn1.arkive.org/media/4D/4D8177DD-549A-4C90-A620-055FB90855A3/Presentation.Large/Ad&#233;lie-penguins-diving-into-the-sea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dn2.arkive.org/media/F0/F06BB6D2-87CC-45D0-AEBC-4943BD97F954/Presentation.Large/Chinstrap-penguin-portrai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cdn1.arkive.org/media/0F/0F32BF90-9BB2-44A1-9E1E-87051999F372/Presentation.Large/Chinstrap-penguins-walking-along-beach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cdn2.arkive.org/media/A0/A0768766-0444-48B5-BCA3-26343A73C5E6/Presentation.Large/Chinstrap-penguin-exiting-rough-seas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dn2.arkive.org/media/F0/F06BB6D2-87CC-45D0-AEBC-4943BD97F954/Presentation.Large/Chinstrap-penguin-portrai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cdn2.arkive.org/media/92/92C598B0-F4B6-4C23-9288-5986B8A2F408/Presentation.Large/Pair-of-southern-rockhopper-penguins-E-c-chrysocome-allopreening-as-part-of-courtship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cdn1.arkive.org/media/05/05B70AEE-6467-4955-AB96-2E6D968068DE/Presentation.Large/Emperor-penguin-chicks-huddled-in-a-cr&#232;che-to-retain-body-hea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dn1.arkive.org/media/6D/6D8DBB6A-4DEA-41D9-A2BE-20767705BBD7/Presentation.Large/Macaroni-penguin.jp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cdn2.arkive.org/media/D8/D8372CE5-1062-4827-96AC-2BD1D70A761C/Presentation.Large/Yellow-eyed-penguin-preening.jpg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cdn2.arkive.org/media/AB/AB70EC97-791F-4D34-8ACC-7F29818E31FE/Presentation.Large/King-penguin-portrait.jpg" TargetMode="External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2.arkive.org/media/C5/C5D640FB-58B0-473C-9938-965742E1C57F/Presentation.Large/Emperor-penguins-huddle-together-during-blizzard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cdn1.arkive.org/media/05/05B70AEE-6467-4955-AB96-2E6D968068DE/Presentation.Large/Emperor-penguin-chicks-huddled-in-a-cr&#232;che-to-retain-body-heat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cdn2.arkive.org/media/DE/DE6D9615-E1A9-48A9-925B-47A5303AC353/Presentation.Large/Emperor-penguin-lifting-feet-from-snow-to-retain-heat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n2.arkive.org/media/FF/FF9A1804-662B-4903-883D-407FF23A1B02/Presentation.Large/Close-up-of-adult-gentoo-penguin-feet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cdn1.arkive.org/media/19/19799538-C199-4DF5-8CE5-EBAC23DEA74F/Presentation.Large/Magellanic-penguin-arriving-on-shore-side-view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cdn1.arkive.org/media/43/43030D5E-3AF5-47A3-BCF5-28CD989FBDF2/Presentation.Large/Adult-emperor-penguin-tobogganing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cdn2.arkive.org/media/FC/FC9DB692-B87A-4EB8-A8C3-633057BEFCC0/Presentation.Large/Gentoo-penguins-porpois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5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enguin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55736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Emperor penguin prof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268280"/>
            <a:ext cx="4103640" cy="258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Emperor penguin chicks with adu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397188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Emperor penguins entering water en mass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421000"/>
            <a:ext cx="46800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3190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alapagos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Galapagos penguin in ne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187720"/>
            <a:ext cx="254664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Galapagos penguin in sur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125360"/>
            <a:ext cx="392292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Galapagos pengui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3892680"/>
            <a:ext cx="392292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533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ockhopper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Southern rockhopper penguin, E. c. chrysocome, leaping out of surf onto rocky sh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341360"/>
            <a:ext cx="3961080" cy="2638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Pair of southern rockhopper penguins, E. c. chrysocome, allopreening as part of court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102200"/>
            <a:ext cx="3959280" cy="258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Southern rockhopper penguin group in habit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325600"/>
            <a:ext cx="482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134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elie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Adélie penguin wal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392120"/>
            <a:ext cx="3889440" cy="254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délie penguin incubating egg in n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9800" y="4076640"/>
            <a:ext cx="3888000" cy="25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délie penguins diving into the se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187720"/>
            <a:ext cx="48956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1341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instrap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Chinstrap penguin portra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11640" y="1212840"/>
            <a:ext cx="3924360" cy="2505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Chinstrap penguins walking along bea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11640" y="3862440"/>
            <a:ext cx="3924360" cy="266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Chinstrap penguin exiting rough sea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200" y="2133720"/>
            <a:ext cx="489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05000"/>
            <a:ext cx="9144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ke your own penguin ma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Chinstrap penguin portra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77800"/>
            <a:ext cx="2879640" cy="1874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Pair of southern rockhopper penguins, E. c. chrysocome, allopreening as part of court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1840" y="465300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Emperor penguin chicks huddled in a crèche to retain body he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3280" y="4632480"/>
            <a:ext cx="2843280" cy="1917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2200" y="34146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nstrap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1840" y="41990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ckhoppe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0200" y="41990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 (ch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Macaroni pengu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404640"/>
            <a:ext cx="2006640" cy="295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Yellow-eyed penguin preeni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1477800"/>
            <a:ext cx="2843280" cy="187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84720" y="34146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ellow-eyed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422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caroni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King penguin portra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4653000"/>
            <a:ext cx="2879640" cy="1914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41990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ing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052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adap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13372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ay animals and plants become better at living in their habit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716280"/>
            <a:ext cx="7488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aptations allow animals and plants to live successfully in their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nd plants that live in different habitats need different adap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293600">
            <a:off x="2628720" y="2149200"/>
            <a:ext cx="3671640" cy="2636640"/>
          </a:xfrm>
          <a:prstGeom prst="irregularSeal2">
            <a:avLst/>
          </a:prstGeom>
          <a:solidFill>
            <a:srgbClr val="ff8d00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0720" y="31431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862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birds and have fea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293600">
            <a:off x="2628720" y="2149200"/>
            <a:ext cx="3671640" cy="2636640"/>
          </a:xfrm>
          <a:prstGeom prst="irregularSeal2">
            <a:avLst/>
          </a:prstGeom>
          <a:solidFill>
            <a:srgbClr val="ff8d00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31431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78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rm blooded (like mamm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119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not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5990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are 18 different species of pengu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3028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t fish, squid and crustaceans (like kr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385000">
            <a:off x="5579640" y="4309920"/>
            <a:ext cx="935280" cy="287640"/>
          </a:xfrm>
          <a:prstGeom prst="rightArrow">
            <a:avLst>
              <a:gd name="adj1" fmla="val 50000"/>
              <a:gd name="adj2" fmla="val 81289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395000">
            <a:off x="5651280" y="222228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2266400">
            <a:off x="2126520" y="25668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52000" y="20052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165800">
            <a:off x="2122560" y="3941280"/>
            <a:ext cx="861840" cy="28764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384800">
            <a:off x="2808000" y="4561920"/>
            <a:ext cx="934920" cy="287640"/>
          </a:xfrm>
          <a:prstGeom prst="rightArrow">
            <a:avLst>
              <a:gd name="adj1" fmla="val 50000"/>
              <a:gd name="adj2" fmla="val 81258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102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in the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465000">
            <a:off x="5940000" y="315756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870280"/>
            <a:ext cx="19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ng penguins are called ch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122800">
            <a:off x="4031640" y="463356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5391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very good swi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62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ying 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Emperor penguins huddle together during blizza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421000"/>
            <a:ext cx="4608360" cy="307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Emperor penguin chicks huddled in a crèche to retain body hea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052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Emperor penguin lifting feet from snow to retain he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4149720"/>
            <a:ext cx="3600360" cy="2397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628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vement – o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lose-up of adult gentoo penguin fe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044720"/>
            <a:ext cx="3600360" cy="2455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Magellanic penguin arriving on shore, side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2421000"/>
            <a:ext cx="4537080" cy="301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Adult emperor penguin toboggan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3645000"/>
            <a:ext cx="3600360" cy="2450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1964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516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ellanic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6145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too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628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vement –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King penguin swimming underwater"/>
          <p:cNvPicPr/>
          <p:nvPr/>
        </p:nvPicPr>
        <p:blipFill>
          <a:blip r:embed="rId1"/>
          <a:stretch/>
        </p:blipFill>
        <p:spPr>
          <a:xfrm>
            <a:off x="395280" y="242100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Gentoo penguins porpois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421000"/>
            <a:ext cx="4248000" cy="295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5516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too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516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ing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Emperor penguins descending to feed"/>
          <p:cNvPicPr/>
          <p:nvPr/>
        </p:nvPicPr>
        <p:blipFill>
          <a:blip r:embed="rId1"/>
          <a:stretch/>
        </p:blipFill>
        <p:spPr>
          <a:xfrm>
            <a:off x="1332000" y="1773360"/>
            <a:ext cx="6192720" cy="403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2000" y="59500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voiding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2279520"/>
            <a:ext cx="2953080" cy="3168720"/>
          </a:xfrm>
          <a:prstGeom prst="rect">
            <a:avLst/>
          </a:prstGeom>
          <a:solidFill>
            <a:srgbClr val="ed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279520"/>
            <a:ext cx="2952720" cy="3168720"/>
          </a:xfrm>
          <a:prstGeom prst="rect">
            <a:avLst/>
          </a:prstGeom>
          <a:solidFill>
            <a:srgbClr val="000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3216240"/>
            <a:ext cx="505080" cy="1081080"/>
          </a:xfrm>
          <a:prstGeom prst="ellipse">
            <a:avLst/>
          </a:prstGeom>
          <a:solidFill>
            <a:srgbClr val="f3f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216240"/>
            <a:ext cx="504720" cy="10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59260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k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5589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k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9103E-006 L 0.42934 -0.00532 E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69103E-006 L 0.40556 -0.00532 E">
                                      <p:cBhvr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3:56:01Z</dcterms:created>
  <dc:creator>Ruth Hendry</dc:creator>
  <dc:description/>
  <dc:language>en-US</dc:language>
  <cp:lastModifiedBy>Ruth Hendry</cp:lastModifiedBy>
  <dcterms:modified xsi:type="dcterms:W3CDTF">2011-06-15T08:42:30Z</dcterms:modified>
  <cp:revision>38</cp:revision>
  <dc:subject/>
  <dc:title>Slide 1</dc:title>
</cp:coreProperties>
</file>