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8A82-DD6B-4AE9-8A4D-01382966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C599-FAEB-4969-83CC-F3DECBAA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C04-66BC-4A2D-B063-D0872680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C11-D66C-4584-BAF0-2A6BA433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034-F51C-4CE5-934A-AF25C310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63D-10C6-4115-8A9E-78DB85E0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65C-1023-4279-BB86-46315E52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E8C9-8053-4C1E-9F46-90BFE3B1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7B2-3144-4EBE-87D2-89F1779D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91C-DB1E-4B96-A596-798EBB0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4CC-5959-4C6F-AA4D-5DDDE492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824-21A0-4D59-BC53-5B6775B5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E74-CF29-4AA7-8089-CB4B034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662-45B5-4DA5-8D07-06904FB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907-1E73-4E52-962E-C70639A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FB7-9EBF-4FA3-8400-A1D62E2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122-2BA2-4B4C-A003-075A9A3F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670-5021-4DE8-A24A-2673867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173-6FCF-4DFE-8A7C-1C53CFE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B8E-7BF1-490A-81B1-5DC696D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1E8-9629-4DCF-A975-D9AEFC6B3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188424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Key Stage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Magnetic Resonance Imag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Image bank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4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6mriscanner"/>
          <p:cNvPicPr/>
          <p:nvPr/>
        </p:nvPicPr>
        <p:blipFill>
          <a:blip r:embed="rId3"/>
          <a:stretch/>
        </p:blipFill>
        <p:spPr>
          <a:xfrm>
            <a:off x="927000" y="1422360"/>
            <a:ext cx="7364520" cy="3513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630600" y="54421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MRI sc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96800" y="575316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replacement 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754200" y="1225440"/>
            <a:ext cx="2868480" cy="441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4527720" y="1260360"/>
            <a:ext cx="3412800" cy="3675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4511520" y="497376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rt pacema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450720" y="567864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iencing p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fferent areas of the brain do different jo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847800" y="1816200"/>
            <a:ext cx="1238040" cy="15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4037040" y="1846440"/>
            <a:ext cx="1289160" cy="1542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5"/>
          <a:stretch/>
        </p:blipFill>
        <p:spPr>
          <a:xfrm>
            <a:off x="6443640" y="2298600"/>
            <a:ext cx="1495440" cy="111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6"/>
          <a:stretch/>
        </p:blipFill>
        <p:spPr>
          <a:xfrm>
            <a:off x="847800" y="4267080"/>
            <a:ext cx="1868400" cy="129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7"/>
          <a:stretch/>
        </p:blipFill>
        <p:spPr>
          <a:xfrm>
            <a:off x="4017960" y="4079880"/>
            <a:ext cx="1325520" cy="147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"/>
          <p:cNvPicPr/>
          <p:nvPr/>
        </p:nvPicPr>
        <p:blipFill>
          <a:blip r:embed="rId8"/>
          <a:stretch/>
        </p:blipFill>
        <p:spPr>
          <a:xfrm>
            <a:off x="6448320" y="4049640"/>
            <a:ext cx="1208160" cy="1508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3540240" y="57024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atching a fil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6067440" y="56689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stening to mus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865840" y="352260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lk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3784680" y="35352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ght finger wigg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538200" y="35305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ft finger wigg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in damage caused by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7" descr=""/>
          <p:cNvPicPr/>
          <p:nvPr/>
        </p:nvPicPr>
        <p:blipFill>
          <a:blip r:embed="rId3"/>
          <a:stretch/>
        </p:blipFill>
        <p:spPr>
          <a:xfrm>
            <a:off x="969840" y="2604960"/>
            <a:ext cx="2762280" cy="161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4"/>
          <a:stretch/>
        </p:blipFill>
        <p:spPr>
          <a:xfrm>
            <a:off x="4017960" y="2077920"/>
            <a:ext cx="3297240" cy="34545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"/>
          <p:cNvCxnSpPr/>
          <p:nvPr/>
        </p:nvCxnSpPr>
        <p:spPr>
          <a:xfrm flipV="1">
            <a:off x="3306240" y="5284440"/>
            <a:ext cx="1807560" cy="8676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8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xford University 7 Tesla mag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1154160" y="2327400"/>
            <a:ext cx="6391080" cy="3030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328680" y="1171440"/>
            <a:ext cx="854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aphs showing how the magnetic field changes as the distance from the head incr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Chart 10" descr=""/>
          <p:cNvPicPr/>
          <p:nvPr/>
        </p:nvPicPr>
        <p:blipFill>
          <a:blip r:embed="rId3"/>
          <a:stretch/>
        </p:blipFill>
        <p:spPr>
          <a:xfrm>
            <a:off x="4595760" y="2747880"/>
            <a:ext cx="4368960" cy="2443320"/>
          </a:xfrm>
          <a:prstGeom prst="rect">
            <a:avLst/>
          </a:prstGeom>
          <a:ln w="0">
            <a:noFill/>
          </a:ln>
        </p:spPr>
      </p:pic>
      <p:pic>
        <p:nvPicPr>
          <p:cNvPr id="98" name="Chart 11" descr=""/>
          <p:cNvPicPr/>
          <p:nvPr/>
        </p:nvPicPr>
        <p:blipFill>
          <a:blip r:embed="rId4"/>
          <a:stretch/>
        </p:blipFill>
        <p:spPr>
          <a:xfrm>
            <a:off x="152280" y="2728800"/>
            <a:ext cx="4434120" cy="2559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1:06:39Z</dcterms:created>
  <dc:creator>Heidi Johansen-Berg</dc:creator>
  <dc:description/>
  <dc:language>en-US</dc:language>
  <cp:lastModifiedBy>Annabel Cook</cp:lastModifiedBy>
  <cp:lastPrinted>2001-10-29T18:36:08Z</cp:lastPrinted>
  <dcterms:modified xsi:type="dcterms:W3CDTF">2014-01-02T09:16:32Z</dcterms:modified>
  <cp:revision>186</cp:revision>
  <dc:subject/>
  <dc:title>Defining mechanisms for rehabilitation  after stroke using FMRI</dc:title>
</cp:coreProperties>
</file>