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480" y="-360"/>
            <a:ext cx="3003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4960" y="739800"/>
            <a:ext cx="504036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48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7FE-D8BA-4D82-A96A-A85E712B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A0F-42B5-4B4A-A8B0-A29D58D9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9F71-40C1-4654-99B2-6E56FE2A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85A2-328F-4F9B-B8DB-33EACB46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34E-F940-438F-B797-1D7F914E1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EC9-A0CC-4693-8411-997D2D62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03840" y="9536040"/>
            <a:ext cx="3003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ADD7-1853-480B-A079-D52069CE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9640" y="4767120"/>
            <a:ext cx="50310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A5C-EA21-439C-9A2C-06118BC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908-A125-4BC2-977C-B342B87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7B3-07C5-4B8F-BBED-700622CE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B45-8C8A-4F24-8716-A80910AF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2AF-EEA3-45F3-AA86-D20DA5C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A62-F89F-4E05-90E8-BBE21FB2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FAD-24B0-4F56-B8FD-98737A1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AB0-E15D-49B6-B2E6-67C4DEDE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B53-AE2C-4774-B934-DEBD6C4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F9A-1003-4C85-BD79-EB48EDF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C92-3C20-4CFC-A8DA-C52308E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0EA-1954-4EB0-B3FA-C353B18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A4FF-1CCB-49A1-98FD-2C5A9124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188424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Tahoma"/>
              </a:rPr>
              <a:t>Key Stage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2228b"/>
                </a:solidFill>
                <a:latin typeface="Tahoma"/>
              </a:rPr>
              <a:t>Jet – Cool Blades </a:t>
            </a:r>
            <a:br>
              <a:rPr sz="3600"/>
            </a:br>
            <a:r>
              <a:rPr b="1" lang="en-US" sz="3600" spc="-1" strike="noStrike">
                <a:solidFill>
                  <a:srgbClr val="22228b"/>
                </a:solidFill>
                <a:latin typeface="Tahoma"/>
              </a:rPr>
              <a:t>and Perfect Properti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2228b"/>
                </a:solidFill>
                <a:latin typeface="Tahoma"/>
              </a:rPr>
              <a:t>Image bank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4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630600" y="54421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jet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6" descr="C:\Users\User\AppData\Local\Microsoft\Windows\Temporary Internet Files\Content.IE5\XRRLGA5Y\iStock_000002653709XSmall.jpg"/>
          <p:cNvPicPr/>
          <p:nvPr/>
        </p:nvPicPr>
        <p:blipFill>
          <a:blip r:embed="rId3"/>
          <a:stretch/>
        </p:blipFill>
        <p:spPr>
          <a:xfrm>
            <a:off x="1873080" y="1638360"/>
            <a:ext cx="5397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34960" y="548964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ide a jet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763560" y="1741320"/>
            <a:ext cx="77040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28600" y="56689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jet engine f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4" descr="C:\Users\User\AppData\Local\Microsoft\Windows\Temporary Internet Files\Content.IE5\MTN9NVAF\iStock_000010983352XSmall.jpg"/>
          <p:cNvPicPr/>
          <p:nvPr/>
        </p:nvPicPr>
        <p:blipFill>
          <a:blip r:embed="rId3"/>
          <a:stretch/>
        </p:blipFill>
        <p:spPr>
          <a:xfrm>
            <a:off x="2657520" y="1214280"/>
            <a:ext cx="37688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266760" y="5192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turbine bl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3271680" y="122724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28600" y="56689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ehead thermo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239840" y="1252440"/>
            <a:ext cx="66643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1:06:39Z</dcterms:created>
  <dc:creator>Heidi Johansen-Berg</dc:creator>
  <dc:description/>
  <dc:language>en-US</dc:language>
  <cp:lastModifiedBy>Michaela Livingstone</cp:lastModifiedBy>
  <cp:lastPrinted>2001-10-29T18:36:08Z</cp:lastPrinted>
  <dcterms:modified xsi:type="dcterms:W3CDTF">2015-01-07T10:41:35Z</dcterms:modified>
  <cp:revision>202</cp:revision>
  <dc:subject/>
  <dc:title>Defining mechanisms for rehabilitation  after stroke using FMRI</dc:title>
</cp:coreProperties>
</file>