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BD54-507D-41F0-B658-23CC81251B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15F-5141-4883-BD18-66C69637F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2B68-B79C-43CD-B12E-FEC8BBE55F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A880-3029-4B17-93ED-D80DADC04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52D2-A7D4-405D-97F3-A8E4BA232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04BE-A8F0-4EE0-B1F3-63D697901D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38F5-DCFA-4EAD-91D9-B6619E920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6FCA-486A-49DB-AB8E-82B14342B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E412-5EC7-40B9-B162-4E4BAA364F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59C2-18CA-4900-A705-A85EA0CEEE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8205-2985-444D-AA48-64F290A35A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EA5-A296-4576-8DF6-2CA3A35079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D889-1445-47F6-9591-5A945C9BC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5372-F902-4A19-B8C0-0561638D82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D4C7-90C2-459E-A1E2-E88677CB73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9AAE-4703-4C0D-AF31-8F2BFB9F38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EAD5-CBCB-4C51-A722-31DD6193C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CC45-B957-4C22-B5A1-EB4A6820A8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619D-A70F-4A3A-8919-22ED35CB0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EED5-46BC-4191-9961-07FEEAC56A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A823-84ED-4E9F-9B67-9843580612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8608-F82B-4C40-840B-382B6C56E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08D3-E57C-4349-B5B4-950F7538B1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640C-7DEA-4EDD-8D67-D8BC5BC9D6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3A1-68BD-483D-9F79-F85948647B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CE2-189D-4CAD-B2DE-5FA6E0E1B5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80E-9C07-4A0D-BF49-55AC95D9F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9CF-B053-4755-B263-9D5B49C690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78F-E1D5-4196-BAB4-124D830BA4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76F-7B3E-41EA-89C2-F580E8D169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E2C-F574-420F-BF5F-C6D207C7EA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0A1-C9B9-4830-8699-F533EE7BB2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85B-EDC9-4798-9B59-C45EA7EB0A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EFA-748C-4E00-B804-C48847C419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F10-4054-43FE-BC63-527CDBB2AE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174-871E-4657-8268-833C0EBDC4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5B725-30C4-4B21-8CA2-775D97C0D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E65BF-8875-4AA5-BF25-8553C71F92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42E75-F3C3-4003-B136-E38FC52C68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7E2F-926C-4F2F-80B7-2B83171642F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B0AD4-273F-4332-94CA-DA024447A7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2FF1-0CD1-4ABD-9ED8-8DB2B5B66B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183E6-FC64-438F-A216-D74447F775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E88B-6E72-4D81-A52B-ED7B949DA6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52E0C-EDAD-40F6-A231-97CEB76075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F00F1-B411-44F5-BA0C-0F29067EE5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1A5C0-A507-4DE5-B5DC-CA57B0DA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153A6-0327-4324-8AC4-C80707C309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2993-CF15-4F71-8220-0FBD88450C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E588-FE58-40B6-A378-8EA56817E1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FAFB8-5359-4574-9784-B9D2BF94EC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0B43B-40F0-4FC3-878B-A316A96FE2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6FC1A-F053-418D-8F7E-A1F39B4790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2C33-A2EE-4647-90B2-8CFD2ECE9C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BC437-FFD7-4DAC-BFCE-84522139DA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17E20-B800-4E3A-B6A3-E5F2A5D63F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9CBE-2BAE-4B0A-9A1E-E1644433C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3A0B7-51DF-4274-AF2B-D932C4DDC5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C1C0-6A33-4D40-A988-029FF290B1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DDE34-24D5-412A-BAF0-362EE882D5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DE2A-D565-4B23-9DA5-5AEE2F9E4C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0A6E-BDA3-4EA7-BFDA-B15B517FA8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8B14-6218-4FA2-B04E-07C6347B63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345-2247-41C7-80B8-997B3A93DB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5EE8-FE0A-48C1-A928-2FA25315F0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A825-302E-4B2B-9866-67845AF7D6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96C-295E-42D7-A4FC-E95F85439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FF71-652A-4CAA-9DCC-1943863339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FC3-E8AD-4534-B134-3739F2E160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ACA-2ADD-4DBE-9B32-998712F79E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8E8-B0BF-4360-8910-5D108218A4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258-5831-40A7-9C7C-11FE9AF73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E2D-31A0-44B2-8AEB-0C17C6712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77C-3855-4FD4-B053-9C9E6C5A7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DD24-ED23-4831-A368-B3BF4A199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E77-B6B6-4529-B295-AF72F78B1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AA0A-30A3-47ED-8D6C-83D39CE86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9E0-4992-4293-B0A2-39B8396009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5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F165-59C5-4A41-8532-137B7B146BC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3468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revi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learning from this uni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re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presentation to meet specified criteri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ir own work and othe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5E1-854A-44F2-9960-1851548A68A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765920" y="3224160"/>
            <a:ext cx="33163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0721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What makes a good presentation?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6240" y="1506240"/>
            <a:ext cx="115189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or the audienc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lear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mag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as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read text and fon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ullet points, o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hor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sentenc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Use of only a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olou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Keep i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imp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!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2140-1B83-4E3E-B181-D24EDFE2E42F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6850080" y="1623960"/>
            <a:ext cx="1441440" cy="1406520"/>
            <a:chOff x="6850080" y="1623960"/>
            <a:chExt cx="1441440" cy="1406520"/>
          </a:xfrm>
        </p:grpSpPr>
        <p:sp>
          <p:nvSpPr>
            <p:cNvPr id="334" name="Freeform: Shape 4"/>
            <p:cNvSpPr/>
            <p:nvPr/>
          </p:nvSpPr>
          <p:spPr>
            <a:xfrm>
              <a:off x="6982560" y="172044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Freeform: Shape 5"/>
            <p:cNvSpPr/>
            <p:nvPr/>
          </p:nvSpPr>
          <p:spPr>
            <a:xfrm>
              <a:off x="6850080" y="162396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Freeform: Shape 6"/>
            <p:cNvSpPr/>
            <p:nvPr/>
          </p:nvSpPr>
          <p:spPr>
            <a:xfrm>
              <a:off x="7827480" y="20001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: Shape 7"/>
            <p:cNvSpPr/>
            <p:nvPr/>
          </p:nvSpPr>
          <p:spPr>
            <a:xfrm>
              <a:off x="7363080" y="1947240"/>
              <a:ext cx="470520" cy="59148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: Shape 8"/>
            <p:cNvSpPr/>
            <p:nvPr/>
          </p:nvSpPr>
          <p:spPr>
            <a:xfrm>
              <a:off x="7181640" y="22161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8761320" y="2120760"/>
            <a:ext cx="1862280" cy="1816200"/>
            <a:chOff x="8761320" y="2120760"/>
            <a:chExt cx="1862280" cy="1816200"/>
          </a:xfrm>
        </p:grpSpPr>
        <p:sp>
          <p:nvSpPr>
            <p:cNvPr id="340" name="Freeform: Shape 27"/>
            <p:cNvSpPr/>
            <p:nvPr/>
          </p:nvSpPr>
          <p:spPr>
            <a:xfrm>
              <a:off x="8932680" y="224532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: Shape 28"/>
            <p:cNvSpPr/>
            <p:nvPr/>
          </p:nvSpPr>
          <p:spPr>
            <a:xfrm>
              <a:off x="8761320" y="212076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: Shape 29"/>
            <p:cNvSpPr/>
            <p:nvPr/>
          </p:nvSpPr>
          <p:spPr>
            <a:xfrm>
              <a:off x="10024200" y="2606400"/>
              <a:ext cx="7560" cy="75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3" name="Freeform: Shape 30"/>
            <p:cNvSpPr/>
            <p:nvPr/>
          </p:nvSpPr>
          <p:spPr>
            <a:xfrm>
              <a:off x="9424080" y="2538360"/>
              <a:ext cx="607680" cy="7639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4" name="Freeform: Shape 31"/>
            <p:cNvSpPr/>
            <p:nvPr/>
          </p:nvSpPr>
          <p:spPr>
            <a:xfrm>
              <a:off x="9189720" y="2885760"/>
              <a:ext cx="233640" cy="41292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7219800" y="3624120"/>
            <a:ext cx="1441440" cy="1405080"/>
            <a:chOff x="7219800" y="3624120"/>
            <a:chExt cx="1441440" cy="1405080"/>
          </a:xfrm>
        </p:grpSpPr>
        <p:sp>
          <p:nvSpPr>
            <p:cNvPr id="346" name="Freeform: Shape 33"/>
            <p:cNvSpPr/>
            <p:nvPr/>
          </p:nvSpPr>
          <p:spPr>
            <a:xfrm>
              <a:off x="7352280" y="372060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7" name="Freeform: Shape 34"/>
            <p:cNvSpPr/>
            <p:nvPr/>
          </p:nvSpPr>
          <p:spPr>
            <a:xfrm>
              <a:off x="7219800" y="362412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8" name="Freeform: Shape 35"/>
            <p:cNvSpPr/>
            <p:nvPr/>
          </p:nvSpPr>
          <p:spPr>
            <a:xfrm>
              <a:off x="8197200" y="39999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9" name="Freeform: Shape 36"/>
            <p:cNvSpPr/>
            <p:nvPr/>
          </p:nvSpPr>
          <p:spPr>
            <a:xfrm>
              <a:off x="7732800" y="3947040"/>
              <a:ext cx="470520" cy="5911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0" name="Freeform: Shape 37"/>
            <p:cNvSpPr/>
            <p:nvPr/>
          </p:nvSpPr>
          <p:spPr>
            <a:xfrm>
              <a:off x="7551360" y="42159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4475160"/>
            <a:ext cx="184464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482904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uccess criteria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E48-7D11-42E9-8BB3-0D438B183F9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79600" y="137304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ai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what you have learn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227640" y="137304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B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for your audienc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(your peers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79600" y="2916360"/>
            <a:ext cx="11032920" cy="128880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Includ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t least: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r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lide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uitable image (and the source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Italian word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creenshot of your spreadshee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79600" y="447516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Use no more tha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fonts and colour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6227640" y="447516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Check f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pelling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punctuatio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EF2-96B4-46B9-B2C0-36768F72832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dcterms:modified xsi:type="dcterms:W3CDTF">2019-11-08T12:37:53Z</dcterms:modified>
  <cp:revision>105</cp:revision>
  <dc:subject/>
  <dc:title>PowerPoint Presentation</dc:title>
</cp:coreProperties>
</file>