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sting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AA3-EB75-49AD-8A26-197BC342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5E7-2A34-49D7-A66F-11063121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950-31FA-4616-A275-1BE133D3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5E2-E616-40D4-8EAB-CE498F09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C5F-6EDF-405F-8817-3BFEED9E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0D4-69BA-4560-B574-E717E16A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ACD-F137-4610-B5AB-B7D097DB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7FE-7EC9-4307-9326-9713D040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5A1-1F07-4DF3-A02E-3A5E97D5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924-C4D3-4006-AE3B-788FF8B3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A7F-74B9-4C09-9BBF-EB1B4ED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5A7-97DD-40A1-9087-4A8DE37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03E1-34B0-43C1-A16E-1285983A2A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sting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tin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Who Wants To Be A Millionaire?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08000" y="3048120"/>
            <a:ext cx="5497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Ravie"/>
              </a:rPr>
              <a:t>Theory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Ravie"/>
              </a:rPr>
              <a:t>Smart and new material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6" descr="ag00317_"/>
          <p:cNvPicPr/>
          <p:nvPr/>
        </p:nvPicPr>
        <p:blipFill>
          <a:blip r:embed="rId1"/>
          <a:stretch/>
        </p:blipFill>
        <p:spPr>
          <a:xfrm>
            <a:off x="7405560" y="4340160"/>
            <a:ext cx="1720800" cy="221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ag00315_"/>
          <p:cNvPicPr/>
          <p:nvPr/>
        </p:nvPicPr>
        <p:blipFill>
          <a:blip r:embed="rId2"/>
          <a:stretch/>
        </p:blipFill>
        <p:spPr>
          <a:xfrm>
            <a:off x="-25560" y="46432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does SMA stan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mart material ace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hape memory all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ft malleable allo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rong material ace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does SMA stan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mart material ace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hape memory all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ft malleable allo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rong material acet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33520" y="46864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533520" y="5562720"/>
            <a:ext cx="8153280" cy="990360"/>
          </a:xfrm>
          <a:prstGeom prst="hexagon">
            <a:avLst>
              <a:gd name="adj" fmla="val 30911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aterial “Polymorph” is good fo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04880" y="274320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you need to join two dissimilar materials toget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Comic Sans MS"/>
              </a:rPr>
              <a:t>B</a:t>
            </a:r>
            <a:r>
              <a:rPr b="1" lang="en-US" sz="2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reating practical and function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Comic Sans MS"/>
              </a:rPr>
              <a:t>C</a:t>
            </a:r>
            <a:r>
              <a:rPr b="1" lang="en-US" sz="2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reating prototypes to solve manufacturing problems in unique shap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10000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2400" spc="-1" strike="noStrike" baseline="10000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en you need to make something very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0" y="514656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554040" y="26877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533520" y="46483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54040" y="5600880"/>
            <a:ext cx="8153280" cy="838080"/>
          </a:xfrm>
          <a:prstGeom prst="hexagon">
            <a:avLst>
              <a:gd name="adj" fmla="val 2963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aterial “Polymorph” is good fo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881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you need to join two dissimilar materials toget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eating practical and functional obje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reating prototypes to solve manufacturing problems in unique shap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you need to make something very quick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encapsulated materials are often used for what produc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mer dresses and T shi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nsive, exclusive produ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s in the army and police for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dages, underwear, tights and s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encapsulated materials are often used for what produc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mer dresses and T shi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pensive, exclusive 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s in the army and police for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dages, underwear, tights and s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hotochromic dy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ge colour in response to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e the dyes used on photograph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colour in response to UV/sun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hange shape in response to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hotochromic dyes…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8130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 colour in response to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the dyes used on photograph fi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 colour in response to UV/sun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hange shape in response to temperat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nteractive textiles ar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abrics that incorporate electron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brics that connect with the us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s that adapt and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abrics that connect to Bluetoo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nteractive textiles ar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abrics that incorporate electron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brics that connect with the us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s that adapt and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abrics that connect to  Bluetoo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otextiles are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5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extiles used in the space indus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extile materials that are used in civil engine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xtile materials that are used world 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extile materials used in the construction indus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otextiles are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xtiles used in the space indust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xtile materials that are used in civil engineer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xtile materials that are used worldwid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extile materials used in the construction indus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0280" y="3297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eotextile materials ca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sorb moisture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lter and separ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inforce and protec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Dra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definition of smart material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ew and unusual materials with special capabili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material that  responds  automatically to its  changing environ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mart materials respond automatically to a users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mart materials are very clever, new materia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Geotextile materials can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bsorb moistur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Filter and separat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inforce and prot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Dra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extile materials can be used  to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1760" y="26665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ild high rise stru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op weeds growing through pipes, ponds and drive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vent buildings from collapsing when an earthquake has stru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rotect and strengthen river embankments from ero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extile materials can be used to…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259200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uild high rise struc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op weeds growing through pipes, ponds and drivew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venting buildings from collapsing when earthquakes have stru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rotect and strengthen river embankments from ero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P stands for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803160" y="2743200"/>
            <a:ext cx="7620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lass reinforced plast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e restricted 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alvanized ridged pla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ld restricted plast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P stands for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2800" y="27428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Glass reinforced plastic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e restricted 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alvanized ridged pla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ld restricted plas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Ridiculously rich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stin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Phase changing materials….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1760" y="2433240"/>
            <a:ext cx="827388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n morph into different shapes, depending on the tempera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ould to their changing surroundings after receiving a blunt for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ter their shape in response to chan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bsorb, store and release heat to maintain body temperat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70c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Phase changing materials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62120" y="2433600"/>
            <a:ext cx="82738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n morph into different shapes, depending on the tempera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ould to their changing surroundings after receiving a blunt for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ter their shape in response to chan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bsorb, store and release heat to maintain body temperat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52236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definition of smart material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501640"/>
            <a:ext cx="85345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New and unusual materials that have special capabili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material that responds automatically to its changing environme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terial that responds automatically to users requ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art materials are very clever new material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does QTC stand fo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lifying  tough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Quantum Tunnelling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ck tough concrea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ntum tough concre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sting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52236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does QTC stand f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7960" y="2634840"/>
            <a:ext cx="85341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lifying tough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Quantum Tunnelling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ck tough concre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48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Quantum tough concr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is QTC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5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pressure sensitive material, when pressure it applied it allows electricity to flow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material with high tensile strength, when pressure is applied the molecules loc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 flexible material that can withstand much press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Comic Sans MS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moulding material that can be re-heated to form multiple shap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b0f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is QTC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2700000"/>
            <a:ext cx="7902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A pressure sensitive material, when pressure it applied it allows electricity to flow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material with high tensile strength, when pressure is applied the molecules 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 flexible material that can withstand much press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A moulding material that can be re-heated to form multiple shap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Leanne Bradley</cp:lastModifiedBy>
  <dcterms:modified xsi:type="dcterms:W3CDTF">2018-02-22T20:16:14Z</dcterms:modified>
  <cp:revision>38</cp:revision>
  <dc:subject/>
  <dc:title>Who Wants To Be A Millionaire?</dc:title>
</cp:coreProperties>
</file>