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2.png" ContentType="image/png"/>
  <Override PartName="/ppt/media/image21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3.jpeg" ContentType="image/jpeg"/>
  <Override PartName="/ppt/media/image27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6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30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8.png" ContentType="image/png"/>
  <Override PartName="/ppt/media/image38.png" ContentType="image/png"/>
  <Override PartName="/ppt/media/image37.jpeg" ContentType="image/jpeg"/>
  <Override PartName="/ppt/media/image39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9.jpeg" ContentType="image/jpeg"/>
  <Override PartName="/ppt/media/image1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67D7-FA32-414D-87F5-648090B2083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2 singles and a test in the 3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ingle less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4FBC-E6ED-414B-98AF-5F7A5F17064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8E37-16AE-447A-AF5D-DF3412F90C1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B2E1-EBBF-4AAD-B112-C9E4A06B27C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C7CA-74BC-4117-9CC0-91585EBE207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is a simple starter activity to get students to focus on plastic products common to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replace the list of products and plastics with suitable examples from the classroom students are 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46C8-9528-425D-9A50-DAB39067FA5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is a simple starter activity to get students to focus on plastic products common to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replace the list of products and plastics with suitable examples from the classroom students are 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rite key terms in box on workshe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rmoforming- Can be adjusted by heat sheets, granules, powder form and ro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rmosetting- cant be reheated, resin or powder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word thermoplastic and thermoset can be explored before revealing the descrip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r exampl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rmo = 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lastic = bend without breaking/flexible with the application of 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t = will not move after initial heat is appli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7DC3-6047-481D-A13B-89AF2626417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 mins but can miss ending o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91A0-83F5-44E0-A612-D5DAAE32AA9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8D71-7836-4B14-B899-149603A86CD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solid or liquid synthetic organic polymer used as the basis of plastics, adhesives, varnishes, or other produ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HIP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 - High Impact Polystyrene, it is a tough, rigid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plastic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 material with high impact strength which can be guillotined, punched, routered or sawn easily, and is readily available in a wide variety of col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t is glossy and is an easy to process plastic that is also sturdy and durable. It is furthermore also a rather flexible product that can be used for a diverse range of applications because it can resist high impact. The product is hygienic and visually attra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9195-5A8F-463C-8BD0-9A071A2BD48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06F6-E0FF-4EA7-AB82-EA2D00D56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9632-E1A5-445E-9D6F-291DF3AF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C39C-72D0-4381-9726-84668E2D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53AF-9B0C-4664-8707-D125550C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EEC6-05E7-4C51-A1C2-325A4771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68F0-5824-4659-B5F1-3A1F54049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6302-0A91-40F9-8D1E-16AFEE4C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F61B-27B2-4B5B-981B-4CD151E6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02F7-3D36-4515-9B7B-1366CFA5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BE0B-F0C4-4483-8997-5D2B8061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AB88-172D-4319-ADA0-9BC3A82C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7DB3-F084-46E4-B99F-C4D14657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D8DB-9887-4D9A-8088-3C2C869B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5EA5-EBA7-45FF-A2EC-EC152469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F703-8A5A-4C64-9445-D4BDEC8B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E01B-21F1-4287-80CA-40359A54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1F50-5F5F-479D-A8BC-23CF40932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5496-D24A-4673-B088-6EB93EA8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FBCF-0D5E-49C5-920B-0C581B00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740B-1C14-4FDA-A487-14A66271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3516-676E-49B2-805B-EC2D1596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4333D-CBC7-4CD1-ABCB-F55EE02AC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0F323-A677-4D47-9E97-C7B06811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C2283-5CA3-45D9-B728-4D0CAAA2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B4291-A290-40B2-82FB-43ADBD4F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7F96D-3333-44CE-A26B-A58B8B34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B7DA5-CE37-4913-A103-6425161F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9D169-DFF9-4900-A4F8-68105642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DA2B7-69C7-4206-BB5D-A13009E8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78DA1-4063-4E02-BF72-61CB8138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A720-EBF4-4326-B170-3A267293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EC155-FFC2-4F37-B1C7-4AA4787B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8D3CF-AF96-4DB1-9AD4-498CF9203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57C3E-1C86-4267-AE6F-4DE3CA51A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5A6A-E956-4227-AC1D-1E9F4058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4322-9C97-430D-9815-8AC647FA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FDE6-BA3A-4B93-9BF9-BDDC6FDFB837}" type="slidenum">
              <a:rPr b="0" lang="en-GB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Round Diagonal Corner Rectangle 8" descr=""/>
          <p:cNvPicPr/>
          <p:nvPr/>
        </p:nvPicPr>
        <p:blipFill>
          <a:blip r:embed="rId3"/>
          <a:stretch/>
        </p:blipFill>
        <p:spPr>
          <a:xfrm>
            <a:off x="6029280" y="-30240"/>
            <a:ext cx="3170160" cy="468360"/>
          </a:xfrm>
          <a:prstGeom prst="rect">
            <a:avLst/>
          </a:prstGeom>
          <a:ln w="0">
            <a:noFill/>
          </a:ln>
        </p:spPr>
      </p:pic>
      <p:pic>
        <p:nvPicPr>
          <p:cNvPr id="7" name="Rounded Rectangle 9" descr=""/>
          <p:cNvPicPr/>
          <p:nvPr/>
        </p:nvPicPr>
        <p:blipFill>
          <a:blip r:embed="rId4"/>
          <a:stretch/>
        </p:blipFill>
        <p:spPr>
          <a:xfrm>
            <a:off x="6029280" y="-30240"/>
            <a:ext cx="3170160" cy="468360"/>
          </a:xfrm>
          <a:prstGeom prst="rect">
            <a:avLst/>
          </a:prstGeom>
          <a:ln w="0">
            <a:noFill/>
          </a:ln>
        </p:spPr>
      </p:pic>
      <p:pic>
        <p:nvPicPr>
          <p:cNvPr id="8" name="Rounded Rectangle 10" descr=""/>
          <p:cNvPicPr/>
          <p:nvPr/>
        </p:nvPicPr>
        <p:blipFill>
          <a:blip r:embed="rId5"/>
          <a:stretch/>
        </p:blipFill>
        <p:spPr>
          <a:xfrm>
            <a:off x="5668920" y="-30240"/>
            <a:ext cx="3530520" cy="58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Round Diagonal Corner Rectangle 8" descr=""/>
          <p:cNvPicPr/>
          <p:nvPr/>
        </p:nvPicPr>
        <p:blipFill>
          <a:blip r:embed="rId3"/>
          <a:stretch/>
        </p:blipFill>
        <p:spPr>
          <a:xfrm>
            <a:off x="6029280" y="-30240"/>
            <a:ext cx="3170160" cy="468360"/>
          </a:xfrm>
          <a:prstGeom prst="rect">
            <a:avLst/>
          </a:prstGeom>
          <a:ln w="0">
            <a:noFill/>
          </a:ln>
        </p:spPr>
      </p:pic>
      <p:pic>
        <p:nvPicPr>
          <p:cNvPr id="47" name="Rounded Rectangle 9" descr=""/>
          <p:cNvPicPr/>
          <p:nvPr/>
        </p:nvPicPr>
        <p:blipFill>
          <a:blip r:embed="rId4"/>
          <a:stretch/>
        </p:blipFill>
        <p:spPr>
          <a:xfrm>
            <a:off x="6029280" y="-30240"/>
            <a:ext cx="3170160" cy="468360"/>
          </a:xfrm>
          <a:prstGeom prst="rect">
            <a:avLst/>
          </a:prstGeom>
          <a:ln w="0">
            <a:noFill/>
          </a:ln>
        </p:spPr>
      </p:pic>
      <p:pic>
        <p:nvPicPr>
          <p:cNvPr id="48" name="Rounded Rectangle 10" descr=""/>
          <p:cNvPicPr/>
          <p:nvPr/>
        </p:nvPicPr>
        <p:blipFill>
          <a:blip r:embed="rId5"/>
          <a:stretch/>
        </p:blipFill>
        <p:spPr>
          <a:xfrm>
            <a:off x="5668920" y="-30240"/>
            <a:ext cx="3530520" cy="584280"/>
          </a:xfrm>
          <a:prstGeom prst="rect">
            <a:avLst/>
          </a:prstGeom>
          <a:ln w="0">
            <a:noFill/>
          </a:ln>
        </p:spPr>
      </p:pic>
      <p:pic>
        <p:nvPicPr>
          <p:cNvPr id="49" name="Round Diagonal Corner Rectangle 11" descr=""/>
          <p:cNvPicPr/>
          <p:nvPr/>
        </p:nvPicPr>
        <p:blipFill>
          <a:blip r:embed="rId6"/>
          <a:stretch/>
        </p:blipFill>
        <p:spPr>
          <a:xfrm>
            <a:off x="122400" y="590400"/>
            <a:ext cx="2554200" cy="873360"/>
          </a:xfrm>
          <a:prstGeom prst="rect">
            <a:avLst/>
          </a:prstGeom>
          <a:ln w="0">
            <a:noFill/>
          </a:ln>
        </p:spPr>
      </p:pic>
      <p:pic>
        <p:nvPicPr>
          <p:cNvPr id="50" name="Round Diagonal Corner Rectangle 12" descr=""/>
          <p:cNvPicPr/>
          <p:nvPr/>
        </p:nvPicPr>
        <p:blipFill>
          <a:blip r:embed="rId7"/>
          <a:stretch/>
        </p:blipFill>
        <p:spPr>
          <a:xfrm>
            <a:off x="122400" y="2077920"/>
            <a:ext cx="2554200" cy="878040"/>
          </a:xfrm>
          <a:prstGeom prst="rect">
            <a:avLst/>
          </a:prstGeom>
          <a:ln w="0">
            <a:noFill/>
          </a:ln>
        </p:spPr>
      </p:pic>
      <p:pic>
        <p:nvPicPr>
          <p:cNvPr id="51" name="Round Diagonal Corner Rectangle 13" descr=""/>
          <p:cNvPicPr/>
          <p:nvPr/>
        </p:nvPicPr>
        <p:blipFill>
          <a:blip r:embed="rId8"/>
          <a:stretch/>
        </p:blipFill>
        <p:spPr>
          <a:xfrm>
            <a:off x="122400" y="3687840"/>
            <a:ext cx="2554200" cy="871560"/>
          </a:xfrm>
          <a:prstGeom prst="rect">
            <a:avLst/>
          </a:prstGeom>
          <a:ln w="0">
            <a:noFill/>
          </a:ln>
        </p:spPr>
      </p:pic>
      <p:grpSp>
        <p:nvGrpSpPr>
          <p:cNvPr id="52" name="Table 14"/>
          <p:cNvGrpSpPr/>
          <p:nvPr/>
        </p:nvGrpSpPr>
        <p:grpSpPr>
          <a:xfrm>
            <a:off x="0" y="5014800"/>
            <a:ext cx="9144000" cy="1889280"/>
            <a:chOff x="0" y="5014800"/>
            <a:chExt cx="9144000" cy="1889280"/>
          </a:xfrm>
        </p:grpSpPr>
        <p:sp>
          <p:nvSpPr>
            <p:cNvPr id="53" name=""/>
            <p:cNvSpPr/>
            <p:nvPr/>
          </p:nvSpPr>
          <p:spPr>
            <a:xfrm>
              <a:off x="0" y="5014800"/>
              <a:ext cx="1828800" cy="1889280"/>
            </a:xfrm>
            <a:prstGeom prst="rect">
              <a:avLst/>
            </a:prstGeom>
            <a:solidFill>
              <a:srgbClr val="f96a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entury Gothic"/>
                </a:rPr>
                <a:t>Believe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entury Gothic"/>
                </a:rPr>
                <a:t>Approach the task positive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828800" y="5014800"/>
              <a:ext cx="1828800" cy="18892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entury Gothic"/>
                </a:rPr>
                <a:t>Achieve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entury Gothic"/>
                </a:rPr>
                <a:t>Try to exceed my target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57600" y="5014800"/>
              <a:ext cx="1828800" cy="1889280"/>
            </a:xfrm>
            <a:prstGeom prst="rect">
              <a:avLst/>
            </a:prstGeom>
            <a:solidFill>
              <a:srgbClr val="5d72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entury Gothic"/>
                </a:rPr>
                <a:t>Succe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86400" y="5014800"/>
              <a:ext cx="1828800" cy="1889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entury Gothic"/>
                </a:rPr>
                <a:t>        </a:t>
              </a:r>
              <a:r>
                <a:rPr b="1" lang="en-GB" sz="1800" spc="-1" strike="noStrike">
                  <a:solidFill>
                    <a:srgbClr val="ffffff"/>
                  </a:solidFill>
                  <a:latin typeface="Century Gothic"/>
                </a:rPr>
                <a:t>Enjoy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entury Gothic"/>
                </a:rPr>
                <a:t>Have fun, enjoy lear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315200" y="5014800"/>
              <a:ext cx="1828800" cy="188928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entury Gothic"/>
                </a:rPr>
                <a:t>Support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Century Gothic"/>
                </a:rPr>
                <a:t>Work independently and support each oth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28800" y="5014800"/>
              <a:ext cx="0" cy="1889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657600" y="5014800"/>
              <a:ext cx="0" cy="1889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5014800"/>
              <a:ext cx="0" cy="1889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315200" y="5014800"/>
              <a:ext cx="0" cy="1889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5014800"/>
              <a:ext cx="0" cy="1889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144000" y="5014800"/>
              <a:ext cx="0" cy="1889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501480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690408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Round Diagonal Corner Rectangle 8" descr=""/>
          <p:cNvPicPr/>
          <p:nvPr/>
        </p:nvPicPr>
        <p:blipFill>
          <a:blip r:embed="rId3"/>
          <a:stretch/>
        </p:blipFill>
        <p:spPr>
          <a:xfrm>
            <a:off x="6029280" y="-30240"/>
            <a:ext cx="3170160" cy="468360"/>
          </a:xfrm>
          <a:prstGeom prst="rect">
            <a:avLst/>
          </a:prstGeom>
          <a:ln w="0">
            <a:noFill/>
          </a:ln>
        </p:spPr>
      </p:pic>
      <p:pic>
        <p:nvPicPr>
          <p:cNvPr id="106" name="Rounded Rectangle 9" descr=""/>
          <p:cNvPicPr/>
          <p:nvPr/>
        </p:nvPicPr>
        <p:blipFill>
          <a:blip r:embed="rId4"/>
          <a:stretch/>
        </p:blipFill>
        <p:spPr>
          <a:xfrm>
            <a:off x="6029280" y="-30240"/>
            <a:ext cx="3170160" cy="468360"/>
          </a:xfrm>
          <a:prstGeom prst="rect">
            <a:avLst/>
          </a:prstGeom>
          <a:ln w="0">
            <a:noFill/>
          </a:ln>
        </p:spPr>
      </p:pic>
      <p:pic>
        <p:nvPicPr>
          <p:cNvPr id="107" name="Rounded Rectangle 10" descr=""/>
          <p:cNvPicPr/>
          <p:nvPr/>
        </p:nvPicPr>
        <p:blipFill>
          <a:blip r:embed="rId5"/>
          <a:stretch/>
        </p:blipFill>
        <p:spPr>
          <a:xfrm>
            <a:off x="5668920" y="-30240"/>
            <a:ext cx="3530520" cy="5842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1"/>
          <p:cNvSpPr/>
          <p:nvPr/>
        </p:nvSpPr>
        <p:spPr>
          <a:xfrm>
            <a:off x="19080" y="541440"/>
            <a:ext cx="9144000" cy="718920"/>
          </a:xfrm>
          <a:prstGeom prst="rect">
            <a:avLst/>
          </a:prstGeom>
          <a:gradFill rotWithShape="0">
            <a:gsLst>
              <a:gs pos="0">
                <a:srgbClr val="d24500"/>
              </a:gs>
              <a:gs pos="100000">
                <a:srgbClr val="ff5c00"/>
              </a:gs>
            </a:gsLst>
            <a:lin ang="16200000"/>
          </a:gradFill>
          <a:ln w="9360">
            <a:solidFill>
              <a:srgbClr val="f9661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33480" y="608040"/>
            <a:ext cx="88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Big Objective -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13"/>
          <p:cNvSpPr/>
          <p:nvPr/>
        </p:nvSpPr>
        <p:spPr>
          <a:xfrm>
            <a:off x="0" y="1341360"/>
            <a:ext cx="9144000" cy="1621080"/>
          </a:xfrm>
          <a:prstGeom prst="roundRect">
            <a:avLst>
              <a:gd name="adj" fmla="val 16667"/>
            </a:avLst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4"/>
          <p:cNvSpPr/>
          <p:nvPr/>
        </p:nvSpPr>
        <p:spPr>
          <a:xfrm>
            <a:off x="84240" y="1486080"/>
            <a:ext cx="287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entury Gothic"/>
              </a:rPr>
              <a:t>Today’s lesson Title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15"/>
          <p:cNvSpPr/>
          <p:nvPr/>
        </p:nvSpPr>
        <p:spPr>
          <a:xfrm>
            <a:off x="-12600" y="3116160"/>
            <a:ext cx="9156600" cy="1608120"/>
          </a:xfrm>
          <a:prstGeom prst="roundRect">
            <a:avLst>
              <a:gd name="adj" fmla="val 16667"/>
            </a:avLst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6"/>
          <p:cNvSpPr/>
          <p:nvPr/>
        </p:nvSpPr>
        <p:spPr>
          <a:xfrm>
            <a:off x="71280" y="3209760"/>
            <a:ext cx="304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entury Gothic"/>
              </a:rPr>
              <a:t>Key Wor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http://icons.iconarchive.com/icons/umut-pulat/tulliana-2/128/package-edutainment-icon.png"/>
          <p:cNvPicPr/>
          <p:nvPr/>
        </p:nvPicPr>
        <p:blipFill>
          <a:blip r:embed="rId6"/>
          <a:stretch/>
        </p:blipFill>
        <p:spPr>
          <a:xfrm>
            <a:off x="8191440" y="3149640"/>
            <a:ext cx="782640" cy="784080"/>
          </a:xfrm>
          <a:prstGeom prst="rect">
            <a:avLst/>
          </a:prstGeom>
          <a:ln w="0">
            <a:noFill/>
          </a:ln>
        </p:spPr>
      </p:pic>
      <p:sp>
        <p:nvSpPr>
          <p:cNvPr id="115" name="Rounded Rectangle 18"/>
          <p:cNvSpPr/>
          <p:nvPr/>
        </p:nvSpPr>
        <p:spPr>
          <a:xfrm>
            <a:off x="-12600" y="4881600"/>
            <a:ext cx="6168960" cy="1976400"/>
          </a:xfrm>
          <a:prstGeom prst="roundRect">
            <a:avLst>
              <a:gd name="adj" fmla="val 16667"/>
            </a:avLst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9"/>
          <p:cNvSpPr/>
          <p:nvPr/>
        </p:nvSpPr>
        <p:spPr>
          <a:xfrm>
            <a:off x="58680" y="4952880"/>
            <a:ext cx="304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entury Gothic"/>
              </a:rPr>
              <a:t>Numeracy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image001"/>
          <p:cNvPicPr/>
          <p:nvPr/>
        </p:nvPicPr>
        <p:blipFill>
          <a:blip r:embed="rId7"/>
          <a:stretch/>
        </p:blipFill>
        <p:spPr>
          <a:xfrm>
            <a:off x="5330880" y="4998960"/>
            <a:ext cx="590400" cy="590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1" descr=""/>
          <p:cNvPicPr/>
          <p:nvPr/>
        </p:nvPicPr>
        <p:blipFill>
          <a:blip r:embed="rId8"/>
          <a:srcRect l="2281" t="4231" r="9158" b="4745"/>
          <a:stretch/>
        </p:blipFill>
        <p:spPr>
          <a:xfrm>
            <a:off x="6246720" y="4952880"/>
            <a:ext cx="2746440" cy="1737000"/>
          </a:xfrm>
          <a:prstGeom prst="rect">
            <a:avLst/>
          </a:prstGeom>
          <a:ln cap="sq" w="38160">
            <a:solidFill>
              <a:srgbClr val="f96a1b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19" name="TextBox 22"/>
          <p:cNvSpPr/>
          <p:nvPr/>
        </p:nvSpPr>
        <p:spPr>
          <a:xfrm>
            <a:off x="5508720" y="14619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entury Gothic"/>
              </a:rPr>
              <a:t>Today’s date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10CF-AF50-4D6F-A3EB-59ABC86A0AD3}" type="slidenum">
              <a:rPr b="0" lang="en-GB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Round Diagonal Corner Rectangle 8" descr=""/>
          <p:cNvPicPr/>
          <p:nvPr/>
        </p:nvPicPr>
        <p:blipFill>
          <a:blip r:embed="rId3"/>
          <a:stretch/>
        </p:blipFill>
        <p:spPr>
          <a:xfrm>
            <a:off x="6029280" y="-30240"/>
            <a:ext cx="3170160" cy="468360"/>
          </a:xfrm>
          <a:prstGeom prst="rect">
            <a:avLst/>
          </a:prstGeom>
          <a:ln w="0">
            <a:noFill/>
          </a:ln>
        </p:spPr>
      </p:pic>
      <p:pic>
        <p:nvPicPr>
          <p:cNvPr id="163" name="Rounded Rectangle 9" descr=""/>
          <p:cNvPicPr/>
          <p:nvPr/>
        </p:nvPicPr>
        <p:blipFill>
          <a:blip r:embed="rId4"/>
          <a:stretch/>
        </p:blipFill>
        <p:spPr>
          <a:xfrm>
            <a:off x="6029280" y="-30240"/>
            <a:ext cx="3170160" cy="468360"/>
          </a:xfrm>
          <a:prstGeom prst="rect">
            <a:avLst/>
          </a:prstGeom>
          <a:ln w="0">
            <a:noFill/>
          </a:ln>
        </p:spPr>
      </p:pic>
      <p:pic>
        <p:nvPicPr>
          <p:cNvPr id="164" name="Rounded Rectangle 10" descr=""/>
          <p:cNvPicPr/>
          <p:nvPr/>
        </p:nvPicPr>
        <p:blipFill>
          <a:blip r:embed="rId5"/>
          <a:stretch/>
        </p:blipFill>
        <p:spPr>
          <a:xfrm>
            <a:off x="5668920" y="-30240"/>
            <a:ext cx="3530520" cy="5842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4" name="Round Diagonal Corner Rectangle 8" descr=""/>
          <p:cNvPicPr/>
          <p:nvPr/>
        </p:nvPicPr>
        <p:blipFill>
          <a:blip r:embed="rId3"/>
          <a:stretch/>
        </p:blipFill>
        <p:spPr>
          <a:xfrm>
            <a:off x="6029280" y="-30240"/>
            <a:ext cx="3170160" cy="468360"/>
          </a:xfrm>
          <a:prstGeom prst="rect">
            <a:avLst/>
          </a:prstGeom>
          <a:ln w="0">
            <a:noFill/>
          </a:ln>
        </p:spPr>
      </p:pic>
      <p:pic>
        <p:nvPicPr>
          <p:cNvPr id="205" name="Rounded Rectangle 9" descr=""/>
          <p:cNvPicPr/>
          <p:nvPr/>
        </p:nvPicPr>
        <p:blipFill>
          <a:blip r:embed="rId4"/>
          <a:stretch/>
        </p:blipFill>
        <p:spPr>
          <a:xfrm>
            <a:off x="6029280" y="-30240"/>
            <a:ext cx="3170160" cy="468360"/>
          </a:xfrm>
          <a:prstGeom prst="rect">
            <a:avLst/>
          </a:prstGeom>
          <a:ln w="0">
            <a:noFill/>
          </a:ln>
        </p:spPr>
      </p:pic>
      <p:pic>
        <p:nvPicPr>
          <p:cNvPr id="206" name="Rounded Rectangle 10" descr=""/>
          <p:cNvPicPr/>
          <p:nvPr/>
        </p:nvPicPr>
        <p:blipFill>
          <a:blip r:embed="rId5"/>
          <a:stretch/>
        </p:blipFill>
        <p:spPr>
          <a:xfrm>
            <a:off x="5668920" y="-30240"/>
            <a:ext cx="3530520" cy="58428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1"/>
          <p:cNvSpPr/>
          <p:nvPr/>
        </p:nvSpPr>
        <p:spPr>
          <a:xfrm>
            <a:off x="179280" y="189000"/>
            <a:ext cx="83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Round Diagonal Corner Rectangle 8" descr=""/>
          <p:cNvPicPr/>
          <p:nvPr/>
        </p:nvPicPr>
        <p:blipFill>
          <a:blip r:embed="rId3"/>
          <a:stretch/>
        </p:blipFill>
        <p:spPr>
          <a:xfrm>
            <a:off x="6029280" y="-30240"/>
            <a:ext cx="3170160" cy="468360"/>
          </a:xfrm>
          <a:prstGeom prst="rect">
            <a:avLst/>
          </a:prstGeom>
          <a:ln w="0">
            <a:noFill/>
          </a:ln>
        </p:spPr>
      </p:pic>
      <p:pic>
        <p:nvPicPr>
          <p:cNvPr id="248" name="Rounded Rectangle 9" descr=""/>
          <p:cNvPicPr/>
          <p:nvPr/>
        </p:nvPicPr>
        <p:blipFill>
          <a:blip r:embed="rId4"/>
          <a:stretch/>
        </p:blipFill>
        <p:spPr>
          <a:xfrm>
            <a:off x="6029280" y="-30240"/>
            <a:ext cx="3170160" cy="468360"/>
          </a:xfrm>
          <a:prstGeom prst="rect">
            <a:avLst/>
          </a:prstGeom>
          <a:ln w="0">
            <a:noFill/>
          </a:ln>
        </p:spPr>
      </p:pic>
      <p:pic>
        <p:nvPicPr>
          <p:cNvPr id="249" name="Rounded Rectangle 10" descr=""/>
          <p:cNvPicPr/>
          <p:nvPr/>
        </p:nvPicPr>
        <p:blipFill>
          <a:blip r:embed="rId5"/>
          <a:stretch/>
        </p:blipFill>
        <p:spPr>
          <a:xfrm>
            <a:off x="5668920" y="-30240"/>
            <a:ext cx="3530520" cy="5842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B20C-F977-4649-B2CF-C9E7AE53EB4C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2" name="Round Diagonal Corner Rectangle 8" descr=""/>
          <p:cNvPicPr/>
          <p:nvPr/>
        </p:nvPicPr>
        <p:blipFill>
          <a:blip r:embed="rId3"/>
          <a:stretch/>
        </p:blipFill>
        <p:spPr>
          <a:xfrm>
            <a:off x="6029280" y="-30240"/>
            <a:ext cx="3170160" cy="468360"/>
          </a:xfrm>
          <a:prstGeom prst="rect">
            <a:avLst/>
          </a:prstGeom>
          <a:ln w="0">
            <a:noFill/>
          </a:ln>
        </p:spPr>
      </p:pic>
      <p:pic>
        <p:nvPicPr>
          <p:cNvPr id="293" name="Rounded Rectangle 9" descr=""/>
          <p:cNvPicPr/>
          <p:nvPr/>
        </p:nvPicPr>
        <p:blipFill>
          <a:blip r:embed="rId4"/>
          <a:stretch/>
        </p:blipFill>
        <p:spPr>
          <a:xfrm>
            <a:off x="6029280" y="-30240"/>
            <a:ext cx="3170160" cy="468360"/>
          </a:xfrm>
          <a:prstGeom prst="rect">
            <a:avLst/>
          </a:prstGeom>
          <a:ln w="0">
            <a:noFill/>
          </a:ln>
        </p:spPr>
      </p:pic>
      <p:pic>
        <p:nvPicPr>
          <p:cNvPr id="294" name="Rounded Rectangle 10" descr=""/>
          <p:cNvPicPr/>
          <p:nvPr/>
        </p:nvPicPr>
        <p:blipFill>
          <a:blip r:embed="rId5"/>
          <a:stretch/>
        </p:blipFill>
        <p:spPr>
          <a:xfrm>
            <a:off x="5668920" y="-30240"/>
            <a:ext cx="3530520" cy="5842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7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lNS7TwWmlrg" TargetMode="Externa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7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2839680" y="618840"/>
            <a:ext cx="60498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Learn about Thermosetting &amp; thermoforming plastics (Polymers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839680" y="2177640"/>
            <a:ext cx="60498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You will be tested on this topic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2839680" y="3684240"/>
            <a:ext cx="6049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Tahoma"/>
              </a:rPr>
              <a:t>It is important to be aware of what plastics are and how/ where they are used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TextBox 1"/>
          <p:cNvSpPr/>
          <p:nvPr/>
        </p:nvSpPr>
        <p:spPr>
          <a:xfrm>
            <a:off x="3635280" y="5380200"/>
            <a:ext cx="194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Use the knowledge you have learnt in previous les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1" descr=""/>
          <p:cNvPicPr/>
          <p:nvPr/>
        </p:nvPicPr>
        <p:blipFill>
          <a:blip r:embed="rId1"/>
          <a:stretch/>
        </p:blipFill>
        <p:spPr>
          <a:xfrm>
            <a:off x="835200" y="6480"/>
            <a:ext cx="4316400" cy="1352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5" name=""/>
          <p:cNvGraphicFramePr/>
          <p:nvPr/>
        </p:nvGraphicFramePr>
        <p:xfrm>
          <a:off x="324000" y="1844640"/>
          <a:ext cx="8496000" cy="3600360"/>
        </p:xfrm>
        <a:graphic>
          <a:graphicData uri="http://schemas.openxmlformats.org/drawingml/2006/table">
            <a:tbl>
              <a:tblPr/>
              <a:tblGrid>
                <a:gridCol w="1698480"/>
                <a:gridCol w="1700280"/>
                <a:gridCol w="1698480"/>
                <a:gridCol w="1700280"/>
                <a:gridCol w="1698480"/>
              </a:tblGrid>
              <a:tr h="61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hee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il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a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ub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8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396" name="Picture 4" descr="Image result for plastic sheet"/>
          <p:cNvPicPr/>
          <p:nvPr/>
        </p:nvPicPr>
        <p:blipFill>
          <a:blip r:embed="rId2"/>
          <a:stretch/>
        </p:blipFill>
        <p:spPr>
          <a:xfrm>
            <a:off x="468360" y="2917800"/>
            <a:ext cx="1452600" cy="14540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Clear High Adhesive Reverse Plastic Film Roll, Green and Environmental Protection PE Stretch Film"/>
          <p:cNvPicPr/>
          <p:nvPr/>
        </p:nvPicPr>
        <p:blipFill>
          <a:blip r:embed="rId3"/>
          <a:stretch/>
        </p:blipFill>
        <p:spPr>
          <a:xfrm>
            <a:off x="2071800" y="3048120"/>
            <a:ext cx="1422360" cy="11952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8" descr="Image result for plastic bar"/>
          <p:cNvPicPr/>
          <p:nvPr/>
        </p:nvPicPr>
        <p:blipFill>
          <a:blip r:embed="rId4"/>
          <a:srcRect l="38983" t="0" r="11410" b="0"/>
          <a:stretch/>
        </p:blipFill>
        <p:spPr>
          <a:xfrm>
            <a:off x="3851280" y="2959200"/>
            <a:ext cx="1488960" cy="13777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0" descr="Main Product"/>
          <p:cNvPicPr/>
          <p:nvPr/>
        </p:nvPicPr>
        <p:blipFill>
          <a:blip r:embed="rId5"/>
          <a:stretch/>
        </p:blipFill>
        <p:spPr>
          <a:xfrm>
            <a:off x="5457960" y="2944800"/>
            <a:ext cx="1485720" cy="12477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2" descr="Image result for plastic  tube"/>
          <p:cNvPicPr/>
          <p:nvPr/>
        </p:nvPicPr>
        <p:blipFill>
          <a:blip r:embed="rId6"/>
          <a:stretch/>
        </p:blipFill>
        <p:spPr>
          <a:xfrm>
            <a:off x="7165800" y="2959200"/>
            <a:ext cx="1619280" cy="12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extBox 1" descr=""/>
          <p:cNvPicPr/>
          <p:nvPr/>
        </p:nvPicPr>
        <p:blipFill>
          <a:blip r:embed="rId1"/>
          <a:stretch/>
        </p:blipFill>
        <p:spPr>
          <a:xfrm>
            <a:off x="938160" y="2305080"/>
            <a:ext cx="7920000" cy="329076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2"/>
          <p:cNvSpPr/>
          <p:nvPr/>
        </p:nvSpPr>
        <p:spPr>
          <a:xfrm>
            <a:off x="2484360" y="476280"/>
            <a:ext cx="4751640" cy="10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Properties of thermo plastics/ for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1" descr=""/>
          <p:cNvPicPr/>
          <p:nvPr/>
        </p:nvPicPr>
        <p:blipFill>
          <a:blip r:embed="rId1"/>
          <a:stretch/>
        </p:blipFill>
        <p:spPr>
          <a:xfrm>
            <a:off x="0" y="103320"/>
            <a:ext cx="5973840" cy="830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4" name=""/>
          <p:cNvGraphicFramePr/>
          <p:nvPr/>
        </p:nvGraphicFramePr>
        <p:xfrm>
          <a:off x="324000" y="932040"/>
          <a:ext cx="8135640" cy="1144440"/>
        </p:xfrm>
        <a:graphic>
          <a:graphicData uri="http://schemas.openxmlformats.org/drawingml/2006/table">
            <a:tbl>
              <a:tblPr/>
              <a:tblGrid>
                <a:gridCol w="1800000"/>
                <a:gridCol w="3624480"/>
                <a:gridCol w="2711160"/>
              </a:tblGrid>
              <a:tr h="11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rdnes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s the ability of a 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aterial to resist wear, scratching and ind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me are harder than others- but prone to scratchi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324000" y="2154240"/>
          <a:ext cx="8135640" cy="1125360"/>
        </p:xfrm>
        <a:graphic>
          <a:graphicData uri="http://schemas.openxmlformats.org/drawingml/2006/table">
            <a:tbl>
              <a:tblPr/>
              <a:tblGrid>
                <a:gridCol w="1800000"/>
                <a:gridCol w="3624480"/>
                <a:gridCol w="2711160"/>
              </a:tblGrid>
              <a:tr h="1125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asti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ility for a material to 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bend and then return to its original positio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ood elasticity- esp. thermoforming plastic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324000" y="3297240"/>
          <a:ext cx="8135640" cy="1463760"/>
        </p:xfrm>
        <a:graphic>
          <a:graphicData uri="http://schemas.openxmlformats.org/drawingml/2006/table">
            <a:tbl>
              <a:tblPr/>
              <a:tblGrid>
                <a:gridCol w="1800000"/>
                <a:gridCol w="3624480"/>
                <a:gridCol w="2711160"/>
              </a:tblGrid>
              <a:tr h="1463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du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ductivity- ability for 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lectricity to pass through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y have low  electric conductivity –so are electrical insulator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324000" y="4500720"/>
          <a:ext cx="8135640" cy="944280"/>
        </p:xfrm>
        <a:graphic>
          <a:graphicData uri="http://schemas.openxmlformats.org/drawingml/2006/table">
            <a:tbl>
              <a:tblPr/>
              <a:tblGrid>
                <a:gridCol w="1800000"/>
                <a:gridCol w="3624480"/>
                <a:gridCol w="271116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ugh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s the ability of a material to 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withstand blows or sudden shocks without brea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me are tougher than oth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324000" y="5467320"/>
          <a:ext cx="8135640" cy="1189080"/>
        </p:xfrm>
        <a:graphic>
          <a:graphicData uri="http://schemas.openxmlformats.org/drawingml/2006/table">
            <a:tbl>
              <a:tblPr/>
              <a:tblGrid>
                <a:gridCol w="1800000"/>
                <a:gridCol w="3624480"/>
                <a:gridCol w="271116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r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s the ability of a material to withstand a 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orce without breaking or be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me are, some are not- a composite material can increase thi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"/>
          <p:cNvSpPr/>
          <p:nvPr/>
        </p:nvSpPr>
        <p:spPr>
          <a:xfrm>
            <a:off x="1979640" y="2492280"/>
            <a:ext cx="4572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Plastic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Thermo forming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Thermo setting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Polypropylen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Polym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Rectangle 2" descr=""/>
          <p:cNvPicPr/>
          <p:nvPr/>
        </p:nvPicPr>
        <p:blipFill>
          <a:blip r:embed="rId1"/>
          <a:stretch/>
        </p:blipFill>
        <p:spPr>
          <a:xfrm>
            <a:off x="2554200" y="907920"/>
            <a:ext cx="368784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3"/>
          <p:cNvSpPr/>
          <p:nvPr/>
        </p:nvSpPr>
        <p:spPr>
          <a:xfrm>
            <a:off x="539640" y="2349360"/>
            <a:ext cx="82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66"/>
                </a:solidFill>
                <a:latin typeface="Century Gothic"/>
                <a:ea typeface="Arial"/>
              </a:rPr>
              <a:t>Can you find the following objects and decide what type of plastic they are made f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695160" y="1197000"/>
            <a:ext cx="844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ake a few minutes to look around the room and identify some everyday plast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809640" y="3378240"/>
            <a:ext cx="2746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1250"/>
              </a:spcBef>
              <a:buClr>
                <a:srgbClr val="01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66"/>
                </a:solidFill>
                <a:latin typeface="Century Gothic"/>
                <a:ea typeface="Arial"/>
              </a:rPr>
              <a:t>Ch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250"/>
              </a:spcBef>
              <a:buClr>
                <a:srgbClr val="01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66"/>
                </a:solidFill>
                <a:latin typeface="Century Gothic"/>
                <a:ea typeface="Arial"/>
              </a:rPr>
              <a:t>Jum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250"/>
              </a:spcBef>
              <a:buClr>
                <a:srgbClr val="01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66"/>
                </a:solidFill>
                <a:latin typeface="Century Gothic"/>
                <a:ea typeface="Arial"/>
              </a:rPr>
              <a:t>Co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250"/>
              </a:spcBef>
              <a:buClr>
                <a:srgbClr val="01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66"/>
                </a:solidFill>
                <a:latin typeface="Century Gothic"/>
                <a:ea typeface="Arial"/>
              </a:rPr>
              <a:t>Carrier b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250"/>
              </a:spcBef>
              <a:buClr>
                <a:srgbClr val="01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66"/>
                </a:solidFill>
                <a:latin typeface="Century Gothic"/>
                <a:ea typeface="Arial"/>
              </a:rPr>
              <a:t>Pencil case</a:t>
            </a:r>
            <a:r>
              <a:rPr b="0" lang="en-GB" sz="2000" spc="-1" strike="noStrike">
                <a:solidFill>
                  <a:srgbClr val="010066"/>
                </a:solidFill>
                <a:latin typeface="Century Gothic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7"/>
          <p:cNvSpPr/>
          <p:nvPr/>
        </p:nvSpPr>
        <p:spPr>
          <a:xfrm>
            <a:off x="4211640" y="317196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Century Gothic"/>
                <a:ea typeface="Arial"/>
              </a:rPr>
              <a:t>Polyprop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8"/>
          <p:cNvSpPr/>
          <p:nvPr/>
        </p:nvSpPr>
        <p:spPr>
          <a:xfrm>
            <a:off x="4211640" y="3705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Century Gothic"/>
                <a:ea typeface="Arial"/>
              </a:rPr>
              <a:t>Acry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9"/>
          <p:cNvSpPr/>
          <p:nvPr/>
        </p:nvSpPr>
        <p:spPr>
          <a:xfrm>
            <a:off x="4211640" y="431496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Century Gothic"/>
                <a:ea typeface="Arial"/>
              </a:rPr>
              <a:t>Nyl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0"/>
          <p:cNvSpPr/>
          <p:nvPr/>
        </p:nvSpPr>
        <p:spPr>
          <a:xfrm>
            <a:off x="4211640" y="4848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Century Gothic"/>
                <a:ea typeface="Arial"/>
              </a:rPr>
              <a:t>Polyeth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2"/>
          <p:cNvSpPr/>
          <p:nvPr/>
        </p:nvSpPr>
        <p:spPr>
          <a:xfrm>
            <a:off x="4211640" y="538164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Century Gothic"/>
                <a:ea typeface="Arial"/>
              </a:rPr>
              <a:t>Neopr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1"/>
          <p:cNvSpPr/>
          <p:nvPr/>
        </p:nvSpPr>
        <p:spPr>
          <a:xfrm>
            <a:off x="210960" y="82440"/>
            <a:ext cx="323856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  <a:ea typeface="Tahoma"/>
              </a:rPr>
              <a:t>St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4" descr=""/>
          <p:cNvPicPr/>
          <p:nvPr/>
        </p:nvPicPr>
        <p:blipFill>
          <a:blip r:embed="rId1"/>
          <a:stretch/>
        </p:blipFill>
        <p:spPr>
          <a:xfrm>
            <a:off x="6948360" y="5229360"/>
            <a:ext cx="21225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3"/>
          <p:cNvSpPr/>
          <p:nvPr/>
        </p:nvSpPr>
        <p:spPr>
          <a:xfrm>
            <a:off x="4381560" y="2147760"/>
            <a:ext cx="476244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2d050"/>
                </a:solidFill>
                <a:latin typeface="Comic Sans MS"/>
                <a:ea typeface="Tahoma"/>
              </a:rPr>
              <a:t>Natural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plastic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, are found in animal horns (Casein glue), trees (latex, rub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Comic Sans MS"/>
                <a:ea typeface="Tahoma"/>
              </a:rPr>
              <a:t>Synthetic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 plastics, ar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 all modern plastics the source of these plastics is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crude o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Made by a process called 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Polymer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2"/>
          <p:cNvSpPr/>
          <p:nvPr/>
        </p:nvSpPr>
        <p:spPr>
          <a:xfrm>
            <a:off x="155520" y="-1790640"/>
            <a:ext cx="47815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6" descr="Image result for plastics"/>
          <p:cNvPicPr/>
          <p:nvPr/>
        </p:nvPicPr>
        <p:blipFill>
          <a:blip r:embed="rId1"/>
          <a:stretch/>
        </p:blipFill>
        <p:spPr>
          <a:xfrm>
            <a:off x="324000" y="2421000"/>
            <a:ext cx="3770280" cy="295272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3"/>
          <p:cNvSpPr/>
          <p:nvPr/>
        </p:nvSpPr>
        <p:spPr>
          <a:xfrm>
            <a:off x="2238480" y="892080"/>
            <a:ext cx="4601880" cy="893880"/>
          </a:xfrm>
          <a:prstGeom prst="rect">
            <a:avLst/>
          </a:prstGeom>
          <a:solidFill>
            <a:srgbClr val="92d050"/>
          </a:solidFill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ere do plastics come f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8" descr="Image result for think"/>
          <p:cNvPicPr/>
          <p:nvPr/>
        </p:nvPicPr>
        <p:blipFill>
          <a:blip r:embed="rId2"/>
          <a:stretch/>
        </p:blipFill>
        <p:spPr>
          <a:xfrm>
            <a:off x="250920" y="333360"/>
            <a:ext cx="1441440" cy="16686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Image result for key word"/>
          <p:cNvPicPr/>
          <p:nvPr/>
        </p:nvPicPr>
        <p:blipFill>
          <a:blip r:embed="rId3"/>
          <a:stretch/>
        </p:blipFill>
        <p:spPr>
          <a:xfrm>
            <a:off x="3132000" y="5554800"/>
            <a:ext cx="130356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572000" y="1413000"/>
            <a:ext cx="4038480" cy="38541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  <a:ea typeface="Tahoma"/>
              </a:rPr>
              <a:t>Thermoforming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Plastics 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can be reheated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and therefore 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reshaped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Softe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 when heated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Can be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reshaped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More commonly used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in schoo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CA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 be recycled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24000" y="1484280"/>
            <a:ext cx="4038480" cy="3640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Thermosetting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ahoma"/>
              </a:rPr>
              <a:t>Plastics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  <a:ea typeface="Tahoma"/>
              </a:rPr>
              <a:t>cannot be reheated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ahoma"/>
              </a:rPr>
              <a:t>and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  <a:ea typeface="Tahoma"/>
              </a:rPr>
              <a:t>reshaped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ahoma"/>
              </a:rPr>
              <a:t>due to a chemical reaction that occurs when they are first manufactured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ahoma"/>
              </a:rPr>
              <a:t>Initially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  <a:ea typeface="Tahoma"/>
              </a:rPr>
              <a:t>set by hea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ahoma"/>
              </a:rPr>
              <a:t>Cannot b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Tahoma"/>
              </a:rPr>
              <a:t>reshaped once se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ahoma"/>
              </a:rPr>
              <a:t>Extremely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Tahoma"/>
              </a:rPr>
              <a:t>strong and durabl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  <a:ea typeface="Tahoma"/>
              </a:rPr>
              <a:t>CA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ahoma"/>
              </a:rPr>
              <a:t> be recycled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2484360" y="476280"/>
            <a:ext cx="475164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Types of pla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120"/>
          <p:cNvGrpSpPr/>
          <p:nvPr/>
        </p:nvGrpSpPr>
        <p:grpSpPr>
          <a:xfrm>
            <a:off x="5670720" y="5605560"/>
            <a:ext cx="1596960" cy="996840"/>
            <a:chOff x="5670720" y="5605560"/>
            <a:chExt cx="1596960" cy="996840"/>
          </a:xfrm>
        </p:grpSpPr>
        <p:sp>
          <p:nvSpPr>
            <p:cNvPr id="366" name="Rectangle 111"/>
            <p:cNvSpPr/>
            <p:nvPr/>
          </p:nvSpPr>
          <p:spPr>
            <a:xfrm>
              <a:off x="5757480" y="6449040"/>
              <a:ext cx="15102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71440" indent="-27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7" name="Picture 118" descr="thermoplastic molecules"/>
            <p:cNvPicPr/>
            <p:nvPr/>
          </p:nvPicPr>
          <p:blipFill>
            <a:blip r:embed="rId1"/>
            <a:stretch/>
          </p:blipFill>
          <p:spPr>
            <a:xfrm>
              <a:off x="5670720" y="5605560"/>
              <a:ext cx="1514520" cy="727200"/>
            </a:xfrm>
            <a:prstGeom prst="rect">
              <a:avLst/>
            </a:prstGeom>
            <a:ln w="0">
              <a:noFill/>
            </a:ln>
            <a:effectLst>
              <a:outerShdw dist="0" dir="0" blurRad="0" rotWithShape="0">
                <a:srgbClr val="000000">
                  <a:alpha val="70000"/>
                </a:srgbClr>
              </a:outerShdw>
            </a:effectLst>
          </p:spPr>
        </p:pic>
      </p:grpSp>
      <p:pic>
        <p:nvPicPr>
          <p:cNvPr id="368" name="Picture 4" descr="http://foreclosurehomeslistatlanta.com/wp-content/uploads/2011/12/magnifying-glass-7.png"/>
          <p:cNvPicPr/>
          <p:nvPr/>
        </p:nvPicPr>
        <p:blipFill>
          <a:blip r:embed="rId2"/>
          <a:stretch/>
        </p:blipFill>
        <p:spPr>
          <a:xfrm>
            <a:off x="6300720" y="5445000"/>
            <a:ext cx="1295640" cy="1227240"/>
          </a:xfrm>
          <a:prstGeom prst="rect">
            <a:avLst/>
          </a:prstGeom>
          <a:ln w="0">
            <a:noFill/>
          </a:ln>
        </p:spPr>
      </p:pic>
      <p:grpSp>
        <p:nvGrpSpPr>
          <p:cNvPr id="369" name="Group 190"/>
          <p:cNvGrpSpPr/>
          <p:nvPr/>
        </p:nvGrpSpPr>
        <p:grpSpPr>
          <a:xfrm>
            <a:off x="1133640" y="5670720"/>
            <a:ext cx="1930320" cy="1187280"/>
            <a:chOff x="1133640" y="5670720"/>
            <a:chExt cx="1930320" cy="1187280"/>
          </a:xfrm>
        </p:grpSpPr>
        <p:pic>
          <p:nvPicPr>
            <p:cNvPr id="370" name="Picture 187" descr="thermosetting molecules"/>
            <p:cNvPicPr/>
            <p:nvPr/>
          </p:nvPicPr>
          <p:blipFill>
            <a:blip r:embed="rId3"/>
            <a:stretch/>
          </p:blipFill>
          <p:spPr>
            <a:xfrm>
              <a:off x="1133640" y="5670720"/>
              <a:ext cx="1744920" cy="831600"/>
            </a:xfrm>
            <a:prstGeom prst="rect">
              <a:avLst/>
            </a:prstGeom>
            <a:ln w="0">
              <a:noFill/>
            </a:ln>
            <a:effectLst>
              <a:outerShdw dist="0" dir="0" blurRad="0" rotWithShape="0">
                <a:srgbClr val="000000">
                  <a:alpha val="70000"/>
                </a:srgbClr>
              </a:outerShdw>
            </a:effectLst>
          </p:spPr>
        </p:pic>
        <p:sp>
          <p:nvSpPr>
            <p:cNvPr id="371" name="Rectangle 188"/>
            <p:cNvSpPr/>
            <p:nvPr/>
          </p:nvSpPr>
          <p:spPr>
            <a:xfrm>
              <a:off x="1272240" y="6619320"/>
              <a:ext cx="1791720" cy="2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71440" indent="-27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2" name="Picture 4" descr="http://foreclosurehomeslistatlanta.com/wp-content/uploads/2011/12/magnifying-glass-7.png"/>
          <p:cNvPicPr/>
          <p:nvPr/>
        </p:nvPicPr>
        <p:blipFill>
          <a:blip r:embed="rId4"/>
          <a:stretch/>
        </p:blipFill>
        <p:spPr>
          <a:xfrm>
            <a:off x="1692360" y="5340240"/>
            <a:ext cx="1511280" cy="14320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"/>
          <p:cNvPicPr/>
          <p:nvPr/>
        </p:nvPicPr>
        <p:blipFill>
          <a:blip r:embed="rId5"/>
          <a:stretch/>
        </p:blipFill>
        <p:spPr>
          <a:xfrm>
            <a:off x="250920" y="476280"/>
            <a:ext cx="2444760" cy="936720"/>
          </a:xfrm>
          <a:prstGeom prst="rect">
            <a:avLst/>
          </a:prstGeom>
          <a:ln w="0">
            <a:noFill/>
          </a:ln>
        </p:spPr>
      </p:pic>
      <p:cxnSp>
        <p:nvCxnSpPr>
          <p:cNvPr id="374" name="Straight Arrow Connector 4"/>
          <p:cNvCxnSpPr/>
          <p:nvPr/>
        </p:nvCxnSpPr>
        <p:spPr>
          <a:xfrm>
            <a:off x="3714840" y="2450880"/>
            <a:ext cx="429120" cy="288972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triangle" w="med"/>
          </a:ln>
        </p:spPr>
      </p:cxnSp>
      <p:sp>
        <p:nvSpPr>
          <p:cNvPr id="375" name="TextBox 5"/>
          <p:cNvSpPr/>
          <p:nvPr/>
        </p:nvSpPr>
        <p:spPr>
          <a:xfrm>
            <a:off x="3348000" y="544500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ink of the word “set” what does it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6"/>
          <p:cNvSpPr/>
          <p:nvPr/>
        </p:nvSpPr>
        <p:spPr>
          <a:xfrm>
            <a:off x="3298680" y="6410160"/>
            <a:ext cx="41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(Put something is a set posi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Oval 4">
            <a:hlinkClick r:id="rId1"/>
          </p:cNvPr>
          <p:cNvSpPr/>
          <p:nvPr/>
        </p:nvSpPr>
        <p:spPr>
          <a:xfrm>
            <a:off x="2916360" y="1425600"/>
            <a:ext cx="4103640" cy="4103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entury Gothic"/>
              </a:rPr>
              <a:t>Thermosetting and thermofo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entury Gothic"/>
              </a:rPr>
              <a:t>Click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14"/>
          <p:cNvSpPr/>
          <p:nvPr/>
        </p:nvSpPr>
        <p:spPr>
          <a:xfrm>
            <a:off x="210960" y="123840"/>
            <a:ext cx="5585040" cy="712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Uses of plastics- Thermo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230040" y="798480"/>
          <a:ext cx="8482320" cy="5403960"/>
        </p:xfrm>
        <a:graphic>
          <a:graphicData uri="http://schemas.openxmlformats.org/drawingml/2006/table">
            <a:tbl>
              <a:tblPr/>
              <a:tblGrid>
                <a:gridCol w="2325960"/>
                <a:gridCol w="3328920"/>
                <a:gridCol w="2827440"/>
              </a:tblGrid>
              <a:tr h="469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a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Us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ictur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7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U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ormaldehyde (UF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ckets/ electrical fitting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69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lamine formaldehyde (MF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n handles, electrical plugs, kitchen laminated surfa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05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ER) Epoxy resi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tal coatings, used in electronics- often added to other materials to protect and reinforce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 Polyester res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nded to other materials- i.e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P (fibre class reinforced Plastic for reinforcemen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380" name="Picture 22" descr="electric socket2"/>
          <p:cNvPicPr/>
          <p:nvPr/>
        </p:nvPicPr>
        <p:blipFill>
          <a:blip r:embed="rId1"/>
          <a:stretch/>
        </p:blipFill>
        <p:spPr>
          <a:xfrm>
            <a:off x="5992920" y="1284120"/>
            <a:ext cx="1473120" cy="9352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http://www.beka-cookware.com/assets/products/images/20205928_Gourmet_Fry_pan_handle.jpg"/>
          <p:cNvPicPr/>
          <p:nvPr/>
        </p:nvPicPr>
        <p:blipFill>
          <a:blip r:embed="rId2"/>
          <a:stretch/>
        </p:blipFill>
        <p:spPr>
          <a:xfrm>
            <a:off x="6207120" y="2367000"/>
            <a:ext cx="1766880" cy="1328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82" name="Picture 2" descr=""/>
          <p:cNvPicPr/>
          <p:nvPr/>
        </p:nvPicPr>
        <p:blipFill>
          <a:blip r:embed="rId3"/>
          <a:srcRect l="17608" t="10101" r="13502" b="13699"/>
          <a:stretch/>
        </p:blipFill>
        <p:spPr>
          <a:xfrm>
            <a:off x="6012000" y="3695760"/>
            <a:ext cx="1655640" cy="10303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9" descr=""/>
          <p:cNvPicPr/>
          <p:nvPr/>
        </p:nvPicPr>
        <p:blipFill>
          <a:blip r:embed="rId4"/>
          <a:srcRect l="38422" t="45139" r="41882" b="28602"/>
          <a:stretch/>
        </p:blipFill>
        <p:spPr>
          <a:xfrm>
            <a:off x="6248520" y="5097600"/>
            <a:ext cx="1439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1258920" y="907920"/>
            <a:ext cx="6661080" cy="10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Properties of thermoset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Rectangle 4" descr=""/>
          <p:cNvPicPr/>
          <p:nvPr/>
        </p:nvPicPr>
        <p:blipFill>
          <a:blip r:embed="rId1"/>
          <a:stretch/>
        </p:blipFill>
        <p:spPr>
          <a:xfrm>
            <a:off x="2017800" y="2590920"/>
            <a:ext cx="62974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230040" y="798480"/>
          <a:ext cx="8518680" cy="5799240"/>
        </p:xfrm>
        <a:graphic>
          <a:graphicData uri="http://schemas.openxmlformats.org/drawingml/2006/table">
            <a:tbl>
              <a:tblPr/>
              <a:tblGrid>
                <a:gridCol w="2335320"/>
                <a:gridCol w="3343320"/>
                <a:gridCol w="2840040"/>
              </a:tblGrid>
              <a:tr h="625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a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Us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ictur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8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olythe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astic bags, food containers, and other packag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0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igh impact Polystyrene (HIPS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ckaging, cd casing, toys, TV parts, plastic cutlery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4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olypropyle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airs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,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xes, storage, kettle, bottles, stra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4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V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olyvinyl chlorid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struction industry (pip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387" name="Picture 4" descr="Image result for hips plastic cutlery"/>
          <p:cNvPicPr/>
          <p:nvPr/>
        </p:nvPicPr>
        <p:blipFill>
          <a:blip r:embed="rId1"/>
          <a:srcRect l="0" t="51121" r="0" b="0"/>
          <a:stretch/>
        </p:blipFill>
        <p:spPr>
          <a:xfrm>
            <a:off x="6012000" y="2789280"/>
            <a:ext cx="2232000" cy="907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Image result for polythene plastic bag"/>
          <p:cNvPicPr/>
          <p:nvPr/>
        </p:nvPicPr>
        <p:blipFill>
          <a:blip r:embed="rId2"/>
          <a:srcRect l="17323" t="0" r="21252" b="0"/>
          <a:stretch/>
        </p:blipFill>
        <p:spPr>
          <a:xfrm>
            <a:off x="6443640" y="1484280"/>
            <a:ext cx="797040" cy="9730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ECOPOLYCHAIR.jpg"/>
          <p:cNvPicPr/>
          <p:nvPr/>
        </p:nvPicPr>
        <p:blipFill>
          <a:blip r:embed="rId3"/>
          <a:stretch/>
        </p:blipFill>
        <p:spPr>
          <a:xfrm>
            <a:off x="6083280" y="4008600"/>
            <a:ext cx="758880" cy="10476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1" descr="Kettle"/>
          <p:cNvPicPr/>
          <p:nvPr/>
        </p:nvPicPr>
        <p:blipFill>
          <a:blip r:embed="rId4"/>
          <a:stretch/>
        </p:blipFill>
        <p:spPr>
          <a:xfrm>
            <a:off x="7596360" y="3965400"/>
            <a:ext cx="846000" cy="10796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0" descr="Image result for pvc window frame"/>
          <p:cNvPicPr/>
          <p:nvPr/>
        </p:nvPicPr>
        <p:blipFill>
          <a:blip r:embed="rId5"/>
          <a:stretch/>
        </p:blipFill>
        <p:spPr>
          <a:xfrm>
            <a:off x="6083280" y="5149800"/>
            <a:ext cx="1187640" cy="1231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8" descr="Image result for bank card"/>
          <p:cNvPicPr/>
          <p:nvPr/>
        </p:nvPicPr>
        <p:blipFill>
          <a:blip r:embed="rId6"/>
          <a:stretch/>
        </p:blipFill>
        <p:spPr>
          <a:xfrm>
            <a:off x="7400880" y="5381640"/>
            <a:ext cx="1390680" cy="87300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8"/>
          <p:cNvSpPr/>
          <p:nvPr/>
        </p:nvSpPr>
        <p:spPr>
          <a:xfrm>
            <a:off x="210960" y="123840"/>
            <a:ext cx="5585040" cy="712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Uses of plastics- Thermofo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09:59:39Z</dcterms:created>
  <dc:creator>Holmes</dc:creator>
  <dc:description/>
  <dc:language>en-US</dc:language>
  <cp:lastModifiedBy>Leanne Bradley</cp:lastModifiedBy>
  <dcterms:modified xsi:type="dcterms:W3CDTF">2018-07-05T15:04:01Z</dcterms:modified>
  <cp:revision>159</cp:revision>
  <dc:subject/>
  <dc:title>PowerPoint Presentation</dc:title>
</cp:coreProperties>
</file>