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1002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610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840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840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2BB6-9388-42B3-BEE3-90C5D65FB12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9040" y="47610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9020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4302-30CA-4C48-8E05-AA2E6A81C2A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020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934F-B175-404F-8000-BA55BCBE26E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9040" y="47610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51CB-B451-474F-8543-AE340358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096-DCFA-40B1-A18D-93837FFB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82D-23B5-4288-B3F7-DB6CD4C0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8954-C0A5-486C-8A3A-F60A67DD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06C-509C-4ADB-AE1F-22569414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50FB-A478-470E-B1AD-6ED7C8D0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9DAA-1B19-4B66-907B-785E287B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666-A37C-45AC-9238-7AB08D0E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80E1-4C85-4F3B-B96D-A0466614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120-74E5-41AB-AB8C-C593FDE2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EB3-0369-4E19-9731-B594DAF7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EE9-483E-442E-A8D4-78618949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CEAC-776D-44E8-BC38-FDE8A21805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2DlZlCbpg0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url?q=http://www.tbotech.com/sodacansafe.htm&amp;sa=U&amp;ei=TmdXVIWSJ9bvaPrsgRg&amp;ved=0CBYQ9QEwAA&amp;usg=AFQjCNFKpRcxorlNphas7UuC9J1t4pUCe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.uk/url?q=http://www.independent.co.uk/news/world/europe/france-sunk-by-royal-navy-again-after-paying-100m-for-uk-warships-9124418.html&amp;sa=U&amp;ei=e2dXVKbPNMfsaOH4gNgD&amp;ved=0CBYQ9QEwAA&amp;usg=AFQjCNHItgEb3gjsaJ7lsGNPNVg_PPna2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google.co.uk/url?q=http://www.mini-me.com/&amp;sa=U&amp;ei=oGdXVKTNDpPvaqCvgsAI&amp;ved=0CBwQ9QEwAw&amp;usg=AFQjCNGMfR9eTlqlCH6C5OR-2qf4GbyPiQ" TargetMode="External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rebuchet MS"/>
              </a:rPr>
              <a:t>BTEC Level 2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4705200" cy="3528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1619280" y="5332320"/>
            <a:ext cx="576108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EFE8-BDB1-49ED-ACCB-ABFE636F2D45}" type="datetime2">
              <a:rPr b="0" lang="en-GB" sz="2800" spc="-1" strike="noStrike">
                <a:solidFill>
                  <a:srgbClr val="ffffff"/>
                </a:solidFill>
                <a:latin typeface="Trebuchet MS"/>
              </a:rPr>
              <a:t>Thursday 30 July 20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 rot="21384600">
            <a:off x="1450440" y="1195560"/>
            <a:ext cx="6113520" cy="8789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4462560" y="3380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Textbook page: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" descr=""/>
          <p:cNvPicPr/>
          <p:nvPr/>
        </p:nvPicPr>
        <p:blipFill>
          <a:blip r:embed="rId2"/>
          <a:stretch/>
        </p:blipFill>
        <p:spPr>
          <a:xfrm>
            <a:off x="-14400" y="6107040"/>
            <a:ext cx="914400" cy="7509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3132000" y="290520"/>
            <a:ext cx="35751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rebuchet MS"/>
                <a:ea typeface="Comic Sans MS"/>
              </a:rPr>
              <a:t>Continuous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42800" y="2168640"/>
            <a:ext cx="43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Following similar techniques to the mass production you are going to continuously produce your keyring produ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You need to decide how many steps can be removed from your production line to still create your keyring so that it can be d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Che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Qui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For as long as they are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3"/>
          <a:stretch/>
        </p:blipFill>
        <p:spPr>
          <a:xfrm>
            <a:off x="5376960" y="2349360"/>
            <a:ext cx="266040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623880" y="1052640"/>
            <a:ext cx="8701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Process Raw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Prepare surface for m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Mark surface from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Quality Control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C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C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C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Quality Control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Fi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Fi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Fi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Rough 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Smooth 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Quality Control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Dry wet/d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Wet wet/d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D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Key 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Quality Control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348000" y="290520"/>
            <a:ext cx="344160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rebuchet MS"/>
                <a:ea typeface="Comic Sans MS"/>
              </a:rPr>
              <a:t>Continuous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5724360" y="35053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What can we remo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istock_000005807071xsmall"/>
          <p:cNvPicPr/>
          <p:nvPr/>
        </p:nvPicPr>
        <p:blipFill>
          <a:blip r:embed="rId2"/>
          <a:stretch/>
        </p:blipFill>
        <p:spPr>
          <a:xfrm>
            <a:off x="4508640" y="0"/>
            <a:ext cx="2950920" cy="2952720"/>
          </a:xfrm>
          <a:prstGeom prst="rect">
            <a:avLst/>
          </a:prstGeom>
          <a:ln w="0">
            <a:noFill/>
          </a:ln>
        </p:spPr>
      </p:pic>
      <p:sp>
        <p:nvSpPr>
          <p:cNvPr id="123" name="Pentagon 11"/>
          <p:cNvSpPr/>
          <p:nvPr/>
        </p:nvSpPr>
        <p:spPr>
          <a:xfrm>
            <a:off x="0" y="2997360"/>
            <a:ext cx="7488360" cy="1439640"/>
          </a:xfrm>
          <a:custGeom>
            <a:avLst/>
            <a:gdLst>
              <a:gd name="textAreaLeft" fmla="*/ 0 w 7488360"/>
              <a:gd name="textAreaRight" fmla="*/ 7488720 w 748836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3" y="0"/>
                </a:lnTo>
                <a:lnTo>
                  <a:pt x="21600" y="10800"/>
                </a:lnTo>
                <a:lnTo>
                  <a:pt x="195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og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dentify what continuous production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entagon 12"/>
          <p:cNvSpPr/>
          <p:nvPr/>
        </p:nvSpPr>
        <p:spPr>
          <a:xfrm>
            <a:off x="826920" y="4206960"/>
            <a:ext cx="7490160" cy="1441440"/>
          </a:xfrm>
          <a:custGeom>
            <a:avLst/>
            <a:gdLst>
              <a:gd name="textAreaLeft" fmla="*/ 0 w 7490160"/>
              <a:gd name="textAreaRight" fmla="*/ 7490520 w 749016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1" y="0"/>
                </a:lnTo>
                <a:lnTo>
                  <a:pt x="21600" y="10800"/>
                </a:lnTo>
                <a:lnTo>
                  <a:pt x="195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Good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dentify some advantages and disadvantages of continuou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entagon 14"/>
          <p:cNvSpPr/>
          <p:nvPr/>
        </p:nvSpPr>
        <p:spPr>
          <a:xfrm>
            <a:off x="1655640" y="5418000"/>
            <a:ext cx="7488360" cy="1440000"/>
          </a:xfrm>
          <a:custGeom>
            <a:avLst/>
            <a:gdLst>
              <a:gd name="textAreaLeft" fmla="*/ 0 w 7488360"/>
              <a:gd name="textAreaRight" fmla="*/ 7488720 w 748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3" y="0"/>
                </a:lnTo>
                <a:lnTo>
                  <a:pt x="21600" y="10800"/>
                </a:lnTo>
                <a:lnTo>
                  <a:pt x="195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xceptional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escribe continuous production to enable future comparisons</a:t>
            </a: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468360" y="1197000"/>
            <a:ext cx="79912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rebuchet MS"/>
              </a:rPr>
              <a:t>PL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reative thin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flective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1"/>
          <p:cNvSpPr/>
          <p:nvPr/>
        </p:nvSpPr>
        <p:spPr>
          <a:xfrm>
            <a:off x="1403280" y="115920"/>
            <a:ext cx="6337440" cy="722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Comic Sans MS"/>
              </a:rPr>
              <a:t>Scales of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37520" y="907920"/>
            <a:ext cx="48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uminium Drinks Can Continuous Produ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763640" y="6483240"/>
            <a:ext cx="61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2DlZlCbpg0Q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2DlZlCbpg0Q" descr=""/>
          <p:cNvPicPr/>
          <p:nvPr/>
        </p:nvPicPr>
        <p:blipFill>
          <a:blip r:embed="rId2"/>
          <a:stretch/>
        </p:blipFill>
        <p:spPr>
          <a:xfrm>
            <a:off x="0" y="127332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8920" y="2276280"/>
            <a:ext cx="8713800" cy="2665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To understand the scale of engineering production: Continu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Team%20puzzle"/>
          <p:cNvPicPr/>
          <p:nvPr/>
        </p:nvPicPr>
        <p:blipFill>
          <a:blip r:embed="rId1"/>
          <a:srcRect l="11218" t="15988" r="11679" b="12804"/>
          <a:stretch/>
        </p:blipFill>
        <p:spPr>
          <a:xfrm>
            <a:off x="7020000" y="5040360"/>
            <a:ext cx="1962000" cy="1816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2"/>
          <p:cNvSpPr/>
          <p:nvPr/>
        </p:nvSpPr>
        <p:spPr>
          <a:xfrm>
            <a:off x="611280" y="907920"/>
            <a:ext cx="792144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3"/>
          <p:cNvSpPr txBox="1"/>
          <p:nvPr/>
        </p:nvSpPr>
        <p:spPr>
          <a:xfrm>
            <a:off x="914400" y="1074600"/>
            <a:ext cx="7391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rebuchet MS"/>
              </a:rPr>
              <a:t>Learning Objectiv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rebuchet MS"/>
              <a:ea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istock_000005807071xsmall"/>
          <p:cNvPicPr/>
          <p:nvPr/>
        </p:nvPicPr>
        <p:blipFill>
          <a:blip r:embed="rId1"/>
          <a:stretch/>
        </p:blipFill>
        <p:spPr>
          <a:xfrm>
            <a:off x="7416720" y="1987560"/>
            <a:ext cx="1727280" cy="1728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611280" y="846000"/>
            <a:ext cx="792144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914400" y="1012680"/>
            <a:ext cx="7391520" cy="914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rebuchet MS"/>
              </a:rPr>
              <a:t>Learning Outcom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rebuchet MS"/>
              <a:ea typeface="Trebuchet MS"/>
            </a:endParaRPr>
          </a:p>
        </p:txBody>
      </p:sp>
      <p:sp>
        <p:nvSpPr>
          <p:cNvPr id="62" name="Pentagon 5"/>
          <p:cNvSpPr/>
          <p:nvPr/>
        </p:nvSpPr>
        <p:spPr>
          <a:xfrm>
            <a:off x="0" y="2997360"/>
            <a:ext cx="7488360" cy="1439640"/>
          </a:xfrm>
          <a:custGeom>
            <a:avLst/>
            <a:gdLst>
              <a:gd name="textAreaLeft" fmla="*/ 0 w 7488360"/>
              <a:gd name="textAreaRight" fmla="*/ 7488720 w 748836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3" y="0"/>
                </a:lnTo>
                <a:lnTo>
                  <a:pt x="21600" y="10800"/>
                </a:lnTo>
                <a:lnTo>
                  <a:pt x="195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og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dentify what continuous production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 6"/>
          <p:cNvSpPr/>
          <p:nvPr/>
        </p:nvSpPr>
        <p:spPr>
          <a:xfrm>
            <a:off x="826920" y="4206960"/>
            <a:ext cx="7490160" cy="1441440"/>
          </a:xfrm>
          <a:custGeom>
            <a:avLst/>
            <a:gdLst>
              <a:gd name="textAreaLeft" fmla="*/ 0 w 7490160"/>
              <a:gd name="textAreaRight" fmla="*/ 7490520 w 749016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1" y="0"/>
                </a:lnTo>
                <a:lnTo>
                  <a:pt x="21600" y="10800"/>
                </a:lnTo>
                <a:lnTo>
                  <a:pt x="195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Good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dentify some advantages and disadvantages of continuou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entagon 7"/>
          <p:cNvSpPr/>
          <p:nvPr/>
        </p:nvSpPr>
        <p:spPr>
          <a:xfrm>
            <a:off x="1655640" y="5418000"/>
            <a:ext cx="7488360" cy="1440000"/>
          </a:xfrm>
          <a:custGeom>
            <a:avLst/>
            <a:gdLst>
              <a:gd name="textAreaLeft" fmla="*/ 0 w 7488360"/>
              <a:gd name="textAreaRight" fmla="*/ 7488720 w 748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3" y="0"/>
                </a:lnTo>
                <a:lnTo>
                  <a:pt x="21600" y="10800"/>
                </a:lnTo>
                <a:lnTo>
                  <a:pt x="195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xceptional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escribe continuous production to enable future comparisons</a:t>
            </a: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3276720" cy="762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  <a:ea typeface="Comic Sans MS"/>
              </a:rPr>
              <a:t>T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  <a:ea typeface="Comic Sans MS"/>
              </a:rPr>
              <a:t>Agree the Learning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http://t2.gstatic.com/images?q=tbn:ANd9GcRvxwmgdUJUnrPqi2bjKTw3Asy8KuLYPkm9bR8DwpP4WSoy9_bZ3s7dd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43560" y="551664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ttp://t0.gstatic.com/images?q=tbn:ANd9GcQ4Q26ytsHDKGRBtTlinHqCpUDVKmwrQ8AnycgEl2EjN2mwFFlUwNUHBz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04120" y="310680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http://t2.gstatic.com/images?q=tbn:ANd9GcTVyFHJRm5TMR9hcK8g_JGTRiaEXPDiddL-_gvRSlsJ6HgGOZ3KS_ZLNw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376360" y="5727600"/>
            <a:ext cx="1578240" cy="83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http://t2.gstatic.com/images?q=tbn:ANd9GcTgaWqhLg59qCVIDyyZfO38w0fsE1ApjktFBxuqrG6vsebunNBiyPI3eqg"/>
          <p:cNvPicPr/>
          <p:nvPr/>
        </p:nvPicPr>
        <p:blipFill>
          <a:blip r:embed="rId7"/>
          <a:stretch/>
        </p:blipFill>
        <p:spPr>
          <a:xfrm>
            <a:off x="47520" y="3454560"/>
            <a:ext cx="1428840" cy="8380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1"/>
          <p:cNvSpPr/>
          <p:nvPr/>
        </p:nvSpPr>
        <p:spPr>
          <a:xfrm>
            <a:off x="0" y="0"/>
            <a:ext cx="2556000" cy="7621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  <a:ea typeface="Comic Sans MS"/>
              </a:rPr>
              <a:t>T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  <a:ea typeface="Comic Sans MS"/>
              </a:rPr>
              <a:t>Present New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547640" y="907920"/>
            <a:ext cx="6048720" cy="698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rebuchet MS"/>
                <a:ea typeface="Comic Sans MS"/>
              </a:rPr>
              <a:t>Methods of P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8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73" name="Oval 6"/>
          <p:cNvSpPr/>
          <p:nvPr/>
        </p:nvSpPr>
        <p:spPr>
          <a:xfrm>
            <a:off x="6500880" y="2214720"/>
            <a:ext cx="1857240" cy="107136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857160" y="2286000"/>
            <a:ext cx="2071800" cy="1214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9"/>
          <p:cNvSpPr/>
          <p:nvPr/>
        </p:nvSpPr>
        <p:spPr>
          <a:xfrm>
            <a:off x="1285920" y="5143680"/>
            <a:ext cx="1428840" cy="10000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0"/>
          <p:cNvSpPr/>
          <p:nvPr/>
        </p:nvSpPr>
        <p:spPr>
          <a:xfrm>
            <a:off x="6227640" y="4724280"/>
            <a:ext cx="2463840" cy="11430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3429000" y="3214800"/>
            <a:ext cx="2357280" cy="14284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traight Arrow Connector 12"/>
          <p:cNvCxnSpPr>
            <a:stCxn id="77" idx="7"/>
          </p:cNvCxnSpPr>
          <p:nvPr/>
        </p:nvCxnSpPr>
        <p:spPr>
          <a:xfrm flipV="1">
            <a:off x="5442120" y="2923560"/>
            <a:ext cx="100224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Straight Arrow Connector 13"/>
          <p:cNvCxnSpPr>
            <a:stCxn id="77" idx="1"/>
          </p:cNvCxnSpPr>
          <p:nvPr/>
        </p:nvCxnSpPr>
        <p:spPr>
          <a:xfrm flipH="1" flipV="1">
            <a:off x="2986920" y="3141000"/>
            <a:ext cx="786600" cy="28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Straight Arrow Connector 14"/>
          <p:cNvCxnSpPr>
            <a:stCxn id="77" idx="3"/>
          </p:cNvCxnSpPr>
          <p:nvPr/>
        </p:nvCxnSpPr>
        <p:spPr>
          <a:xfrm flipH="1">
            <a:off x="2555640" y="4433400"/>
            <a:ext cx="121824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TextBox 15"/>
          <p:cNvSpPr/>
          <p:nvPr/>
        </p:nvSpPr>
        <p:spPr>
          <a:xfrm>
            <a:off x="3492360" y="3429000"/>
            <a:ext cx="221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Differen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1285920" y="264312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1428840" y="535788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6572160" y="24289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One-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19"/>
          <p:cNvCxnSpPr>
            <a:stCxn id="77" idx="5"/>
          </p:cNvCxnSpPr>
          <p:nvPr/>
        </p:nvCxnSpPr>
        <p:spPr>
          <a:xfrm>
            <a:off x="5441760" y="4433760"/>
            <a:ext cx="85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TextBox 20"/>
          <p:cNvSpPr/>
          <p:nvPr/>
        </p:nvSpPr>
        <p:spPr>
          <a:xfrm>
            <a:off x="6572160" y="49291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1"/>
          <p:cNvSpPr/>
          <p:nvPr/>
        </p:nvSpPr>
        <p:spPr>
          <a:xfrm>
            <a:off x="0" y="0"/>
            <a:ext cx="2556000" cy="7621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  <a:ea typeface="Comic Sans MS"/>
              </a:rPr>
              <a:t>T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  <a:ea typeface="Comic Sans MS"/>
              </a:rPr>
              <a:t>Present New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547640" y="907920"/>
            <a:ext cx="6048720" cy="698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rebuchet MS"/>
                <a:ea typeface="Comic Sans MS"/>
              </a:rPr>
              <a:t>Continuous p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108000" y="1606680"/>
            <a:ext cx="903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•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Continuous production is used to manufacture standardised mass-produced products that meets every day mass-market nee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•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Production will run 24 hours a day, 7 days a week, 365 days a ye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•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Continuous production is used to make products that are always needed and never chan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•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This type of production is highly automated and uses machines that can run continuously for long periods of time with breaks only for mainte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Used for drinks bottles, cans, wine bottles, egg boxes, petrol. (Any product that you can think off that is constantly being used in the mass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More likely to manufacture products in their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0" y="0"/>
            <a:ext cx="32767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  <a:ea typeface="Comic Sans MS"/>
              </a:rPr>
              <a:t>T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  <a:ea typeface="Comic Sans MS"/>
              </a:rPr>
              <a:t>Construct the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4758840" y="355140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6720840" y="355140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1547640" y="907920"/>
            <a:ext cx="6048720" cy="698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Continuous p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"/>
          <p:cNvSpPr/>
          <p:nvPr/>
        </p:nvSpPr>
        <p:spPr>
          <a:xfrm>
            <a:off x="6729480" y="3030480"/>
            <a:ext cx="0" cy="11509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http://t1.gstatic.com/images?q=tbn:ANd9GcSZhLwEC8Ksj8In38_N7ohlbXubTMWwcmGRPTf0XL_HYUJD3enaO0AwHg"/>
          <p:cNvPicPr/>
          <p:nvPr/>
        </p:nvPicPr>
        <p:blipFill>
          <a:blip r:embed="rId2"/>
          <a:stretch/>
        </p:blipFill>
        <p:spPr>
          <a:xfrm>
            <a:off x="5145120" y="1878120"/>
            <a:ext cx="1260360" cy="1365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http://t0.gstatic.com/images?q=tbn:ANd9GcST5e7IYTVpzeD39qe56N7kqb5TeMTaoi9ks_lmGGZ2_xCLbhCZRjKH2HM"/>
          <p:cNvPicPr/>
          <p:nvPr/>
        </p:nvPicPr>
        <p:blipFill>
          <a:blip r:embed="rId3"/>
          <a:stretch/>
        </p:blipFill>
        <p:spPr>
          <a:xfrm>
            <a:off x="7048440" y="1878120"/>
            <a:ext cx="1265400" cy="136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-14400" y="3549600"/>
          <a:ext cx="4705560" cy="2346480"/>
        </p:xfrm>
        <a:graphic>
          <a:graphicData uri="http://schemas.openxmlformats.org/drawingml/2006/table">
            <a:tbl>
              <a:tblPr/>
              <a:tblGrid>
                <a:gridCol w="2257560"/>
                <a:gridCol w="244800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tch P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nit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ols and 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ly Speciali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itial 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duction effici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bour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kil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bour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0"/>
            <a:ext cx="32767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  <a:ea typeface="Comic Sans MS"/>
              </a:rPr>
              <a:t>T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  <a:ea typeface="Comic Sans MS"/>
              </a:rPr>
              <a:t>Construct the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1"/>
          <p:cNvSpPr/>
          <p:nvPr/>
        </p:nvSpPr>
        <p:spPr>
          <a:xfrm>
            <a:off x="3492360" y="525600"/>
            <a:ext cx="2159280" cy="455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Ke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325440" y="1773360"/>
            <a:ext cx="18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60360" y="1700280"/>
          <a:ext cx="8244000" cy="4084560"/>
        </p:xfrm>
        <a:graphic>
          <a:graphicData uri="http://schemas.openxmlformats.org/drawingml/2006/table">
            <a:tbl>
              <a:tblPr/>
              <a:tblGrid>
                <a:gridCol w="3000240"/>
                <a:gridCol w="5243760"/>
              </a:tblGrid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nit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w much each item will co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ols and 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at is used to make the it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itial 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uch it costs to set up to make the it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duction effici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quickly and cheaply overall the product is to mak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bour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uch training do the people making the item ne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bour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uch do the people making the item have to be pai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1"/>
          <p:cNvSpPr/>
          <p:nvPr/>
        </p:nvSpPr>
        <p:spPr>
          <a:xfrm>
            <a:off x="3492360" y="525600"/>
            <a:ext cx="2159280" cy="455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Ke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325440" y="1773360"/>
            <a:ext cx="18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1033560"/>
          <a:ext cx="9144000" cy="5851440"/>
        </p:xfrm>
        <a:graphic>
          <a:graphicData uri="http://schemas.openxmlformats.org/drawingml/2006/table">
            <a:tbl>
              <a:tblPr/>
              <a:tblGrid>
                <a:gridCol w="1446120"/>
                <a:gridCol w="2525760"/>
                <a:gridCol w="5172120"/>
              </a:tblGrid>
              <a:tr h="3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nit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w much each item will co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cost item - expen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cost 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cost item - che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ols and 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at is used to make the it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tools - can be used to make other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sed tools - can only be used to make a few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icated tools - can only be used to make one 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itial 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uch it costs to set up to make the it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investment - expen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investment - che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duction effici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quickly and cheaply overall the product is to mak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efficiency - is slow and expen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effici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efficiency - is quick and che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bour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uch training do the people making the item ne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ed - workers who have had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ts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-skilled - workers who have had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ome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killed - workers who have had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bour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uch do the people making the item have to be pai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ages - expen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w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wages - che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24:57Z</dcterms:created>
  <dc:creator>K. Sugden</dc:creator>
  <dc:description/>
  <dc:language>en-US</dc:language>
  <cp:lastModifiedBy>David Hudson</cp:lastModifiedBy>
  <cp:lastPrinted>2014-11-06T08:52:30Z</cp:lastPrinted>
  <dcterms:modified xsi:type="dcterms:W3CDTF">2018-08-10T10:56:42Z</dcterms:modified>
  <cp:revision>231</cp:revision>
  <dc:subject/>
  <dc:title>Slide 1</dc:title>
</cp:coreProperties>
</file>