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F6C5-5EAA-4A58-B2A9-8521C2A623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73CD-D782-414C-B7E2-34B5AA9550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447A-03FC-4748-957B-9B46A92197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3D5-4C95-4E07-9C20-B2EC9248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38F-32C4-4CBC-871A-DABC8715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E38-EE1B-4BD6-A256-67E95BBE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DFE-BD79-402F-8F72-8C364F25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127-6B59-49D5-872E-A0DF3976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9AE-EFB0-4ADF-B630-31C322E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DDC-3043-4401-8EE5-15216EF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9A9-BE5B-407F-AE6E-F1541E1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42E-68C7-4B1F-B47E-ADA30D77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6A0-5FC4-4D4E-9BC7-AD615C71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387-1B26-4549-92AC-CC07917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A87-F348-4B10-8177-C1E0D4B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3F5-B760-4257-9AE4-A8416B7B488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TWnQDAhp9k" TargetMode="External"/><Relationship Id="rId2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q=http://www.mini-me.com/&amp;sa=U&amp;ei=oGdXVKTNDpPvaqCvgsAI&amp;ved=0CBwQ9QEwAw&amp;usg=AFQjCNGMfR9eTlqlCH6C5OR-2qf4GbyPiQ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co.uk/url?q=http://pngimg.com/download/2324&amp;sa=U&amp;ei=9GdXVPa3B4fbaLHKgKgB&amp;ved=0CDAQ9QEwDQ&amp;usg=AFQjCNF_WnswIVSW1Lk41YZzpxxM3VP6qw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google.co.uk/url?q=http://www.tbotech.com/sodacansafe.htm&amp;sa=U&amp;ei=TmdXVIWSJ9bvaPrsgRg&amp;ved=0CBYQ9QEwAA&amp;usg=AFQjCNFKpRcxorlNphas7UuC9J1t4pUCe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q=http://www.mini-me.com/&amp;sa=U&amp;ei=oGdXVKTNDpPvaqCvgsAI&amp;ved=0CBwQ9QEwAw&amp;usg=AFQjCNGMfR9eTlqlCH6C5OR-2qf4GbyPiQ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705200" cy="3528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619280" y="5332320"/>
            <a:ext cx="576108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F88-B2D2-4F3A-981F-BFD978935DCC}" type="datetime2"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Wednesday 29 July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41799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21200" y="1125360"/>
            <a:ext cx="38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2373480" y="256536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3"/>
          <p:cNvCxnSpPr/>
          <p:nvPr/>
        </p:nvCxnSpPr>
        <p:spPr>
          <a:xfrm>
            <a:off x="2373480" y="2276280"/>
            <a:ext cx="411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Straight Arrow Connector 9"/>
          <p:cNvCxnSpPr/>
          <p:nvPr/>
        </p:nvCxnSpPr>
        <p:spPr>
          <a:xfrm>
            <a:off x="2230200" y="256500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Oval 7"/>
          <p:cNvSpPr/>
          <p:nvPr/>
        </p:nvSpPr>
        <p:spPr>
          <a:xfrm>
            <a:off x="6118200" y="3357720"/>
            <a:ext cx="216000" cy="21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034880" y="1916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336320" y="3316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6291720" y="3765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7"/>
          <p:cNvCxnSpPr/>
          <p:nvPr/>
        </p:nvCxnSpPr>
        <p:spPr>
          <a:xfrm>
            <a:off x="6225840" y="3504960"/>
            <a:ext cx="108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Straight Arrow Connector 19"/>
          <p:cNvCxnSpPr/>
          <p:nvPr/>
        </p:nvCxnSpPr>
        <p:spPr>
          <a:xfrm>
            <a:off x="6206760" y="3452400"/>
            <a:ext cx="2818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TextBox 22"/>
          <p:cNvSpPr/>
          <p:nvPr/>
        </p:nvSpPr>
        <p:spPr>
          <a:xfrm>
            <a:off x="6122520" y="2963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488880" y="4603680"/>
            <a:ext cx="832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Engineer’s Blu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Steel Ruler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ry-Squar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Junior Hacksaw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lat Fi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Metal Vic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illar Drill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Emery 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etter Punch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Ball-Pein 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421200" y="1125360"/>
            <a:ext cx="38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Cutting &amp; D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627280" y="314172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3"/>
          <p:cNvCxnSpPr/>
          <p:nvPr/>
        </p:nvCxnSpPr>
        <p:spPr>
          <a:xfrm>
            <a:off x="2627280" y="2852280"/>
            <a:ext cx="4115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Straight Arrow Connector 9"/>
          <p:cNvCxnSpPr/>
          <p:nvPr/>
        </p:nvCxnSpPr>
        <p:spPr>
          <a:xfrm>
            <a:off x="2484000" y="314136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Oval 7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290120" y="2492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1591200" y="3892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546600" y="43419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7"/>
          <p:cNvCxnSpPr/>
          <p:nvPr/>
        </p:nvCxnSpPr>
        <p:spPr>
          <a:xfrm>
            <a:off x="6479640" y="408132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Straight Arrow Connector 19"/>
          <p:cNvCxnSpPr/>
          <p:nvPr/>
        </p:nvCxnSpPr>
        <p:spPr>
          <a:xfrm>
            <a:off x="6461280" y="4029120"/>
            <a:ext cx="2815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TextBox 22"/>
          <p:cNvSpPr/>
          <p:nvPr/>
        </p:nvSpPr>
        <p:spPr>
          <a:xfrm>
            <a:off x="6376320" y="3540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421200" y="1125360"/>
            <a:ext cx="38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act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Produce a one-off charity key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St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2627280" y="3141720"/>
            <a:ext cx="4114800" cy="187164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d9d9d9"/>
              </a:gs>
            </a:gsLst>
            <a:lin ang="5400000"/>
          </a:gra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C H I L D R E 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7f3"/>
                </a:solidFill>
                <a:latin typeface="VAGRounded BT"/>
              </a:rPr>
              <a:t>I N   N E 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9"/>
          <p:cNvCxnSpPr/>
          <p:nvPr/>
        </p:nvCxnSpPr>
        <p:spPr>
          <a:xfrm>
            <a:off x="2484000" y="458136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Oval 7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1652040" y="461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6951600" y="43369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1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7"/>
          <p:cNvCxnSpPr/>
          <p:nvPr/>
        </p:nvCxnSpPr>
        <p:spPr>
          <a:xfrm>
            <a:off x="6884640" y="4076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46" name="Picture 2" descr="pudsey2[1]"/>
          <p:cNvPicPr/>
          <p:nvPr/>
        </p:nvPicPr>
        <p:blipFill>
          <a:blip r:embed="rId2"/>
          <a:stretch/>
        </p:blipFill>
        <p:spPr>
          <a:xfrm>
            <a:off x="7956720" y="5634000"/>
            <a:ext cx="699840" cy="946080"/>
          </a:xfrm>
          <a:prstGeom prst="rect">
            <a:avLst/>
          </a:prstGeom>
          <a:ln w="0">
            <a:noFill/>
          </a:ln>
        </p:spPr>
      </p:pic>
      <p:sp>
        <p:nvSpPr>
          <p:cNvPr id="147" name="Straight Connector 5"/>
          <p:cNvSpPr/>
          <p:nvPr/>
        </p:nvSpPr>
        <p:spPr>
          <a:xfrm flipH="1">
            <a:off x="2627280" y="4038480"/>
            <a:ext cx="440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20"/>
          <p:cNvSpPr/>
          <p:nvPr/>
        </p:nvSpPr>
        <p:spPr>
          <a:xfrm flipH="1">
            <a:off x="2344680" y="4568760"/>
            <a:ext cx="440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508720" y="476100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684360" y="1413000"/>
            <a:ext cx="7632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Quality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key ring the correct si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Are the letters evenly spa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hole drilled in the correct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s the text spelled correct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or you: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For Children in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1430280" y="5224320"/>
            <a:ext cx="2459160" cy="932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995760" y="5638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istock_000005807071xsmall"/>
          <p:cNvPicPr/>
          <p:nvPr/>
        </p:nvPicPr>
        <p:blipFill>
          <a:blip r:embed="rId1"/>
          <a:stretch/>
        </p:blipFill>
        <p:spPr>
          <a:xfrm>
            <a:off x="5999040" y="620640"/>
            <a:ext cx="229572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0" y="0"/>
            <a:ext cx="1979640" cy="762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Cycle of Lear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Studen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895480" y="900000"/>
            <a:ext cx="3189240" cy="7621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MS PGothic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8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one-off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entagon 9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one-off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one-off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1349280" y="1025640"/>
            <a:ext cx="4321440" cy="72216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Comic Sans MS"/>
              </a:rPr>
              <a:t>Scale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593720" y="602604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ea typeface="MS PGothic"/>
                <a:hlinkClick r:id="rId1"/>
              </a:rPr>
              <a:t>http://www.youtube.com/watch?v=DTWnQDAhp9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08000" y="1989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Watch the vide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List the items that you see, how many of each of these items do you think are made in one go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Fill out the char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16000" y="4149720"/>
          <a:ext cx="2236680" cy="14670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</a:tblGrid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umber M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2880">
                      <a:solidFill>
                        <a:srgbClr val="0000ff"/>
                      </a:solidFill>
                    </a:lnL>
                    <a:lnR w="2880">
                      <a:solidFill>
                        <a:srgbClr val="0000ff"/>
                      </a:solidFill>
                    </a:lnR>
                    <a:lnT w="288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9" descr="http://t2.gstatic.com/images?q=tbn:ANd9GcRvxwmgdUJUnrPqi2bjKTw3Asy8KuLYPkm9bR8DwpP4WSoy9_bZ3s7ddP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4724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t2.gstatic.com/images?q=tbn:ANd9GcTVyFHJRm5TMR9hcK8g_JGTRiaEXPDiddL-_gvRSlsJ6HgGOZ3KS_ZLN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26040" y="3967200"/>
            <a:ext cx="1577880" cy="8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t2.gstatic.com/images?q=tbn:ANd9GcTgaWqhLg59qCVIDyyZfO38w0fsE1ApjktFBxuqrG6vsebunNBiyPI3eq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6120" y="3052800"/>
            <a:ext cx="1428840" cy="838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2"/>
          <p:cNvSpPr/>
          <p:nvPr/>
        </p:nvSpPr>
        <p:spPr>
          <a:xfrm>
            <a:off x="6659640" y="1335240"/>
            <a:ext cx="2395440" cy="49957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Contex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New topic on Scales of Produ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ha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Scales of Production is about how many of an item are made at on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hy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All engineered products will be produced at a certain s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Previously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You will have looked at some scales of production in KS3 D&amp;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Next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rebuchet MS"/>
              </a:rPr>
              <a:t>You are going to make some products at different sc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t2.gstatic.com/images?q=tbn:ANd9GcRvxwmgdUJUnrPqi2bjKTw3Asy8KuLYPkm9bR8DwpP4WSoy9_bZ3s7ddP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41920" y="5616720"/>
            <a:ext cx="1181160" cy="118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10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4549680" y="2063880"/>
            <a:ext cx="1971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8920" y="2276280"/>
            <a:ext cx="8713800" cy="2665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MS PGothic"/>
              </a:rPr>
              <a:t>To understand the scale of engineering production: one-o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These issues affect all aspects of the course and should be considered through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Team%20puzzle"/>
          <p:cNvPicPr/>
          <p:nvPr/>
        </p:nvPicPr>
        <p:blipFill>
          <a:blip r:embed="rId1"/>
          <a:srcRect l="11218" t="15988" r="11679" b="12804"/>
          <a:stretch/>
        </p:blipFill>
        <p:spPr>
          <a:xfrm>
            <a:off x="7020000" y="5040360"/>
            <a:ext cx="1962000" cy="1816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573280" y="747720"/>
            <a:ext cx="3997440" cy="76212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stock_000005807071xsmall"/>
          <p:cNvPicPr/>
          <p:nvPr/>
        </p:nvPicPr>
        <p:blipFill>
          <a:blip r:embed="rId1"/>
          <a:stretch/>
        </p:blipFill>
        <p:spPr>
          <a:xfrm>
            <a:off x="7416720" y="1987560"/>
            <a:ext cx="172728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Pentagon 5"/>
          <p:cNvSpPr/>
          <p:nvPr/>
        </p:nvSpPr>
        <p:spPr>
          <a:xfrm>
            <a:off x="0" y="2997360"/>
            <a:ext cx="7488360" cy="143964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what one-off production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entagon 6"/>
          <p:cNvSpPr/>
          <p:nvPr/>
        </p:nvSpPr>
        <p:spPr>
          <a:xfrm>
            <a:off x="826920" y="4206960"/>
            <a:ext cx="7490160" cy="1441440"/>
          </a:xfrm>
          <a:custGeom>
            <a:avLst/>
            <a:gdLst>
              <a:gd name="textAreaLeft" fmla="*/ 0 w 7490160"/>
              <a:gd name="textAreaRight" fmla="*/ 7490520 w 74901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1" y="0"/>
                </a:lnTo>
                <a:lnTo>
                  <a:pt x="21600" y="10800"/>
                </a:lnTo>
                <a:lnTo>
                  <a:pt x="195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oo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dentify some advantages and disadvantages of one-off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entagon 7"/>
          <p:cNvSpPr/>
          <p:nvPr/>
        </p:nvSpPr>
        <p:spPr>
          <a:xfrm>
            <a:off x="1655640" y="5418000"/>
            <a:ext cx="7488360" cy="1440000"/>
          </a:xfrm>
          <a:custGeom>
            <a:avLst/>
            <a:gdLst>
              <a:gd name="textAreaLeft" fmla="*/ 0 w 7488360"/>
              <a:gd name="textAreaRight" fmla="*/ 7488720 w 7488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3" y="0"/>
                </a:lnTo>
                <a:lnTo>
                  <a:pt x="21600" y="10800"/>
                </a:lnTo>
                <a:lnTo>
                  <a:pt x="195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ceptional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scribe one-off production to enable future comparisons</a:t>
            </a: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573280" y="747720"/>
            <a:ext cx="3997440" cy="76212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126200" y="3218040"/>
            <a:ext cx="1971720" cy="10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://t2.gstatic.com/images?q=tbn:ANd9GcRvxwmgdUJUnrPqi2bjKTw3Asy8KuLYPkm9bR8DwpP4WSoy9_bZ3s7ddP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43560" y="5516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t2.gstatic.com/images?q=tbn:ANd9GcTVyFHJRm5TMR9hcK8g_JGTRiaEXPDiddL-_gvRSlsJ6HgGOZ3KS_ZLN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76360" y="5727600"/>
            <a:ext cx="1578240" cy="8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t2.gstatic.com/images?q=tbn:ANd9GcTgaWqhLg59qCVIDyyZfO38w0fsE1ApjktFBxuqrG6vsebunNBiyPI3eqg"/>
          <p:cNvPicPr/>
          <p:nvPr/>
        </p:nvPicPr>
        <p:blipFill>
          <a:blip r:embed="rId6"/>
          <a:stretch/>
        </p:blipFill>
        <p:spPr>
          <a:xfrm>
            <a:off x="47520" y="345456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7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6500880" y="2214720"/>
            <a:ext cx="1857240" cy="10713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857160" y="2286000"/>
            <a:ext cx="2071800" cy="1214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285920" y="5143680"/>
            <a:ext cx="1428840" cy="10000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6227640" y="4724280"/>
            <a:ext cx="2463840" cy="11430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3429000" y="3214800"/>
            <a:ext cx="2357280" cy="14284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2"/>
          <p:cNvCxnSpPr>
            <a:stCxn id="81" idx="7"/>
          </p:cNvCxnSpPr>
          <p:nvPr/>
        </p:nvCxnSpPr>
        <p:spPr>
          <a:xfrm flipV="1">
            <a:off x="5442120" y="2923560"/>
            <a:ext cx="10022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3"/>
          <p:cNvCxnSpPr>
            <a:stCxn id="81" idx="1"/>
          </p:cNvCxnSpPr>
          <p:nvPr/>
        </p:nvCxnSpPr>
        <p:spPr>
          <a:xfrm flipH="1" flipV="1">
            <a:off x="2986920" y="3141000"/>
            <a:ext cx="786600" cy="28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14"/>
          <p:cNvCxnSpPr>
            <a:stCxn id="81" idx="3"/>
          </p:cNvCxnSpPr>
          <p:nvPr/>
        </p:nvCxnSpPr>
        <p:spPr>
          <a:xfrm flipH="1">
            <a:off x="2555640" y="4433400"/>
            <a:ext cx="1218240" cy="72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5"/>
          <p:cNvSpPr/>
          <p:nvPr/>
        </p:nvSpPr>
        <p:spPr>
          <a:xfrm>
            <a:off x="3492360" y="34290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Scale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285920" y="2643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1428840" y="53578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6572160" y="2428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  <a:ea typeface="MS PGothic"/>
              </a:rPr>
              <a:t>One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19"/>
          <p:cNvCxnSpPr>
            <a:stCxn id="81" idx="5"/>
          </p:cNvCxnSpPr>
          <p:nvPr/>
        </p:nvCxnSpPr>
        <p:spPr>
          <a:xfrm>
            <a:off x="5441760" y="4433760"/>
            <a:ext cx="85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20"/>
          <p:cNvSpPr/>
          <p:nvPr/>
        </p:nvSpPr>
        <p:spPr>
          <a:xfrm>
            <a:off x="6572160" y="4929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One-Off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0" y="1652760"/>
            <a:ext cx="91440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One-off or individual production, is used to manufacture one-of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It is often related to as “tailor made”, bespoke or customised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A key feature is often a high-cost product that is manufactured to a client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his kind of one-off product may be higher cost due to more expensive materials and time consuming hand crafted production and fin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Wedding dresses and custom made pieces use this type of manufa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This is the most expensive type of manufa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ly skilled workers will be used, and will work on one job at a time. This means that it is extremely expen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2601720" y="36622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563360" y="3662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MS PGothic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4829040" y="4292640"/>
            <a:ext cx="29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 uni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ow production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Requires skilled 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High labour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0" y="3141720"/>
            <a:ext cx="0" cy="360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1169280" y="484668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General tools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Low initial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t1.gstatic.com/images?q=tbn:ANd9GcSZhLwEC8Ksj8In38_N7ohlbXubTMWwcmGRPTf0XL_HYUJD3enaO0AwHg"/>
          <p:cNvPicPr/>
          <p:nvPr/>
        </p:nvPicPr>
        <p:blipFill>
          <a:blip r:embed="rId2"/>
          <a:stretch/>
        </p:blipFill>
        <p:spPr>
          <a:xfrm>
            <a:off x="2987640" y="1989000"/>
            <a:ext cx="126036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t0.gstatic.com/images?q=tbn:ANd9GcST5e7IYTVpzeD39qe56N7kqb5TeMTaoi9ks_lmGGZ2_xCLbhCZRjKH2HM"/>
          <p:cNvPicPr/>
          <p:nvPr/>
        </p:nvPicPr>
        <p:blipFill>
          <a:blip r:embed="rId3"/>
          <a:stretch/>
        </p:blipFill>
        <p:spPr>
          <a:xfrm>
            <a:off x="4890960" y="1989000"/>
            <a:ext cx="1265400" cy="1365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One-Off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31640" y="1700280"/>
          <a:ext cx="8244000" cy="4084560"/>
        </p:xfrm>
        <a:graphic>
          <a:graphicData uri="http://schemas.openxmlformats.org/drawingml/2006/table">
            <a:tbl>
              <a:tblPr/>
              <a:tblGrid>
                <a:gridCol w="3000600"/>
                <a:gridCol w="524340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1"/>
          <p:cNvSpPr/>
          <p:nvPr/>
        </p:nvSpPr>
        <p:spPr>
          <a:xfrm>
            <a:off x="1547640" y="907920"/>
            <a:ext cx="6048720" cy="69876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Comic Sans MS"/>
              </a:rPr>
              <a:t>Production Scales: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7772400" y="0"/>
            <a:ext cx="13921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0" y="1033560"/>
          <a:ext cx="9144000" cy="5851440"/>
        </p:xfrm>
        <a:graphic>
          <a:graphicData uri="http://schemas.openxmlformats.org/drawingml/2006/table">
            <a:tbl>
              <a:tblPr/>
              <a:tblGrid>
                <a:gridCol w="1446120"/>
                <a:gridCol w="2525760"/>
                <a:gridCol w="517212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Unit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w much each item will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st item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cos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cost item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ols and 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used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tools - can be used to make other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ed tools - can only be used to make a few 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icated tools - can only be used to make one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iti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it costs to set up to make the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investment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investment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duction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quickly and cheaply overall the product is to ma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efficiency - is slow and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ef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efficiency - is quick and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training do the people making the item ne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ts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om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skilled - workers who have had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o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bour 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much do the people making the item have to be pa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wages -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w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wages - ch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1"/>
          <p:cNvSpPr/>
          <p:nvPr/>
        </p:nvSpPr>
        <p:spPr>
          <a:xfrm>
            <a:off x="2771640" y="200160"/>
            <a:ext cx="3600720" cy="698400"/>
          </a:xfrm>
          <a:prstGeom prst="rect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Comic Sans MS"/>
              </a:rPr>
              <a:t>Production Scales: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24:57Z</dcterms:created>
  <dc:creator>K. Sugden</dc:creator>
  <dc:description/>
  <dc:language>en-US</dc:language>
  <cp:lastModifiedBy>David Hudson</cp:lastModifiedBy>
  <cp:lastPrinted>2016-11-02T13:06:20Z</cp:lastPrinted>
  <dcterms:modified xsi:type="dcterms:W3CDTF">2018-08-09T19:45:17Z</dcterms:modified>
  <cp:revision>237</cp:revision>
  <dc:subject/>
  <dc:title>Slide 1</dc:title>
</cp:coreProperties>
</file>