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D1F3D-BDE9-43DA-8C27-FC9FBE6E00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E3E90-686D-4274-91E9-FFC30D19C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01DE1-4BF5-41DE-8427-E56B6FEAE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9BDB-996B-4A7F-8984-9A8F86B6E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ED9A-B812-46A3-A2F5-E3D432BE1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9BF4-DEF4-4870-ABAD-6E5052837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B27B-185D-403C-A792-0F528FCCD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EC0F-32BC-421B-B2EB-A8864F5A5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F823-B8E1-4676-8335-CBC0CDBE99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C4D9-DF7D-45CC-9ED6-FE5C18B03A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40F2-8754-49BF-A7FF-0CDA4D7488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0FF3-D6E0-4371-AC4D-A6A36C5C77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6FB3-EB39-4525-81FA-19F30AE13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5B0D-008F-41E2-8466-6DE6184E46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6068-9A22-412F-B4BA-0E9B32D161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08F7-D815-4774-8950-58BC2B2055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4137-F96E-4AE5-AEC3-D80C88276C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5AC0-96FA-4433-880C-786F2DA5AA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18F3-F390-4849-8A5C-14AD41B057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034F-43D8-4B99-B392-01ABC33981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42B5-3FAD-40D6-97B0-A9E18E1E5B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99C-183D-4424-8665-3D251E4FCE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0EF-561A-4A53-A39D-83DB2A4A82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591-A79F-40E5-B5EE-438EC5956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283E-EC40-490D-98FA-C38D9B9ADA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76E-E97C-409D-9D2F-A58ACF9446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FED-E7B7-46C0-8CB4-FB395FE40A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CE3-8C51-4E16-A067-354D808C48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6A2-10FD-42F8-B959-EB5D6A7D7D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AED-2B49-4D81-8468-54D0FA1D4E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203-611B-4182-B0F2-D1D979F991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8B1-4B11-474C-835D-C071F243BA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96A-6F72-4FE1-87A3-2465A6888B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869-4C97-404D-A8A5-9BB7BBAB2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2546-5754-4620-AAD4-02E04F15C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97C9-2E04-4B7F-BB58-A8ED593DE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FF35-329E-4E4B-9890-96A997FF8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E01F-925C-4983-BF7E-ED2A3788F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16C6-120C-4F7A-8B55-44C3C1A8C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9A4B4CA2-7577-47E5-A163-1E762B2D6F4D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fying Proportion and Non-proportion Situ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fying Proportion and Non-proportion Situ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248600" y="6161040"/>
            <a:ext cx="1054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fying Proportion and Non-proportion Situ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7153200" y="6151320"/>
            <a:ext cx="1533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C808588F-A50D-49A3-8723-3D7AA088F8E3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fying Proportion and Non-proportion Situ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3"/>
          </p:nvPr>
        </p:nvSpPr>
        <p:spPr>
          <a:xfrm>
            <a:off x="6648480" y="6151320"/>
            <a:ext cx="2038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DB9DD1C9-5688-46EB-8A43-74508561EE83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8436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Classifying Proportion and Non-proportion Situations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Toas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71B41595-890B-47D6-AA8E-5019D8B61826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toaster.jpg"/>
          <p:cNvPicPr/>
          <p:nvPr/>
        </p:nvPicPr>
        <p:blipFill>
          <a:blip r:embed="rId1"/>
          <a:stretch/>
        </p:blipFill>
        <p:spPr>
          <a:xfrm>
            <a:off x="3666960" y="1306440"/>
            <a:ext cx="2025720" cy="1654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3181320"/>
            <a:ext cx="82296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aster has two slots for bread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minutes to make ……… slices of toast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long does it take to make ………slices of toast?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Smoothie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ACCE7E2D-347B-48DD-B9C4-A4FB80618B42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3468600"/>
            <a:ext cx="82296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three strawberry smoothies, you need: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s of apple juice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anas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s of strawberries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bananas are needed for …. smoothies?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600360" y="1052640"/>
            <a:ext cx="16099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Triangles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2A148EA0-8AE4-42E4-99E5-9D7E7CB4C8C1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rcRect l="0" t="2740" r="0" b="2740"/>
          <a:stretch/>
        </p:blipFill>
        <p:spPr>
          <a:xfrm>
            <a:off x="1536840" y="1631880"/>
            <a:ext cx="5968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Line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DE7CB4F3-414B-445E-BD0D-A49CB88EEB00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019240"/>
            <a:ext cx="82296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ight line passes through the points (0,0) and ( .…. , ….. )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passes through the point ( …..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Proportion or not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8EFF6900-0680-4040-850B-7009D596AC9F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Graphs Plenary.eps"/>
          <p:cNvPicPr/>
          <p:nvPr/>
        </p:nvPicPr>
        <p:blipFill>
          <a:blip r:embed="rId1"/>
          <a:stretch/>
        </p:blipFill>
        <p:spPr>
          <a:xfrm>
            <a:off x="363600" y="1882800"/>
            <a:ext cx="8175600" cy="1743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1321200" y="4637160"/>
            <a:ext cx="63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ituations would give graphs like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proportional situ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199080" y="3486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3377880" y="3486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6545880" y="3486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Buying Cheese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6172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ounces of cheese costs $2.40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s wants to buy ……… ounces of cheese.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s will have to pay $ ........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F9DCAC71-6712-4806-9FA6-60BF5D028785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cheese.jpg"/>
          <p:cNvPicPr/>
          <p:nvPr/>
        </p:nvPicPr>
        <p:blipFill>
          <a:blip r:embed="rId1"/>
          <a:stretch/>
        </p:blipFill>
        <p:spPr>
          <a:xfrm>
            <a:off x="5675400" y="340200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Properties of Direct Proportion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62080"/>
            <a:ext cx="791676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10e0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quantity is a multiple of the other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0e0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0e0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first quantity is zero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quantity is zero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0e0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0e0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uble one quantit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also doubles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0e0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0e0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ph of the relationsh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traight line through the origin. 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E6BE7DE7-C7BA-4D71-B50E-27ABE0A2403A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Working Together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6172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oose one of the cards to work on together. </a:t>
            </a: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oose some easy numbers to fill in the blanks.</a:t>
            </a: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swer the question you have written. </a:t>
            </a: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lvl="1"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rite all your reasoning on the car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w choose harder numbers to fill in the blanks.</a:t>
            </a: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swer your new question together.  </a:t>
            </a: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rite all your reasoning on the card.</a:t>
            </a: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cide whether the quantities vary in direct proportion. </a:t>
            </a: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rite your answer and your reasoning on the card. </a:t>
            </a: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n you have finished one card, choose another. </a:t>
            </a: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F74CEFF1-0F6E-47C0-9F12-608884A28BA1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Analyzing Each Other’s Work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16172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fully read each solution in turn. </a:t>
            </a:r>
            <a:endParaRPr b="1" lang="en-US" sz="22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you d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understan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notice any erro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the work to your own solution to the question. </a:t>
            </a:r>
            <a:endParaRPr b="1" lang="en-US" sz="22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you used the same meth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have the same numerical answe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you agree about which question involves direct proportion? </a:t>
            </a:r>
            <a:endParaRPr b="1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3BB4A513-4F77-4F6E-AFC0-559C1CD3579D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Driving 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01B4958C-21C7-476F-B170-388D571ACF7E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16172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drive a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 per hou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journey will tak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s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will my journey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drive a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 per hour?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2241720" y="2297160"/>
            <a:ext cx="49114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Interne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B5EFA8F5-2007-46A3-9DE2-EB8EC20DEED5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322848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net service provid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igabites) free each month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GB used is charged at $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GB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used ……… GB last month.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id this cost?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941560" y="1447920"/>
            <a:ext cx="28148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Cell Phone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A70FE959-C73D-4FB3-87E0-AE08EE5FD15D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73040" y="3468600"/>
            <a:ext cx="82137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ll phone company charges 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call minute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us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minutes last month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id this cost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440" y="1279440"/>
            <a:ext cx="12542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Map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E24D45EC-C0B4-43CC-AEC6-511147FF3183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3468600"/>
            <a:ext cx="82296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a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hes long on a ma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 long in real life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ver 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hes long on the map.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is the river in real life? 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760840" y="1157400"/>
            <a:ext cx="35352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0:08:26Z</dcterms:created>
  <dc:creator>Daniel</dc:creator>
  <dc:description/>
  <dc:language>en-US</dc:language>
  <cp:lastModifiedBy>Shell Centre</cp:lastModifiedBy>
  <cp:lastPrinted>2014-10-22T13:20:14Z</cp:lastPrinted>
  <dcterms:modified xsi:type="dcterms:W3CDTF">2015-03-09T18:55:08Z</dcterms:modified>
  <cp:revision>99</cp:revision>
  <dc:subject/>
  <dc:title>Solving Linear Equations in Two Variables</dc:title>
</cp:coreProperties>
</file>