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2713-1DB4-429C-835F-E91CDA3A54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0BD4-94C1-4706-85D0-CF5F4FEE63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0FE4-B991-42E6-A5B9-EB2EB9EB9D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BAD0-EDA6-4DFD-9849-8F7235CE46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4078-2750-45FD-9832-6BFA14F962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DEE6-A114-4602-AD61-6C80F83C6E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77C8-77FF-4EC1-9F03-CD6DACEF4D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1E17-C1C0-4BF9-87B8-92A1173174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3835-FA37-43B4-9757-A17EF263B6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972B-042E-4A3D-A927-03493A3765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7877-695A-431B-996D-4DC4418BA8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9A61-8306-49DE-BE40-AD35C90F47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D854-4E80-4144-A841-49DE34351E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614E-81DE-49C0-B755-0F8AD75247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Ttop"/>
          <p:cNvPicPr/>
          <p:nvPr/>
        </p:nvPicPr>
        <p:blipFill>
          <a:blip r:embed="rId2"/>
          <a:stretch/>
        </p:blipFill>
        <p:spPr>
          <a:xfrm>
            <a:off x="4680" y="0"/>
            <a:ext cx="9151920" cy="6904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0"/>
          <p:cNvSpPr/>
          <p:nvPr/>
        </p:nvSpPr>
        <p:spPr>
          <a:xfrm>
            <a:off x="160200" y="304920"/>
            <a:ext cx="388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GATSBY SCIENCE ENHANCEMENT PROGRAM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1"/>
          <p:cNvSpPr/>
          <p:nvPr/>
        </p:nvSpPr>
        <p:spPr>
          <a:xfrm>
            <a:off x="4199040" y="30492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Arial"/>
                <a:ea typeface="Arial"/>
              </a:rPr>
              <a:t>INNOVATIONS IN PRACTICAL WORK: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 MODELLING CLIMATE 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2"/>
          <p:cNvSpPr/>
          <p:nvPr/>
        </p:nvSpPr>
        <p:spPr>
          <a:xfrm>
            <a:off x="792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34"/>
          <p:cNvSpPr/>
          <p:nvPr/>
        </p:nvSpPr>
        <p:spPr>
          <a:xfrm>
            <a:off x="7920" y="541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PPTtop"/>
          <p:cNvPicPr/>
          <p:nvPr/>
        </p:nvPicPr>
        <p:blipFill>
          <a:blip r:embed="rId3"/>
          <a:stretch/>
        </p:blipFill>
        <p:spPr>
          <a:xfrm>
            <a:off x="0" y="6324480"/>
            <a:ext cx="91519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Earth’s energy bal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Climate Change 2007: The Physical Science Basis (IPC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7" descr="MMC112"/>
          <p:cNvPicPr/>
          <p:nvPr/>
        </p:nvPicPr>
        <p:blipFill>
          <a:blip r:embed="rId1"/>
          <a:srcRect l="14979" t="8249" r="13788" b="8632"/>
          <a:stretch/>
        </p:blipFill>
        <p:spPr>
          <a:xfrm>
            <a:off x="868320" y="981000"/>
            <a:ext cx="7407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Earth’s reflectivity is affected by defores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BigStockPhoto.com (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© 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Mika Makelaine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8" descr="MMC121"/>
          <p:cNvPicPr/>
          <p:nvPr/>
        </p:nvPicPr>
        <p:blipFill>
          <a:blip r:embed="rId1"/>
          <a:srcRect l="19497" t="8128" r="18656" b="8275"/>
          <a:stretch/>
        </p:blipFill>
        <p:spPr>
          <a:xfrm>
            <a:off x="1908000" y="1343160"/>
            <a:ext cx="5328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Earth’s reflectivity is affected by burning co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BigStockPhoto.com (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© 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Darren Bak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MMC122"/>
          <p:cNvPicPr/>
          <p:nvPr/>
        </p:nvPicPr>
        <p:blipFill>
          <a:blip r:embed="rId1"/>
          <a:srcRect l="17978" t="8930" r="18797" b="8960"/>
          <a:stretch/>
        </p:blipFill>
        <p:spPr>
          <a:xfrm>
            <a:off x="1800360" y="1343160"/>
            <a:ext cx="5543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imating the energy flow from the Sun using a light bul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5"/>
          <p:cNvGrpSpPr/>
          <p:nvPr/>
        </p:nvGrpSpPr>
        <p:grpSpPr>
          <a:xfrm>
            <a:off x="1322280" y="1341360"/>
            <a:ext cx="6499440" cy="3598920"/>
            <a:chOff x="1322280" y="1341360"/>
            <a:chExt cx="6499440" cy="3598920"/>
          </a:xfrm>
        </p:grpSpPr>
        <p:pic>
          <p:nvPicPr>
            <p:cNvPr id="89" name="Picture 6" descr="MMC123"/>
            <p:cNvPicPr/>
            <p:nvPr/>
          </p:nvPicPr>
          <p:blipFill>
            <a:blip r:embed="rId1"/>
            <a:srcRect l="17038" t="13939" r="54397" b="14629"/>
            <a:stretch/>
          </p:blipFill>
          <p:spPr>
            <a:xfrm>
              <a:off x="1322280" y="1341360"/>
              <a:ext cx="2880360" cy="359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6" descr="MMC123"/>
            <p:cNvPicPr/>
            <p:nvPr/>
          </p:nvPicPr>
          <p:blipFill>
            <a:blip r:embed="rId2"/>
            <a:srcRect l="48284" t="13939" r="15115" b="14629"/>
            <a:stretch/>
          </p:blipFill>
          <p:spPr>
            <a:xfrm>
              <a:off x="4131000" y="1341360"/>
              <a:ext cx="3690720" cy="3598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 the Earth gets warmer, sea ice and snow are melting, decreasing reflectivity and leading to further warm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BigStockPhoto.com (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© 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Armin Ros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MMC124"/>
          <p:cNvPicPr/>
          <p:nvPr/>
        </p:nvPicPr>
        <p:blipFill>
          <a:blip r:embed="rId1"/>
          <a:srcRect l="19127" t="8330" r="17680" b="9166"/>
          <a:stretch/>
        </p:blipFill>
        <p:spPr>
          <a:xfrm>
            <a:off x="1816200" y="1343160"/>
            <a:ext cx="5511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simple energy balance model of the climat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MMC113"/>
          <p:cNvPicPr/>
          <p:nvPr/>
        </p:nvPicPr>
        <p:blipFill>
          <a:blip r:embed="rId1"/>
          <a:srcRect l="16982" t="7010" r="20160" b="7473"/>
          <a:stretch/>
        </p:blipFill>
        <p:spPr>
          <a:xfrm>
            <a:off x="1395360" y="981000"/>
            <a:ext cx="6353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uter spreadsheet based on a simple energy balance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MMC114"/>
          <p:cNvPicPr/>
          <p:nvPr/>
        </p:nvPicPr>
        <p:blipFill>
          <a:blip r:embed="rId1"/>
          <a:srcRect l="20792" t="8668" r="22034" b="8138"/>
          <a:stretch/>
        </p:blipFill>
        <p:spPr>
          <a:xfrm>
            <a:off x="1601640" y="981000"/>
            <a:ext cx="5940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bsorption of infrared radiation by w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MMC115"/>
          <p:cNvPicPr/>
          <p:nvPr/>
        </p:nvPicPr>
        <p:blipFill>
          <a:blip r:embed="rId1"/>
          <a:srcRect l="38175" t="8300" r="33325" b="8789"/>
          <a:stretch/>
        </p:blipFill>
        <p:spPr>
          <a:xfrm>
            <a:off x="3335400" y="1343160"/>
            <a:ext cx="24732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vestigating the reflectivity of a surface using thermocolour fil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5"/>
          <p:cNvGrpSpPr/>
          <p:nvPr/>
        </p:nvGrpSpPr>
        <p:grpSpPr>
          <a:xfrm>
            <a:off x="1636560" y="1343160"/>
            <a:ext cx="5870880" cy="3600360"/>
            <a:chOff x="1636560" y="1343160"/>
            <a:chExt cx="5870880" cy="3600360"/>
          </a:xfrm>
        </p:grpSpPr>
        <p:pic>
          <p:nvPicPr>
            <p:cNvPr id="64" name="Picture 7" descr="MMC116"/>
            <p:cNvPicPr/>
            <p:nvPr/>
          </p:nvPicPr>
          <p:blipFill>
            <a:blip r:embed="rId1"/>
            <a:srcRect l="18781" t="13460" r="55354" b="12377"/>
            <a:stretch/>
          </p:blipFill>
          <p:spPr>
            <a:xfrm>
              <a:off x="1636560" y="1343160"/>
              <a:ext cx="3014280" cy="36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MMC116"/>
            <p:cNvPicPr/>
            <p:nvPr/>
          </p:nvPicPr>
          <p:blipFill>
            <a:blip r:embed="rId2"/>
            <a:srcRect l="55856" t="30710" r="20868" b="34801"/>
            <a:stretch/>
          </p:blipFill>
          <p:spPr>
            <a:xfrm>
              <a:off x="4805280" y="2309040"/>
              <a:ext cx="2702160" cy="166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energy flow from the Sun varies with an 11-year cyc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over longer timesc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Climate Change 2007: The Physical Science Basis (IPC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MMC117"/>
          <p:cNvPicPr/>
          <p:nvPr/>
        </p:nvPicPr>
        <p:blipFill>
          <a:blip r:embed="rId1"/>
          <a:srcRect l="26975" t="13893" r="24609" b="12573"/>
          <a:stretch/>
        </p:blipFill>
        <p:spPr>
          <a:xfrm>
            <a:off x="1727280" y="981000"/>
            <a:ext cx="5689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concentration of carbon dioxide in the atmosph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as increased dramatic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Climate Change 2007: The Physical Science Basis (IPC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MMC118"/>
          <p:cNvPicPr/>
          <p:nvPr/>
        </p:nvPicPr>
        <p:blipFill>
          <a:blip r:embed="rId1"/>
          <a:srcRect l="29472" t="15123" r="30175" b="11026"/>
          <a:stretch/>
        </p:blipFill>
        <p:spPr>
          <a:xfrm>
            <a:off x="2211480" y="982800"/>
            <a:ext cx="47210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enhanced greenhouse eff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6"/>
          <p:cNvGrpSpPr/>
          <p:nvPr/>
        </p:nvGrpSpPr>
        <p:grpSpPr>
          <a:xfrm>
            <a:off x="266760" y="1433520"/>
            <a:ext cx="8610480" cy="3419640"/>
            <a:chOff x="266760" y="1433520"/>
            <a:chExt cx="8610480" cy="3419640"/>
          </a:xfrm>
        </p:grpSpPr>
        <p:pic>
          <p:nvPicPr>
            <p:cNvPr id="75" name="Picture 8" descr="MMC119"/>
            <p:cNvPicPr/>
            <p:nvPr/>
          </p:nvPicPr>
          <p:blipFill>
            <a:blip r:embed="rId1"/>
            <a:srcRect l="4052" t="14775" r="51945" b="14488"/>
            <a:stretch/>
          </p:blipFill>
          <p:spPr>
            <a:xfrm>
              <a:off x="266760" y="1433520"/>
              <a:ext cx="4254480" cy="34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8" descr="MMC119"/>
            <p:cNvPicPr/>
            <p:nvPr/>
          </p:nvPicPr>
          <p:blipFill>
            <a:blip r:embed="rId2"/>
            <a:srcRect l="51509" t="14775" r="4488" b="14488"/>
            <a:stretch/>
          </p:blipFill>
          <p:spPr>
            <a:xfrm>
              <a:off x="4622760" y="1433520"/>
              <a:ext cx="4254480" cy="341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Earth’s reflectivity is affected by volcanic erup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BigStockPhoto.com (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© 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Corey For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MMC120"/>
          <p:cNvPicPr/>
          <p:nvPr/>
        </p:nvPicPr>
        <p:blipFill>
          <a:blip r:embed="rId1"/>
          <a:srcRect l="18721" t="6642" r="19220" b="7806"/>
          <a:stretch/>
        </p:blipFill>
        <p:spPr>
          <a:xfrm>
            <a:off x="1960560" y="1343160"/>
            <a:ext cx="522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6:06:17Z</dcterms:created>
  <dc:creator>SEP</dc:creator>
  <dc:description/>
  <dc:language>en-US</dc:language>
  <cp:lastModifiedBy/>
  <dcterms:modified xsi:type="dcterms:W3CDTF">2011-09-07T10:01:11Z</dcterms:modified>
  <cp:revision>87</cp:revision>
  <dc:subject/>
  <dc:title>SEP</dc:title>
</cp:coreProperties>
</file>