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947-E855-4D36-9001-5A6DB3760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50BD-0056-4A52-93BF-281829503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9E4-346E-4636-B130-F8615CC8B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985-3B35-4B11-A1A9-71D48F8E3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BD4-4C05-4E72-93D2-90C6AEE67C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F98-76F4-4E69-86D1-E46278F8DC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E04-560A-4782-8934-8E9D7D8FDE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6082-F8F0-45DC-9A9E-C54759F6A2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7DA0-58E5-4750-A09C-64805B1222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A6E7-DA09-42D3-8EDD-14467DFC45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CDB7-DB3C-4357-9254-F5475A20BC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479-E232-4C96-87EE-CD1DFFFBC8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Ttop"/>
          <p:cNvPicPr/>
          <p:nvPr/>
        </p:nvPicPr>
        <p:blipFill>
          <a:blip r:embed="rId2"/>
          <a:stretch/>
        </p:blipFill>
        <p:spPr>
          <a:xfrm>
            <a:off x="4680" y="0"/>
            <a:ext cx="9151920" cy="690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MODELLING CLIMAT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PPTtop"/>
          <p:cNvPicPr/>
          <p:nvPr/>
        </p:nvPicPr>
        <p:blipFill>
          <a:blip r:embed="rId3"/>
          <a:stretch/>
        </p:blipFill>
        <p:spPr>
          <a:xfrm>
            <a:off x="0" y="6324480"/>
            <a:ext cx="9151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lex models are needed to represent the processes occurring in and between the atmosphere, oceans and land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6" descr="MMC1"/>
          <p:cNvPicPr/>
          <p:nvPr/>
        </p:nvPicPr>
        <p:blipFill>
          <a:blip r:embed="rId1"/>
          <a:srcRect l="19739" t="8310" r="18875" b="8688"/>
          <a:stretch/>
        </p:blipFill>
        <p:spPr>
          <a:xfrm>
            <a:off x="1908000" y="1343160"/>
            <a:ext cx="532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ing the outflow by tightening the cli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MMC111"/>
          <p:cNvPicPr/>
          <p:nvPr/>
        </p:nvPicPr>
        <p:blipFill>
          <a:blip r:embed="rId1"/>
          <a:srcRect l="22601" t="7040" r="21082" b="7050"/>
          <a:stretch/>
        </p:blipFill>
        <p:spPr>
          <a:xfrm>
            <a:off x="2211480" y="1343160"/>
            <a:ext cx="4721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w steady state is established in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low and outflow again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MMC110"/>
          <p:cNvPicPr/>
          <p:nvPr/>
        </p:nvPicPr>
        <p:blipFill>
          <a:blip r:embed="rId1"/>
          <a:srcRect l="35507" t="7287" r="33156" b="7892"/>
          <a:stretch/>
        </p:blipFill>
        <p:spPr>
          <a:xfrm>
            <a:off x="3241800" y="1343160"/>
            <a:ext cx="2660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of the Earth’s weather and climate is dri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timately by energy from the S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BigStockPhoto.com (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Sebastian Kaulitzki and © Lars Lentz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347760" y="1433520"/>
            <a:ext cx="8448480" cy="3417840"/>
            <a:chOff x="347760" y="1433520"/>
            <a:chExt cx="8448480" cy="3417840"/>
          </a:xfrm>
        </p:grpSpPr>
        <p:pic>
          <p:nvPicPr>
            <p:cNvPr id="55" name="Picture 5" descr="MMC12"/>
            <p:cNvPicPr/>
            <p:nvPr/>
          </p:nvPicPr>
          <p:blipFill>
            <a:blip r:embed="rId1"/>
            <a:srcRect l="3661" t="15395" r="50867" b="14659"/>
            <a:stretch/>
          </p:blipFill>
          <p:spPr>
            <a:xfrm>
              <a:off x="347760" y="1433520"/>
              <a:ext cx="4201560" cy="34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MMC12"/>
            <p:cNvPicPr/>
            <p:nvPr/>
          </p:nvPicPr>
          <p:blipFill>
            <a:blip r:embed="rId2"/>
            <a:srcRect l="50010" t="15395" r="3643" b="14659"/>
            <a:stretch/>
          </p:blipFill>
          <p:spPr>
            <a:xfrm>
              <a:off x="4514040" y="1433520"/>
              <a:ext cx="4282200" cy="341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velengths of terrestrial and solar rad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MC13"/>
          <p:cNvPicPr/>
          <p:nvPr/>
        </p:nvPicPr>
        <p:blipFill>
          <a:blip r:embed="rId1"/>
          <a:srcRect l="15705" t="15002" r="16544" b="12976"/>
          <a:stretch/>
        </p:blipFill>
        <p:spPr>
          <a:xfrm>
            <a:off x="1187280" y="1343160"/>
            <a:ext cx="676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an infrared thermometer to measur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279360" y="1522440"/>
            <a:ext cx="8585280" cy="3240000"/>
            <a:chOff x="279360" y="1522440"/>
            <a:chExt cx="8585280" cy="3240000"/>
          </a:xfrm>
        </p:grpSpPr>
        <p:pic>
          <p:nvPicPr>
            <p:cNvPr id="63" name="Picture 5" descr="MMC14"/>
            <p:cNvPicPr/>
            <p:nvPr/>
          </p:nvPicPr>
          <p:blipFill>
            <a:blip r:embed="rId1"/>
            <a:srcRect l="4107" t="14115" r="50003" b="16131"/>
            <a:stretch/>
          </p:blipFill>
          <p:spPr>
            <a:xfrm>
              <a:off x="279360" y="1522440"/>
              <a:ext cx="4263840" cy="32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MMC14"/>
            <p:cNvPicPr/>
            <p:nvPr/>
          </p:nvPicPr>
          <p:blipFill>
            <a:blip r:embed="rId2"/>
            <a:srcRect l="50003" t="14115" r="4107" b="16131"/>
            <a:stretch/>
          </p:blipFill>
          <p:spPr>
            <a:xfrm>
              <a:off x="4600800" y="1522440"/>
              <a:ext cx="426384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ing the temperatures at the top of the atmosphere - found by satellite measurements of outgoing terrestrial rad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limate Change 2007: The Physical Science Basis (IPC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MC15"/>
          <p:cNvPicPr/>
          <p:nvPr/>
        </p:nvPicPr>
        <p:blipFill>
          <a:blip r:embed="rId1"/>
          <a:srcRect l="18527" t="10174" r="18391" b="10955"/>
          <a:stretch/>
        </p:blipFill>
        <p:spPr>
          <a:xfrm>
            <a:off x="1692360" y="1343160"/>
            <a:ext cx="575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equilibrium, solar radiation absorbed bal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restrial radiation emit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MMC16"/>
          <p:cNvPicPr/>
          <p:nvPr/>
        </p:nvPicPr>
        <p:blipFill>
          <a:blip r:embed="rId1"/>
          <a:srcRect l="14929" t="7191" r="12981" b="7045"/>
          <a:stretch/>
        </p:blipFill>
        <p:spPr>
          <a:xfrm>
            <a:off x="1542960" y="1343160"/>
            <a:ext cx="6058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the steady state bottle to represent wa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MMC17"/>
          <p:cNvPicPr/>
          <p:nvPr/>
        </p:nvPicPr>
        <p:blipFill>
          <a:blip r:embed="rId1"/>
          <a:srcRect l="37780" t="6642" r="29923" b="11298"/>
          <a:stretch/>
        </p:blipFill>
        <p:spPr>
          <a:xfrm>
            <a:off x="3154320" y="1343160"/>
            <a:ext cx="283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the steady state bottle to represent coo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MMC18"/>
          <p:cNvPicPr/>
          <p:nvPr/>
        </p:nvPicPr>
        <p:blipFill>
          <a:blip r:embed="rId1"/>
          <a:srcRect l="34041" t="10300" r="36684" b="8068"/>
          <a:stretch/>
        </p:blipFill>
        <p:spPr>
          <a:xfrm>
            <a:off x="3281400" y="1343160"/>
            <a:ext cx="2581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teady state is achieved when the inflow equals the outflo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MMC19"/>
          <p:cNvPicPr/>
          <p:nvPr/>
        </p:nvPicPr>
        <p:blipFill>
          <a:blip r:embed="rId1"/>
          <a:srcRect l="36623" t="8108" r="33232" b="7826"/>
          <a:stretch/>
        </p:blipFill>
        <p:spPr>
          <a:xfrm>
            <a:off x="3281400" y="1343160"/>
            <a:ext cx="2581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09-07T10:01:34Z</dcterms:modified>
  <cp:revision>88</cp:revision>
  <dc:subject/>
  <dc:title>SEP</dc:title>
</cp:coreProperties>
</file>