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974-0B1A-4AAC-B81F-5649CEDF14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7C2-B987-4BB0-8488-102D69026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D86-562A-4236-B41B-D81EF711B0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B56B-5C97-4A2C-97BE-2F01E2F3C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0783-A556-47AB-ABC6-54204E893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829-F671-4B80-A236-133BAF7237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0A6-4450-4133-9209-F9EF6B4B0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9C9F-4DBD-4A03-926A-728B13A6A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62C-BDA4-4CA1-8885-DAA454AAC7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AD1-2989-4E4A-B513-469F672BD1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D18-5E8B-4F2E-8DE4-C3FE5D44C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Ttop"/>
          <p:cNvPicPr/>
          <p:nvPr/>
        </p:nvPicPr>
        <p:blipFill>
          <a:blip r:embed="rId2"/>
          <a:stretch/>
        </p:blipFill>
        <p:spPr>
          <a:xfrm>
            <a:off x="4680" y="0"/>
            <a:ext cx="9151920" cy="690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MODELLING CLIMAT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PPTtop"/>
          <p:cNvPicPr/>
          <p:nvPr/>
        </p:nvPicPr>
        <p:blipFill>
          <a:blip r:embed="rId3"/>
          <a:stretch/>
        </p:blipFill>
        <p:spPr>
          <a:xfrm>
            <a:off x="0" y="6324480"/>
            <a:ext cx="9151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teady state bottle in 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MMC125"/>
          <p:cNvPicPr/>
          <p:nvPr/>
        </p:nvPicPr>
        <p:blipFill>
          <a:blip r:embed="rId1"/>
          <a:srcRect l="38755" t="7211" r="30606" b="8058"/>
          <a:stretch/>
        </p:blipFill>
        <p:spPr>
          <a:xfrm>
            <a:off x="3270240" y="1343160"/>
            <a:ext cx="260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ual mean temperature anomaly f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MMC134"/>
          <p:cNvPicPr/>
          <p:nvPr/>
        </p:nvPicPr>
        <p:blipFill>
          <a:blip r:embed="rId1"/>
          <a:srcRect l="19389" t="12210" r="17660" b="11585"/>
          <a:stretch/>
        </p:blipFill>
        <p:spPr>
          <a:xfrm>
            <a:off x="1596960" y="1343160"/>
            <a:ext cx="595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urning the stand so that the weight of the bo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ses on the outflow t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MC126"/>
          <p:cNvPicPr/>
          <p:nvPr/>
        </p:nvPicPr>
        <p:blipFill>
          <a:blip r:embed="rId1"/>
          <a:srcRect l="18325" t="8713" r="19250" b="8683"/>
          <a:stretch/>
        </p:blipFill>
        <p:spPr>
          <a:xfrm>
            <a:off x="1851120" y="1343160"/>
            <a:ext cx="5441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itive feedback: as the water level rises the outflow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MC127"/>
          <p:cNvPicPr/>
          <p:nvPr/>
        </p:nvPicPr>
        <p:blipFill>
          <a:blip r:embed="rId1"/>
          <a:srcRect l="35036" t="8441" r="33854" b="7992"/>
          <a:stretch/>
        </p:blipFill>
        <p:spPr>
          <a:xfrm>
            <a:off x="3232080" y="1343160"/>
            <a:ext cx="2679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ouds remain one of the largest a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uncertainty in climate chan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ilvia Bukov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MMC128"/>
          <p:cNvPicPr/>
          <p:nvPr/>
        </p:nvPicPr>
        <p:blipFill>
          <a:blip r:embed="rId1"/>
          <a:srcRect l="23385" t="8023" r="21936" b="9474"/>
          <a:stretch/>
        </p:blipFill>
        <p:spPr>
          <a:xfrm>
            <a:off x="2185920" y="1343160"/>
            <a:ext cx="477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a plastic bottle with moist air is squeezed and released, nothing appears to ha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MC129"/>
          <p:cNvPicPr/>
          <p:nvPr/>
        </p:nvPicPr>
        <p:blipFill>
          <a:blip r:embed="rId1"/>
          <a:srcRect l="20213" t="8416" r="16864" b="8275"/>
          <a:stretch/>
        </p:blipFill>
        <p:spPr>
          <a:xfrm>
            <a:off x="1852560" y="1343160"/>
            <a:ext cx="5438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moke is added to the bottle, and it is then squee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released, a ‘cloud’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MC130"/>
          <p:cNvPicPr/>
          <p:nvPr/>
        </p:nvPicPr>
        <p:blipFill>
          <a:blip r:embed="rId1"/>
          <a:srcRect l="20369" t="8088" r="17305" b="9378"/>
          <a:stretch/>
        </p:blipFill>
        <p:spPr>
          <a:xfrm>
            <a:off x="1854360" y="1343160"/>
            <a:ext cx="5435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raph of annual mean global temperature shows a r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around 0.7 °C over the 20th centu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MC131"/>
          <p:cNvPicPr/>
          <p:nvPr/>
        </p:nvPicPr>
        <p:blipFill>
          <a:blip r:embed="rId1"/>
          <a:srcRect l="20898" t="11323" r="16930" b="7493"/>
          <a:stretch/>
        </p:blipFill>
        <p:spPr>
          <a:xfrm>
            <a:off x="1814400" y="1343160"/>
            <a:ext cx="5515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rming is very likely to increase over the 21st 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MMC132"/>
          <p:cNvPicPr/>
          <p:nvPr/>
        </p:nvPicPr>
        <p:blipFill>
          <a:blip r:embed="rId1"/>
          <a:srcRect l="31685" t="13314" r="27688" b="8804"/>
          <a:stretch/>
        </p:blipFill>
        <p:spPr>
          <a:xfrm>
            <a:off x="2693880" y="1343160"/>
            <a:ext cx="3756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dictions made using complex computer models show how temperature and rainfall ma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MMC133"/>
          <p:cNvPicPr/>
          <p:nvPr/>
        </p:nvPicPr>
        <p:blipFill>
          <a:blip r:embed="rId1"/>
          <a:srcRect l="17947" t="6697" r="17947" b="4908"/>
          <a:stretch/>
        </p:blipFill>
        <p:spPr>
          <a:xfrm>
            <a:off x="1960560" y="1343160"/>
            <a:ext cx="52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09-07T10:00:53Z</dcterms:modified>
  <cp:revision>87</cp:revision>
  <dc:subject/>
  <dc:title>SEP</dc:title>
</cp:coreProperties>
</file>