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5EE2-45D6-43A2-935E-B409E2F277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C89E-FB86-4833-BA16-2F5B9E128CA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FE2E-F5CA-4A7A-BD4B-C8445DAFAD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AEF4-58C4-4107-92E0-521323F512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FBFE-5CD0-4745-A5B2-FA16BACDE3F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9530-E236-478B-BE50-42241145E0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1689-CBBD-45B4-9FFD-EC09C42431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BE06-2F84-461E-8310-E1287B723F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8966-D82B-46C3-B423-C8D5CBC97D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F5E0-A764-40F1-9895-4EDC364D2B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F0B7-CD4C-4183-8076-FB6C262D8B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9A09-6E74-4F13-A2BA-5BF8FF503D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8C00-F70C-4443-8433-D3070D2EE0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8D05-33E1-4A71-85B3-A4E3C5580A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9A2C-F434-4145-B99F-E385E6B5EF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13BF-6522-45F3-AE01-D6164B8978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255F-0B21-430E-BE85-30FBE50A72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3218-98D6-4981-903F-1ACCFFE9C05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0A84-1402-494D-B3BA-88CCACB96F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PPTtop"/>
          <p:cNvPicPr/>
          <p:nvPr/>
        </p:nvPicPr>
        <p:blipFill>
          <a:blip r:embed="rId2"/>
          <a:stretch/>
        </p:blipFill>
        <p:spPr>
          <a:xfrm>
            <a:off x="4680" y="0"/>
            <a:ext cx="9151920" cy="6904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0"/>
          <p:cNvSpPr/>
          <p:nvPr/>
        </p:nvSpPr>
        <p:spPr>
          <a:xfrm>
            <a:off x="160200" y="304920"/>
            <a:ext cx="3886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GATSBY SCIENCE ENHANCEMENT PROGRAM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31"/>
          <p:cNvSpPr/>
          <p:nvPr/>
        </p:nvSpPr>
        <p:spPr>
          <a:xfrm>
            <a:off x="4199040" y="304920"/>
            <a:ext cx="4724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b2b2b2"/>
                </a:solidFill>
                <a:latin typeface="Arial"/>
                <a:ea typeface="Arial"/>
              </a:rPr>
              <a:t>INNOVATIONS IN PRACTICAL WORK: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 MODELLING CLIMATE 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32"/>
          <p:cNvSpPr/>
          <p:nvPr/>
        </p:nvSpPr>
        <p:spPr>
          <a:xfrm>
            <a:off x="792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34"/>
          <p:cNvSpPr/>
          <p:nvPr/>
        </p:nvSpPr>
        <p:spPr>
          <a:xfrm>
            <a:off x="7920" y="5410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3" descr="PPTtop"/>
          <p:cNvPicPr/>
          <p:nvPr/>
        </p:nvPicPr>
        <p:blipFill>
          <a:blip r:embed="rId3"/>
          <a:stretch/>
        </p:blipFill>
        <p:spPr>
          <a:xfrm>
            <a:off x="0" y="6324480"/>
            <a:ext cx="915192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sing an infrared thermometer to measure tempera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0" descr="MMC135"/>
          <p:cNvPicPr/>
          <p:nvPr/>
        </p:nvPicPr>
        <p:blipFill>
          <a:blip r:embed="rId1"/>
          <a:srcRect l="31768" t="23256" r="31748" b="20182"/>
          <a:stretch/>
        </p:blipFill>
        <p:spPr>
          <a:xfrm>
            <a:off x="2249640" y="1341360"/>
            <a:ext cx="4644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steady state bottle: positive feedba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MMC144"/>
          <p:cNvPicPr/>
          <p:nvPr/>
        </p:nvPicPr>
        <p:blipFill>
          <a:blip r:embed="rId1"/>
          <a:srcRect l="40287" t="8920" r="29689" b="8033"/>
          <a:stretch/>
        </p:blipFill>
        <p:spPr>
          <a:xfrm>
            <a:off x="3009960" y="981000"/>
            <a:ext cx="30211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sitive feedback: the weight of the bott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essing on the outflow tub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MMC145"/>
          <p:cNvPicPr/>
          <p:nvPr/>
        </p:nvPicPr>
        <p:blipFill>
          <a:blip r:embed="rId1"/>
          <a:srcRect l="36628" t="17386" r="31279" b="7700"/>
          <a:stretch/>
        </p:blipFill>
        <p:spPr>
          <a:xfrm>
            <a:off x="3029040" y="1341360"/>
            <a:ext cx="308592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puter spreadsheet: Model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MMC146"/>
          <p:cNvPicPr/>
          <p:nvPr/>
        </p:nvPicPr>
        <p:blipFill>
          <a:blip r:embed="rId1"/>
          <a:srcRect l="23947" t="8350" r="19583" b="9968"/>
          <a:stretch/>
        </p:blipFill>
        <p:spPr>
          <a:xfrm>
            <a:off x="1584360" y="982800"/>
            <a:ext cx="59752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queezing and releasing a plastic bottle with moist a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Group 5"/>
          <p:cNvGrpSpPr/>
          <p:nvPr/>
        </p:nvGrpSpPr>
        <p:grpSpPr>
          <a:xfrm>
            <a:off x="1955880" y="1343160"/>
            <a:ext cx="5232240" cy="3600360"/>
            <a:chOff x="1955880" y="1343160"/>
            <a:chExt cx="5232240" cy="3600360"/>
          </a:xfrm>
        </p:grpSpPr>
        <p:pic>
          <p:nvPicPr>
            <p:cNvPr id="88" name="Picture 4" descr="MMC147"/>
            <p:cNvPicPr/>
            <p:nvPr/>
          </p:nvPicPr>
          <p:blipFill>
            <a:blip r:embed="rId1"/>
            <a:srcRect l="31554" t="17139" r="49111" b="19573"/>
            <a:stretch/>
          </p:blipFill>
          <p:spPr>
            <a:xfrm>
              <a:off x="1955880" y="1343160"/>
              <a:ext cx="2419920" cy="360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4" descr="MMC147"/>
            <p:cNvPicPr/>
            <p:nvPr/>
          </p:nvPicPr>
          <p:blipFill>
            <a:blip r:embed="rId2"/>
            <a:srcRect l="51769" t="17139" r="27139" b="19573"/>
            <a:stretch/>
          </p:blipFill>
          <p:spPr>
            <a:xfrm>
              <a:off x="4548240" y="1343160"/>
              <a:ext cx="2639880" cy="3600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dding smoke to the plastic bott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5" descr="MMC148"/>
          <p:cNvPicPr/>
          <p:nvPr/>
        </p:nvPicPr>
        <p:blipFill>
          <a:blip r:embed="rId1"/>
          <a:srcRect l="41635" t="18041" r="31375" b="16791"/>
          <a:stretch/>
        </p:blipFill>
        <p:spPr>
          <a:xfrm>
            <a:off x="3081240" y="1343160"/>
            <a:ext cx="29815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obal temperature change mod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MMC149"/>
          <p:cNvPicPr/>
          <p:nvPr/>
        </p:nvPicPr>
        <p:blipFill>
          <a:blip r:embed="rId1"/>
          <a:srcRect l="22778" t="8123" r="25237" b="9343"/>
          <a:stretch/>
        </p:blipFill>
        <p:spPr>
          <a:xfrm>
            <a:off x="1851120" y="982800"/>
            <a:ext cx="54417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raph showing plot of annual global temperature anomali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MMC150"/>
          <p:cNvPicPr/>
          <p:nvPr/>
        </p:nvPicPr>
        <p:blipFill>
          <a:blip r:embed="rId1"/>
          <a:srcRect l="21127" t="8411" r="19376" b="11061"/>
          <a:stretch/>
        </p:blipFill>
        <p:spPr>
          <a:xfrm>
            <a:off x="1379520" y="982800"/>
            <a:ext cx="63849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nthly temperature and rainfall data for Rea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8" descr="MMC151"/>
          <p:cNvPicPr/>
          <p:nvPr/>
        </p:nvPicPr>
        <p:blipFill>
          <a:blip r:embed="rId1"/>
          <a:srcRect l="26280" t="8345" r="27139" b="9025"/>
          <a:stretch/>
        </p:blipFill>
        <p:spPr>
          <a:xfrm>
            <a:off x="2136600" y="982800"/>
            <a:ext cx="48708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imating the energy flow from the Sun using a light bul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MMC152"/>
          <p:cNvPicPr/>
          <p:nvPr/>
        </p:nvPicPr>
        <p:blipFill>
          <a:blip r:embed="rId1"/>
          <a:srcRect l="35207" t="16977" r="29092" b="18575"/>
          <a:stretch/>
        </p:blipFill>
        <p:spPr>
          <a:xfrm>
            <a:off x="2576520" y="1343160"/>
            <a:ext cx="39909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steady state bott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MMC136"/>
          <p:cNvPicPr/>
          <p:nvPr/>
        </p:nvPicPr>
        <p:blipFill>
          <a:blip r:embed="rId1"/>
          <a:srcRect l="36762" t="6622" r="36742" b="6798"/>
          <a:stretch/>
        </p:blipFill>
        <p:spPr>
          <a:xfrm>
            <a:off x="3249720" y="982800"/>
            <a:ext cx="264456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steady state is achieved when the inflow equals the outflow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MMC137"/>
          <p:cNvPicPr/>
          <p:nvPr/>
        </p:nvPicPr>
        <p:blipFill>
          <a:blip r:embed="rId1"/>
          <a:srcRect l="34741" t="16741" r="28785" b="8597"/>
          <a:stretch/>
        </p:blipFill>
        <p:spPr>
          <a:xfrm>
            <a:off x="2813040" y="1343160"/>
            <a:ext cx="35179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puter spreadsheet: Model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MMC138"/>
          <p:cNvPicPr/>
          <p:nvPr/>
        </p:nvPicPr>
        <p:blipFill>
          <a:blip r:embed="rId1"/>
          <a:srcRect l="22621" t="8663" r="19883" b="7373"/>
          <a:stretch/>
        </p:blipFill>
        <p:spPr>
          <a:xfrm>
            <a:off x="2106720" y="1343160"/>
            <a:ext cx="49305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bsorption of infrared radiation by wa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MMC139"/>
          <p:cNvPicPr/>
          <p:nvPr/>
        </p:nvPicPr>
        <p:blipFill>
          <a:blip r:embed="rId1"/>
          <a:srcRect l="34192" t="10104" r="36807" b="9025"/>
          <a:stretch/>
        </p:blipFill>
        <p:spPr>
          <a:xfrm>
            <a:off x="3022560" y="982800"/>
            <a:ext cx="309888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puter spreadsheet: Model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MMC140"/>
          <p:cNvPicPr/>
          <p:nvPr/>
        </p:nvPicPr>
        <p:blipFill>
          <a:blip r:embed="rId1"/>
          <a:srcRect l="22168" t="8527" r="19474" b="8839"/>
          <a:stretch/>
        </p:blipFill>
        <p:spPr>
          <a:xfrm>
            <a:off x="1521000" y="982800"/>
            <a:ext cx="610200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vestigating the reflectivity of a surface using thermocolour fil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MMC141"/>
          <p:cNvPicPr/>
          <p:nvPr/>
        </p:nvPicPr>
        <p:blipFill>
          <a:blip r:embed="rId1"/>
          <a:stretch/>
        </p:blipFill>
        <p:spPr>
          <a:xfrm>
            <a:off x="971640" y="1343160"/>
            <a:ext cx="7200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puter spreadsheet: Model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MMC142"/>
          <p:cNvPicPr/>
          <p:nvPr/>
        </p:nvPicPr>
        <p:blipFill>
          <a:blip r:embed="rId1"/>
          <a:stretch/>
        </p:blipFill>
        <p:spPr>
          <a:xfrm>
            <a:off x="250920" y="982800"/>
            <a:ext cx="864216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steady state bottle: negative feedba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MMC143"/>
          <p:cNvPicPr/>
          <p:nvPr/>
        </p:nvPicPr>
        <p:blipFill>
          <a:blip r:embed="rId1"/>
          <a:srcRect l="36578" t="4918" r="35663" b="9091"/>
          <a:stretch/>
        </p:blipFill>
        <p:spPr>
          <a:xfrm>
            <a:off x="3176640" y="981000"/>
            <a:ext cx="27907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16:06:17Z</dcterms:created>
  <dc:creator>SEP</dc:creator>
  <dc:description/>
  <dc:language>en-US</dc:language>
  <cp:lastModifiedBy/>
  <dcterms:modified xsi:type="dcterms:W3CDTF">2011-09-08T08:30:58Z</dcterms:modified>
  <cp:revision>86</cp:revision>
  <dc:subject/>
  <dc:title>SEP</dc:title>
</cp:coreProperties>
</file>