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EDE3-B743-4BA6-84ED-AF4F574569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powerpoint slides to be customised and used interactively with your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titles are given and in the notes suggestions for a starting question/s which you may wish to put in as the ti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plenty of issues to explore and discuss for each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experiment groups estimated the coverage of the ground in their specified are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evidence val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re enough resul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they accura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method sui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communicate this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his data be valid for the whole school grou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the writer meant by the concl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meaning can it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produce a conclusion with a clear mea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g a car down a ramp and measuring speed at a fixed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data val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reading might be in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readings would you take 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show this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at make it clear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conclusion correct in terms of the evid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conclusion always true if the readings are highly accurate and the experiment has been done many ti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would you need to explain in the concl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periment where cress seeds were grown on cotton wool soaked in liquids of different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se results consist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all the zeros b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eeds would you expect to grow any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height the best thing to meas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est way to show this dat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ere such a large drop at pH 6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a large dro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ets of results should there have b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rewrite this conclusion to make the idea in it cl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agree with the concl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come to a conclusion with the evidence that you have been giv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graphs go straight up or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this graph go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xperiment required pupils to measure their heights and show the distribution i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that the figures are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are not, why have they been put on the table as they are? What was the writer trying to s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se could these results have been display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this have improved the information that the chart gav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line graph appropriate if the results are in categor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the writer me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agree with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need to add any other detai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your concl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explain your conclusion to the writer of the first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explain this better with a different type of ch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ing current flow through different types of w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evidence consist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averages accu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re enough read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sufficient just to use the avera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a relationship why isn’t the graph a straight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does the writer need to expl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cience ideas help expl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BCC-F2FC-4FCE-B6DB-9B33D824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A35-2A1C-4FE3-BBCF-A2585FBB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94B5-EE76-4099-9BA0-E9BCBC83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D39-1808-4E19-BBD1-E69D7915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A3A4-D123-4738-9794-4C8A0DCC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9AC3-3BF4-41DB-BC66-97E4C066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73AC-098B-4C63-B3DC-1ED071AF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0923-0FA5-4C1B-90C6-508BB5C6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19D2-5E40-437D-B370-565A8019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C3B2-2330-43BF-BD96-2232BEA4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67EF-2690-4684-B1EE-63B46E83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26B-70DE-40D0-AE21-D24D646E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3F5C-C62B-461A-8F23-72EA4541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123A-D1A3-46F6-8855-92765C17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0473-6615-43D9-A197-4EB0B59C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020F-4729-407A-BEFE-69C5BFCF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9CD1-65DC-4C7C-9575-D99431C2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74B-1935-482D-A048-D8E3E328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2119-2CA4-4170-9BC7-4C92933B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263-CD3F-4675-A0A9-1AE5012F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8C7-A402-4554-B1D6-911460B3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A66E-D662-45F0-A029-79E132BA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612B-7A92-485D-A0CF-C9F84DBD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CC4-C873-47E1-B3BC-E90C0AC0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41E1-B25B-4D17-B40A-DFC2E92EECF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825F-8524-4EC5-9454-E824034615E3}" type="slidenum">
              <a:rPr b="0" lang="en-GB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s it valid?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onger the wire the less of the value of the curr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82600" y="2017800"/>
          <a:ext cx="7772400" cy="442116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  <a:gridCol w="1295280"/>
                <a:gridCol w="129528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oup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oup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oup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oup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vers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sses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ves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rley grass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stles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orns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eds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il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55640" y="1916280"/>
          <a:ext cx="792000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792000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lants with the biggest leaf areas covered the most 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esults char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82600" y="2017800"/>
          <a:ext cx="7772400" cy="46576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 of ramp (c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eed (m/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aph of speeds reache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20178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peed of the car always increases if the ramp is made hig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able of resul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82600" y="2017800"/>
          <a:ext cx="7772400" cy="4120920"/>
        </p:xfrm>
        <a:graphic>
          <a:graphicData uri="http://schemas.openxmlformats.org/drawingml/2006/table">
            <a:tbl>
              <a:tblPr/>
              <a:tblGrid>
                <a:gridCol w="647640"/>
                <a:gridCol w="648000"/>
                <a:gridCol w="647640"/>
                <a:gridCol w="647640"/>
                <a:gridCol w="647640"/>
                <a:gridCol w="647640"/>
                <a:gridCol w="647640"/>
                <a:gridCol w="648000"/>
                <a:gridCol w="647640"/>
                <a:gridCol w="647640"/>
                <a:gridCol w="647640"/>
                <a:gridCol w="647640"/>
              </a:tblGrid>
              <a:tr h="440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 of liquid to wa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tton woo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 of cress seeds (c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ap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55640" y="2060640"/>
          <a:ext cx="784872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060640"/>
                    <a:ext cx="78487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 to 6, the pH helps the cress plants to gr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able of resul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mber of pup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 in c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aph of resul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11280" y="1989000"/>
          <a:ext cx="834372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89000"/>
                    <a:ext cx="834372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greater the number of pupils the more the heigh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able of resul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496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ngth of wire (c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rrent (amp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4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ap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71640" y="1989000"/>
          <a:ext cx="7704000" cy="43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89000"/>
                    <a:ext cx="7704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9:51:34Z</dcterms:created>
  <dc:creator>mccartj</dc:creator>
  <dc:description/>
  <dc:language>en-US</dc:language>
  <cp:lastModifiedBy>katieh</cp:lastModifiedBy>
  <dcterms:modified xsi:type="dcterms:W3CDTF">2008-03-31T10:32:19Z</dcterms:modified>
  <cp:revision>16</cp:revision>
  <dc:subject/>
  <dc:title>Slide 1</dc:title>
</cp:coreProperties>
</file>