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1C6B-F91B-466E-B6B8-540CF4CCD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the graph of so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uld be a graph drawn from any practical source or pieces of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draw a line of best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ask pupils to do this in pairs then have an opportunity for pairs to share their line of  best fit with other groups and compare/discuss the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wn on the graph are two possible lines of best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suggest some labels for the axes e.g. speed of reaction and temperature; hours of sunlight and plant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to discuss and decide on two conclusions based on the lines of best fit.  How do the conclusions differ based on these two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other possible lines of best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llows the teacher to illustrate that there are times when the same data may lead to more than one possible concl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ould scientists need to do to resolv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find another piece of evidence that is shown by the bold point on the graph.</a:t>
            </a:r>
            <a:br>
              <a:rPr sz="1200"/>
            </a:br>
            <a:br>
              <a:rPr sz="1200"/>
            </a:br>
            <a:r>
              <a:rPr b="0" lang="en-GB" sz="1200" spc="-1" strike="noStrike">
                <a:solidFill>
                  <a:srgbClr val="000000"/>
                </a:solidFill>
                <a:latin typeface="Arial"/>
              </a:rPr>
              <a:t>Ask pupils what this could mean for the conclusions dra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likely to say that this supports the idea that the straight line of best fit is more consistent with the data or that the straight line is the ‘right one’ or that the conclusion for the straight line is correc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if they were the scientist with these results what would they do. Try to introduce some element of doubt - for example could this be an anomalous result?  What further steps would they need to tak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find a different piece of evidence that is shown by the bold point on the grap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the pupils how this would lead you to think that the curved line of best fit is more appropriat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pupils to discuss a whether they need to change their conclusion to one consistent with the curved line of best f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graphically illustrates how scientific ideas develop over periods of time in the light of new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important for scientists to understand the reasons why a piece of evidence might become less relevant in the light of conclusions 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we use the graph as a model we can see this process in action. A straight line of best fit highlights one piece of evidence as anomalous and therefore in this model less 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n the 1930s the hypothesis was that an increase in the air temperature was linked to rising carbon dioxide levels. Then between 1940 and 1970 the air temperature fell and the straight line graph no longer applied. Additional data changed the conclusion. In the 1980s some of the warmest years were recorded and the hypothesis changed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whilst a curved line highlights another as anomal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the pupils what types of things can be done to investigate anomalous results and what might cause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pupils what the points on a graph represent. Explain that there will always be some error in any measurements taken due to manufacturing differences in instruments or human error. So the points can be drawn with a small circle round them to take account of this or we can use error ba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above shows some error bars on the data set. Ask pupils what they think the different lengths represent. (The smaller the error bars the closer the repeat readings were. Large error bars suggest more concerns about the read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upils which line is now most appropriate in the light of this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6DC39-046E-48B3-B2BF-6181C70F8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045D1-B7AD-4FDF-9B66-42264328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F04D-8F5A-4EAA-8C53-19EB829BE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3677B-4498-43C2-AA65-CC8090BD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BD07-AC06-49F0-B3F6-079571402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C345B-C564-4AB0-AA60-13BDCCE1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520A2-2B53-4BC2-851A-8D02AD03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D0B0-1F96-4AC5-B301-2A9436F8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F4DC0-2006-4ED9-95F1-3D5D4D1D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A131-7CD4-43DD-A632-3E7C853B0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949F-E7BE-4F19-BECC-A1F89604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D5EE-4355-4506-A61A-B6E7C0975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C6B7-4731-4249-BCD7-6F86023C5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195640" y="1700280"/>
            <a:ext cx="50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2627280" y="4797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4859280" y="364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3"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195640" y="1700280"/>
            <a:ext cx="50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2627280" y="4797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4859280" y="364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2"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3"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4" name=""/>
          <p:cNvSpPr/>
          <p:nvPr/>
        </p:nvSpPr>
        <p:spPr>
          <a:xfrm flipV="1">
            <a:off x="1403280" y="2924280"/>
            <a:ext cx="38163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59280" y="2349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endParaRPr b="0" lang="en-US" sz="4000" spc="-1" strike="noStrike">
              <a:solidFill>
                <a:srgbClr val="000000"/>
              </a:solidFill>
              <a:latin typeface="Arial"/>
            </a:endParaRPr>
          </a:p>
        </p:txBody>
      </p:sp>
      <p:sp>
        <p:nvSpPr>
          <p:cNvPr id="89"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0"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627280" y="4797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4"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5" name=""/>
          <p:cNvSpPr/>
          <p:nvPr/>
        </p:nvSpPr>
        <p:spPr>
          <a:xfrm>
            <a:off x="4859280" y="364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8"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9"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0"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1"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flipV="1">
            <a:off x="1403280" y="2924280"/>
            <a:ext cx="38163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360" y="3284640"/>
            <a:ext cx="5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endParaRPr b="0" lang="en-US" sz="4000" spc="-1" strike="noStrike">
              <a:solidFill>
                <a:srgbClr val="000000"/>
              </a:solidFill>
              <a:latin typeface="Arial"/>
            </a:endParaRPr>
          </a:p>
        </p:txBody>
      </p:sp>
      <p:sp>
        <p:nvSpPr>
          <p:cNvPr id="109"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2" name=""/>
          <p:cNvSpPr/>
          <p:nvPr/>
        </p:nvSpPr>
        <p:spPr>
          <a:xfrm>
            <a:off x="2627280" y="4797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3"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4"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4859280" y="3645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1"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2"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4" name=""/>
          <p:cNvSpPr/>
          <p:nvPr/>
        </p:nvSpPr>
        <p:spPr>
          <a:xfrm flipV="1">
            <a:off x="1403280" y="2924280"/>
            <a:ext cx="38163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9"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0"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1" name=""/>
          <p:cNvSpPr/>
          <p:nvPr/>
        </p:nvSpPr>
        <p:spPr>
          <a:xfrm>
            <a:off x="2627280" y="4797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2124000" y="4221000"/>
            <a:ext cx="50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34" name=""/>
          <p:cNvSpPr/>
          <p:nvPr/>
        </p:nvSpPr>
        <p:spPr>
          <a:xfrm>
            <a:off x="4932360" y="3645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5"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8"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0"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1"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flipV="1">
            <a:off x="1403280" y="2924280"/>
            <a:ext cx="3816360" cy="266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4797360"/>
            <a:ext cx="5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52"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4932360" y="3645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5"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6"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0"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flipV="1">
            <a:off x="1403280" y="2924280"/>
            <a:ext cx="38163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
          <p:cNvSpPr/>
          <p:nvPr/>
        </p:nvSpPr>
        <p:spPr>
          <a:xfrm>
            <a:off x="1403280" y="2492280"/>
            <a:ext cx="0" cy="30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03280" y="5589720"/>
            <a:ext cx="61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47640" y="5013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1979640" y="486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0" name=""/>
          <p:cNvSpPr/>
          <p:nvPr/>
        </p:nvSpPr>
        <p:spPr>
          <a:xfrm>
            <a:off x="2411280" y="458136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1" name=""/>
          <p:cNvSpPr/>
          <p:nvPr/>
        </p:nvSpPr>
        <p:spPr>
          <a:xfrm>
            <a:off x="2627280" y="4797360"/>
            <a:ext cx="50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172" name=""/>
          <p:cNvSpPr/>
          <p:nvPr/>
        </p:nvSpPr>
        <p:spPr>
          <a:xfrm>
            <a:off x="3635280" y="3429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2124000" y="4221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4932360" y="3645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700360" y="4221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6" name=""/>
          <p:cNvSpPr/>
          <p:nvPr/>
        </p:nvSpPr>
        <p:spPr>
          <a:xfrm>
            <a:off x="3276720" y="4292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7" name=""/>
          <p:cNvSpPr/>
          <p:nvPr/>
        </p:nvSpPr>
        <p:spPr>
          <a:xfrm>
            <a:off x="3708360" y="3789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8" name=""/>
          <p:cNvSpPr/>
          <p:nvPr/>
        </p:nvSpPr>
        <p:spPr>
          <a:xfrm>
            <a:off x="2987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79" name=""/>
          <p:cNvSpPr/>
          <p:nvPr/>
        </p:nvSpPr>
        <p:spPr>
          <a:xfrm>
            <a:off x="3419640" y="3716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0" name=""/>
          <p:cNvSpPr/>
          <p:nvPr/>
        </p:nvSpPr>
        <p:spPr>
          <a:xfrm>
            <a:off x="4211640" y="3429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1" name=""/>
          <p:cNvSpPr/>
          <p:nvPr/>
        </p:nvSpPr>
        <p:spPr>
          <a:xfrm>
            <a:off x="4716360" y="3284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2" name=""/>
          <p:cNvSpPr/>
          <p:nvPr/>
        </p:nvSpPr>
        <p:spPr>
          <a:xfrm>
            <a:off x="5076720" y="292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83" name=""/>
          <p:cNvSpPr/>
          <p:nvPr/>
        </p:nvSpPr>
        <p:spPr>
          <a:xfrm flipV="1">
            <a:off x="1403280" y="2924280"/>
            <a:ext cx="38163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403280" y="3405240"/>
            <a:ext cx="4464000" cy="2184480"/>
          </a:xfrm>
          <a:custGeom>
            <a:avLst/>
            <a:gdLst/>
            <a:ahLst/>
            <a:rect l="l" t="t" r="r" b="b"/>
            <a:pathLst>
              <a:path w="2812" h="1376">
                <a:moveTo>
                  <a:pt x="0" y="1376"/>
                </a:moveTo>
                <a:cubicBezTo>
                  <a:pt x="189" y="1119"/>
                  <a:pt x="378" y="862"/>
                  <a:pt x="635" y="650"/>
                </a:cubicBezTo>
                <a:cubicBezTo>
                  <a:pt x="892" y="438"/>
                  <a:pt x="1179" y="212"/>
                  <a:pt x="1542" y="106"/>
                </a:cubicBezTo>
                <a:cubicBezTo>
                  <a:pt x="1905" y="0"/>
                  <a:pt x="2547" y="30"/>
                  <a:pt x="2812" y="1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19640" y="414972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43280" y="472428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28472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68360" y="429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2400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148360" y="2997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720" y="3716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843280" y="42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492360" y="3789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45:03Z</dcterms:created>
  <dc:creator> </dc:creator>
  <dc:description/>
  <dc:language>en-US</dc:language>
  <cp:lastModifiedBy>katieh</cp:lastModifiedBy>
  <dcterms:modified xsi:type="dcterms:W3CDTF">2008-03-31T10:19:44Z</dcterms:modified>
  <cp:revision>7</cp:revision>
  <dc:subject/>
  <dc:title>Slide 1</dc:title>
</cp:coreProperties>
</file>