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EAF-77CF-4739-BA75-65CFF974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61F-BB6F-4166-A697-77BC0976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B8A-7B21-4C3F-8D34-D55F9ED9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924-1D68-44BB-A644-702A4EF4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CD7-F602-49E9-B79F-085D7D12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BA3-ED72-4390-8CEA-45C3D588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55E-96BE-4D39-9DF2-E97EAC39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CFD-BC56-407E-B87B-060636E6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C9C-5ACD-4E4B-97A2-2BB1C372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F71-BA45-4622-AB39-05ECAC82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4F8-5356-4FE2-BDF8-5E4E513A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539-7F3C-482D-8C1B-4BB7F155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C8D5-1623-4926-A950-ED3AE3FF6F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sidc.org/glims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Lesson 2 Resource Sheet Quick on the Draw.do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mapper.org/display.php?selected=252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are Glaciers Loc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other types of ice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Perito_Moreno_Glacier_Patagonia_Argentina_Luca_Galuzzi_2005"/>
          <p:cNvPicPr/>
          <p:nvPr/>
        </p:nvPicPr>
        <p:blipFill>
          <a:blip r:embed="rId1"/>
          <a:stretch/>
        </p:blipFill>
        <p:spPr>
          <a:xfrm>
            <a:off x="611280" y="333360"/>
            <a:ext cx="28083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29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ldMapp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03520" y="324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1547640" y="5516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ap shows countries warped according to their glacier size, but removing the influence Antarctica and Greenl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U:\CCSP\World Mapper\Glaciers2013_Alaska_WithoutAntarcticaGreenland.jpg"/>
          <p:cNvPicPr/>
          <p:nvPr/>
        </p:nvPicPr>
        <p:blipFill>
          <a:blip r:embed="rId1"/>
          <a:stretch/>
        </p:blipFill>
        <p:spPr>
          <a:xfrm>
            <a:off x="461880" y="1185840"/>
            <a:ext cx="81424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p of glac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sidc.org/glim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ccurate were w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as surpri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ap-world-outline"/>
          <p:cNvPicPr/>
          <p:nvPr/>
        </p:nvPicPr>
        <p:blipFill>
          <a:blip r:embed="rId2"/>
          <a:stretch/>
        </p:blipFill>
        <p:spPr>
          <a:xfrm>
            <a:off x="4643280" y="3475080"/>
            <a:ext cx="41148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rs and a W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wo things did you do well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wish you had done differen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Users\John\AppData\Local\Microsoft\Windows\Temporary Internet Files\Content.IE5\N5UN906W\MC900436279[1].png"/>
          <p:cNvPicPr/>
          <p:nvPr/>
        </p:nvPicPr>
        <p:blipFill>
          <a:blip r:embed="rId1"/>
          <a:stretch/>
        </p:blipFill>
        <p:spPr>
          <a:xfrm>
            <a:off x="3059280" y="2852640"/>
            <a:ext cx="1419120" cy="1419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John\AppData\Local\Microsoft\Windows\Temporary Internet Files\Content.IE5\N5UN906W\MC900436279[1].png"/>
          <p:cNvPicPr/>
          <p:nvPr/>
        </p:nvPicPr>
        <p:blipFill>
          <a:blip r:embed="rId2"/>
          <a:stretch/>
        </p:blipFill>
        <p:spPr>
          <a:xfrm>
            <a:off x="4500720" y="2997360"/>
            <a:ext cx="934920" cy="93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Users\John\AppData\Local\Microsoft\Windows\Temporary Internet Files\Content.IE5\QETMG3AM\MC900412426[1].wmf"/>
          <p:cNvPicPr/>
          <p:nvPr/>
        </p:nvPicPr>
        <p:blipFill>
          <a:blip r:embed="rId3"/>
          <a:stretch/>
        </p:blipFill>
        <p:spPr>
          <a:xfrm>
            <a:off x="7236000" y="4149720"/>
            <a:ext cx="115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l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the outline map of the world - where are the following count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.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ap-world-outline"/>
          <p:cNvPicPr/>
          <p:nvPr/>
        </p:nvPicPr>
        <p:blipFill>
          <a:blip r:embed="rId1"/>
          <a:stretch/>
        </p:blipFill>
        <p:spPr>
          <a:xfrm>
            <a:off x="3348000" y="2627280"/>
            <a:ext cx="54100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rter – Predict 5 Pai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k five countries which you think might have glaciers from the list below and justify (give a reason for) your answer. You can look up where the countries are on a m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n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ap-world-outline"/>
          <p:cNvPicPr/>
          <p:nvPr/>
        </p:nvPicPr>
        <p:blipFill>
          <a:blip r:embed="rId1"/>
          <a:stretch/>
        </p:blipFill>
        <p:spPr>
          <a:xfrm>
            <a:off x="3995640" y="3051000"/>
            <a:ext cx="47624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53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560" y="1599840"/>
            <a:ext cx="7859880" cy="413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Object 2"/>
          <p:cNvGraphicFramePr/>
          <p:nvPr/>
        </p:nvGraphicFramePr>
        <p:xfrm>
          <a:off x="539640" y="692280"/>
          <a:ext cx="9031320" cy="5321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692280"/>
                    <a:ext cx="90313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y do some places have glac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Quick on the Draw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fact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your group you have ten questions to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all have the answer to the question before you come out for the next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9280" y="692280"/>
          <a:ext cx="8712360" cy="5640120"/>
        </p:xfrm>
        <a:graphic>
          <a:graphicData uri="http://schemas.openxmlformats.org/drawingml/2006/table">
            <a:tbl>
              <a:tblPr/>
              <a:tblGrid>
                <a:gridCol w="8712360"/>
              </a:tblGrid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cc00"/>
                          </a:solidFill>
                          <a:latin typeface="Comic Sans MS"/>
                          <a:ea typeface="Times New Roman"/>
                        </a:rPr>
                        <a:t>What are the three reasons which control where glaciers ar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cc00"/>
                          </a:solidFill>
                          <a:latin typeface="Comic Sans MS"/>
                          <a:ea typeface="Times New Roman"/>
                        </a:rPr>
                        <a:t>What is latitud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cc00"/>
                          </a:solidFill>
                          <a:latin typeface="Comic Sans MS"/>
                          <a:ea typeface="Times New Roman"/>
                        </a:rPr>
                        <a:t>What happens to temperature as height increase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ed9513"/>
                          </a:solidFill>
                          <a:latin typeface="Comic Sans MS"/>
                          <a:ea typeface="Times New Roman"/>
                        </a:rPr>
                        <a:t>How does distance from the ocean affect the moisture of the a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ed9513"/>
                          </a:solidFill>
                          <a:latin typeface="Comic Sans MS"/>
                          <a:ea typeface="Times New Roman"/>
                        </a:rPr>
                        <a:t>What does continentality mea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ed9513"/>
                          </a:solidFill>
                          <a:latin typeface="Comic Sans MS"/>
                          <a:ea typeface="Times New Roman"/>
                        </a:rPr>
                        <a:t>What happens to the seasons at the pole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ed9513"/>
                          </a:solidFill>
                          <a:latin typeface="Comic Sans MS"/>
                          <a:ea typeface="Times New Roman"/>
                        </a:rPr>
                        <a:t>If altitude increases by 400m, what would happen to the temperatur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Explain why there is less energy at the poles to melt i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Why is there less heat energy at altitud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Why will places further from the sea have less snow? Give examp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2050920" y="-210600"/>
            <a:ext cx="497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ick on the Draw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 which countries might have glaci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stickers to show the position of the country and the size of area of ice you would exp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ember of the group mark your results on the class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ap-world-outline"/>
          <p:cNvPicPr/>
          <p:nvPr/>
        </p:nvPicPr>
        <p:blipFill>
          <a:blip r:embed="rId1"/>
          <a:stretch/>
        </p:blipFill>
        <p:spPr>
          <a:xfrm>
            <a:off x="2340000" y="3373560"/>
            <a:ext cx="439272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29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ldMapp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killed by avalanches and land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mapper.org/display.php?selected=25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ite looks at maps where the countries are re-sized according to the 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03520" y="324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2"/>
          <p:cNvPicPr/>
          <p:nvPr/>
        </p:nvPicPr>
        <p:blipFill>
          <a:blip r:embed="rId2"/>
          <a:stretch/>
        </p:blipFill>
        <p:spPr>
          <a:xfrm>
            <a:off x="2050920" y="692280"/>
            <a:ext cx="48769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29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ldMapp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703520" y="324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U:\CCSP\World Mapper\Glaciers2013_World_Alaska.jpg"/>
          <p:cNvPicPr/>
          <p:nvPr/>
        </p:nvPicPr>
        <p:blipFill>
          <a:blip r:embed="rId1"/>
          <a:stretch/>
        </p:blipFill>
        <p:spPr>
          <a:xfrm>
            <a:off x="395280" y="1197000"/>
            <a:ext cx="8461440" cy="4151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1547640" y="5516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ap shows countries warped according to their glacier size. Note that Antarctica and Greenland domi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1:50:11Z</dcterms:created>
  <dc:creator>delegate</dc:creator>
  <dc:description/>
  <dc:language>en-US</dc:language>
  <cp:lastModifiedBy>crs</cp:lastModifiedBy>
  <dcterms:modified xsi:type="dcterms:W3CDTF">2013-04-08T11:40:39Z</dcterms:modified>
  <cp:revision>21</cp:revision>
  <dc:subject/>
  <dc:title>Where are the glaciers?</dc:title>
</cp:coreProperties>
</file>