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A68-8D6F-4426-8827-C77E421F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F62-FAC8-47A0-9F09-D749B6FE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542-ABF0-4426-939E-6F5EF25B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B8A-E58A-44E5-A7EC-368018B4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DC7-72D2-4252-8AB7-ECD321A9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AFB-37D2-4F1D-ADC5-CB2C39D9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617-8953-4C2C-B5E1-364FA1EF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E6C-C531-423E-8D2E-1421DA29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2C2-C176-4F1F-B4F3-CC22AF2D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6A5-96B1-4400-9C81-F64646A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7E6-2385-4F69-A88E-7757C01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862-EF1F-4042-8C32-E517016C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C166-9612-49C2-B397-0D347687F6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alving-glacier1"/>
          <p:cNvPicPr/>
          <p:nvPr/>
        </p:nvPicPr>
        <p:blipFill>
          <a:blip r:embed="rId1"/>
          <a:stretch/>
        </p:blipFill>
        <p:spPr>
          <a:xfrm>
            <a:off x="1332000" y="907920"/>
            <a:ext cx="63356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aciers: how do they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612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n ice age has begun!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 new glacier is form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08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winter: 10 units of snow fall. The snow gets squashed under its own weight and turns into 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summer: 6 units of the glacier’s ice m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peat this 3 times to show that it goes on for centu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Nd9GcSCgWk-d6iguyHWcEZkfPHwwlEd3qU3OP4UR4EQP0vO8y9ybNvJYg"/>
          <p:cNvPicPr/>
          <p:nvPr/>
        </p:nvPicPr>
        <p:blipFill>
          <a:blip r:embed="rId1"/>
          <a:stretch/>
        </p:blipFill>
        <p:spPr>
          <a:xfrm>
            <a:off x="6578640" y="12240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11280" y="5373720"/>
            <a:ext cx="74898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happens to the glacier during these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6372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climate is stable n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08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winter: 7 units of snow fall. The snow gets squashed under its own weight and turns into 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summer: 7 units of the glacier’s ice m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peat this 3 times to show that it goes on for centu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5373720"/>
            <a:ext cx="74898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happens to the glacier during these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Tin6smF5jq1_AzBzTJoDYVgTI0HntKIdL6uRA2ZRhaM9fpILP6z_5PtydmWg"/>
          <p:cNvPicPr/>
          <p:nvPr/>
        </p:nvPicPr>
        <p:blipFill>
          <a:blip r:embed="rId1"/>
          <a:stretch/>
        </p:blipFill>
        <p:spPr>
          <a:xfrm>
            <a:off x="6372360" y="1890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12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climate is starting to warm u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08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winter: 7 units of snow f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summer: 9 units of the glacier’s ice m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peat this 3 times to show that it goes on for centu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55640" y="4653000"/>
            <a:ext cx="7489800" cy="201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at happens to the glacier during these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magine someone says that the climate can’t be warming up because lots of snow falls every winter.  Are they right or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olar-bear"/>
          <p:cNvPicPr/>
          <p:nvPr/>
        </p:nvPicPr>
        <p:blipFill>
          <a:blip r:embed="rId1"/>
          <a:stretch/>
        </p:blipFill>
        <p:spPr>
          <a:xfrm>
            <a:off x="6659640" y="165240"/>
            <a:ext cx="23749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1:05:39Z</dcterms:created>
  <dc:creator>delegate</dc:creator>
  <dc:description/>
  <dc:language>en-US</dc:language>
  <cp:lastModifiedBy>crs</cp:lastModifiedBy>
  <dcterms:modified xsi:type="dcterms:W3CDTF">2013-04-08T11:07:12Z</dcterms:modified>
  <cp:revision>4</cp:revision>
  <dc:subject/>
  <dc:title>Slide 1</dc:title>
</cp:coreProperties>
</file>