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ABD-5ACA-4A83-BB83-0DF92C53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579-7392-424B-AC3F-E55F0D42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AA2-D06E-4F5D-AA67-CC0B8397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E33-175A-447A-B381-CF7B1433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645-989B-498F-85C3-E3057536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FA6-72FD-4E65-8166-BFCA5D7B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68F-FF9A-4394-8156-03AC963F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50A-78B6-4E4A-8006-4B080F5A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D83-665A-4704-82BB-99D8F781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CDD-4A4D-4350-B423-4BF0D8B0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D8D-2EBD-4D24-9CCF-3039624B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E39-E373-49CF-B1DD-88C23320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E7A2-C0C4-4028-9D18-704CC04FAEE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green_small.jpg"/>
          <p:cNvPicPr/>
          <p:nvPr/>
        </p:nvPicPr>
        <p:blipFill>
          <a:blip r:embed="rId1"/>
          <a:stretch/>
        </p:blipFill>
        <p:spPr>
          <a:xfrm>
            <a:off x="8326440" y="166680"/>
            <a:ext cx="70956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university logo black.jpg"/>
          <p:cNvPicPr/>
          <p:nvPr/>
        </p:nvPicPr>
        <p:blipFill>
          <a:blip r:embed="rId2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lottery logo.jpg"/>
          <p:cNvPicPr/>
          <p:nvPr/>
        </p:nvPicPr>
        <p:blipFill>
          <a:blip r:embed="rId3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6" descr="AmyRogers_smallcopperbutterfly2web"/>
          <p:cNvPicPr/>
          <p:nvPr/>
        </p:nvPicPr>
        <p:blipFill>
          <a:blip r:embed="rId4"/>
          <a:stretch/>
        </p:blipFill>
        <p:spPr>
          <a:xfrm>
            <a:off x="7093080" y="4221000"/>
            <a:ext cx="1962000" cy="1352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8" descr="AmyRogers_0394"/>
          <p:cNvPicPr/>
          <p:nvPr/>
        </p:nvPicPr>
        <p:blipFill>
          <a:blip r:embed="rId5"/>
          <a:stretch/>
        </p:blipFill>
        <p:spPr>
          <a:xfrm>
            <a:off x="2433600" y="4221000"/>
            <a:ext cx="2019240" cy="135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9" descr="Female Adder barbrook March 21 2009 (15)"/>
          <p:cNvPicPr/>
          <p:nvPr/>
        </p:nvPicPr>
        <p:blipFill>
          <a:blip r:embed="rId6"/>
          <a:stretch/>
        </p:blipFill>
        <p:spPr>
          <a:xfrm>
            <a:off x="108000" y="4221000"/>
            <a:ext cx="201600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7" descr="AmyRogers_0381"/>
          <p:cNvPicPr/>
          <p:nvPr/>
        </p:nvPicPr>
        <p:blipFill>
          <a:blip r:embed="rId7"/>
          <a:stretch/>
        </p:blipFill>
        <p:spPr>
          <a:xfrm>
            <a:off x="4762440" y="4221000"/>
            <a:ext cx="2019240" cy="1352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9b44a"/>
                </a:solidFill>
                <a:latin typeface="Arial Black"/>
              </a:rPr>
              <a:t>Heathland – conservation and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250920" y="3203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ctivity D – Supporting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naging Heat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university logo black.jpg"/>
          <p:cNvPicPr/>
          <p:nvPr/>
        </p:nvPicPr>
        <p:blipFill>
          <a:blip r:embed="rId2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lottery logo.jpg"/>
          <p:cNvPicPr/>
          <p:nvPr/>
        </p:nvPicPr>
        <p:blipFill>
          <a:blip r:embed="rId3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250920" y="198900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Work in small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50920" y="256536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The sheets provided contain statements of the advantages and disadvantages of different heathland management tech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50920" y="349740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Match the statements to the correct management techniq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6:01:36Z</dcterms:created>
  <dc:creator>Information Services</dc:creator>
  <dc:description/>
  <dc:language>en-US</dc:language>
  <cp:lastModifiedBy>Information Services</cp:lastModifiedBy>
  <dcterms:modified xsi:type="dcterms:W3CDTF">2012-09-06T14:28:22Z</dcterms:modified>
  <cp:revision>7</cp:revision>
  <dc:subject/>
  <dc:title>Slide 1</dc:title>
</cp:coreProperties>
</file>