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AFAC-BD82-4184-9DC0-2CF217B570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AD41-72C2-4464-9B9E-9C11B62920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6F47-38D7-4051-A640-8CD91933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9D88-81ED-42CD-B016-BA1B4D3C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A13-952E-410D-B13E-A56CFD77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8F5-220E-4591-8D88-A6F9D92F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3E9-20CC-44B4-A6D5-EDA809E1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1821-F8BC-4ECD-B12A-AFF5FE21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C23-F9E4-486D-B850-37F33CE6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EE47-B8FC-4668-8A05-849F6B2F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606F-CB49-4405-8563-C0EFF055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5104-3D96-42B8-88CE-8FA43BB0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BDD1-D380-4D44-8551-4D5D05A7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497-11DC-4DE6-9EDB-9758751C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77E9-90E6-439E-B8CC-0002DA2C6D0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green_small.jpg"/>
          <p:cNvPicPr/>
          <p:nvPr/>
        </p:nvPicPr>
        <p:blipFill>
          <a:blip r:embed="rId1"/>
          <a:stretch/>
        </p:blipFill>
        <p:spPr>
          <a:xfrm>
            <a:off x="8326440" y="166680"/>
            <a:ext cx="709560" cy="71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university logo black.jpg"/>
          <p:cNvPicPr/>
          <p:nvPr/>
        </p:nvPicPr>
        <p:blipFill>
          <a:blip r:embed="rId2"/>
          <a:stretch/>
        </p:blipFill>
        <p:spPr>
          <a:xfrm>
            <a:off x="7431120" y="6062760"/>
            <a:ext cx="1622520" cy="718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lottery logo.jpg"/>
          <p:cNvPicPr/>
          <p:nvPr/>
        </p:nvPicPr>
        <p:blipFill>
          <a:blip r:embed="rId3"/>
          <a:stretch/>
        </p:blipFill>
        <p:spPr>
          <a:xfrm>
            <a:off x="108000" y="6062760"/>
            <a:ext cx="1090440" cy="71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AmyRogers_smallcopperbutterfly2web"/>
          <p:cNvPicPr/>
          <p:nvPr/>
        </p:nvPicPr>
        <p:blipFill>
          <a:blip r:embed="rId4"/>
          <a:stretch/>
        </p:blipFill>
        <p:spPr>
          <a:xfrm>
            <a:off x="7093080" y="4221000"/>
            <a:ext cx="1962000" cy="1352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AmyRogers_0394"/>
          <p:cNvPicPr/>
          <p:nvPr/>
        </p:nvPicPr>
        <p:blipFill>
          <a:blip r:embed="rId5"/>
          <a:stretch/>
        </p:blipFill>
        <p:spPr>
          <a:xfrm>
            <a:off x="2433600" y="4221000"/>
            <a:ext cx="2019240" cy="1352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Female Adder barbrook March 21 2009 (15)"/>
          <p:cNvPicPr/>
          <p:nvPr/>
        </p:nvPicPr>
        <p:blipFill>
          <a:blip r:embed="rId6"/>
          <a:stretch/>
        </p:blipFill>
        <p:spPr>
          <a:xfrm>
            <a:off x="108000" y="4221000"/>
            <a:ext cx="2016000" cy="133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AmyRogers_0381"/>
          <p:cNvPicPr/>
          <p:nvPr/>
        </p:nvPicPr>
        <p:blipFill>
          <a:blip r:embed="rId7"/>
          <a:stretch/>
        </p:blipFill>
        <p:spPr>
          <a:xfrm>
            <a:off x="4762440" y="4221000"/>
            <a:ext cx="2019240" cy="135288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0" y="148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9b44a"/>
                </a:solidFill>
                <a:latin typeface="Arial Black"/>
              </a:rPr>
              <a:t>Heathland – conservation and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 rot="16200000">
            <a:off x="8413560" y="453816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Arial"/>
              </a:rPr>
              <a:t>© Amy Rog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 rot="16200000">
            <a:off x="6134760" y="451980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Arial"/>
              </a:rPr>
              <a:t>© Amy Rog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 rot="16200000">
            <a:off x="3808440" y="45396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Arial"/>
              </a:rPr>
              <a:t>© Amy Rog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 rot="16200000">
            <a:off x="1406520" y="4533840"/>
            <a:ext cx="12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Arial"/>
              </a:rPr>
              <a:t>© Carl Corb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3"/>
          <p:cNvSpPr/>
          <p:nvPr/>
        </p:nvSpPr>
        <p:spPr>
          <a:xfrm>
            <a:off x="250920" y="33577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ctivity B - Supporting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green_small.jpg"/>
          <p:cNvPicPr/>
          <p:nvPr/>
        </p:nvPicPr>
        <p:blipFill>
          <a:blip r:embed="rId1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1"/>
          <p:cNvGrpSpPr/>
          <p:nvPr/>
        </p:nvGrpSpPr>
        <p:grpSpPr>
          <a:xfrm>
            <a:off x="108000" y="1413000"/>
            <a:ext cx="9107280" cy="5021280"/>
            <a:chOff x="108000" y="1413000"/>
            <a:chExt cx="9107280" cy="5021280"/>
          </a:xfrm>
        </p:grpSpPr>
        <p:pic>
          <p:nvPicPr>
            <p:cNvPr id="65" name="Picture 2" descr=""/>
            <p:cNvPicPr/>
            <p:nvPr/>
          </p:nvPicPr>
          <p:blipFill>
            <a:blip r:embed="rId2"/>
            <a:srcRect l="33071" t="27807" r="30931" b="27555"/>
            <a:stretch/>
          </p:blipFill>
          <p:spPr>
            <a:xfrm>
              <a:off x="108000" y="1413000"/>
              <a:ext cx="6480000" cy="50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5-Point Star 7"/>
            <p:cNvSpPr/>
            <p:nvPr/>
          </p:nvSpPr>
          <p:spPr>
            <a:xfrm>
              <a:off x="3058920" y="3716280"/>
              <a:ext cx="288720" cy="287280"/>
            </a:xfrm>
            <a:custGeom>
              <a:avLst/>
              <a:gdLst>
                <a:gd name="textAreaLeft" fmla="*/ 89280 w 288720"/>
                <a:gd name="textAreaRight" fmla="*/ 199440 w 288720"/>
                <a:gd name="textAreaTop" fmla="*/ 109800 h 287280"/>
                <a:gd name="textAreaBottom" fmla="*/ 219600 h 287280"/>
              </a:gdLst>
              <a:ahLst/>
              <a:rect l="textAreaLeft" t="textAreaTop" r="textAreaRight" b="textAreaBottom"/>
              <a:pathLst>
                <a:path w="288925" h="287337">
                  <a:moveTo>
                    <a:pt x="0" y="109753"/>
                  </a:moveTo>
                  <a:lnTo>
                    <a:pt x="110360" y="109753"/>
                  </a:lnTo>
                  <a:lnTo>
                    <a:pt x="144463" y="0"/>
                  </a:lnTo>
                  <a:lnTo>
                    <a:pt x="178565" y="109753"/>
                  </a:lnTo>
                  <a:lnTo>
                    <a:pt x="288925" y="109753"/>
                  </a:lnTo>
                  <a:lnTo>
                    <a:pt x="199641" y="177583"/>
                  </a:lnTo>
                  <a:lnTo>
                    <a:pt x="233745" y="287336"/>
                  </a:lnTo>
                  <a:lnTo>
                    <a:pt x="144463" y="219504"/>
                  </a:lnTo>
                  <a:lnTo>
                    <a:pt x="55180" y="287336"/>
                  </a:lnTo>
                  <a:lnTo>
                    <a:pt x="89284" y="17758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5-Point Star 8"/>
            <p:cNvSpPr/>
            <p:nvPr/>
          </p:nvSpPr>
          <p:spPr>
            <a:xfrm>
              <a:off x="6732720" y="1844640"/>
              <a:ext cx="287280" cy="287280"/>
            </a:xfrm>
            <a:custGeom>
              <a:avLst/>
              <a:gdLst>
                <a:gd name="textAreaLeft" fmla="*/ 88560 w 287280"/>
                <a:gd name="textAreaRight" fmla="*/ 198720 w 287280"/>
                <a:gd name="textAreaTop" fmla="*/ 109800 h 287280"/>
                <a:gd name="textAreaBottom" fmla="*/ 219600 h 287280"/>
              </a:gdLst>
              <a:ahLst/>
              <a:rect l="textAreaLeft" t="textAreaTop" r="textAreaRight" b="textAreaBottom"/>
              <a:pathLst>
                <a:path w="287337" h="287338">
                  <a:moveTo>
                    <a:pt x="0" y="109753"/>
                  </a:moveTo>
                  <a:lnTo>
                    <a:pt x="109754" y="109754"/>
                  </a:lnTo>
                  <a:lnTo>
                    <a:pt x="143669" y="0"/>
                  </a:lnTo>
                  <a:lnTo>
                    <a:pt x="177583" y="109754"/>
                  </a:lnTo>
                  <a:lnTo>
                    <a:pt x="287337" y="109753"/>
                  </a:lnTo>
                  <a:lnTo>
                    <a:pt x="198544" y="177584"/>
                  </a:lnTo>
                  <a:lnTo>
                    <a:pt x="232461" y="287337"/>
                  </a:lnTo>
                  <a:lnTo>
                    <a:pt x="143669" y="219505"/>
                  </a:lnTo>
                  <a:lnTo>
                    <a:pt x="54876" y="287337"/>
                  </a:lnTo>
                  <a:lnTo>
                    <a:pt x="88793" y="17758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9"/>
            <p:cNvSpPr/>
            <p:nvPr/>
          </p:nvSpPr>
          <p:spPr>
            <a:xfrm>
              <a:off x="7308720" y="1628640"/>
              <a:ext cx="1906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proposed location of the Rufford Energy Recovery Faci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10"/>
            <p:cNvSpPr/>
            <p:nvPr/>
          </p:nvSpPr>
          <p:spPr>
            <a:xfrm>
              <a:off x="7029720" y="1844640"/>
              <a:ext cx="26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1"/>
            <p:cNvSpPr/>
            <p:nvPr/>
          </p:nvSpPr>
          <p:spPr>
            <a:xfrm>
              <a:off x="6767640" y="2779920"/>
              <a:ext cx="217440" cy="215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12"/>
            <p:cNvSpPr/>
            <p:nvPr/>
          </p:nvSpPr>
          <p:spPr>
            <a:xfrm>
              <a:off x="7308720" y="2725920"/>
              <a:ext cx="115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SSS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3"/>
            <p:cNvSpPr/>
            <p:nvPr/>
          </p:nvSpPr>
          <p:spPr>
            <a:xfrm>
              <a:off x="7029720" y="2733840"/>
              <a:ext cx="26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14"/>
            <p:cNvSpPr/>
            <p:nvPr/>
          </p:nvSpPr>
          <p:spPr>
            <a:xfrm>
              <a:off x="4035600" y="4364280"/>
              <a:ext cx="22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Rainworth Heath SS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Straight Arrow Connector 16"/>
            <p:cNvCxnSpPr>
              <a:stCxn id="73" idx="1"/>
            </p:cNvCxnSpPr>
            <p:nvPr/>
          </p:nvCxnSpPr>
          <p:spPr>
            <a:xfrm flipH="1" flipV="1">
              <a:off x="3131280" y="4292280"/>
              <a:ext cx="719640" cy="25776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5" name="TextBox 17"/>
            <p:cNvSpPr/>
            <p:nvPr/>
          </p:nvSpPr>
          <p:spPr>
            <a:xfrm>
              <a:off x="3225600" y="2852640"/>
              <a:ext cx="276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Strawberry Hill Heaths SS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Straight Arrow Connector 19"/>
            <p:cNvCxnSpPr/>
            <p:nvPr/>
          </p:nvCxnSpPr>
          <p:spPr>
            <a:xfrm flipH="1">
              <a:off x="2267640" y="3068640"/>
              <a:ext cx="648360" cy="1432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7" name="TextBox 20"/>
            <p:cNvSpPr/>
            <p:nvPr/>
          </p:nvSpPr>
          <p:spPr>
            <a:xfrm>
              <a:off x="3635280" y="1484280"/>
              <a:ext cx="28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Sherwood Forest Golf Course SSSI (heathlan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Straight Arrow Connector 22"/>
            <p:cNvCxnSpPr>
              <a:stCxn id="77" idx="1"/>
            </p:cNvCxnSpPr>
            <p:nvPr/>
          </p:nvCxnSpPr>
          <p:spPr>
            <a:xfrm flipH="1">
              <a:off x="2986920" y="1805400"/>
              <a:ext cx="648360" cy="3852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9" name="Straight Arrow Connector 24"/>
            <p:cNvCxnSpPr/>
            <p:nvPr/>
          </p:nvCxnSpPr>
          <p:spPr>
            <a:xfrm flipH="1">
              <a:off x="1186920" y="3068640"/>
              <a:ext cx="1729440" cy="1432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5:20:14Z</dcterms:created>
  <dc:creator>Information Services</dc:creator>
  <dc:description/>
  <dc:language>en-US</dc:language>
  <cp:lastModifiedBy>Information Services</cp:lastModifiedBy>
  <dcterms:modified xsi:type="dcterms:W3CDTF">2012-09-06T14:27:55Z</dcterms:modified>
  <cp:revision>5</cp:revision>
  <dc:subject/>
  <dc:title>Slide 1</dc:title>
</cp:coreProperties>
</file>