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5.jpeg" ContentType="image/jpeg"/>
  <Override PartName="/ppt/media/image28.jpeg" ContentType="image/jpeg"/>
  <Override PartName="/ppt/media/image13.png" ContentType="image/png"/>
  <Override PartName="/ppt/media/image33.wmf" ContentType="image/x-wmf"/>
  <Override PartName="/ppt/media/image29.jpeg" ContentType="image/jpeg"/>
  <Override PartName="/ppt/media/image8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nformation Services" initials="I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1-12-16T16:45:06.430000000" idx="1">
    <p:pos x="5760" y="0"/>
    <p:text>Change so that it focuses on Nottinghamshire - use data from Clifton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569-6C27-42C7-B35D-BCC71B9DB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1EFC-B7D5-4A8D-AD60-BE0223E5B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 - http://www.dorsetforyou.com/3873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mise impacts – educate, paths etc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tension activity 5a explores the conflicts and different opinions which may be involved in the establishment of new housing developments near heathland using Talbot Heath, Dorset as an exa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73B-72D1-4AAA-B14C-DD434CEFF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has 86% of Dorsets heathland gone?  Most of Dorset’s Heathland was changed into different land uses (agriculture, forestry and hous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4E34-D376-4DF7-BCE4-C9D3B0F2D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thland near urban areas faces many problems due to its accessibility and use by people and their domestic an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8991-467C-48A9-BB37-339359007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thland near urban areas faces many problems due to its accessibility and use by people and their domestic an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49FF-92DF-49AA-956D-E3F58F548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F97-2484-470D-AC49-5BEFE2F9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8B8-5172-4A95-BC89-2E2C2B2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4E2-BBDD-4F3A-A2B9-28B898A4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DE5-16F9-46A3-A522-BB193580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032-E33B-4A30-9AFC-2DBDC21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2EF-5CAA-4D10-82B7-BBF31D7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A06-DFC8-4C84-AA39-8E0FF45C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1C8-54CD-4ECC-8672-ABD3F46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CC2-7137-4BE4-9A15-BFB9C4F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D97-1B09-4355-9E55-A70A482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65D-A8E6-4356-8A19-2FA532D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C36-335D-41F0-A702-431BB07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AC45-5B5B-4BFC-A118-E0DFEDE880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6.png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green_small.jpg"/>
          <p:cNvPicPr/>
          <p:nvPr/>
        </p:nvPicPr>
        <p:blipFill>
          <a:blip r:embed="rId1"/>
          <a:stretch/>
        </p:blipFill>
        <p:spPr>
          <a:xfrm>
            <a:off x="8326440" y="166680"/>
            <a:ext cx="70956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0" y="2165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9b44a"/>
                </a:solidFill>
                <a:latin typeface="Arial Black"/>
              </a:rPr>
              <a:t>Heathland – conservation and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 rot="16200000">
            <a:off x="8413560" y="4538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 rot="16200000">
            <a:off x="6134760" y="45198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 rot="16200000">
            <a:off x="3808440" y="4539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 rot="16200000">
            <a:off x="1406520" y="453384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Carl Corb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Recreational damageby motor cycle activity"/>
          <p:cNvPicPr/>
          <p:nvPr/>
        </p:nvPicPr>
        <p:blipFill>
          <a:blip r:embed="rId1"/>
          <a:stretch/>
        </p:blipFill>
        <p:spPr>
          <a:xfrm>
            <a:off x="6084720" y="1781280"/>
            <a:ext cx="289116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476360" y="588960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 shows damage by motorcycles at Upton Heath SSSI, Dorset (1989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images.naturalengland.org.uk/image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green_small.jpg"/>
          <p:cNvPicPr/>
          <p:nvPr/>
        </p:nvPicPr>
        <p:blipFill>
          <a:blip r:embed="rId2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9"/>
          <p:cNvSpPr/>
          <p:nvPr/>
        </p:nvSpPr>
        <p:spPr>
          <a:xfrm>
            <a:off x="324000" y="1844640"/>
            <a:ext cx="54003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mpl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foot, cycle, motorbike and/or horse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mage pla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soil eros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jure/kill animals using sandy areas (e.g., destroy eggs laid by sand lizards and mining bee burrow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3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veruse of Dorset’s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Recent fire."/>
          <p:cNvPicPr/>
          <p:nvPr/>
        </p:nvPicPr>
        <p:blipFill>
          <a:blip r:embed="rId1"/>
          <a:stretch/>
        </p:blipFill>
        <p:spPr>
          <a:xfrm>
            <a:off x="6141960" y="1781280"/>
            <a:ext cx="2894040" cy="4240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476360" y="587700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 shows fire at Winfrith Heath SSSI, Dorset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images.naturalengland.org.uk/image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green_small.jpg"/>
          <p:cNvPicPr/>
          <p:nvPr/>
        </p:nvPicPr>
        <p:blipFill>
          <a:blip r:embed="rId2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50920" y="1844640"/>
            <a:ext cx="5400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ther is highly flammable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cidental and deliberate) can result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th of plants and anim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equent invasion of less desirable species (scrub and brac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2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veruse of Dorset’s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lames burning on heathland. Picture: Gary Ellson"/>
          <p:cNvPicPr/>
          <p:nvPr/>
        </p:nvPicPr>
        <p:blipFill>
          <a:blip r:embed="rId1"/>
          <a:stretch/>
        </p:blipFill>
        <p:spPr>
          <a:xfrm>
            <a:off x="755640" y="1197000"/>
            <a:ext cx="7713720" cy="4338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green_small.jpg"/>
          <p:cNvPicPr/>
          <p:nvPr/>
        </p:nvPicPr>
        <p:blipFill>
          <a:blip r:embed="rId2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1765440" y="558972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Verdana"/>
              </a:rPr>
              <a:t>Fire at Upton Heath (Dorset) on 9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Verdana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Verdana"/>
              </a:rPr>
              <a:t> June 201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Verdana"/>
              </a:rPr>
              <a:t>www.bbc.co.uk/news/uk-england-dorset-1371697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179280" y="186696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opulation of Dorset is expected to grow by 10% between 2001 and 2026 – over 40,000 new homes may b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826920" y="29322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26c2d"/>
                </a:solidFill>
                <a:latin typeface="Arial"/>
                <a:ea typeface="Verdana"/>
              </a:rPr>
              <a:t>What effect might the predicted increase in population (and housing have on Dorset’s heathla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826920" y="397656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26c2d"/>
                </a:solidFill>
                <a:latin typeface="Arial"/>
                <a:ea typeface="Verdana"/>
              </a:rPr>
              <a:t>How could you minimise/manage the impact the increase in population might have on Dorset’s heathla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971640" y="4913280"/>
            <a:ext cx="79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26c2d"/>
                </a:solidFill>
                <a:latin typeface="Arial"/>
                <a:ea typeface="Verdana"/>
              </a:rPr>
              <a:t>To explore some of the conflicts between urban developments and heathland conservationists please complete Activity A and/or Activity 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tangle 14" descr=""/>
          <p:cNvPicPr/>
          <p:nvPr/>
        </p:nvPicPr>
        <p:blipFill>
          <a:blip r:embed="rId2"/>
          <a:stretch/>
        </p:blipFill>
        <p:spPr>
          <a:xfrm>
            <a:off x="-378000" y="3517920"/>
            <a:ext cx="166392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15" descr=""/>
          <p:cNvPicPr/>
          <p:nvPr/>
        </p:nvPicPr>
        <p:blipFill>
          <a:blip r:embed="rId3"/>
          <a:stretch/>
        </p:blipFill>
        <p:spPr>
          <a:xfrm>
            <a:off x="-378000" y="2505240"/>
            <a:ext cx="1663920" cy="1407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university logo black.jpg"/>
          <p:cNvPicPr/>
          <p:nvPr/>
        </p:nvPicPr>
        <p:blipFill>
          <a:blip r:embed="rId4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lottery logo.jpg"/>
          <p:cNvPicPr/>
          <p:nvPr/>
        </p:nvPicPr>
        <p:blipFill>
          <a:blip r:embed="rId5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veruse of Dorset’s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plzlg\Local Settings\Temporary Internet Files\Content.IE5\8IPUW9M3\MC900441732[1].png"/>
          <p:cNvPicPr/>
          <p:nvPr/>
        </p:nvPicPr>
        <p:blipFill>
          <a:blip r:embed="rId6"/>
          <a:stretch/>
        </p:blipFill>
        <p:spPr>
          <a:xfrm>
            <a:off x="179280" y="50198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250920" y="18446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re are two main approaches to heathland conserv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serv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52360" y="2792520"/>
            <a:ext cx="64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Heathland cre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(or recreation) to replace the heathland lost to other land uses (e.g. development, agriculture, forestry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52360" y="4076640"/>
            <a:ext cx="64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Heathland management/restor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o prevent the degradation of existing heathland habitat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Adder 2 © David Glynne Fox.tif"/>
          <p:cNvPicPr/>
          <p:nvPr/>
        </p:nvPicPr>
        <p:blipFill>
          <a:blip r:embed="rId2"/>
          <a:stretch/>
        </p:blipFill>
        <p:spPr>
          <a:xfrm>
            <a:off x="6732720" y="1268280"/>
            <a:ext cx="2158920" cy="157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Copy of Cicindela campestris cropped.jpg"/>
          <p:cNvPicPr/>
          <p:nvPr/>
        </p:nvPicPr>
        <p:blipFill>
          <a:blip r:embed="rId3"/>
          <a:stretch/>
        </p:blipFill>
        <p:spPr>
          <a:xfrm>
            <a:off x="6732720" y="290052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lizard3_tracy farrer.JPG"/>
          <p:cNvPicPr/>
          <p:nvPr/>
        </p:nvPicPr>
        <p:blipFill>
          <a:blip r:embed="rId4"/>
          <a:stretch/>
        </p:blipFill>
        <p:spPr>
          <a:xfrm>
            <a:off x="6732720" y="4581360"/>
            <a:ext cx="2158920" cy="14274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5"/>
          <p:cNvSpPr/>
          <p:nvPr/>
        </p:nvSpPr>
        <p:spPr>
          <a:xfrm rot="16200000">
            <a:off x="8153640" y="485928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Tracey Far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 rot="16200000">
            <a:off x="8297280" y="3193200"/>
            <a:ext cx="94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Roger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 rot="16200000">
            <a:off x="8141400" y="173808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Verdana"/>
              </a:rPr>
              <a:t>© David Glynne F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university logo black.jpg"/>
          <p:cNvPicPr/>
          <p:nvPr/>
        </p:nvPicPr>
        <p:blipFill>
          <a:blip r:embed="rId5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lottery logo.jpg"/>
          <p:cNvPicPr/>
          <p:nvPr/>
        </p:nvPicPr>
        <p:blipFill>
          <a:blip r:embed="rId6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6"/>
          <p:cNvSpPr/>
          <p:nvPr/>
        </p:nvSpPr>
        <p:spPr>
          <a:xfrm>
            <a:off x="250920" y="1844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UK Biodiversity Action Plan has targets for the both the recreation and management/restoration heathland: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serv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250920" y="27795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Reduce the amount of heathland in unfavourable condition in the UK from 33,992 ha (in 2010) to 12,762 ha by 2015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50920" y="37130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Increase the extent of lowland heathland in the UK by 7,600 ha by 201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serv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50920" y="2033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It is expected that most of the recreated heathland will be reclaimed from conifer plantations and farmland where heath has previously been recorded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179280" y="3573360"/>
            <a:ext cx="8713800" cy="792360"/>
            <a:chOff x="179280" y="3573360"/>
            <a:chExt cx="8713800" cy="792360"/>
          </a:xfrm>
        </p:grpSpPr>
        <p:sp>
          <p:nvSpPr>
            <p:cNvPr id="210" name="TextBox 11"/>
            <p:cNvSpPr/>
            <p:nvPr/>
          </p:nvSpPr>
          <p:spPr>
            <a:xfrm>
              <a:off x="971280" y="3584160"/>
              <a:ext cx="792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226c2d"/>
                  </a:solidFill>
                  <a:latin typeface="Arial"/>
                  <a:ea typeface="Verdana"/>
                </a:rPr>
                <a:t>To investigate some of the arguments surrounding heathland creation please complete Activity C.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2" descr="C:\Documents and Settings\plzlg\Local Settings\Temporary Internet Files\Content.IE5\8IPUW9M3\MC900441732[1].png"/>
            <p:cNvPicPr/>
            <p:nvPr/>
          </p:nvPicPr>
          <p:blipFill>
            <a:blip r:embed="rId2"/>
            <a:stretch/>
          </p:blipFill>
          <p:spPr>
            <a:xfrm>
              <a:off x="179280" y="357336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ag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250920" y="1817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Heathlands are plagioclimax ecosystems – without continual intervention from man they will undergo succession and convert to areas of woodland or scrubl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50920" y="301932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o be conserved, heathland must be mana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ag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250920" y="198900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Heathland management should satisfy the following require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313848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Control trees, scrub and bracken (however, leaving some areas of scrub, or some trees may be beneficial to wildlife by increasing the habitat/structural diversity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44625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Produce age diverse vegetation (e.g., stands of heather of different ag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50920" y="544680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Meet the specific requirements of rare spe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50920" y="24922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Control the nutrient content of the so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naging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84464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Several techniques are used to manage heathlands, inclu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179280" y="5157720"/>
            <a:ext cx="8713800" cy="792360"/>
            <a:chOff x="179280" y="5157720"/>
            <a:chExt cx="8713800" cy="792360"/>
          </a:xfrm>
        </p:grpSpPr>
        <p:sp>
          <p:nvSpPr>
            <p:cNvPr id="238" name="TextBox 11"/>
            <p:cNvSpPr/>
            <p:nvPr/>
          </p:nvSpPr>
          <p:spPr>
            <a:xfrm>
              <a:off x="971280" y="5168520"/>
              <a:ext cx="792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226c2d"/>
                  </a:solidFill>
                  <a:latin typeface="Arial"/>
                  <a:ea typeface="Verdana"/>
                </a:rPr>
                <a:t>To find out more about the various heathland management techniques please complete Activity D.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2" descr="C:\Documents and Settings\plzlg\Local Settings\Temporary Internet Files\Content.IE5\8IPUW9M3\MC900441732[1].png"/>
            <p:cNvPicPr/>
            <p:nvPr/>
          </p:nvPicPr>
          <p:blipFill>
            <a:blip r:embed="rId4"/>
            <a:stretch/>
          </p:blipFill>
          <p:spPr>
            <a:xfrm>
              <a:off x="179280" y="515772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28"/>
          <p:cNvGrpSpPr/>
          <p:nvPr/>
        </p:nvGrpSpPr>
        <p:grpSpPr>
          <a:xfrm>
            <a:off x="7236000" y="3500280"/>
            <a:ext cx="1657080" cy="1546560"/>
            <a:chOff x="7236000" y="3500280"/>
            <a:chExt cx="1657080" cy="1546560"/>
          </a:xfrm>
        </p:grpSpPr>
        <p:sp>
          <p:nvSpPr>
            <p:cNvPr id="241" name="TextBox 15"/>
            <p:cNvSpPr/>
            <p:nvPr/>
          </p:nvSpPr>
          <p:spPr>
            <a:xfrm>
              <a:off x="7236000" y="350028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ee rem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9" descr="C:\Documents and Settings\plzlg\Local Settings\Temporary Internet Files\Content.IE5\MJ0RPXLN\MC900197903[1].wmf"/>
            <p:cNvPicPr/>
            <p:nvPr/>
          </p:nvPicPr>
          <p:blipFill>
            <a:blip r:embed="rId5"/>
            <a:stretch/>
          </p:blipFill>
          <p:spPr>
            <a:xfrm>
              <a:off x="7540200" y="3860280"/>
              <a:ext cx="1048320" cy="11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7"/>
          <p:cNvGrpSpPr/>
          <p:nvPr/>
        </p:nvGrpSpPr>
        <p:grpSpPr>
          <a:xfrm>
            <a:off x="324000" y="2463840"/>
            <a:ext cx="1079280" cy="1330200"/>
            <a:chOff x="324000" y="2463840"/>
            <a:chExt cx="1079280" cy="1330200"/>
          </a:xfrm>
        </p:grpSpPr>
        <p:sp>
          <p:nvSpPr>
            <p:cNvPr id="244" name="TextBox 8"/>
            <p:cNvSpPr/>
            <p:nvPr/>
          </p:nvSpPr>
          <p:spPr>
            <a:xfrm>
              <a:off x="324000" y="246384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a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C:\Documents and Settings\plzlg\Local Settings\Temporary Internet Files\Content.IE5\0L0WMSJM\MC900140625[1].wmf"/>
            <p:cNvPicPr/>
            <p:nvPr/>
          </p:nvPicPr>
          <p:blipFill>
            <a:blip r:embed="rId6"/>
            <a:stretch/>
          </p:blipFill>
          <p:spPr>
            <a:xfrm>
              <a:off x="340560" y="2824200"/>
              <a:ext cx="1046160" cy="9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30"/>
          <p:cNvGrpSpPr/>
          <p:nvPr/>
        </p:nvGrpSpPr>
        <p:grpSpPr>
          <a:xfrm>
            <a:off x="1932120" y="3500280"/>
            <a:ext cx="2279520" cy="1441440"/>
            <a:chOff x="1932120" y="3500280"/>
            <a:chExt cx="2279520" cy="1441440"/>
          </a:xfrm>
        </p:grpSpPr>
        <p:sp>
          <p:nvSpPr>
            <p:cNvPr id="247" name="TextBox 11"/>
            <p:cNvSpPr/>
            <p:nvPr/>
          </p:nvSpPr>
          <p:spPr>
            <a:xfrm>
              <a:off x="1932120" y="3500280"/>
              <a:ext cx="22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trolled bu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24" descr="C:\Documents and Settings\plzlg\Local Settings\Temporary Internet Files\Content.IE5\IMWPNG7Q\MC900434816[1].png"/>
            <p:cNvPicPr/>
            <p:nvPr/>
          </p:nvPicPr>
          <p:blipFill>
            <a:blip r:embed="rId7"/>
            <a:stretch/>
          </p:blipFill>
          <p:spPr>
            <a:xfrm>
              <a:off x="2548080" y="3893400"/>
              <a:ext cx="1047240" cy="104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34"/>
          <p:cNvGrpSpPr/>
          <p:nvPr/>
        </p:nvGrpSpPr>
        <p:grpSpPr>
          <a:xfrm>
            <a:off x="4619520" y="2463840"/>
            <a:ext cx="2160720" cy="2405160"/>
            <a:chOff x="4619520" y="2463840"/>
            <a:chExt cx="2160720" cy="2405160"/>
          </a:xfrm>
        </p:grpSpPr>
        <p:sp>
          <p:nvSpPr>
            <p:cNvPr id="250" name="TextBox 18"/>
            <p:cNvSpPr/>
            <p:nvPr/>
          </p:nvSpPr>
          <p:spPr>
            <a:xfrm>
              <a:off x="4619520" y="246384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hemical control of bra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25" descr="C:\Documents and Settings\plzlg\Local Settings\Temporary Internet Files\Content.IE5\UWCPO0M7\MC900340364[1].wmf"/>
            <p:cNvPicPr/>
            <p:nvPr/>
          </p:nvPicPr>
          <p:blipFill>
            <a:blip r:embed="rId8"/>
            <a:stretch/>
          </p:blipFill>
          <p:spPr>
            <a:xfrm>
              <a:off x="5175720" y="3097080"/>
              <a:ext cx="1047960" cy="177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green_small.jpg"/>
          <p:cNvPicPr/>
          <p:nvPr/>
        </p:nvPicPr>
        <p:blipFill>
          <a:blip r:embed="rId1"/>
          <a:stretch/>
        </p:blipFill>
        <p:spPr>
          <a:xfrm>
            <a:off x="8167680" y="81000"/>
            <a:ext cx="887400" cy="9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24000" y="1989000"/>
            <a:ext cx="54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You are going to be learning about a very important habitat – lowland heath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P1020121.JPG"/>
          <p:cNvPicPr/>
          <p:nvPr/>
        </p:nvPicPr>
        <p:blipFill>
          <a:blip r:embed="rId4"/>
          <a:stretch/>
        </p:blipFill>
        <p:spPr>
          <a:xfrm>
            <a:off x="5867280" y="1268280"/>
            <a:ext cx="3078360" cy="4618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 rot="16200000">
            <a:off x="8240400" y="51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Lauren G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24000" y="4437000"/>
            <a:ext cx="53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You will be looking at case studies and trying to weigh up the pros and cons of different developments – should they be chosen over heathla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4000" y="3213000"/>
            <a:ext cx="54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You will be learning about conflicts in land use and some of the pressures that heathland habitats f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gwydir.demon.co.uk/jo/maps/uktowns.gif"/>
          <p:cNvPicPr/>
          <p:nvPr/>
        </p:nvPicPr>
        <p:blipFill>
          <a:blip r:embed="rId2"/>
          <a:stretch/>
        </p:blipFill>
        <p:spPr>
          <a:xfrm>
            <a:off x="5724360" y="1700280"/>
            <a:ext cx="3392640" cy="4213080"/>
          </a:xfrm>
          <a:prstGeom prst="rect">
            <a:avLst/>
          </a:prstGeom>
          <a:ln w="0">
            <a:noFill/>
          </a:ln>
        </p:spPr>
      </p:pic>
      <p:sp>
        <p:nvSpPr>
          <p:cNvPr id="73" name="Curved Up Arrow 20"/>
          <p:cNvSpPr/>
          <p:nvPr/>
        </p:nvSpPr>
        <p:spPr>
          <a:xfrm rot="20977800">
            <a:off x="6195600" y="5637240"/>
            <a:ext cx="1390680" cy="573120"/>
          </a:xfrm>
          <a:custGeom>
            <a:avLst/>
            <a:gdLst>
              <a:gd name="textAreaLeft" fmla="*/ 293760 w 1390680"/>
              <a:gd name="textAreaRight" fmla="*/ 1025280 w 139068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1" hR="21600" stAng="10800000" swAng="-5400000"/>
                <a:lnTo>
                  <a:pt x="11356" y="21600"/>
                </a:lnTo>
                <a:arcTo wR="9131" hR="21600" stAng="5400000" swAng="-3515037"/>
                <a:lnTo>
                  <a:pt x="21310" y="5400"/>
                </a:lnTo>
                <a:lnTo>
                  <a:pt x="19375" y="0"/>
                </a:lnTo>
                <a:lnTo>
                  <a:pt x="16859" y="5400"/>
                </a:lnTo>
                <a:lnTo>
                  <a:pt x="17972" y="5400"/>
                </a:lnTo>
                <a:arcTo wR="9131" hR="21600" stAng="1884963" swAng="3336808"/>
                <a:lnTo>
                  <a:pt x="10244" y="21439"/>
                </a:lnTo>
                <a:arcTo wR="9131" hR="21600" stAng="5578229" swAng="5221771"/>
                <a:close/>
              </a:path>
              <a:path fill="darkenLess" w="21600" h="21600">
                <a:moveTo>
                  <a:pt x="0" y="0"/>
                </a:moveTo>
                <a:arcTo wR="9131" hR="21600" stAng="10800000" swAng="-5400000"/>
                <a:lnTo>
                  <a:pt x="11356" y="21600"/>
                </a:lnTo>
                <a:arcTo wR="9131" hR="21600" stAng="5400000" swAng="178229"/>
                <a:lnTo>
                  <a:pt x="10244" y="21439"/>
                </a:lnTo>
                <a:arcTo wR="9131" hR="21600" stAng="5578229" swAng="5221771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50920" y="1844640"/>
            <a:ext cx="540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About 200 years ago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c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year 1800) there was about 290,000 hectares of heathland in the UK.  Nowadays, only abou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one-six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 of the heathland present in 1800 remai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250920" y="37450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at means that from an area the size of Cornwall, only the equivalent of the Isle of Wight rem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decline of heathland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250920" y="501336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Despite these losses the UK still has 20% of the world’s lowland heathland resou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250920" y="184464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Heathland in Dorset was created following the clearance of woodland in or before the Bronze Ag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gwydir.demon.co.uk/jo/maps/uktowns.gif"/>
          <p:cNvPicPr/>
          <p:nvPr/>
        </p:nvPicPr>
        <p:blipFill>
          <a:blip r:embed="rId2"/>
          <a:stretch/>
        </p:blipFill>
        <p:spPr>
          <a:xfrm>
            <a:off x="5716440" y="1844640"/>
            <a:ext cx="3392640" cy="4211640"/>
          </a:xfrm>
          <a:prstGeom prst="rect">
            <a:avLst/>
          </a:prstGeom>
          <a:ln w="0">
            <a:noFill/>
          </a:ln>
        </p:spPr>
      </p:pic>
      <p:sp>
        <p:nvSpPr>
          <p:cNvPr id="84" name="Right Arrow 8"/>
          <p:cNvSpPr/>
          <p:nvPr/>
        </p:nvSpPr>
        <p:spPr>
          <a:xfrm rot="16200000">
            <a:off x="6906240" y="5847120"/>
            <a:ext cx="803160" cy="287280"/>
          </a:xfrm>
          <a:prstGeom prst="rightArrow">
            <a:avLst>
              <a:gd name="adj1" fmla="val 50000"/>
              <a:gd name="adj2" fmla="val 573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decline of heathland in Dor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50920" y="349092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heathland remained largely intact until the 1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  <a:ea typeface="Verdana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 Cent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50920" y="4581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Since the 1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  <a:ea typeface="Verdana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 Century the extent of Dorset’s heathland has decreased from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c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50,000 ha to 7,000 ha (a decrease of 86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niversity logo black.jpg"/>
          <p:cNvPicPr/>
          <p:nvPr/>
        </p:nvPicPr>
        <p:blipFill>
          <a:blip r:embed="rId3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ottery logo.jpg"/>
          <p:cNvPicPr/>
          <p:nvPr/>
        </p:nvPicPr>
        <p:blipFill>
          <a:blip r:embed="rId4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564000" y="1735200"/>
            <a:ext cx="5400720" cy="4456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green_small.jpg"/>
          <p:cNvPicPr/>
          <p:nvPr/>
        </p:nvPicPr>
        <p:blipFill>
          <a:blip r:embed="rId2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3059280" y="6146640"/>
            <a:ext cx="424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ource: www.rtpi.org.uk/download/1966/Dorset-Heathland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08000" y="3933720"/>
            <a:ext cx="33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The image shows the loss of 86% of Dorset’s heathland between 1759 and 1987. Areas of heathland are shown in bl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gwydir.demon.co.uk/jo/maps/uktowns.gif"/>
          <p:cNvPicPr/>
          <p:nvPr/>
        </p:nvPicPr>
        <p:blipFill>
          <a:blip r:embed="rId3"/>
          <a:srcRect l="37814" t="79524" r="44333" b="10375"/>
          <a:stretch/>
        </p:blipFill>
        <p:spPr>
          <a:xfrm>
            <a:off x="231840" y="1816200"/>
            <a:ext cx="2868480" cy="2016000"/>
          </a:xfrm>
          <a:prstGeom prst="rect">
            <a:avLst/>
          </a:prstGeom>
          <a:ln w="0">
            <a:noFill/>
          </a:ln>
        </p:spPr>
      </p:pic>
      <p:sp>
        <p:nvSpPr>
          <p:cNvPr id="96" name="Right Arrow 11"/>
          <p:cNvSpPr/>
          <p:nvPr/>
        </p:nvSpPr>
        <p:spPr>
          <a:xfrm rot="13582200">
            <a:off x="2365200" y="3398400"/>
            <a:ext cx="804960" cy="287280"/>
          </a:xfrm>
          <a:prstGeom prst="rightArrow">
            <a:avLst>
              <a:gd name="adj1" fmla="val 50000"/>
              <a:gd name="adj2" fmla="val 573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71280" y="1197000"/>
            <a:ext cx="90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decline of Dorset’s Heathland (1759-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university logo black.jpg"/>
          <p:cNvPicPr/>
          <p:nvPr/>
        </p:nvPicPr>
        <p:blipFill>
          <a:blip r:embed="rId4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lottery logo.jpg"/>
          <p:cNvPicPr/>
          <p:nvPr/>
        </p:nvPicPr>
        <p:blipFill>
          <a:blip r:embed="rId5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6" descr=""/>
          <p:cNvPicPr/>
          <p:nvPr/>
        </p:nvPicPr>
        <p:blipFill>
          <a:blip r:embed="rId2"/>
          <a:stretch/>
        </p:blipFill>
        <p:spPr>
          <a:xfrm>
            <a:off x="3333600" y="1676520"/>
            <a:ext cx="236088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8"/>
          <p:cNvGrpSpPr/>
          <p:nvPr/>
        </p:nvGrpSpPr>
        <p:grpSpPr>
          <a:xfrm>
            <a:off x="179280" y="3290760"/>
            <a:ext cx="3240360" cy="1845360"/>
            <a:chOff x="179280" y="3290760"/>
            <a:chExt cx="3240360" cy="1845360"/>
          </a:xfrm>
        </p:grpSpPr>
        <p:pic>
          <p:nvPicPr>
            <p:cNvPr id="104" name="Picture 2" descr="C:\Documents and Settings\plzlg\Local Settings\Temporary Internet Files\Content.IE5\NRT9YIE1\MC900311964[1].wmf"/>
            <p:cNvPicPr/>
            <p:nvPr/>
          </p:nvPicPr>
          <p:blipFill>
            <a:blip r:embed="rId3"/>
            <a:stretch/>
          </p:blipFill>
          <p:spPr>
            <a:xfrm>
              <a:off x="1151280" y="3290760"/>
              <a:ext cx="1296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9"/>
            <p:cNvSpPr/>
            <p:nvPr/>
          </p:nvSpPr>
          <p:spPr>
            <a:xfrm>
              <a:off x="179280" y="4127400"/>
              <a:ext cx="324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Centu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clamation of heathland for agricul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7"/>
          <p:cNvGrpSpPr/>
          <p:nvPr/>
        </p:nvGrpSpPr>
        <p:grpSpPr>
          <a:xfrm>
            <a:off x="5724360" y="2943360"/>
            <a:ext cx="3240360" cy="2538000"/>
            <a:chOff x="5724360" y="2943360"/>
            <a:chExt cx="3240360" cy="2538000"/>
          </a:xfrm>
        </p:grpSpPr>
        <p:pic>
          <p:nvPicPr>
            <p:cNvPr id="107" name="Picture 4" descr="C:\Documents and Settings\plzlg\Local Settings\Temporary Internet Files\Content.IE5\2WFLFRBK\MC900441738[1].png"/>
            <p:cNvPicPr/>
            <p:nvPr/>
          </p:nvPicPr>
          <p:blipFill>
            <a:blip r:embed="rId4"/>
            <a:stretch/>
          </p:blipFill>
          <p:spPr>
            <a:xfrm>
              <a:off x="6694560" y="2943360"/>
              <a:ext cx="1299600" cy="12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11"/>
            <p:cNvSpPr/>
            <p:nvPr/>
          </p:nvSpPr>
          <p:spPr>
            <a:xfrm>
              <a:off x="5724360" y="4167720"/>
              <a:ext cx="3240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and 20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Centur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ss of heathland to Poole-Bournemouth urban ar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2411280" y="4338720"/>
            <a:ext cx="4211640" cy="2393640"/>
            <a:chOff x="2411280" y="4338720"/>
            <a:chExt cx="4211640" cy="2393640"/>
          </a:xfrm>
        </p:grpSpPr>
        <p:grpSp>
          <p:nvGrpSpPr>
            <p:cNvPr id="110" name="Group 16"/>
            <p:cNvGrpSpPr/>
            <p:nvPr/>
          </p:nvGrpSpPr>
          <p:grpSpPr>
            <a:xfrm>
              <a:off x="3877920" y="4338720"/>
              <a:ext cx="1278360" cy="1007280"/>
              <a:chOff x="3877920" y="4338720"/>
              <a:chExt cx="1278360" cy="1007280"/>
            </a:xfrm>
          </p:grpSpPr>
          <p:pic>
            <p:nvPicPr>
              <p:cNvPr id="111" name="Picture 5" descr="C:\Documents and Settings\plzlg\Local Settings\Temporary Internet Files\Content.IE5\OF6MLQSB\MC900014544[1].wmf"/>
              <p:cNvPicPr/>
              <p:nvPr/>
            </p:nvPicPr>
            <p:blipFill>
              <a:blip r:embed="rId5"/>
              <a:stretch/>
            </p:blipFill>
            <p:spPr>
              <a:xfrm>
                <a:off x="3877920" y="4338720"/>
                <a:ext cx="414360" cy="10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5" descr="C:\Documents and Settings\plzlg\Local Settings\Temporary Internet Files\Content.IE5\OF6MLQSB\MC900014544[1].wmf"/>
              <p:cNvPicPr/>
              <p:nvPr/>
            </p:nvPicPr>
            <p:blipFill>
              <a:blip r:embed="rId6"/>
              <a:stretch/>
            </p:blipFill>
            <p:spPr>
              <a:xfrm>
                <a:off x="4165920" y="4338720"/>
                <a:ext cx="414360" cy="10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5" descr="C:\Documents and Settings\plzlg\Local Settings\Temporary Internet Files\Content.IE5\OF6MLQSB\MC900014544[1].wmf"/>
              <p:cNvPicPr/>
              <p:nvPr/>
            </p:nvPicPr>
            <p:blipFill>
              <a:blip r:embed="rId7"/>
              <a:stretch/>
            </p:blipFill>
            <p:spPr>
              <a:xfrm>
                <a:off x="4453920" y="4338720"/>
                <a:ext cx="414360" cy="10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5" descr="C:\Documents and Settings\plzlg\Local Settings\Temporary Internet Files\Content.IE5\OF6MLQSB\MC900014544[1].wmf"/>
              <p:cNvPicPr/>
              <p:nvPr/>
            </p:nvPicPr>
            <p:blipFill>
              <a:blip r:embed="rId8"/>
              <a:stretch/>
            </p:blipFill>
            <p:spPr>
              <a:xfrm>
                <a:off x="4741920" y="4338720"/>
                <a:ext cx="414360" cy="10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TextBox 19"/>
            <p:cNvSpPr/>
            <p:nvPr/>
          </p:nvSpPr>
          <p:spPr>
            <a:xfrm>
              <a:off x="2411280" y="5418720"/>
              <a:ext cx="421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Centu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estry Commission plant conifer plantations as part of post-war timber sustainability 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" name="Straight Arrow Connector 22"/>
          <p:cNvCxnSpPr>
            <a:stCxn id="102" idx="1"/>
          </p:cNvCxnSpPr>
          <p:nvPr/>
        </p:nvCxnSpPr>
        <p:spPr>
          <a:xfrm flipH="1">
            <a:off x="1800000" y="2352600"/>
            <a:ext cx="1932480" cy="93888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17" name="Straight Arrow Connector 24"/>
          <p:cNvCxnSpPr>
            <a:stCxn id="102" idx="2"/>
          </p:cNvCxnSpPr>
          <p:nvPr/>
        </p:nvCxnSpPr>
        <p:spPr>
          <a:xfrm flipH="1">
            <a:off x="4500360" y="2814120"/>
            <a:ext cx="18000" cy="14533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18" name="Straight Arrow Connector 26"/>
          <p:cNvCxnSpPr>
            <a:stCxn id="102" idx="3"/>
          </p:cNvCxnSpPr>
          <p:nvPr/>
        </p:nvCxnSpPr>
        <p:spPr>
          <a:xfrm>
            <a:off x="5301720" y="2352240"/>
            <a:ext cx="2042280" cy="591120"/>
          </a:xfrm>
          <a:prstGeom prst="straightConnector1">
            <a:avLst/>
          </a:prstGeom>
          <a:ln w="25560">
            <a:solidFill>
              <a:srgbClr val="e46c0a"/>
            </a:solidFill>
            <a:miter/>
            <a:tailEnd len="med" type="arrow" w="med"/>
          </a:ln>
        </p:spPr>
      </p:cxnSp>
      <p:pic>
        <p:nvPicPr>
          <p:cNvPr id="119" name="Picture 6" descr="university logo black.jpg"/>
          <p:cNvPicPr/>
          <p:nvPr/>
        </p:nvPicPr>
        <p:blipFill>
          <a:blip r:embed="rId9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lottery logo.jpg"/>
          <p:cNvPicPr/>
          <p:nvPr/>
        </p:nvPicPr>
        <p:blipFill>
          <a:blip r:embed="rId10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7"/>
          <p:cNvSpPr/>
          <p:nvPr/>
        </p:nvSpPr>
        <p:spPr>
          <a:xfrm>
            <a:off x="71280" y="1197000"/>
            <a:ext cx="90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here did 86% of Dorset’s heathlan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0" y="177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In previous decades the main threat to heathland was the replacement of the habitat with other land uses (e.g., agriculture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1280" y="342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Nitrogen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219640" y="342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Over-use (recre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reats to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C:\Documents and Settings\plzlg\Local Settings\Temporary Internet Files\Content.IE5\OJTEZ9P8\MP900442392[1].jpg"/>
          <p:cNvPicPr/>
          <p:nvPr/>
        </p:nvPicPr>
        <p:blipFill>
          <a:blip r:embed="rId4"/>
          <a:srcRect l="0" t="0" r="15738" b="0"/>
          <a:stretch/>
        </p:blipFill>
        <p:spPr>
          <a:xfrm>
            <a:off x="792000" y="3860640"/>
            <a:ext cx="32403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8"/>
          <p:cNvSpPr/>
          <p:nvPr/>
        </p:nvSpPr>
        <p:spPr>
          <a:xfrm>
            <a:off x="0" y="2587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Nowadays, the main threat to heathland i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chang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Verdana"/>
              </a:rPr>
              <a:t> to the habitat due to external influences and mismanagement, inclu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C:\Documents and Settings\plzlg\Local Settings\Temporary Internet Files\Content.IE5\OJTEZ9P8\MP900448614[1].jpg"/>
          <p:cNvPicPr/>
          <p:nvPr/>
        </p:nvPicPr>
        <p:blipFill>
          <a:blip r:embed="rId5"/>
          <a:stretch/>
        </p:blipFill>
        <p:spPr>
          <a:xfrm>
            <a:off x="5396040" y="3860640"/>
            <a:ext cx="3249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veruse of Dorset’s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24000" y="33796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ever, Dorset's remaining heathland is within easy access of over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lf a million peop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24000" y="196056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6% of the remaining heathland in Dorset is covered by international designation (SPA, SAC and Ramsar) and 97% is covered by the SSSI desig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179280" y="4640400"/>
            <a:ext cx="8713800" cy="1103400"/>
            <a:chOff x="179280" y="4640400"/>
            <a:chExt cx="8713800" cy="1103400"/>
          </a:xfrm>
        </p:grpSpPr>
        <p:sp>
          <p:nvSpPr>
            <p:cNvPr id="141" name="TextBox 7"/>
            <p:cNvSpPr/>
            <p:nvPr/>
          </p:nvSpPr>
          <p:spPr>
            <a:xfrm>
              <a:off x="1371960" y="4979520"/>
              <a:ext cx="7521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226c2d"/>
                  </a:solidFill>
                  <a:latin typeface="Arial"/>
                  <a:ea typeface="Verdana"/>
                </a:rPr>
                <a:t>What impacts could people living near the heathland have on the ecology of the heathland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Rectangle 15" descr=""/>
            <p:cNvPicPr/>
            <p:nvPr/>
          </p:nvPicPr>
          <p:blipFill>
            <a:blip r:embed="rId4"/>
            <a:stretch/>
          </p:blipFill>
          <p:spPr>
            <a:xfrm>
              <a:off x="179280" y="4640400"/>
              <a:ext cx="1594440" cy="10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395280" y="1989000"/>
            <a:ext cx="84247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rampl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accidental and deliberat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turbanc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f animals and ground-nesting birds by walkers, dog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utrient (nitrogen) enrichm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soils by the deposition of fumes from traffic, industry and intensive agricultural pract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d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reptiles and birds by domestic c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veruse of Dorset’s Heat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2:03:33Z</dcterms:created>
  <dc:creator>Information Services</dc:creator>
  <dc:description/>
  <dc:language>en-US</dc:language>
  <cp:lastModifiedBy>Information Services</cp:lastModifiedBy>
  <dcterms:modified xsi:type="dcterms:W3CDTF">2012-09-06T14:27:11Z</dcterms:modified>
  <cp:revision>311</cp:revision>
  <dc:subject/>
  <dc:title>Slide 1</dc:title>
</cp:coreProperties>
</file>