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1.wmf" ContentType="image/x-wmf"/>
  <Override PartName="/ppt/media/image27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20.jpeg" ContentType="image/jpeg"/>
  <Override PartName="/ppt/media/image9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6.jpeg" ContentType="image/jpeg"/>
  <Override PartName="/ppt/media/image21.wmf" ContentType="image/x-wmf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78C2-3A20-4FA1-BF05-2A4D7BDED4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657D-2A0E-47DA-8F12-A5924FB446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92E-AE34-42F4-9B10-71450FAE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893-C340-4F7C-8D3B-6CB66080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C127-2686-4345-B580-73DA79FC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EC0-5144-40C7-A37D-D12B647A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CDA6-B036-49F7-887E-D97C1166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C492-6AE5-4CB9-A8B4-D2A0EF08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7A6-9C15-4A96-8619-FEDA69A0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8D0-95F0-4880-9EC4-261D8B55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B48F-C5DB-4776-B9CC-B968ED0F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D52-B2CB-47F3-822A-F490DA27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A182-E08B-4FB1-8811-C008A10A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747-15EB-47D3-AD48-9C15046F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ABE2-711C-407E-882F-E4EDE205F35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16.png"/><Relationship Id="rId37" Type="http://schemas.openxmlformats.org/officeDocument/2006/relationships/image" Target="../media/image16.png"/><Relationship Id="rId38" Type="http://schemas.openxmlformats.org/officeDocument/2006/relationships/image" Target="../media/image16.png"/><Relationship Id="rId3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0.jpeg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0" y="1670040"/>
            <a:ext cx="9144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000000"/>
                </a:solidFill>
                <a:latin typeface="Arial Black"/>
              </a:rPr>
              <a:t>Heathland field trip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9b44a"/>
                </a:solidFill>
                <a:latin typeface="Arial Black"/>
              </a:rPr>
              <a:t>Mapping for Climate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6" descr="AmyRogers_smallcopperbutterfly2web"/>
          <p:cNvPicPr/>
          <p:nvPr/>
        </p:nvPicPr>
        <p:blipFill>
          <a:blip r:embed="rId4"/>
          <a:stretch/>
        </p:blipFill>
        <p:spPr>
          <a:xfrm>
            <a:off x="7093080" y="4221000"/>
            <a:ext cx="1962000" cy="1352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AmyRogers_0394"/>
          <p:cNvPicPr/>
          <p:nvPr/>
        </p:nvPicPr>
        <p:blipFill>
          <a:blip r:embed="rId5"/>
          <a:stretch/>
        </p:blipFill>
        <p:spPr>
          <a:xfrm>
            <a:off x="2433600" y="4221000"/>
            <a:ext cx="2019240" cy="1352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Female Adder barbrook March 21 2009 (15)"/>
          <p:cNvPicPr/>
          <p:nvPr/>
        </p:nvPicPr>
        <p:blipFill>
          <a:blip r:embed="rId6"/>
          <a:stretch/>
        </p:blipFill>
        <p:spPr>
          <a:xfrm>
            <a:off x="108000" y="4221000"/>
            <a:ext cx="201600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7" descr="AmyRogers_0381"/>
          <p:cNvPicPr/>
          <p:nvPr/>
        </p:nvPicPr>
        <p:blipFill>
          <a:blip r:embed="rId7"/>
          <a:stretch/>
        </p:blipFill>
        <p:spPr>
          <a:xfrm>
            <a:off x="4762440" y="4221000"/>
            <a:ext cx="2019240" cy="1352880"/>
          </a:xfrm>
          <a:prstGeom prst="rect">
            <a:avLst/>
          </a:prstGeom>
          <a:ln w="0">
            <a:noFill/>
          </a:ln>
        </p:spPr>
      </p:pic>
      <p:sp>
        <p:nvSpPr>
          <p:cNvPr id="57" name="TextBox 12"/>
          <p:cNvSpPr/>
          <p:nvPr/>
        </p:nvSpPr>
        <p:spPr>
          <a:xfrm rot="16200000">
            <a:off x="8413560" y="453816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Amy Rog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 rot="16200000">
            <a:off x="6134760" y="451980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Amy Rog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 rot="16200000">
            <a:off x="3808440" y="45396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Amy Rog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 rot="16200000">
            <a:off x="1406520" y="4533840"/>
            <a:ext cx="12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Carl Corb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habitat fragmen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324000" y="2133720"/>
            <a:ext cx="5111640" cy="16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bitat fragmentation occurs when a previously continuous habitat is broken into discontinuous patch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9"/>
          <p:cNvGrpSpPr/>
          <p:nvPr/>
        </p:nvGrpSpPr>
        <p:grpSpPr>
          <a:xfrm>
            <a:off x="6031080" y="1916280"/>
            <a:ext cx="2788920" cy="4144680"/>
            <a:chOff x="6031080" y="1916280"/>
            <a:chExt cx="2788920" cy="4144680"/>
          </a:xfrm>
        </p:grpSpPr>
        <p:pic>
          <p:nvPicPr>
            <p:cNvPr id="187" name="Picture 4" descr="http://www.treesforlife.org.uk/kingussie2001/images/habitat_fragmentation.jpg"/>
            <p:cNvPicPr/>
            <p:nvPr/>
          </p:nvPicPr>
          <p:blipFill>
            <a:blip r:embed="rId4"/>
            <a:stretch/>
          </p:blipFill>
          <p:spPr>
            <a:xfrm>
              <a:off x="6044040" y="1916280"/>
              <a:ext cx="2775960" cy="41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5"/>
            <p:cNvSpPr/>
            <p:nvPr/>
          </p:nvSpPr>
          <p:spPr>
            <a:xfrm>
              <a:off x="6031080" y="5814720"/>
              <a:ext cx="136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www.treesforlife.or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abitat fragmentation and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324000" y="2160720"/>
            <a:ext cx="856908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limate change is predicted to affect temperate and the pattern of rainfa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the climate conditions in an area change too much plants and animals may need to move to a new area where conditions are suitable in order to surv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ving between habitat fragments is much harder than moving through a continuous habit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abitat corrid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24000" y="2160720"/>
            <a:ext cx="453528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help reduce the impacts of habitat fragmentation, habitat corridors can be bui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bitat corridors link habitat fragments, enabling plants and animals to move between habitat patch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201" name="Freeform 7"/>
          <p:cNvSpPr/>
          <p:nvPr/>
        </p:nvSpPr>
        <p:spPr>
          <a:xfrm>
            <a:off x="5486400" y="1616040"/>
            <a:ext cx="3379680" cy="4202280"/>
          </a:xfrm>
          <a:custGeom>
            <a:avLst/>
            <a:gdLst/>
            <a:ahLst/>
            <a:rect l="l" t="t" r="r" b="b"/>
            <a:pathLst>
              <a:path w="3380509" h="4202545">
                <a:moveTo>
                  <a:pt x="3121891" y="517236"/>
                </a:moveTo>
                <a:lnTo>
                  <a:pt x="2974032" y="300468"/>
                </a:lnTo>
                <a:lnTo>
                  <a:pt x="2761673" y="138545"/>
                </a:lnTo>
                <a:lnTo>
                  <a:pt x="2632364" y="92363"/>
                </a:lnTo>
                <a:lnTo>
                  <a:pt x="2336800" y="0"/>
                </a:lnTo>
                <a:lnTo>
                  <a:pt x="2170545" y="0"/>
                </a:lnTo>
                <a:lnTo>
                  <a:pt x="1939636" y="0"/>
                </a:lnTo>
                <a:cubicBezTo>
                  <a:pt x="1841209" y="10936"/>
                  <a:pt x="1884389" y="9236"/>
                  <a:pt x="1810327" y="9236"/>
                </a:cubicBezTo>
                <a:lnTo>
                  <a:pt x="1616364" y="64654"/>
                </a:lnTo>
                <a:lnTo>
                  <a:pt x="1099127" y="203200"/>
                </a:lnTo>
                <a:lnTo>
                  <a:pt x="692727" y="508000"/>
                </a:lnTo>
                <a:lnTo>
                  <a:pt x="637309" y="581891"/>
                </a:lnTo>
                <a:lnTo>
                  <a:pt x="461818" y="1108363"/>
                </a:lnTo>
                <a:lnTo>
                  <a:pt x="341745" y="1625600"/>
                </a:lnTo>
                <a:lnTo>
                  <a:pt x="295564" y="1690254"/>
                </a:lnTo>
                <a:lnTo>
                  <a:pt x="73891" y="2410691"/>
                </a:lnTo>
                <a:lnTo>
                  <a:pt x="73891" y="2503054"/>
                </a:lnTo>
                <a:lnTo>
                  <a:pt x="0" y="3103418"/>
                </a:lnTo>
                <a:lnTo>
                  <a:pt x="212436" y="3694545"/>
                </a:lnTo>
                <a:lnTo>
                  <a:pt x="471055" y="4064000"/>
                </a:lnTo>
                <a:lnTo>
                  <a:pt x="988291" y="4147127"/>
                </a:lnTo>
                <a:lnTo>
                  <a:pt x="1754909" y="4202545"/>
                </a:lnTo>
                <a:lnTo>
                  <a:pt x="2253673" y="4174836"/>
                </a:lnTo>
                <a:lnTo>
                  <a:pt x="2567709" y="4036291"/>
                </a:lnTo>
                <a:lnTo>
                  <a:pt x="3262064" y="3684844"/>
                </a:lnTo>
                <a:lnTo>
                  <a:pt x="3380509" y="3380509"/>
                </a:lnTo>
                <a:lnTo>
                  <a:pt x="3380509" y="2844800"/>
                </a:lnTo>
                <a:lnTo>
                  <a:pt x="3334072" y="2748740"/>
                </a:lnTo>
                <a:lnTo>
                  <a:pt x="3103418" y="2475345"/>
                </a:lnTo>
                <a:cubicBezTo>
                  <a:pt x="2956822" y="2420372"/>
                  <a:pt x="3084683" y="2476211"/>
                  <a:pt x="2992582" y="2419927"/>
                </a:cubicBezTo>
                <a:cubicBezTo>
                  <a:pt x="2950222" y="2394040"/>
                  <a:pt x="2898377" y="2381140"/>
                  <a:pt x="2863273" y="2346036"/>
                </a:cubicBezTo>
                <a:lnTo>
                  <a:pt x="2835564" y="2318327"/>
                </a:lnTo>
                <a:lnTo>
                  <a:pt x="2686000" y="2244684"/>
                </a:lnTo>
                <a:lnTo>
                  <a:pt x="2686000" y="2244684"/>
                </a:lnTo>
                <a:lnTo>
                  <a:pt x="2686000" y="2100668"/>
                </a:lnTo>
                <a:lnTo>
                  <a:pt x="2686000" y="1956652"/>
                </a:lnTo>
                <a:lnTo>
                  <a:pt x="2686000" y="1884644"/>
                </a:lnTo>
                <a:lnTo>
                  <a:pt x="2758008" y="1740628"/>
                </a:lnTo>
                <a:lnTo>
                  <a:pt x="2830016" y="1452596"/>
                </a:lnTo>
                <a:lnTo>
                  <a:pt x="2902024" y="1380588"/>
                </a:lnTo>
                <a:lnTo>
                  <a:pt x="3158836" y="1311563"/>
                </a:lnTo>
                <a:lnTo>
                  <a:pt x="3195782" y="1237672"/>
                </a:lnTo>
                <a:lnTo>
                  <a:pt x="3269673" y="877454"/>
                </a:lnTo>
                <a:lnTo>
                  <a:pt x="3121891" y="517236"/>
                </a:lnTo>
                <a:close/>
              </a:path>
            </a:pathLst>
          </a:custGeom>
          <a:solidFill>
            <a:srgbClr val="ffd8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8"/>
          <p:cNvSpPr/>
          <p:nvPr/>
        </p:nvSpPr>
        <p:spPr>
          <a:xfrm>
            <a:off x="6843600" y="1819440"/>
            <a:ext cx="1468440" cy="1025280"/>
          </a:xfrm>
          <a:custGeom>
            <a:avLst/>
            <a:gdLst/>
            <a:ahLst/>
            <a:rect l="l" t="t" r="r" b="b"/>
            <a:pathLst>
              <a:path w="1468582" h="1025236">
                <a:moveTo>
                  <a:pt x="775855" y="0"/>
                </a:moveTo>
                <a:lnTo>
                  <a:pt x="341746" y="55418"/>
                </a:lnTo>
                <a:lnTo>
                  <a:pt x="101600" y="249381"/>
                </a:lnTo>
                <a:lnTo>
                  <a:pt x="0" y="498763"/>
                </a:lnTo>
                <a:lnTo>
                  <a:pt x="36946" y="720436"/>
                </a:lnTo>
                <a:lnTo>
                  <a:pt x="166255" y="868218"/>
                </a:lnTo>
                <a:lnTo>
                  <a:pt x="387928" y="988291"/>
                </a:lnTo>
                <a:lnTo>
                  <a:pt x="665019" y="1025236"/>
                </a:lnTo>
                <a:lnTo>
                  <a:pt x="960582" y="1025236"/>
                </a:lnTo>
                <a:lnTo>
                  <a:pt x="1219200" y="969818"/>
                </a:lnTo>
                <a:lnTo>
                  <a:pt x="1339273" y="877454"/>
                </a:lnTo>
                <a:lnTo>
                  <a:pt x="1440873" y="738909"/>
                </a:lnTo>
                <a:lnTo>
                  <a:pt x="1468582" y="563418"/>
                </a:lnTo>
                <a:lnTo>
                  <a:pt x="1385455" y="286327"/>
                </a:lnTo>
                <a:lnTo>
                  <a:pt x="1265382" y="157018"/>
                </a:lnTo>
                <a:lnTo>
                  <a:pt x="979055" y="36945"/>
                </a:lnTo>
                <a:lnTo>
                  <a:pt x="775855" y="0"/>
                </a:lnTo>
                <a:close/>
              </a:path>
            </a:pathLst>
          </a:custGeom>
          <a:solidFill>
            <a:srgbClr val="9f8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9"/>
          <p:cNvSpPr/>
          <p:nvPr/>
        </p:nvSpPr>
        <p:spPr>
          <a:xfrm>
            <a:off x="5724360" y="3284640"/>
            <a:ext cx="822600" cy="1792080"/>
          </a:xfrm>
          <a:custGeom>
            <a:avLst/>
            <a:gdLst/>
            <a:ahLst/>
            <a:rect l="l" t="t" r="r" b="b"/>
            <a:pathLst>
              <a:path w="822037" h="1791854">
                <a:moveTo>
                  <a:pt x="406400" y="157018"/>
                </a:moveTo>
                <a:lnTo>
                  <a:pt x="230909" y="341745"/>
                </a:lnTo>
                <a:lnTo>
                  <a:pt x="129309" y="517236"/>
                </a:lnTo>
                <a:lnTo>
                  <a:pt x="46182" y="785091"/>
                </a:lnTo>
                <a:lnTo>
                  <a:pt x="46182" y="1006763"/>
                </a:lnTo>
                <a:lnTo>
                  <a:pt x="46182" y="1089891"/>
                </a:lnTo>
                <a:lnTo>
                  <a:pt x="0" y="1366982"/>
                </a:lnTo>
                <a:lnTo>
                  <a:pt x="0" y="1459345"/>
                </a:lnTo>
                <a:lnTo>
                  <a:pt x="36946" y="1773382"/>
                </a:lnTo>
                <a:lnTo>
                  <a:pt x="166255" y="1791854"/>
                </a:lnTo>
                <a:lnTo>
                  <a:pt x="323273" y="1745673"/>
                </a:lnTo>
                <a:lnTo>
                  <a:pt x="434109" y="1607127"/>
                </a:lnTo>
                <a:lnTo>
                  <a:pt x="508000" y="1385454"/>
                </a:lnTo>
                <a:lnTo>
                  <a:pt x="508000" y="1154545"/>
                </a:lnTo>
                <a:lnTo>
                  <a:pt x="424873" y="988291"/>
                </a:lnTo>
                <a:lnTo>
                  <a:pt x="424873" y="886691"/>
                </a:lnTo>
                <a:lnTo>
                  <a:pt x="508000" y="701963"/>
                </a:lnTo>
                <a:lnTo>
                  <a:pt x="701964" y="591127"/>
                </a:lnTo>
                <a:lnTo>
                  <a:pt x="822037" y="360218"/>
                </a:lnTo>
                <a:lnTo>
                  <a:pt x="748146" y="55418"/>
                </a:lnTo>
                <a:lnTo>
                  <a:pt x="600364" y="0"/>
                </a:lnTo>
                <a:lnTo>
                  <a:pt x="406400" y="157018"/>
                </a:lnTo>
                <a:close/>
              </a:path>
            </a:pathLst>
          </a:custGeom>
          <a:solidFill>
            <a:srgbClr val="9f8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"/>
          <p:cNvSpPr/>
          <p:nvPr/>
        </p:nvSpPr>
        <p:spPr>
          <a:xfrm>
            <a:off x="7236000" y="4292640"/>
            <a:ext cx="1218960" cy="1247760"/>
          </a:xfrm>
          <a:custGeom>
            <a:avLst/>
            <a:gdLst/>
            <a:ahLst/>
            <a:rect l="l" t="t" r="r" b="b"/>
            <a:pathLst>
              <a:path w="1219200" h="1246909">
                <a:moveTo>
                  <a:pt x="822036" y="18473"/>
                </a:moveTo>
                <a:lnTo>
                  <a:pt x="526473" y="0"/>
                </a:lnTo>
                <a:lnTo>
                  <a:pt x="181597" y="256627"/>
                </a:lnTo>
                <a:lnTo>
                  <a:pt x="0" y="572655"/>
                </a:lnTo>
                <a:lnTo>
                  <a:pt x="129309" y="1052946"/>
                </a:lnTo>
                <a:lnTo>
                  <a:pt x="406400" y="1246909"/>
                </a:lnTo>
                <a:lnTo>
                  <a:pt x="701964" y="1228436"/>
                </a:lnTo>
                <a:lnTo>
                  <a:pt x="775854" y="1191491"/>
                </a:lnTo>
                <a:lnTo>
                  <a:pt x="1025236" y="1080655"/>
                </a:lnTo>
                <a:lnTo>
                  <a:pt x="1173018" y="831273"/>
                </a:lnTo>
                <a:lnTo>
                  <a:pt x="1219200" y="563418"/>
                </a:lnTo>
                <a:lnTo>
                  <a:pt x="1089891" y="295564"/>
                </a:lnTo>
                <a:lnTo>
                  <a:pt x="942109" y="101600"/>
                </a:lnTo>
                <a:lnTo>
                  <a:pt x="822036" y="18473"/>
                </a:lnTo>
                <a:close/>
              </a:path>
            </a:pathLst>
          </a:custGeom>
          <a:solidFill>
            <a:srgbClr val="9f8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 rot="2400000">
            <a:off x="6607080" y="2493720"/>
            <a:ext cx="144720" cy="1008000"/>
          </a:xfrm>
          <a:prstGeom prst="rect">
            <a:avLst/>
          </a:prstGeom>
          <a:solidFill>
            <a:srgbClr val="897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 rot="6180000">
            <a:off x="6678720" y="4185360"/>
            <a:ext cx="114120" cy="1163880"/>
          </a:xfrm>
          <a:prstGeom prst="rect">
            <a:avLst/>
          </a:prstGeom>
          <a:solidFill>
            <a:srgbClr val="897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4"/>
          <p:cNvSpPr/>
          <p:nvPr/>
        </p:nvSpPr>
        <p:spPr>
          <a:xfrm rot="21120000">
            <a:off x="7706880" y="2765160"/>
            <a:ext cx="138240" cy="1596960"/>
          </a:xfrm>
          <a:prstGeom prst="rect">
            <a:avLst/>
          </a:prstGeom>
          <a:solidFill>
            <a:srgbClr val="897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5"/>
          <p:cNvSpPr/>
          <p:nvPr/>
        </p:nvSpPr>
        <p:spPr>
          <a:xfrm>
            <a:off x="7848720" y="126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rm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6"/>
          <p:cNvSpPr/>
          <p:nvPr/>
        </p:nvSpPr>
        <p:spPr>
          <a:xfrm>
            <a:off x="5292720" y="12682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t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5003640" y="58053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thland habitat corr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19"/>
          <p:cNvCxnSpPr>
            <a:stCxn id="208" idx="2"/>
          </p:cNvCxnSpPr>
          <p:nvPr/>
        </p:nvCxnSpPr>
        <p:spPr>
          <a:xfrm>
            <a:off x="8459280" y="1638360"/>
            <a:ext cx="1080" cy="783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Straight Arrow Connector 21"/>
          <p:cNvCxnSpPr>
            <a:stCxn id="209" idx="2"/>
          </p:cNvCxnSpPr>
          <p:nvPr/>
        </p:nvCxnSpPr>
        <p:spPr>
          <a:xfrm>
            <a:off x="5977080" y="1638000"/>
            <a:ext cx="1620000" cy="71172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Straight Arrow Connector 23"/>
          <p:cNvCxnSpPr>
            <a:stCxn id="210" idx="0"/>
            <a:endCxn id="206" idx="3"/>
          </p:cNvCxnSpPr>
          <p:nvPr/>
        </p:nvCxnSpPr>
        <p:spPr>
          <a:xfrm flipV="1">
            <a:off x="5866920" y="4822200"/>
            <a:ext cx="856440" cy="9831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9640" y="2060640"/>
          <a:ext cx="7993080" cy="3865320"/>
        </p:xfrm>
        <a:graphic>
          <a:graphicData uri="http://schemas.openxmlformats.org/drawingml/2006/table">
            <a:tbl>
              <a:tblPr/>
              <a:tblGrid>
                <a:gridCol w="2305080"/>
                <a:gridCol w="5688000"/>
              </a:tblGrid>
              <a:tr h="887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:30am – 10:00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t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:00am – 11:00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arning to use a G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tivity A: Orienteering with a G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:00am – 12:00 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tivity B: Vegetation survey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:00pm – 12:45 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u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:45pm – 2:45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tivity C: Mapping an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tivity D: Locating a habitat corri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:45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p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Rectangle 2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6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are you going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arning to use a G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324000" y="2060640"/>
            <a:ext cx="540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r task – understand how GPS receivers work and familiarise yourself with the control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http://ecx.images-amazon.com/images/I/41%2BHB0jhDxL._SL500_AA300_.jpg"/>
          <p:cNvPicPr/>
          <p:nvPr/>
        </p:nvPicPr>
        <p:blipFill>
          <a:blip r:embed="rId4"/>
          <a:srcRect l="22688" t="0" r="21882" b="0"/>
          <a:stretch/>
        </p:blipFill>
        <p:spPr>
          <a:xfrm>
            <a:off x="6300720" y="1700280"/>
            <a:ext cx="2448000" cy="44164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250920" y="3716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tivity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324000" y="4435560"/>
            <a:ext cx="540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r task – learn how to use a GPS receiver to save waypoints (the coordinates of your location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5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tivity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324000" y="2060640"/>
            <a:ext cx="770400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r task – using a quadrat sample the vegetation to investigate how healthy the heathland i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itrogen pollution can affect the ecology of heathla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itrogen deposition favours fast-growing species like bramble, bracken and grass which can out-compete heathland plants such as heather and go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healthy (i.e., unpolluted) heathland should have an average percentage cover of heather of at least 25% and no more than 50% cover of gras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250920" y="1341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44600" indent="-224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tivity B - using quadrats to measure plant percentage 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3780000" y="2608200"/>
            <a:ext cx="504000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Place the quadrat over the area of vegetation to be survey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Look at the quadrat from directly abo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The total area of ground within the quadrat is 10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For each plant species, estimate the % area of the quadrat that it cov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368640" y="2289240"/>
            <a:ext cx="3370320" cy="3598560"/>
            <a:chOff x="368640" y="2289240"/>
            <a:chExt cx="3370320" cy="3598560"/>
          </a:xfrm>
        </p:grpSpPr>
        <p:pic>
          <p:nvPicPr>
            <p:cNvPr id="242" name="Picture 7" descr="IMG_0029.JPG"/>
            <p:cNvPicPr/>
            <p:nvPr/>
          </p:nvPicPr>
          <p:blipFill>
            <a:blip r:embed="rId4"/>
            <a:stretch/>
          </p:blipFill>
          <p:spPr>
            <a:xfrm rot="60000">
              <a:off x="396360" y="2619000"/>
              <a:ext cx="328320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Box 9"/>
            <p:cNvSpPr/>
            <p:nvPr/>
          </p:nvSpPr>
          <p:spPr>
            <a:xfrm rot="16200000">
              <a:off x="2810160" y="2971800"/>
              <a:ext cx="161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© Peter Crittend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248" name="TextBox 5"/>
          <p:cNvSpPr/>
          <p:nvPr/>
        </p:nvSpPr>
        <p:spPr>
          <a:xfrm>
            <a:off x="250920" y="1341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44600" indent="-224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tivity B - using quadrats to measure plant percentage 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324000" y="2435400"/>
            <a:ext cx="84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need to be consistent in the way you collect the data.  In your group, think about the following questions and decide how you will collect your data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17"/>
          <p:cNvGrpSpPr/>
          <p:nvPr/>
        </p:nvGrpSpPr>
        <p:grpSpPr>
          <a:xfrm>
            <a:off x="4788000" y="3716280"/>
            <a:ext cx="4248000" cy="2336400"/>
            <a:chOff x="4788000" y="3716280"/>
            <a:chExt cx="4248000" cy="2336400"/>
          </a:xfrm>
        </p:grpSpPr>
        <p:sp>
          <p:nvSpPr>
            <p:cNvPr id="251" name="Text Box 4"/>
            <p:cNvSpPr/>
            <p:nvPr/>
          </p:nvSpPr>
          <p:spPr>
            <a:xfrm>
              <a:off x="4788000" y="5228640"/>
              <a:ext cx="424800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he plant is not rooted in the quadrat, but some of its leaves fall in the quadrat.  Do you include it in your results for this quadrat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2"/>
            <p:cNvSpPr/>
            <p:nvPr/>
          </p:nvSpPr>
          <p:spPr>
            <a:xfrm>
              <a:off x="6191280" y="3716280"/>
              <a:ext cx="1441440" cy="14400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2" descr="C:\Documents and Settings\plzlg\Local Settings\Temporary Internet Files\Content.IE5\SP76RUG1\MC900275414[1].wmf"/>
            <p:cNvPicPr/>
            <p:nvPr/>
          </p:nvPicPr>
          <p:blipFill>
            <a:blip r:embed="rId4"/>
            <a:stretch/>
          </p:blipFill>
          <p:spPr>
            <a:xfrm rot="16200000">
              <a:off x="7107120" y="3484440"/>
              <a:ext cx="1471680" cy="193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Group 16"/>
          <p:cNvGrpSpPr/>
          <p:nvPr/>
        </p:nvGrpSpPr>
        <p:grpSpPr>
          <a:xfrm>
            <a:off x="108000" y="3572280"/>
            <a:ext cx="4248000" cy="2480400"/>
            <a:chOff x="108000" y="3572280"/>
            <a:chExt cx="4248000" cy="2480400"/>
          </a:xfrm>
        </p:grpSpPr>
        <p:sp>
          <p:nvSpPr>
            <p:cNvPr id="255" name="Text Box 5"/>
            <p:cNvSpPr/>
            <p:nvPr/>
          </p:nvSpPr>
          <p:spPr>
            <a:xfrm>
              <a:off x="108000" y="5228640"/>
              <a:ext cx="424800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he plant is rooted in the quadrat, but all of its leaves fall outside the quadrat.  Do you include it in your results for this quadrat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3"/>
            <p:cNvSpPr/>
            <p:nvPr/>
          </p:nvSpPr>
          <p:spPr>
            <a:xfrm>
              <a:off x="1511280" y="3716280"/>
              <a:ext cx="1441440" cy="14400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Picture 3" descr="C:\Documents and Settings\plzlg\Local Settings\Temporary Internet Files\Content.IE5\92D8ZU9F\MC900354076[1].wmf"/>
            <p:cNvPicPr/>
            <p:nvPr/>
          </p:nvPicPr>
          <p:blipFill>
            <a:blip r:embed="rId5"/>
            <a:stretch/>
          </p:blipFill>
          <p:spPr>
            <a:xfrm rot="6403200">
              <a:off x="2740680" y="3770280"/>
              <a:ext cx="1317240" cy="121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6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tivity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324000" y="2060640"/>
            <a:ext cx="835164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r task – Use your GPS receiver to map the extent of a heathland frag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splay your map on Google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"/>
          <p:cNvPicPr/>
          <p:nvPr/>
        </p:nvPicPr>
        <p:blipFill>
          <a:blip r:embed="rId4"/>
          <a:stretch/>
        </p:blipFill>
        <p:spPr>
          <a:xfrm>
            <a:off x="2079720" y="3645000"/>
            <a:ext cx="5013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269" name="TextBox 6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tivity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324000" y="2060640"/>
            <a:ext cx="835164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r task – decide where it is best to position a habitat corridor to link two heathland frag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will need to consid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176040" algn="just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st – the longer the corridor is the more money it will cost to build and maintain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176040" algn="just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ther habitats – are there any other natural habitats you will be fragmenting by the construction of your corrid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176040" algn="just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uman land-use – will your corridor require buildings and/or roads to be removed/relocate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lcome to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site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70" name="TextBox 9"/>
          <p:cNvSpPr/>
          <p:nvPr/>
        </p:nvSpPr>
        <p:spPr>
          <a:xfrm>
            <a:off x="324000" y="1989000"/>
            <a:ext cx="568800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will be spending today acting as an environmental scientis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will try some ecological surveys techniques to determine the health of a very rare habitat; lowland heathland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will use GPS to map out a conservation a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r results could help inform the management of </a:t>
            </a:r>
            <a:r>
              <a:rPr b="0" i="1" lang="en-GB" sz="2200" spc="-1" strike="noStrike">
                <a:solidFill>
                  <a:srgbClr val="ff0000"/>
                </a:solidFill>
                <a:latin typeface="Arial"/>
              </a:rPr>
              <a:t>site name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are you going to do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IMG_2134.jpg"/>
          <p:cNvPicPr/>
          <p:nvPr/>
        </p:nvPicPr>
        <p:blipFill>
          <a:blip r:embed="rId4"/>
          <a:stretch/>
        </p:blipFill>
        <p:spPr>
          <a:xfrm>
            <a:off x="6084720" y="2421000"/>
            <a:ext cx="28432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324000" y="1989000"/>
            <a:ext cx="835164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plain what a heathland is and why they are threatened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 a GPS to mark locations and map are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 a quadrat to sample vegetat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plain why corridors linking habitats are really importan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scuss the factors we need to think about when deciding where to put a habitat corrid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9"/>
          <p:cNvSpPr/>
          <p:nvPr/>
        </p:nvSpPr>
        <p:spPr>
          <a:xfrm>
            <a:off x="324000" y="2133720"/>
            <a:ext cx="53276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und at elevations of less than 300 m above sea-lev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pen habitat with few tre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minated by dwarf shrubs, particularly heath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ve sandy, acidic, low-nutrient soi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lowland heath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P1020121.JPG"/>
          <p:cNvPicPr/>
          <p:nvPr/>
        </p:nvPicPr>
        <p:blipFill>
          <a:blip r:embed="rId4"/>
          <a:stretch/>
        </p:blipFill>
        <p:spPr>
          <a:xfrm>
            <a:off x="5867280" y="1341360"/>
            <a:ext cx="3097440" cy="464364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 rot="16200000">
            <a:off x="8282880" y="1728000"/>
            <a:ext cx="117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Lauren Goug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324000" y="2133720"/>
            <a:ext cx="835164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storical clearance of woodland for grazing and agricul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the nutrients in the soil were depleted the farmers cultivated new area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eathland established on the abandoned area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 did heathland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55"/>
          <p:cNvGrpSpPr/>
          <p:nvPr/>
        </p:nvGrpSpPr>
        <p:grpSpPr>
          <a:xfrm>
            <a:off x="106200" y="4246560"/>
            <a:ext cx="2737080" cy="1905840"/>
            <a:chOff x="106200" y="4246560"/>
            <a:chExt cx="2737080" cy="1905840"/>
          </a:xfrm>
        </p:grpSpPr>
        <p:grpSp>
          <p:nvGrpSpPr>
            <p:cNvPr id="94" name="Group 3"/>
            <p:cNvGrpSpPr/>
            <p:nvPr/>
          </p:nvGrpSpPr>
          <p:grpSpPr>
            <a:xfrm>
              <a:off x="227520" y="4246560"/>
              <a:ext cx="2494440" cy="1443240"/>
              <a:chOff x="227520" y="4246560"/>
              <a:chExt cx="2494440" cy="1443240"/>
            </a:xfrm>
          </p:grpSpPr>
          <p:grpSp>
            <p:nvGrpSpPr>
              <p:cNvPr id="95" name="Rectangle 2"/>
              <p:cNvGrpSpPr/>
              <p:nvPr/>
            </p:nvGrpSpPr>
            <p:grpSpPr>
              <a:xfrm>
                <a:off x="267840" y="4246560"/>
                <a:ext cx="2454120" cy="1443240"/>
                <a:chOff x="267840" y="4246560"/>
                <a:chExt cx="2454120" cy="1443240"/>
              </a:xfrm>
            </p:grpSpPr>
            <p:pic>
              <p:nvPicPr>
                <p:cNvPr id="96" name="Rectangle 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67840" y="4246560"/>
                  <a:ext cx="2454120" cy="1443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" name=""/>
                <p:cNvSpPr/>
                <p:nvPr/>
              </p:nvSpPr>
              <p:spPr>
                <a:xfrm>
                  <a:off x="271800" y="4250160"/>
                  <a:ext cx="2446920" cy="143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Group 23"/>
              <p:cNvGrpSpPr/>
              <p:nvPr/>
            </p:nvGrpSpPr>
            <p:grpSpPr>
              <a:xfrm>
                <a:off x="227520" y="4452480"/>
                <a:ext cx="2446920" cy="1128960"/>
                <a:chOff x="227520" y="4452480"/>
                <a:chExt cx="2446920" cy="1128960"/>
              </a:xfrm>
            </p:grpSpPr>
            <p:pic>
              <p:nvPicPr>
                <p:cNvPr id="99" name="Picture 4" descr="C:\Documents and Settings\plzlg\Local Settings\Temporary Internet Files\Content.IE5\OF6MLQSB\MC900446108[1].wmf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802800" y="5101200"/>
                  <a:ext cx="1745640" cy="48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4" descr="C:\Documents and Settings\plzlg\Local Settings\Temporary Internet Files\Content.IE5\OF6MLQSB\MC900446108[1].wmf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43160" y="5097240"/>
                  <a:ext cx="1745640" cy="48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Picture 3" descr="C:\Documents and Settings\plzlg\Local Settings\Temporary Internet Files\Content.IE5\G6208BOE\MC900441793[1].png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594800" y="4595760"/>
                  <a:ext cx="791640" cy="78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Picture 3" descr="C:\Documents and Settings\plzlg\Local Settings\Temporary Internet Files\Content.IE5\G6208BOE\MC900441793[1].png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50800" y="4772520"/>
                  <a:ext cx="791640" cy="78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3" descr="C:\Documents and Settings\plzlg\Local Settings\Temporary Internet Files\Content.IE5\G6208BOE\MC900441793[1].png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35160" y="4595760"/>
                  <a:ext cx="791640" cy="78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3" descr="C:\Documents and Settings\plzlg\Local Settings\Temporary Internet Files\Content.IE5\G6208BOE\MC900441793[1].png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31160" y="4739040"/>
                  <a:ext cx="791640" cy="78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3" descr="C:\Documents and Settings\plzlg\Local Settings\Temporary Internet Files\Content.IE5\G6208BOE\MC900441793[1].png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27520" y="4739040"/>
                  <a:ext cx="791640" cy="78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3" descr="C:\Documents and Settings\plzlg\Local Settings\Temporary Internet Files\Content.IE5\G6208BOE\MC900441793[1].png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947160" y="4452480"/>
                  <a:ext cx="791640" cy="78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Picture 3" descr="C:\Documents and Settings\plzlg\Local Settings\Temporary Internet Files\Content.IE5\G6208BOE\MC900441793[1].png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15160" y="4524120"/>
                  <a:ext cx="791640" cy="78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Picture 3" descr="C:\Documents and Settings\plzlg\Local Settings\Temporary Internet Files\Content.IE5\G6208BOE\MC900441793[1].png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1019160" y="4667400"/>
                  <a:ext cx="791640" cy="78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Picture 3" descr="C:\Documents and Settings\plzlg\Local Settings\Temporary Internet Files\Content.IE5\G6208BOE\MC900441793[1].png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882800" y="4667400"/>
                  <a:ext cx="791640" cy="78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Picture 3" descr="C:\Documents and Settings\plzlg\Local Settings\Temporary Internet Files\Content.IE5\G6208BOE\MC900441793[1].png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738800" y="4791600"/>
                  <a:ext cx="791640" cy="78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1" name="TextBox 32"/>
            <p:cNvSpPr/>
            <p:nvPr/>
          </p:nvSpPr>
          <p:spPr>
            <a:xfrm>
              <a:off x="106200" y="5571720"/>
              <a:ext cx="273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7,000 years a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Lowland Britain forested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56"/>
          <p:cNvGrpSpPr/>
          <p:nvPr/>
        </p:nvGrpSpPr>
        <p:grpSpPr>
          <a:xfrm>
            <a:off x="2951280" y="4246560"/>
            <a:ext cx="2952720" cy="2141280"/>
            <a:chOff x="2951280" y="4246560"/>
            <a:chExt cx="2952720" cy="2141280"/>
          </a:xfrm>
        </p:grpSpPr>
        <p:grpSp>
          <p:nvGrpSpPr>
            <p:cNvPr id="113" name="Group 5"/>
            <p:cNvGrpSpPr/>
            <p:nvPr/>
          </p:nvGrpSpPr>
          <p:grpSpPr>
            <a:xfrm>
              <a:off x="3202920" y="4246560"/>
              <a:ext cx="2448360" cy="1443240"/>
              <a:chOff x="3202920" y="4246560"/>
              <a:chExt cx="2448360" cy="1443240"/>
            </a:xfrm>
          </p:grpSpPr>
          <p:grpSp>
            <p:nvGrpSpPr>
              <p:cNvPr id="114" name="Rectangle 27"/>
              <p:cNvGrpSpPr/>
              <p:nvPr/>
            </p:nvGrpSpPr>
            <p:grpSpPr>
              <a:xfrm>
                <a:off x="3202920" y="4246560"/>
                <a:ext cx="2448360" cy="1443240"/>
                <a:chOff x="3202920" y="4246560"/>
                <a:chExt cx="2448360" cy="1443240"/>
              </a:xfrm>
            </p:grpSpPr>
            <p:pic>
              <p:nvPicPr>
                <p:cNvPr id="115" name="Rectangle 27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202920" y="4246560"/>
                  <a:ext cx="2448360" cy="1443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3211200" y="4250160"/>
                  <a:ext cx="2433960" cy="143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40"/>
              <p:cNvGrpSpPr/>
              <p:nvPr/>
            </p:nvGrpSpPr>
            <p:grpSpPr>
              <a:xfrm>
                <a:off x="3314520" y="4950000"/>
                <a:ext cx="2228400" cy="623520"/>
                <a:chOff x="3314520" y="4950000"/>
                <a:chExt cx="2228400" cy="623520"/>
              </a:xfrm>
            </p:grpSpPr>
            <p:pic>
              <p:nvPicPr>
                <p:cNvPr id="118" name="Picture 4" descr="C:\Documents and Settings\plzlg\Local Settings\Temporary Internet Files\Content.IE5\OF6MLQSB\MC900446108[1].wmf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314520" y="5093280"/>
                  <a:ext cx="1736280" cy="48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4" descr="C:\Documents and Settings\plzlg\Local Settings\Temporary Internet Files\Content.IE5\OF6MLQSB\MC900446108[1].wmf"/>
                <p:cNvPicPr/>
                <p:nvPr/>
              </p:nvPicPr>
              <p:blipFill>
                <a:blip r:embed="rId19"/>
                <a:stretch/>
              </p:blipFill>
              <p:spPr>
                <a:xfrm flipH="1">
                  <a:off x="3806640" y="5093280"/>
                  <a:ext cx="1736280" cy="48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11" descr="C:\Documents and Settings\plzlg\Local Settings\Temporary Internet Files\Content.IE5\3J6VPMT3\MM900040929[1].gif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3672360" y="5164920"/>
                  <a:ext cx="483480" cy="32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11" descr="C:\Documents and Settings\plzlg\Local Settings\Temporary Internet Files\Content.IE5\3J6VPMT3\MM900040929[1].gif"/>
                <p:cNvPicPr/>
                <p:nvPr/>
              </p:nvPicPr>
              <p:blipFill>
                <a:blip r:embed="rId21"/>
                <a:stretch/>
              </p:blipFill>
              <p:spPr>
                <a:xfrm flipH="1">
                  <a:off x="4244760" y="4950000"/>
                  <a:ext cx="483480" cy="32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11" descr="C:\Documents and Settings\plzlg\Local Settings\Temporary Internet Files\Content.IE5\3J6VPMT3\MM900040929[1].gif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4961160" y="5164920"/>
                  <a:ext cx="483480" cy="32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3" name="TextBox 43"/>
            <p:cNvSpPr/>
            <p:nvPr/>
          </p:nvSpPr>
          <p:spPr>
            <a:xfrm>
              <a:off x="2951280" y="5563800"/>
              <a:ext cx="2952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6,000 – 4,000 years a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Woodland cleared for farming.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57"/>
          <p:cNvGrpSpPr/>
          <p:nvPr/>
        </p:nvGrpSpPr>
        <p:grpSpPr>
          <a:xfrm>
            <a:off x="6012000" y="4246560"/>
            <a:ext cx="3024000" cy="1915200"/>
            <a:chOff x="6012000" y="4246560"/>
            <a:chExt cx="3024000" cy="1915200"/>
          </a:xfrm>
        </p:grpSpPr>
        <p:sp>
          <p:nvSpPr>
            <p:cNvPr id="125" name="TextBox 44"/>
            <p:cNvSpPr/>
            <p:nvPr/>
          </p:nvSpPr>
          <p:spPr>
            <a:xfrm>
              <a:off x="6012000" y="5581080"/>
              <a:ext cx="302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4,000 years a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Heathland forme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54"/>
            <p:cNvGrpSpPr/>
            <p:nvPr/>
          </p:nvGrpSpPr>
          <p:grpSpPr>
            <a:xfrm>
              <a:off x="6312240" y="4246560"/>
              <a:ext cx="2447640" cy="1444680"/>
              <a:chOff x="6312240" y="4246560"/>
              <a:chExt cx="2447640" cy="1444680"/>
            </a:xfrm>
          </p:grpSpPr>
          <p:grpSp>
            <p:nvGrpSpPr>
              <p:cNvPr id="127" name="Rectangle 37"/>
              <p:cNvGrpSpPr/>
              <p:nvPr/>
            </p:nvGrpSpPr>
            <p:grpSpPr>
              <a:xfrm>
                <a:off x="6312240" y="4246560"/>
                <a:ext cx="2447640" cy="1444680"/>
                <a:chOff x="6312240" y="4246560"/>
                <a:chExt cx="2447640" cy="1444680"/>
              </a:xfrm>
            </p:grpSpPr>
            <p:pic>
              <p:nvPicPr>
                <p:cNvPr id="128" name="Rectangle 37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6312240" y="4246560"/>
                  <a:ext cx="2447640" cy="144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"/>
                <p:cNvSpPr/>
                <p:nvPr/>
              </p:nvSpPr>
              <p:spPr>
                <a:xfrm>
                  <a:off x="6321240" y="4250160"/>
                  <a:ext cx="2432880" cy="14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34"/>
              <p:cNvGrpSpPr/>
              <p:nvPr/>
            </p:nvGrpSpPr>
            <p:grpSpPr>
              <a:xfrm>
                <a:off x="6410880" y="4705920"/>
                <a:ext cx="2295720" cy="928440"/>
                <a:chOff x="6410880" y="4705920"/>
                <a:chExt cx="2295720" cy="928440"/>
              </a:xfrm>
            </p:grpSpPr>
            <p:grpSp>
              <p:nvGrpSpPr>
                <p:cNvPr id="131" name="Group 23"/>
                <p:cNvGrpSpPr/>
                <p:nvPr/>
              </p:nvGrpSpPr>
              <p:grpSpPr>
                <a:xfrm>
                  <a:off x="6485760" y="5033160"/>
                  <a:ext cx="2094480" cy="534240"/>
                  <a:chOff x="6485760" y="5033160"/>
                  <a:chExt cx="2094480" cy="534240"/>
                </a:xfrm>
              </p:grpSpPr>
              <p:pic>
                <p:nvPicPr>
                  <p:cNvPr id="132" name="Picture 4" descr="C:\Documents and Settings\plzlg\Local Settings\Temporary Internet Files\Content.IE5\OF6MLQSB\MC900446108[1].wmf"/>
                  <p:cNvPicPr/>
                  <p:nvPr/>
                </p:nvPicPr>
                <p:blipFill>
                  <a:blip r:embed="rId24"/>
                  <a:stretch/>
                </p:blipFill>
                <p:spPr>
                  <a:xfrm flipH="1">
                    <a:off x="6843240" y="5037480"/>
                    <a:ext cx="173700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3" name="Picture 4" descr="C:\Documents and Settings\plzlg\Local Settings\Temporary Internet Files\Content.IE5\OF6MLQSB\MC900446108[1].wmf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485760" y="5033160"/>
                    <a:ext cx="173700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4" name="Picture 36" descr="untitled.bmp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31960" y="491616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37" descr="untitled.bmp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09080" y="508500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38" descr="untitled.bmp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745760" y="502164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39" descr="untitled.bmp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7364160" y="470592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0" descr="untitled.bmp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6696720" y="491616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1" descr="untitled.bmp"/>
                <p:cNvPicPr/>
                <p:nvPr/>
              </p:nvPicPr>
              <p:blipFill>
                <a:blip r:embed="rId31"/>
                <a:stretch/>
              </p:blipFill>
              <p:spPr>
                <a:xfrm flipH="1">
                  <a:off x="6410880" y="502164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Picture 42" descr="untitled.bmp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019720" y="504864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Picture 43" descr="untitled.bmp"/>
                <p:cNvPicPr/>
                <p:nvPr/>
              </p:nvPicPr>
              <p:blipFill>
                <a:blip r:embed="rId33"/>
                <a:stretch/>
              </p:blipFill>
              <p:spPr>
                <a:xfrm flipH="1">
                  <a:off x="6792120" y="481104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Picture 44" descr="untitled.bmp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7459560" y="491616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Picture 45" descr="untitled.bmp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7650360" y="481104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Picture 46" descr="untitled.bmp"/>
                <p:cNvPicPr/>
                <p:nvPr/>
              </p:nvPicPr>
              <p:blipFill>
                <a:blip r:embed="rId36"/>
                <a:stretch/>
              </p:blipFill>
              <p:spPr>
                <a:xfrm flipH="1">
                  <a:off x="6994080" y="503388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Picture 47" descr="untitled.bmp"/>
                <p:cNvPicPr/>
                <p:nvPr/>
              </p:nvPicPr>
              <p:blipFill>
                <a:blip r:embed="rId37"/>
                <a:stretch/>
              </p:blipFill>
              <p:spPr>
                <a:xfrm flipH="1">
                  <a:off x="6982920" y="470592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Picture 48" descr="untitled.bmp"/>
                <p:cNvPicPr/>
                <p:nvPr/>
              </p:nvPicPr>
              <p:blipFill>
                <a:blip r:embed="rId38"/>
                <a:stretch/>
              </p:blipFill>
              <p:spPr>
                <a:xfrm flipH="1">
                  <a:off x="6696720" y="5021640"/>
                  <a:ext cx="4975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5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lives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2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6"/>
          <p:cNvGrpSpPr/>
          <p:nvPr/>
        </p:nvGrpSpPr>
        <p:grpSpPr>
          <a:xfrm>
            <a:off x="1874880" y="1628640"/>
            <a:ext cx="6497280" cy="4824720"/>
            <a:chOff x="1874880" y="1628640"/>
            <a:chExt cx="6497280" cy="4824720"/>
          </a:xfrm>
        </p:grpSpPr>
        <p:pic>
          <p:nvPicPr>
            <p:cNvPr id="153" name="Picture 15" descr=""/>
            <p:cNvPicPr/>
            <p:nvPr/>
          </p:nvPicPr>
          <p:blipFill>
            <a:blip r:embed="rId4"/>
            <a:stretch/>
          </p:blipFill>
          <p:spPr>
            <a:xfrm>
              <a:off x="1874880" y="2624040"/>
              <a:ext cx="5103720" cy="382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Box 25"/>
            <p:cNvSpPr/>
            <p:nvPr/>
          </p:nvSpPr>
          <p:spPr>
            <a:xfrm>
              <a:off x="4869000" y="1628640"/>
              <a:ext cx="35031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ff0000"/>
                  </a:solidFill>
                  <a:latin typeface="Arial Black"/>
                </a:rPr>
                <a:t>Contains over 500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ff0000"/>
                  </a:solidFill>
                  <a:latin typeface="Arial Black"/>
                </a:rPr>
                <a:t>species of spider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6"/>
          <p:cNvGrpSpPr/>
          <p:nvPr/>
        </p:nvGrpSpPr>
        <p:grpSpPr>
          <a:xfrm>
            <a:off x="1692360" y="1916280"/>
            <a:ext cx="6820560" cy="4665600"/>
            <a:chOff x="1692360" y="1916280"/>
            <a:chExt cx="6820560" cy="4665600"/>
          </a:xfrm>
        </p:grpSpPr>
        <p:grpSp>
          <p:nvGrpSpPr>
            <p:cNvPr id="156" name="Group 31"/>
            <p:cNvGrpSpPr/>
            <p:nvPr/>
          </p:nvGrpSpPr>
          <p:grpSpPr>
            <a:xfrm>
              <a:off x="1692360" y="1916280"/>
              <a:ext cx="6820560" cy="4665600"/>
              <a:chOff x="1692360" y="1916280"/>
              <a:chExt cx="6820560" cy="4665600"/>
            </a:xfrm>
          </p:grpSpPr>
          <p:pic>
            <p:nvPicPr>
              <p:cNvPr id="157" name="Picture 28" descr="Female Adder barbrook March 21 2009 (2).JPG"/>
              <p:cNvPicPr/>
              <p:nvPr/>
            </p:nvPicPr>
            <p:blipFill>
              <a:blip r:embed="rId5"/>
              <a:stretch/>
            </p:blipFill>
            <p:spPr>
              <a:xfrm>
                <a:off x="1692360" y="2924280"/>
                <a:ext cx="5485680" cy="365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TextBox 30"/>
              <p:cNvSpPr/>
              <p:nvPr/>
            </p:nvSpPr>
            <p:spPr>
              <a:xfrm>
                <a:off x="3731400" y="1916280"/>
                <a:ext cx="47815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ff00"/>
                    </a:solidFill>
                    <a:latin typeface="Arial Black"/>
                  </a:rPr>
                  <a:t>Most important habitat in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ff00"/>
                    </a:solidFill>
                    <a:latin typeface="Arial Black"/>
                  </a:rPr>
                  <a:t>the UK for reptiles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TextBox 15"/>
            <p:cNvSpPr/>
            <p:nvPr/>
          </p:nvSpPr>
          <p:spPr>
            <a:xfrm rot="16200000">
              <a:off x="6420600" y="3246480"/>
              <a:ext cx="1233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© Carl Corbid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4"/>
          <p:cNvGrpSpPr/>
          <p:nvPr/>
        </p:nvGrpSpPr>
        <p:grpSpPr>
          <a:xfrm>
            <a:off x="82440" y="1844640"/>
            <a:ext cx="8991720" cy="4354560"/>
            <a:chOff x="82440" y="1844640"/>
            <a:chExt cx="8991720" cy="4354560"/>
          </a:xfrm>
        </p:grpSpPr>
        <p:pic>
          <p:nvPicPr>
            <p:cNvPr id="161" name="Picture 32" descr=""/>
            <p:cNvPicPr/>
            <p:nvPr/>
          </p:nvPicPr>
          <p:blipFill>
            <a:blip r:embed="rId6"/>
            <a:stretch/>
          </p:blipFill>
          <p:spPr>
            <a:xfrm>
              <a:off x="1126080" y="1844640"/>
              <a:ext cx="7121880" cy="377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Box 33"/>
            <p:cNvSpPr/>
            <p:nvPr/>
          </p:nvSpPr>
          <p:spPr>
            <a:xfrm>
              <a:off x="82440" y="5221440"/>
              <a:ext cx="899172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ff0000"/>
                  </a:solidFill>
                  <a:latin typeface="Arial Black"/>
                </a:rPr>
                <a:t>Four bird species associated primarily with this habitat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 Black"/>
                </a:rPr>
                <a:t>Three are on the Red L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athland is a very rare 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324000" y="2133720"/>
            <a:ext cx="52560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nce 1800 the UK has lost over 80% of it’s lowland heathla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eathland is rarer than tropical rainfores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UK still has 20% of the world’s total amou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C:\Documents and Settings\plzlg\Local Settings\Temporary Internet Files\Content.IE5\2WFLFRBK\MC910215880[1].jpg"/>
          <p:cNvPicPr/>
          <p:nvPr/>
        </p:nvPicPr>
        <p:blipFill>
          <a:blip r:embed="rId4"/>
          <a:stretch/>
        </p:blipFill>
        <p:spPr>
          <a:xfrm>
            <a:off x="5867280" y="1773360"/>
            <a:ext cx="3141720" cy="3139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C:\Documents and Settings\plzlg\Local Settings\Temporary Internet Files\Content.IE5\C4S0K0AL\MC900129223[1].wmf"/>
          <p:cNvPicPr/>
          <p:nvPr/>
        </p:nvPicPr>
        <p:blipFill>
          <a:blip r:embed="rId5"/>
          <a:stretch/>
        </p:blipFill>
        <p:spPr>
          <a:xfrm>
            <a:off x="6032520" y="4437000"/>
            <a:ext cx="28130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250920" y="134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threatening heath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6"/>
          <p:cNvSpPr/>
          <p:nvPr/>
        </p:nvSpPr>
        <p:spPr>
          <a:xfrm>
            <a:off x="324000" y="2133720"/>
            <a:ext cx="85690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mage from inappropriate use (e.g. dirt bike rid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itrogen pol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ss due to fire and building houses =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abitat frag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C:\Documents and Settings\plzlg\Local Settings\Temporary Internet Files\Content.IE5\8IPUW9M3\MP900448748[1].jpg"/>
          <p:cNvPicPr/>
          <p:nvPr/>
        </p:nvPicPr>
        <p:blipFill>
          <a:blip r:embed="rId4"/>
          <a:stretch/>
        </p:blipFill>
        <p:spPr>
          <a:xfrm>
            <a:off x="6227640" y="4005360"/>
            <a:ext cx="2640240" cy="1979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C:\Documents and Settings\plzlg\Local Settings\Temporary Internet Files\Content.IE5\K6CLVPNQ\MP900448679[1].jpg"/>
          <p:cNvPicPr/>
          <p:nvPr/>
        </p:nvPicPr>
        <p:blipFill>
          <a:blip r:embed="rId5"/>
          <a:stretch/>
        </p:blipFill>
        <p:spPr>
          <a:xfrm>
            <a:off x="3218040" y="4005360"/>
            <a:ext cx="2657160" cy="1979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C:\Documents and Settings\plzlg\Local Settings\Temporary Internet Files\Content.IE5\V61DQJ5I\MP900438812[1].jpg"/>
          <p:cNvPicPr/>
          <p:nvPr/>
        </p:nvPicPr>
        <p:blipFill>
          <a:blip r:embed="rId6"/>
          <a:stretch/>
        </p:blipFill>
        <p:spPr>
          <a:xfrm>
            <a:off x="250920" y="4005360"/>
            <a:ext cx="261468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2:41:47Z</dcterms:created>
  <dc:creator>Information Services</dc:creator>
  <dc:description/>
  <dc:language>en-US</dc:language>
  <cp:lastModifiedBy>Information Services</cp:lastModifiedBy>
  <dcterms:modified xsi:type="dcterms:W3CDTF">2011-11-18T16:13:38Z</dcterms:modified>
  <cp:revision>72</cp:revision>
  <dc:subject/>
  <dc:title>Slide 1</dc:title>
</cp:coreProperties>
</file>