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27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33.wmf" ContentType="image/x-wmf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wmf" ContentType="image/x-wmf"/>
  <Override PartName="/ppt/media/image14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175-A6C6-4E99-8078-BA407826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431-0B85-4E79-A82B-DC1B61A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BB6-02C8-4797-B293-8849A760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745-04BE-439C-8008-9CC11A8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136-E9CB-461B-8737-9801A82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C9B-6FF6-4093-B424-E3F1F1F1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002-22BB-406B-9F70-D684D13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F7E-7BFA-4AD8-87FA-2AE85209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0D8-E76C-457B-942E-CB71F04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74E-C014-4279-AD72-264F825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F17-361F-4372-9B57-C95D9D1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0C3-EA0E-4CD6-8770-5D35F35F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697D-9B68-43BF-BB52-B429C99573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8.jpe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0" y="1670040"/>
            <a:ext cx="914400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Arial Black"/>
              </a:rPr>
              <a:t>Heathland field trip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39b44a"/>
                </a:solidFill>
                <a:latin typeface="Arial Black"/>
              </a:rPr>
              <a:t>How Polluted!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6" descr="AmyRogers_smallcopperbutterfly2web"/>
          <p:cNvPicPr/>
          <p:nvPr/>
        </p:nvPicPr>
        <p:blipFill>
          <a:blip r:embed="rId4"/>
          <a:stretch/>
        </p:blipFill>
        <p:spPr>
          <a:xfrm>
            <a:off x="7093080" y="4221000"/>
            <a:ext cx="1962000" cy="135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AmyRogers_0394"/>
          <p:cNvPicPr/>
          <p:nvPr/>
        </p:nvPicPr>
        <p:blipFill>
          <a:blip r:embed="rId5"/>
          <a:stretch/>
        </p:blipFill>
        <p:spPr>
          <a:xfrm>
            <a:off x="2433600" y="4221000"/>
            <a:ext cx="2019240" cy="135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Female Adder barbrook March 21 2009 (15)"/>
          <p:cNvPicPr/>
          <p:nvPr/>
        </p:nvPicPr>
        <p:blipFill>
          <a:blip r:embed="rId6"/>
          <a:stretch/>
        </p:blipFill>
        <p:spPr>
          <a:xfrm>
            <a:off x="108000" y="422100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AmyRogers_0381"/>
          <p:cNvPicPr/>
          <p:nvPr/>
        </p:nvPicPr>
        <p:blipFill>
          <a:blip r:embed="rId7"/>
          <a:stretch/>
        </p:blipFill>
        <p:spPr>
          <a:xfrm>
            <a:off x="4762440" y="4221000"/>
            <a:ext cx="2019240" cy="1352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 rot="16200000">
            <a:off x="8413560" y="45381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 rot="16200000">
            <a:off x="6134760" y="45198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 rot="16200000">
            <a:off x="3808440" y="45396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 rot="16200000">
            <a:off x="1406520" y="4533840"/>
            <a:ext cx="12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Carl Corb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causes nitrogen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324000" y="2060640"/>
            <a:ext cx="85690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pollution is caused by nitrogen-containing compounds such as nitric oxide (NO), nitrogen dioxide (NO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and ammonia (NH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pollution is a consequence of human activity e.g. NO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burning fossil fuels, and NH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agricultur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Documents and Settings\plzlg\Local Settings\Temporary Internet Files\Content.IE5\J5UNDR0M\MP900448674[1].jpg"/>
          <p:cNvPicPr/>
          <p:nvPr/>
        </p:nvPicPr>
        <p:blipFill>
          <a:blip r:embed="rId4"/>
          <a:stretch/>
        </p:blipFill>
        <p:spPr>
          <a:xfrm>
            <a:off x="179280" y="4149720"/>
            <a:ext cx="2700360" cy="179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plzlg\Local Settings\Temporary Internet Files\Content.IE5\C4S0K0AL\MP900178653[1].jpg"/>
          <p:cNvPicPr/>
          <p:nvPr/>
        </p:nvPicPr>
        <p:blipFill>
          <a:blip r:embed="rId5"/>
          <a:stretch/>
        </p:blipFill>
        <p:spPr>
          <a:xfrm>
            <a:off x="3182760" y="4149720"/>
            <a:ext cx="2698920" cy="1798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C:\Documents and Settings\plzlg\Local Settings\Temporary Internet Files\Content.IE5\NRT9YIE1\MP900425552[1].jpg"/>
          <p:cNvPicPr/>
          <p:nvPr/>
        </p:nvPicPr>
        <p:blipFill>
          <a:blip r:embed="rId6"/>
          <a:stretch/>
        </p:blipFill>
        <p:spPr>
          <a:xfrm>
            <a:off x="6184800" y="4149720"/>
            <a:ext cx="2708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nitrogen de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68"/>
          <p:cNvGrpSpPr/>
          <p:nvPr/>
        </p:nvGrpSpPr>
        <p:grpSpPr>
          <a:xfrm>
            <a:off x="4859280" y="2060640"/>
            <a:ext cx="4010040" cy="3473280"/>
            <a:chOff x="4859280" y="2060640"/>
            <a:chExt cx="4010040" cy="3473280"/>
          </a:xfrm>
        </p:grpSpPr>
        <p:pic>
          <p:nvPicPr>
            <p:cNvPr id="188" name="Picture 10" descr="C:\Documents and Settings\plzlg\Local Settings\Temporary Internet Files\Content.IE5\CZZW0N6X\MP900438577[1].jpg"/>
            <p:cNvPicPr/>
            <p:nvPr/>
          </p:nvPicPr>
          <p:blipFill>
            <a:blip r:embed="rId4">
              <a:lum bright="40000"/>
            </a:blip>
            <a:stretch/>
          </p:blipFill>
          <p:spPr>
            <a:xfrm>
              <a:off x="4859280" y="2060640"/>
              <a:ext cx="3999600" cy="34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C:\Documents and Settings\plzlg\Local Settings\Temporary Internet Files\Content.IE5\OF6MLQSB\MC900446108[1].wmf"/>
            <p:cNvPicPr/>
            <p:nvPr/>
          </p:nvPicPr>
          <p:blipFill>
            <a:blip r:embed="rId5"/>
            <a:stretch/>
          </p:blipFill>
          <p:spPr>
            <a:xfrm>
              <a:off x="6834240" y="4979160"/>
              <a:ext cx="17467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" descr="C:\Documents and Settings\plzlg\Local Settings\Temporary Internet Files\Content.IE5\OF6MLQSB\MC900446108[1].wmf"/>
            <p:cNvPicPr/>
            <p:nvPr/>
          </p:nvPicPr>
          <p:blipFill>
            <a:blip r:embed="rId6"/>
            <a:stretch/>
          </p:blipFill>
          <p:spPr>
            <a:xfrm>
              <a:off x="5033520" y="4907160"/>
              <a:ext cx="17467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C:\Documents and Settings\plzlg\Local Settings\Temporary Internet Files\Content.IE5\OF6MLQSB\MC900446108[1].wmf"/>
            <p:cNvPicPr/>
            <p:nvPr/>
          </p:nvPicPr>
          <p:blipFill>
            <a:blip r:embed="rId7"/>
            <a:stretch/>
          </p:blipFill>
          <p:spPr>
            <a:xfrm>
              <a:off x="7122600" y="5051160"/>
              <a:ext cx="17467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" descr="C:\Documents and Settings\plzlg\Local Settings\Temporary Internet Files\Content.IE5\OF6MLQSB\MC900446108[1].wmf"/>
            <p:cNvPicPr/>
            <p:nvPr/>
          </p:nvPicPr>
          <p:blipFill>
            <a:blip r:embed="rId8"/>
            <a:stretch/>
          </p:blipFill>
          <p:spPr>
            <a:xfrm>
              <a:off x="5609880" y="5051160"/>
              <a:ext cx="1746720" cy="4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47"/>
            <p:cNvGrpSpPr/>
            <p:nvPr/>
          </p:nvGrpSpPr>
          <p:grpSpPr>
            <a:xfrm>
              <a:off x="5363280" y="2252160"/>
              <a:ext cx="2992320" cy="2774880"/>
              <a:chOff x="5363280" y="2252160"/>
              <a:chExt cx="2992320" cy="2774880"/>
            </a:xfrm>
          </p:grpSpPr>
          <p:sp>
            <p:nvSpPr>
              <p:cNvPr id="194" name="TextBox 48"/>
              <p:cNvSpPr/>
              <p:nvPr/>
            </p:nvSpPr>
            <p:spPr>
              <a:xfrm>
                <a:off x="5388480" y="2252160"/>
                <a:ext cx="26892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n-GB" sz="3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GB" sz="3600" spc="-1" strike="noStrike">
                    <a:solidFill>
                      <a:srgbClr val="000000"/>
                    </a:solidFill>
                    <a:latin typeface="Arial"/>
                  </a:rPr>
                  <a:t>  &amp;  NO</a:t>
                </a:r>
                <a:r>
                  <a:rPr b="1" lang="en-GB" sz="36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5" name="Straight Arrow Connector 49"/>
              <p:cNvCxnSpPr/>
              <p:nvPr/>
            </p:nvCxnSpPr>
            <p:spPr>
              <a:xfrm>
                <a:off x="5865840" y="2900160"/>
                <a:ext cx="2160" cy="2017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lg" type="triangle" w="lg"/>
              </a:ln>
            </p:spPr>
          </p:cxnSp>
          <p:sp>
            <p:nvSpPr>
              <p:cNvPr id="196" name="Teardrop 50"/>
              <p:cNvSpPr/>
              <p:nvPr/>
            </p:nvSpPr>
            <p:spPr>
              <a:xfrm rot="18979200">
                <a:off x="7922520" y="308124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3" h="180966">
                    <a:moveTo>
                      <a:pt x="0" y="90483"/>
                    </a:moveTo>
                    <a:lnTo>
                      <a:pt x="0" y="90483"/>
                    </a:lnTo>
                    <a:arcTo wR="89677" hR="90483" stAng="10800000" swAng="5400000"/>
                    <a:lnTo>
                      <a:pt x="168815" y="0"/>
                    </a:lnTo>
                    <a:lnTo>
                      <a:pt x="247953" y="-69217"/>
                    </a:lnTo>
                    <a:lnTo>
                      <a:pt x="179353" y="50558"/>
                    </a:lnTo>
                    <a:arcTo wR="0" hR="39925" stAng="0" swAng="0"/>
                    <a:lnTo>
                      <a:pt x="166220" y="167715"/>
                    </a:lnTo>
                    <a:arcTo wR="-44839" hR="45242" stAng="2715380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ardrop 51"/>
              <p:cNvSpPr/>
              <p:nvPr/>
            </p:nvSpPr>
            <p:spPr>
              <a:xfrm rot="18979200">
                <a:off x="7705080" y="3873600"/>
                <a:ext cx="180720" cy="179280"/>
              </a:xfrm>
              <a:custGeom>
                <a:avLst/>
                <a:gdLst>
                  <a:gd name="textAreaLeft" fmla="*/ 26280 w 180720"/>
                  <a:gd name="textAreaRight" fmla="*/ 154440 w 180720"/>
                  <a:gd name="textAreaTop" fmla="*/ 26280 h 179280"/>
                  <a:gd name="textAreaBottom" fmla="*/ 153000 h 179280"/>
                </a:gdLst>
                <a:ahLst/>
                <a:rect l="textAreaLeft" t="textAreaTop" r="textAreaRight" b="textAreaBottom"/>
                <a:pathLst>
                  <a:path w="180939" h="179379">
                    <a:moveTo>
                      <a:pt x="0" y="89690"/>
                    </a:moveTo>
                    <a:lnTo>
                      <a:pt x="0" y="89690"/>
                    </a:lnTo>
                    <a:arcTo wR="90470" hR="89690" stAng="10800000" swAng="5400000"/>
                    <a:lnTo>
                      <a:pt x="170307" y="0"/>
                    </a:lnTo>
                    <a:lnTo>
                      <a:pt x="250145" y="-68610"/>
                    </a:lnTo>
                    <a:lnTo>
                      <a:pt x="180939" y="50115"/>
                    </a:lnTo>
                    <a:arcTo wR="0" hR="39575" stAng="0" swAng="0"/>
                    <a:lnTo>
                      <a:pt x="167690" y="166245"/>
                    </a:lnTo>
                    <a:arcTo wR="-45235" hR="44845" stAng="2685116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ardrop 52"/>
              <p:cNvSpPr/>
              <p:nvPr/>
            </p:nvSpPr>
            <p:spPr>
              <a:xfrm rot="18979200">
                <a:off x="7346160" y="351288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2" h="180966">
                    <a:moveTo>
                      <a:pt x="0" y="90483"/>
                    </a:moveTo>
                    <a:lnTo>
                      <a:pt x="0" y="90483"/>
                    </a:lnTo>
                    <a:arcTo wR="89676" hR="90483" stAng="10800000" swAng="5400000"/>
                    <a:lnTo>
                      <a:pt x="168814" y="0"/>
                    </a:lnTo>
                    <a:lnTo>
                      <a:pt x="247951" y="-69217"/>
                    </a:lnTo>
                    <a:lnTo>
                      <a:pt x="179352" y="50558"/>
                    </a:lnTo>
                    <a:arcTo wR="0" hR="39925" stAng="0" swAng="0"/>
                    <a:lnTo>
                      <a:pt x="166219" y="167715"/>
                    </a:lnTo>
                    <a:arcTo wR="-44838" hR="45242" stAng="271539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ardrop 53"/>
              <p:cNvSpPr/>
              <p:nvPr/>
            </p:nvSpPr>
            <p:spPr>
              <a:xfrm rot="18979200">
                <a:off x="7346160" y="4810680"/>
                <a:ext cx="179280" cy="17928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79280"/>
                  <a:gd name="textAreaBottom" fmla="*/ 153000 h 179280"/>
                </a:gdLst>
                <a:ahLst/>
                <a:rect l="textAreaLeft" t="textAreaTop" r="textAreaRight" b="textAreaBottom"/>
                <a:pathLst>
                  <a:path w="179352" h="179379">
                    <a:moveTo>
                      <a:pt x="0" y="89690"/>
                    </a:moveTo>
                    <a:lnTo>
                      <a:pt x="0" y="89690"/>
                    </a:lnTo>
                    <a:arcTo wR="89676" hR="89690" stAng="10800000" swAng="5400000"/>
                    <a:lnTo>
                      <a:pt x="168814" y="0"/>
                    </a:lnTo>
                    <a:lnTo>
                      <a:pt x="247951" y="-68610"/>
                    </a:lnTo>
                    <a:lnTo>
                      <a:pt x="179352" y="50115"/>
                    </a:lnTo>
                    <a:arcTo wR="0" hR="39575" stAng="0" swAng="0"/>
                    <a:lnTo>
                      <a:pt x="166219" y="166245"/>
                    </a:lnTo>
                    <a:arcTo wR="-44838" hR="44845" stAng="2700268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ardrop 54"/>
              <p:cNvSpPr/>
              <p:nvPr/>
            </p:nvSpPr>
            <p:spPr>
              <a:xfrm rot="18979200">
                <a:off x="7778160" y="452124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2" h="180966">
                    <a:moveTo>
                      <a:pt x="0" y="90483"/>
                    </a:moveTo>
                    <a:lnTo>
                      <a:pt x="0" y="90483"/>
                    </a:lnTo>
                    <a:arcTo wR="89676" hR="90483" stAng="10800000" swAng="5400000"/>
                    <a:lnTo>
                      <a:pt x="168814" y="0"/>
                    </a:lnTo>
                    <a:lnTo>
                      <a:pt x="247951" y="-69217"/>
                    </a:lnTo>
                    <a:lnTo>
                      <a:pt x="179352" y="50558"/>
                    </a:lnTo>
                    <a:arcTo wR="0" hR="39925" stAng="0" swAng="0"/>
                    <a:lnTo>
                      <a:pt x="166219" y="167715"/>
                    </a:lnTo>
                    <a:arcTo wR="-44838" hR="45242" stAng="271539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ardrop 55"/>
              <p:cNvSpPr/>
              <p:nvPr/>
            </p:nvSpPr>
            <p:spPr>
              <a:xfrm rot="18979200">
                <a:off x="8138520" y="372888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3" h="180966">
                    <a:moveTo>
                      <a:pt x="0" y="90483"/>
                    </a:moveTo>
                    <a:lnTo>
                      <a:pt x="0" y="90483"/>
                    </a:lnTo>
                    <a:arcTo wR="89677" hR="90483" stAng="10800000" swAng="5400000"/>
                    <a:lnTo>
                      <a:pt x="168815" y="0"/>
                    </a:lnTo>
                    <a:lnTo>
                      <a:pt x="247953" y="-69217"/>
                    </a:lnTo>
                    <a:lnTo>
                      <a:pt x="179353" y="50558"/>
                    </a:lnTo>
                    <a:arcTo wR="0" hR="39925" stAng="0" swAng="0"/>
                    <a:lnTo>
                      <a:pt x="166220" y="167715"/>
                    </a:lnTo>
                    <a:arcTo wR="-44839" hR="45242" stAng="2715380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ardrop 56"/>
              <p:cNvSpPr/>
              <p:nvPr/>
            </p:nvSpPr>
            <p:spPr>
              <a:xfrm rot="18979200">
                <a:off x="6625080" y="308124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2" h="180966">
                    <a:moveTo>
                      <a:pt x="0" y="90483"/>
                    </a:moveTo>
                    <a:lnTo>
                      <a:pt x="0" y="90483"/>
                    </a:lnTo>
                    <a:arcTo wR="89676" hR="90483" stAng="10800000" swAng="5400000"/>
                    <a:lnTo>
                      <a:pt x="168814" y="0"/>
                    </a:lnTo>
                    <a:lnTo>
                      <a:pt x="247951" y="-69217"/>
                    </a:lnTo>
                    <a:lnTo>
                      <a:pt x="179352" y="50558"/>
                    </a:lnTo>
                    <a:arcTo wR="0" hR="39925" stAng="0" swAng="0"/>
                    <a:lnTo>
                      <a:pt x="166219" y="167715"/>
                    </a:lnTo>
                    <a:arcTo wR="-44838" hR="45242" stAng="271539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ardrop 57"/>
              <p:cNvSpPr/>
              <p:nvPr/>
            </p:nvSpPr>
            <p:spPr>
              <a:xfrm rot="18979200">
                <a:off x="6985440" y="4162680"/>
                <a:ext cx="179280" cy="17928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79280"/>
                  <a:gd name="textAreaBottom" fmla="*/ 153000 h 179280"/>
                </a:gdLst>
                <a:ahLst/>
                <a:rect l="textAreaLeft" t="textAreaTop" r="textAreaRight" b="textAreaBottom"/>
                <a:pathLst>
                  <a:path w="179353" h="179379">
                    <a:moveTo>
                      <a:pt x="0" y="89690"/>
                    </a:moveTo>
                    <a:lnTo>
                      <a:pt x="0" y="89690"/>
                    </a:lnTo>
                    <a:arcTo wR="89677" hR="89690" stAng="10800000" swAng="5400000"/>
                    <a:lnTo>
                      <a:pt x="168815" y="0"/>
                    </a:lnTo>
                    <a:lnTo>
                      <a:pt x="247953" y="-68610"/>
                    </a:lnTo>
                    <a:lnTo>
                      <a:pt x="179353" y="50115"/>
                    </a:lnTo>
                    <a:arcTo wR="0" hR="39575" stAng="0" swAng="0"/>
                    <a:lnTo>
                      <a:pt x="166220" y="166245"/>
                    </a:lnTo>
                    <a:arcTo wR="-44839" hR="44845" stAng="270024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ardrop 58"/>
              <p:cNvSpPr/>
              <p:nvPr/>
            </p:nvSpPr>
            <p:spPr>
              <a:xfrm rot="18979200">
                <a:off x="6409080" y="394488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2" h="180966">
                    <a:moveTo>
                      <a:pt x="0" y="90483"/>
                    </a:moveTo>
                    <a:lnTo>
                      <a:pt x="0" y="90483"/>
                    </a:lnTo>
                    <a:arcTo wR="89676" hR="90483" stAng="10800000" swAng="5400000"/>
                    <a:lnTo>
                      <a:pt x="168814" y="0"/>
                    </a:lnTo>
                    <a:lnTo>
                      <a:pt x="247951" y="-69217"/>
                    </a:lnTo>
                    <a:lnTo>
                      <a:pt x="179352" y="50558"/>
                    </a:lnTo>
                    <a:arcTo wR="0" hR="39925" stAng="0" swAng="0"/>
                    <a:lnTo>
                      <a:pt x="166219" y="167715"/>
                    </a:lnTo>
                    <a:arcTo wR="-44838" hR="45242" stAng="271539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ardrop 59"/>
              <p:cNvSpPr/>
              <p:nvPr/>
            </p:nvSpPr>
            <p:spPr>
              <a:xfrm rot="18979200">
                <a:off x="6121440" y="329688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3" h="180966">
                    <a:moveTo>
                      <a:pt x="0" y="90483"/>
                    </a:moveTo>
                    <a:lnTo>
                      <a:pt x="0" y="90483"/>
                    </a:lnTo>
                    <a:arcTo wR="89677" hR="90483" stAng="10800000" swAng="5400000"/>
                    <a:lnTo>
                      <a:pt x="168815" y="0"/>
                    </a:lnTo>
                    <a:lnTo>
                      <a:pt x="247953" y="-69217"/>
                    </a:lnTo>
                    <a:lnTo>
                      <a:pt x="179353" y="50558"/>
                    </a:lnTo>
                    <a:arcTo wR="0" hR="39925" stAng="0" swAng="0"/>
                    <a:lnTo>
                      <a:pt x="166220" y="167715"/>
                    </a:lnTo>
                    <a:arcTo wR="-44839" hR="45242" stAng="2715380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ardrop 60"/>
              <p:cNvSpPr/>
              <p:nvPr/>
            </p:nvSpPr>
            <p:spPr>
              <a:xfrm rot="18979200">
                <a:off x="6337440" y="4594680"/>
                <a:ext cx="179280" cy="17928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79280"/>
                  <a:gd name="textAreaBottom" fmla="*/ 153000 h 179280"/>
                </a:gdLst>
                <a:ahLst/>
                <a:rect l="textAreaLeft" t="textAreaTop" r="textAreaRight" b="textAreaBottom"/>
                <a:pathLst>
                  <a:path w="179353" h="179379">
                    <a:moveTo>
                      <a:pt x="0" y="89690"/>
                    </a:moveTo>
                    <a:lnTo>
                      <a:pt x="0" y="89690"/>
                    </a:lnTo>
                    <a:arcTo wR="89677" hR="89690" stAng="10800000" swAng="5400000"/>
                    <a:lnTo>
                      <a:pt x="168815" y="0"/>
                    </a:lnTo>
                    <a:lnTo>
                      <a:pt x="247953" y="-68610"/>
                    </a:lnTo>
                    <a:lnTo>
                      <a:pt x="179353" y="50115"/>
                    </a:lnTo>
                    <a:arcTo wR="0" hR="39575" stAng="0" swAng="0"/>
                    <a:lnTo>
                      <a:pt x="166220" y="166245"/>
                    </a:lnTo>
                    <a:arcTo wR="-44839" hR="44845" stAng="270024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ardrop 61"/>
              <p:cNvSpPr/>
              <p:nvPr/>
            </p:nvSpPr>
            <p:spPr>
              <a:xfrm rot="18979200">
                <a:off x="5400720" y="351288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3" h="180966">
                    <a:moveTo>
                      <a:pt x="0" y="90483"/>
                    </a:moveTo>
                    <a:lnTo>
                      <a:pt x="0" y="90483"/>
                    </a:lnTo>
                    <a:arcTo wR="89677" hR="90483" stAng="10800000" swAng="5400000"/>
                    <a:lnTo>
                      <a:pt x="168815" y="0"/>
                    </a:lnTo>
                    <a:lnTo>
                      <a:pt x="247953" y="-69217"/>
                    </a:lnTo>
                    <a:lnTo>
                      <a:pt x="179353" y="50558"/>
                    </a:lnTo>
                    <a:arcTo wR="0" hR="39925" stAng="0" swAng="0"/>
                    <a:lnTo>
                      <a:pt x="166220" y="167715"/>
                    </a:lnTo>
                    <a:arcTo wR="-44839" hR="45242" stAng="2715380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ardrop 62"/>
              <p:cNvSpPr/>
              <p:nvPr/>
            </p:nvSpPr>
            <p:spPr>
              <a:xfrm rot="18979200">
                <a:off x="5977080" y="4305240"/>
                <a:ext cx="179280" cy="180720"/>
              </a:xfrm>
              <a:custGeom>
                <a:avLst/>
                <a:gdLst>
                  <a:gd name="textAreaLeft" fmla="*/ 26280 w 179280"/>
                  <a:gd name="textAreaRight" fmla="*/ 153000 w 17928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79352" h="180966">
                    <a:moveTo>
                      <a:pt x="0" y="90483"/>
                    </a:moveTo>
                    <a:lnTo>
                      <a:pt x="0" y="90483"/>
                    </a:lnTo>
                    <a:arcTo wR="89676" hR="90483" stAng="10800000" swAng="5400000"/>
                    <a:lnTo>
                      <a:pt x="168814" y="0"/>
                    </a:lnTo>
                    <a:lnTo>
                      <a:pt x="247951" y="-69217"/>
                    </a:lnTo>
                    <a:lnTo>
                      <a:pt x="179352" y="50558"/>
                    </a:lnTo>
                    <a:arcTo wR="0" hR="39925" stAng="0" swAng="0"/>
                    <a:lnTo>
                      <a:pt x="166219" y="167715"/>
                    </a:lnTo>
                    <a:arcTo wR="-44838" hR="45242" stAng="2715399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ardrop 63"/>
              <p:cNvSpPr/>
              <p:nvPr/>
            </p:nvSpPr>
            <p:spPr>
              <a:xfrm rot="18979200">
                <a:off x="5471640" y="4737600"/>
                <a:ext cx="180720" cy="180720"/>
              </a:xfrm>
              <a:custGeom>
                <a:avLst/>
                <a:gdLst>
                  <a:gd name="textAreaLeft" fmla="*/ 26280 w 180720"/>
                  <a:gd name="textAreaRight" fmla="*/ 154440 w 180720"/>
                  <a:gd name="textAreaTop" fmla="*/ 26280 h 180720"/>
                  <a:gd name="textAreaBottom" fmla="*/ 154440 h 180720"/>
                </a:gdLst>
                <a:ahLst/>
                <a:rect l="textAreaLeft" t="textAreaTop" r="textAreaRight" b="textAreaBottom"/>
                <a:pathLst>
                  <a:path w="180939" h="180966">
                    <a:moveTo>
                      <a:pt x="0" y="90483"/>
                    </a:moveTo>
                    <a:lnTo>
                      <a:pt x="0" y="90483"/>
                    </a:lnTo>
                    <a:arcTo wR="90470" hR="90483" stAng="10800000" swAng="5400000"/>
                    <a:lnTo>
                      <a:pt x="170307" y="0"/>
                    </a:lnTo>
                    <a:lnTo>
                      <a:pt x="250145" y="-69217"/>
                    </a:lnTo>
                    <a:lnTo>
                      <a:pt x="180939" y="50558"/>
                    </a:lnTo>
                    <a:arcTo wR="0" hR="39925" stAng="0" swAng="0"/>
                    <a:lnTo>
                      <a:pt x="167690" y="167715"/>
                    </a:lnTo>
                    <a:arcTo wR="-45235" hR="45242" stAng="2700247" swAng="10800000"/>
                    <a:close/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" name="Straight Arrow Connector 64"/>
              <p:cNvCxnSpPr/>
              <p:nvPr/>
            </p:nvCxnSpPr>
            <p:spPr>
              <a:xfrm>
                <a:off x="6876000" y="2900160"/>
                <a:ext cx="2160" cy="2017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lg" type="triangle" w="lg"/>
              </a:ln>
            </p:spPr>
          </p:cxnSp>
          <p:cxnSp>
            <p:nvCxnSpPr>
              <p:cNvPr id="211" name="Straight Arrow Connector 65"/>
              <p:cNvCxnSpPr/>
              <p:nvPr/>
            </p:nvCxnSpPr>
            <p:spPr>
              <a:xfrm>
                <a:off x="7668360" y="2900160"/>
                <a:ext cx="2160" cy="2017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lg" type="triangle" w="lg"/>
              </a:ln>
            </p:spPr>
          </p:cxnSp>
        </p:grpSp>
        <p:pic>
          <p:nvPicPr>
            <p:cNvPr id="212" name="Picture 4" descr="C:\Documents and Settings\plzlg\Local Settings\Temporary Internet Files\Content.IE5\OF6MLQSB\MC900446108[1].wmf"/>
            <p:cNvPicPr/>
            <p:nvPr/>
          </p:nvPicPr>
          <p:blipFill>
            <a:blip r:embed="rId9"/>
            <a:stretch/>
          </p:blipFill>
          <p:spPr>
            <a:xfrm>
              <a:off x="4875840" y="5039640"/>
              <a:ext cx="174672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9"/>
          <p:cNvSpPr/>
          <p:nvPr/>
        </p:nvSpPr>
        <p:spPr>
          <a:xfrm>
            <a:off x="324000" y="206064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deposition occurs when nitrogen pollutants enter the soil via either rainfall or the direct deposition of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re we worried about N de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324000" y="206064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deposition can increase the fertility of heathland so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fertility can affect which plant species are able to survive in the heath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vegetation is affected, the animals that live in the heathland will also be aff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2565360"/>
          <a:ext cx="7993080" cy="2664000"/>
        </p:xfrm>
        <a:graphic>
          <a:graphicData uri="http://schemas.openxmlformats.org/drawingml/2006/table">
            <a:tbl>
              <a:tblPr/>
              <a:tblGrid>
                <a:gridCol w="2232000"/>
                <a:gridCol w="5761080"/>
              </a:tblGrid>
              <a:tr h="88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am - 12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A: Set up soil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B: Lichens as bio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 -12.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45 - 1.1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A: Analysis of soil chemistry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5 - 2.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C: Vegetation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De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you going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24000" y="2060640"/>
            <a:ext cx="540036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- use a simple soil test kit to measure the pH and nitrogen content of the heathland so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lthy heathland soil should be acidic.  What range of pH values might you find if the heathland is healt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kind of nitrogen content should the soil have if the heathland i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ing affected by nitrogen pol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Documents and Settings\plzlg\Local Settings\Temporary Internet Files\Content.IE5\VZQIXC7J\MP900431722[1].jpg"/>
          <p:cNvPicPr/>
          <p:nvPr/>
        </p:nvPicPr>
        <p:blipFill>
          <a:blip r:embed="rId4"/>
          <a:stretch/>
        </p:blipFill>
        <p:spPr>
          <a:xfrm>
            <a:off x="5940360" y="2060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324000" y="2060640"/>
            <a:ext cx="604836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use bioindicators (lichens) to find out about the air quality and levels of nitrogen pollution in the heath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lichen species are tolerant of nitrogen pollution whereas others need clean air to sur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chens are formed of two organisms, a fungus and an alga, living in symbios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6" descr="Hypogymnia"/>
          <p:cNvPicPr/>
          <p:nvPr/>
        </p:nvPicPr>
        <p:blipFill>
          <a:blip r:embed="rId4"/>
          <a:stretch/>
        </p:blipFill>
        <p:spPr>
          <a:xfrm>
            <a:off x="6824520" y="2060640"/>
            <a:ext cx="2087640" cy="180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0" name="Picture 6" descr="Leafy Xanthoria SMALLER"/>
          <p:cNvPicPr/>
          <p:nvPr/>
        </p:nvPicPr>
        <p:blipFill>
          <a:blip r:embed="rId5"/>
          <a:stretch/>
        </p:blipFill>
        <p:spPr>
          <a:xfrm>
            <a:off x="6886440" y="3933720"/>
            <a:ext cx="1963800" cy="179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24000" y="2060640"/>
            <a:ext cx="849600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using a quadrat, investigate whether or not the heathland vegetation is being affected by nitrogen deposi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deposition favours fast-growing species like bramble, bracken and grass which can out-compete heathland plants such as heather and go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healthy (i.e., unpolluted) heathland should have an average percentage cover of heather of at least 25% and no more than 50% cover of gras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C –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24000" y="2060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sampling vegetation your quadrats should be placed randomly to avoid b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333360" y="2924280"/>
            <a:ext cx="46702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will do this by creating a grid from two 50m tap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generate random co-ordinates using a calculator to find out where to place your quadrat within the 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7"/>
          <p:cNvGrpSpPr/>
          <p:nvPr/>
        </p:nvGrpSpPr>
        <p:grpSpPr>
          <a:xfrm>
            <a:off x="5148360" y="2637000"/>
            <a:ext cx="3816360" cy="3527640"/>
            <a:chOff x="5148360" y="2637000"/>
            <a:chExt cx="3816360" cy="3527640"/>
          </a:xfrm>
        </p:grpSpPr>
        <p:sp>
          <p:nvSpPr>
            <p:cNvPr id="255" name="Rectangle 8"/>
            <p:cNvSpPr/>
            <p:nvPr/>
          </p:nvSpPr>
          <p:spPr>
            <a:xfrm rot="16200000">
              <a:off x="4352040" y="4271040"/>
              <a:ext cx="2977920" cy="7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9"/>
            <p:cNvSpPr/>
            <p:nvPr/>
          </p:nvSpPr>
          <p:spPr>
            <a:xfrm>
              <a:off x="5148360" y="26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1"/>
            <p:cNvSpPr/>
            <p:nvPr/>
          </p:nvSpPr>
          <p:spPr>
            <a:xfrm>
              <a:off x="5301360" y="543636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2"/>
            <p:cNvSpPr/>
            <p:nvPr/>
          </p:nvSpPr>
          <p:spPr>
            <a:xfrm>
              <a:off x="5796360" y="579636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3"/>
            <p:cNvSpPr/>
            <p:nvPr/>
          </p:nvSpPr>
          <p:spPr>
            <a:xfrm>
              <a:off x="8316720" y="579636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5805360" y="5724720"/>
              <a:ext cx="2978280" cy="7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5994360" y="2825640"/>
          <a:ext cx="3048120" cy="884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Handwriting"/>
                        </a:rPr>
                        <a:t>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Handwriting"/>
                        </a:rPr>
                        <a:t>co-ordin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Handwriting"/>
                        </a:rPr>
                        <a:t>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Handwriting"/>
                        </a:rPr>
                        <a:t>co-ordin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Lucida Handwriting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Lucida Handwriting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2" name="Straight Connector 22"/>
          <p:cNvSpPr/>
          <p:nvPr/>
        </p:nvSpPr>
        <p:spPr>
          <a:xfrm>
            <a:off x="5886360" y="4240080"/>
            <a:ext cx="720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4"/>
          <p:cNvSpPr/>
          <p:nvPr/>
        </p:nvSpPr>
        <p:spPr>
          <a:xfrm>
            <a:off x="6588000" y="4221000"/>
            <a:ext cx="0" cy="1511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7"/>
          <p:cNvSpPr/>
          <p:nvPr/>
        </p:nvSpPr>
        <p:spPr>
          <a:xfrm>
            <a:off x="6588000" y="4024440"/>
            <a:ext cx="21600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8"/>
          <p:cNvSpPr/>
          <p:nvPr/>
        </p:nvSpPr>
        <p:spPr>
          <a:xfrm>
            <a:off x="514836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630072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50920" y="1341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44600" indent="-224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C - using quadrats to measure plant percentage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3780000" y="2608200"/>
            <a:ext cx="5040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Place the quadrat over the area of vegetation to be survey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Look at the quadrat from directly ab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total area of ground within the quadrat is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For each plant species, estimate the % area of the quadrat that it co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0"/>
          <p:cNvGrpSpPr/>
          <p:nvPr/>
        </p:nvGrpSpPr>
        <p:grpSpPr>
          <a:xfrm>
            <a:off x="368640" y="2289240"/>
            <a:ext cx="3370320" cy="3598560"/>
            <a:chOff x="368640" y="2289240"/>
            <a:chExt cx="3370320" cy="3598560"/>
          </a:xfrm>
        </p:grpSpPr>
        <p:pic>
          <p:nvPicPr>
            <p:cNvPr id="274" name="Picture 7" descr="IMG_0029.JPG"/>
            <p:cNvPicPr/>
            <p:nvPr/>
          </p:nvPicPr>
          <p:blipFill>
            <a:blip r:embed="rId4"/>
            <a:stretch/>
          </p:blipFill>
          <p:spPr>
            <a:xfrm rot="60000">
              <a:off x="396360" y="2619000"/>
              <a:ext cx="32832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9"/>
            <p:cNvSpPr/>
            <p:nvPr/>
          </p:nvSpPr>
          <p:spPr>
            <a:xfrm rot="16200000">
              <a:off x="2810160" y="2971800"/>
              <a:ext cx="16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© Peter Critt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250920" y="1341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44600" indent="-224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C - using quadrats to measure plant percentage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324000" y="24354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to be consistent in the way you collect the data.  In your group, think about the following questions and decide how you will collect your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4788000" y="3716280"/>
            <a:ext cx="4248000" cy="2336400"/>
            <a:chOff x="4788000" y="3716280"/>
            <a:chExt cx="4248000" cy="2336400"/>
          </a:xfrm>
        </p:grpSpPr>
        <p:sp>
          <p:nvSpPr>
            <p:cNvPr id="283" name="Text Box 4"/>
            <p:cNvSpPr/>
            <p:nvPr/>
          </p:nvSpPr>
          <p:spPr>
            <a:xfrm>
              <a:off x="4788000" y="5228640"/>
              <a:ext cx="42480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plant is not rooted in the quadrat, but some of its leaves fall in the quadrat.  Do you include it in your results for this quadrat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6191280" y="3716280"/>
              <a:ext cx="1441440" cy="1440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2" descr="C:\Documents and Settings\plzlg\Local Settings\Temporary Internet Files\Content.IE5\SP76RUG1\MC900275414[1].wmf"/>
            <p:cNvPicPr/>
            <p:nvPr/>
          </p:nvPicPr>
          <p:blipFill>
            <a:blip r:embed="rId4"/>
            <a:stretch/>
          </p:blipFill>
          <p:spPr>
            <a:xfrm rot="16200000">
              <a:off x="7107120" y="3484440"/>
              <a:ext cx="1471680" cy="19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16"/>
          <p:cNvGrpSpPr/>
          <p:nvPr/>
        </p:nvGrpSpPr>
        <p:grpSpPr>
          <a:xfrm>
            <a:off x="108000" y="3572280"/>
            <a:ext cx="4248000" cy="2480400"/>
            <a:chOff x="108000" y="3572280"/>
            <a:chExt cx="4248000" cy="2480400"/>
          </a:xfrm>
        </p:grpSpPr>
        <p:sp>
          <p:nvSpPr>
            <p:cNvPr id="287" name="Text Box 5"/>
            <p:cNvSpPr/>
            <p:nvPr/>
          </p:nvSpPr>
          <p:spPr>
            <a:xfrm>
              <a:off x="108000" y="5228640"/>
              <a:ext cx="42480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plant is rooted in the quadrat, but all of its leaves fall outside the quadrat.  Do you include it in your results for this quadrat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1511280" y="3716280"/>
              <a:ext cx="1441440" cy="1440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" descr="C:\Documents and Settings\plzlg\Local Settings\Temporary Internet Files\Content.IE5\92D8ZU9F\MC900354076[1].wmf"/>
            <p:cNvPicPr/>
            <p:nvPr/>
          </p:nvPicPr>
          <p:blipFill>
            <a:blip r:embed="rId5"/>
            <a:stretch/>
          </p:blipFill>
          <p:spPr>
            <a:xfrm rot="6403200">
              <a:off x="2740680" y="3770280"/>
              <a:ext cx="1317240" cy="121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lcome to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sit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324000" y="1989000"/>
            <a:ext cx="568800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be spending today acting as an environmental scient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be monitoring a very special habitat – lowland heath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use three different techniques to investigate whether pollution (specifically, nitrogen pollution) is affecting the ecology of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site nam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results could help inform the management of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site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you going to do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IMG_2134.jpg"/>
          <p:cNvPicPr/>
          <p:nvPr/>
        </p:nvPicPr>
        <p:blipFill>
          <a:blip r:embed="rId4"/>
          <a:stretch/>
        </p:blipFill>
        <p:spPr>
          <a:xfrm>
            <a:off x="6084720" y="2421000"/>
            <a:ext cx="2843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24000" y="1989000"/>
            <a:ext cx="8351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plain what Nitrogen pollution is, where it comes from and  why it’s a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bioindicators to assess environmental condi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a quadrat to sample vege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mon plant species that occur in heathl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asure different parts of the physical environment (abiotic  fac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plain how the physical environment can affect the organisms that live t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9"/>
          <p:cNvSpPr/>
          <p:nvPr/>
        </p:nvSpPr>
        <p:spPr>
          <a:xfrm>
            <a:off x="324000" y="2133720"/>
            <a:ext cx="53276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found at elevations of less than 300 m above sea-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an open habitat with few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dominated by dwarf shrubs, particularly he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s sandy, acidic, low-nutrient so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lowland heath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P1020121.JPG"/>
          <p:cNvPicPr/>
          <p:nvPr/>
        </p:nvPicPr>
        <p:blipFill>
          <a:blip r:embed="rId4"/>
          <a:stretch/>
        </p:blipFill>
        <p:spPr>
          <a:xfrm>
            <a:off x="5867280" y="1341360"/>
            <a:ext cx="3097440" cy="4643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 rot="16200000">
            <a:off x="8282880" y="1728000"/>
            <a:ext cx="117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Lauren G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24000" y="197496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torically woodland was cleared to provide land for grazing and agr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the nutrients in the soil were depleted the farmers cultivated new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thland became established on the abandoned are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did heathland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5"/>
          <p:cNvGrpSpPr/>
          <p:nvPr/>
        </p:nvGrpSpPr>
        <p:grpSpPr>
          <a:xfrm>
            <a:off x="106200" y="4246560"/>
            <a:ext cx="2737080" cy="1905840"/>
            <a:chOff x="106200" y="4246560"/>
            <a:chExt cx="2737080" cy="1905840"/>
          </a:xfrm>
        </p:grpSpPr>
        <p:grpSp>
          <p:nvGrpSpPr>
            <p:cNvPr id="87" name="Group 3"/>
            <p:cNvGrpSpPr/>
            <p:nvPr/>
          </p:nvGrpSpPr>
          <p:grpSpPr>
            <a:xfrm>
              <a:off x="227520" y="4246560"/>
              <a:ext cx="2494440" cy="1443240"/>
              <a:chOff x="227520" y="4246560"/>
              <a:chExt cx="2494440" cy="1443240"/>
            </a:xfrm>
          </p:grpSpPr>
          <p:grpSp>
            <p:nvGrpSpPr>
              <p:cNvPr id="88" name="Rectangle 2"/>
              <p:cNvGrpSpPr/>
              <p:nvPr/>
            </p:nvGrpSpPr>
            <p:grpSpPr>
              <a:xfrm>
                <a:off x="267840" y="4246560"/>
                <a:ext cx="2454120" cy="1443240"/>
                <a:chOff x="267840" y="4246560"/>
                <a:chExt cx="2454120" cy="1443240"/>
              </a:xfrm>
            </p:grpSpPr>
            <p:pic>
              <p:nvPicPr>
                <p:cNvPr id="89" name="Rectangl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7840" y="4246560"/>
                  <a:ext cx="2454120" cy="14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271800" y="4250160"/>
                  <a:ext cx="2446920" cy="14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23"/>
              <p:cNvGrpSpPr/>
              <p:nvPr/>
            </p:nvGrpSpPr>
            <p:grpSpPr>
              <a:xfrm>
                <a:off x="227520" y="4452480"/>
                <a:ext cx="2446920" cy="1128960"/>
                <a:chOff x="227520" y="4452480"/>
                <a:chExt cx="2446920" cy="1128960"/>
              </a:xfrm>
            </p:grpSpPr>
            <p:pic>
              <p:nvPicPr>
                <p:cNvPr id="92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802800" y="5101200"/>
                  <a:ext cx="174564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3160" y="5097240"/>
                  <a:ext cx="174564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94800" y="459576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50800" y="477252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35160" y="459576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31160" y="473904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27520" y="473904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947160" y="445248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5160" y="452412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019160" y="466740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882800" y="466740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38800" y="479160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4" name="TextBox 32"/>
            <p:cNvSpPr/>
            <p:nvPr/>
          </p:nvSpPr>
          <p:spPr>
            <a:xfrm>
              <a:off x="106200" y="5571720"/>
              <a:ext cx="273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7,000 years a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Lowland Britain forested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2951280" y="4246560"/>
            <a:ext cx="2952720" cy="2141280"/>
            <a:chOff x="2951280" y="4246560"/>
            <a:chExt cx="2952720" cy="2141280"/>
          </a:xfrm>
        </p:grpSpPr>
        <p:grpSp>
          <p:nvGrpSpPr>
            <p:cNvPr id="106" name="Group 5"/>
            <p:cNvGrpSpPr/>
            <p:nvPr/>
          </p:nvGrpSpPr>
          <p:grpSpPr>
            <a:xfrm>
              <a:off x="3202920" y="4246560"/>
              <a:ext cx="2448360" cy="1443240"/>
              <a:chOff x="3202920" y="4246560"/>
              <a:chExt cx="2448360" cy="1443240"/>
            </a:xfrm>
          </p:grpSpPr>
          <p:grpSp>
            <p:nvGrpSpPr>
              <p:cNvPr id="107" name="Rectangle 27"/>
              <p:cNvGrpSpPr/>
              <p:nvPr/>
            </p:nvGrpSpPr>
            <p:grpSpPr>
              <a:xfrm>
                <a:off x="3202920" y="4246560"/>
                <a:ext cx="2448360" cy="1443240"/>
                <a:chOff x="3202920" y="4246560"/>
                <a:chExt cx="2448360" cy="1443240"/>
              </a:xfrm>
            </p:grpSpPr>
            <p:pic>
              <p:nvPicPr>
                <p:cNvPr id="108" name="Rectangle 27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02920" y="4246560"/>
                  <a:ext cx="2448360" cy="14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>
                  <a:off x="3211200" y="4250160"/>
                  <a:ext cx="2433960" cy="14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40"/>
              <p:cNvGrpSpPr/>
              <p:nvPr/>
            </p:nvGrpSpPr>
            <p:grpSpPr>
              <a:xfrm>
                <a:off x="3314520" y="4950000"/>
                <a:ext cx="2228400" cy="623520"/>
                <a:chOff x="3314520" y="4950000"/>
                <a:chExt cx="2228400" cy="623520"/>
              </a:xfrm>
            </p:grpSpPr>
            <p:pic>
              <p:nvPicPr>
                <p:cNvPr id="111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314520" y="5093280"/>
                  <a:ext cx="173628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3806640" y="5093280"/>
                  <a:ext cx="173628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1" descr="C:\Documents and Settings\plzlg\Local Settings\Temporary Internet Files\Content.IE5\3J6VPMT3\MM900040929[1].gif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72360" y="5164920"/>
                  <a:ext cx="483480" cy="32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1" descr="C:\Documents and Settings\plzlg\Local Settings\Temporary Internet Files\Content.IE5\3J6VPMT3\MM900040929[1].gif"/>
                <p:cNvPicPr/>
                <p:nvPr/>
              </p:nvPicPr>
              <p:blipFill>
                <a:blip r:embed="rId21"/>
                <a:stretch/>
              </p:blipFill>
              <p:spPr>
                <a:xfrm flipH="1">
                  <a:off x="4244760" y="4950000"/>
                  <a:ext cx="483480" cy="32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11" descr="C:\Documents and Settings\plzlg\Local Settings\Temporary Internet Files\Content.IE5\3J6VPMT3\MM900040929[1].gif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961160" y="5164920"/>
                  <a:ext cx="483480" cy="32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6" name="TextBox 43"/>
            <p:cNvSpPr/>
            <p:nvPr/>
          </p:nvSpPr>
          <p:spPr>
            <a:xfrm>
              <a:off x="2951280" y="5563800"/>
              <a:ext cx="295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6,000 – 4,000 years a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Woodland cleared for farming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7"/>
          <p:cNvGrpSpPr/>
          <p:nvPr/>
        </p:nvGrpSpPr>
        <p:grpSpPr>
          <a:xfrm>
            <a:off x="6012000" y="4246560"/>
            <a:ext cx="3024000" cy="1915200"/>
            <a:chOff x="6012000" y="4246560"/>
            <a:chExt cx="3024000" cy="1915200"/>
          </a:xfrm>
        </p:grpSpPr>
        <p:sp>
          <p:nvSpPr>
            <p:cNvPr id="118" name="TextBox 44"/>
            <p:cNvSpPr/>
            <p:nvPr/>
          </p:nvSpPr>
          <p:spPr>
            <a:xfrm>
              <a:off x="6012000" y="5581080"/>
              <a:ext cx="30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4,000 years a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Heathland forme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4"/>
            <p:cNvGrpSpPr/>
            <p:nvPr/>
          </p:nvGrpSpPr>
          <p:grpSpPr>
            <a:xfrm>
              <a:off x="6312240" y="4246560"/>
              <a:ext cx="2447640" cy="1444680"/>
              <a:chOff x="6312240" y="4246560"/>
              <a:chExt cx="2447640" cy="1444680"/>
            </a:xfrm>
          </p:grpSpPr>
          <p:grpSp>
            <p:nvGrpSpPr>
              <p:cNvPr id="120" name="Rectangle 37"/>
              <p:cNvGrpSpPr/>
              <p:nvPr/>
            </p:nvGrpSpPr>
            <p:grpSpPr>
              <a:xfrm>
                <a:off x="6312240" y="4246560"/>
                <a:ext cx="2447640" cy="1444680"/>
                <a:chOff x="6312240" y="4246560"/>
                <a:chExt cx="2447640" cy="1444680"/>
              </a:xfrm>
            </p:grpSpPr>
            <p:pic>
              <p:nvPicPr>
                <p:cNvPr id="121" name="Rectangle 37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312240" y="4246560"/>
                  <a:ext cx="2447640" cy="144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6321240" y="4250160"/>
                  <a:ext cx="2432880" cy="14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34"/>
              <p:cNvGrpSpPr/>
              <p:nvPr/>
            </p:nvGrpSpPr>
            <p:grpSpPr>
              <a:xfrm>
                <a:off x="6410880" y="4705920"/>
                <a:ext cx="2295720" cy="928440"/>
                <a:chOff x="6410880" y="4705920"/>
                <a:chExt cx="2295720" cy="928440"/>
              </a:xfrm>
            </p:grpSpPr>
            <p:grpSp>
              <p:nvGrpSpPr>
                <p:cNvPr id="124" name="Group 23"/>
                <p:cNvGrpSpPr/>
                <p:nvPr/>
              </p:nvGrpSpPr>
              <p:grpSpPr>
                <a:xfrm>
                  <a:off x="6485760" y="5033160"/>
                  <a:ext cx="2094480" cy="534240"/>
                  <a:chOff x="6485760" y="5033160"/>
                  <a:chExt cx="2094480" cy="534240"/>
                </a:xfrm>
              </p:grpSpPr>
              <p:pic>
                <p:nvPicPr>
                  <p:cNvPr id="125" name="Picture 4" descr="C:\Documents and Settings\plzlg\Local Settings\Temporary Internet Files\Content.IE5\OF6MLQSB\MC900446108[1].wmf"/>
                  <p:cNvPicPr/>
                  <p:nvPr/>
                </p:nvPicPr>
                <p:blipFill>
                  <a:blip r:embed="rId24"/>
                  <a:stretch/>
                </p:blipFill>
                <p:spPr>
                  <a:xfrm flipH="1">
                    <a:off x="6843240" y="5037480"/>
                    <a:ext cx="1737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6" name="Picture 4" descr="C:\Documents and Settings\plzlg\Local Settings\Temporary Internet Files\Content.IE5\OF6MLQSB\MC900446108[1].wm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85760" y="5033160"/>
                    <a:ext cx="1737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27" name="Picture 36" descr="untitled.bmp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31960" y="491616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7" descr="untitled.bmp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09080" y="508500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8" descr="untitled.bmp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745760" y="5021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9" descr="untitled.bmp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364160" y="470592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40" descr="untitled.bmp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6696720" y="491616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41" descr="untitled.bmp"/>
                <p:cNvPicPr/>
                <p:nvPr/>
              </p:nvPicPr>
              <p:blipFill>
                <a:blip r:embed="rId31"/>
                <a:stretch/>
              </p:blipFill>
              <p:spPr>
                <a:xfrm flipH="1">
                  <a:off x="6410880" y="5021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42" descr="untitled.bmp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019720" y="5048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3" descr="untitled.bmp"/>
                <p:cNvPicPr/>
                <p:nvPr/>
              </p:nvPicPr>
              <p:blipFill>
                <a:blip r:embed="rId33"/>
                <a:stretch/>
              </p:blipFill>
              <p:spPr>
                <a:xfrm flipH="1">
                  <a:off x="6792120" y="48110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4" descr="untitled.bmp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459560" y="491616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5" descr="untitled.bmp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650360" y="48110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6" descr="untitled.bmp"/>
                <p:cNvPicPr/>
                <p:nvPr/>
              </p:nvPicPr>
              <p:blipFill>
                <a:blip r:embed="rId36"/>
                <a:stretch/>
              </p:blipFill>
              <p:spPr>
                <a:xfrm flipH="1">
                  <a:off x="6994080" y="503388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7" descr="untitled.bmp"/>
                <p:cNvPicPr/>
                <p:nvPr/>
              </p:nvPicPr>
              <p:blipFill>
                <a:blip r:embed="rId37"/>
                <a:stretch/>
              </p:blipFill>
              <p:spPr>
                <a:xfrm flipH="1">
                  <a:off x="6982920" y="470592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8" descr="untitled.bmp"/>
                <p:cNvPicPr/>
                <p:nvPr/>
              </p:nvPicPr>
              <p:blipFill>
                <a:blip r:embed="rId38"/>
                <a:stretch/>
              </p:blipFill>
              <p:spPr>
                <a:xfrm flipH="1">
                  <a:off x="6696720" y="5021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live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6"/>
          <p:cNvGrpSpPr/>
          <p:nvPr/>
        </p:nvGrpSpPr>
        <p:grpSpPr>
          <a:xfrm>
            <a:off x="1874880" y="1628640"/>
            <a:ext cx="6497280" cy="4824720"/>
            <a:chOff x="1874880" y="1628640"/>
            <a:chExt cx="6497280" cy="4824720"/>
          </a:xfrm>
        </p:grpSpPr>
        <p:pic>
          <p:nvPicPr>
            <p:cNvPr id="146" name="Picture 15" descr=""/>
            <p:cNvPicPr/>
            <p:nvPr/>
          </p:nvPicPr>
          <p:blipFill>
            <a:blip r:embed="rId4"/>
            <a:stretch/>
          </p:blipFill>
          <p:spPr>
            <a:xfrm>
              <a:off x="1874880" y="2624040"/>
              <a:ext cx="5103720" cy="38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25"/>
            <p:cNvSpPr/>
            <p:nvPr/>
          </p:nvSpPr>
          <p:spPr>
            <a:xfrm>
              <a:off x="4869000" y="1628640"/>
              <a:ext cx="3503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ff0000"/>
                  </a:solidFill>
                  <a:latin typeface="Arial Black"/>
                </a:rPr>
                <a:t>Contains over 500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ff0000"/>
                  </a:solidFill>
                  <a:latin typeface="Arial Black"/>
                </a:rPr>
                <a:t>species of spider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1692360" y="1916280"/>
            <a:ext cx="6820560" cy="4665600"/>
            <a:chOff x="1692360" y="1916280"/>
            <a:chExt cx="6820560" cy="4665600"/>
          </a:xfrm>
        </p:grpSpPr>
        <p:grpSp>
          <p:nvGrpSpPr>
            <p:cNvPr id="149" name="Group 31"/>
            <p:cNvGrpSpPr/>
            <p:nvPr/>
          </p:nvGrpSpPr>
          <p:grpSpPr>
            <a:xfrm>
              <a:off x="1692360" y="1916280"/>
              <a:ext cx="6820560" cy="4665600"/>
              <a:chOff x="1692360" y="1916280"/>
              <a:chExt cx="6820560" cy="4665600"/>
            </a:xfrm>
          </p:grpSpPr>
          <p:pic>
            <p:nvPicPr>
              <p:cNvPr id="150" name="Picture 28" descr="Female Adder barbrook March 21 2009 (2).JPG"/>
              <p:cNvPicPr/>
              <p:nvPr/>
            </p:nvPicPr>
            <p:blipFill>
              <a:blip r:embed="rId5"/>
              <a:stretch/>
            </p:blipFill>
            <p:spPr>
              <a:xfrm>
                <a:off x="1692360" y="2924280"/>
                <a:ext cx="5485680" cy="36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Box 30"/>
              <p:cNvSpPr/>
              <p:nvPr/>
            </p:nvSpPr>
            <p:spPr>
              <a:xfrm>
                <a:off x="3731400" y="1916280"/>
                <a:ext cx="47815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ff00"/>
                    </a:solidFill>
                    <a:latin typeface="Arial Black"/>
                  </a:rPr>
                  <a:t>Most important habitat in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ff00"/>
                    </a:solidFill>
                    <a:latin typeface="Arial Black"/>
                  </a:rPr>
                  <a:t>the UK for reptiles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Box 15"/>
            <p:cNvSpPr/>
            <p:nvPr/>
          </p:nvSpPr>
          <p:spPr>
            <a:xfrm rot="16200000">
              <a:off x="6426360" y="3242880"/>
              <a:ext cx="12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© Carl Corbi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4"/>
          <p:cNvGrpSpPr/>
          <p:nvPr/>
        </p:nvGrpSpPr>
        <p:grpSpPr>
          <a:xfrm>
            <a:off x="152280" y="1916280"/>
            <a:ext cx="8991720" cy="4354200"/>
            <a:chOff x="152280" y="1916280"/>
            <a:chExt cx="8991720" cy="4354200"/>
          </a:xfrm>
        </p:grpSpPr>
        <p:pic>
          <p:nvPicPr>
            <p:cNvPr id="154" name="Picture 32" descr=""/>
            <p:cNvPicPr/>
            <p:nvPr/>
          </p:nvPicPr>
          <p:blipFill>
            <a:blip r:embed="rId6"/>
            <a:stretch/>
          </p:blipFill>
          <p:spPr>
            <a:xfrm>
              <a:off x="1195920" y="1916280"/>
              <a:ext cx="712188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33"/>
            <p:cNvSpPr/>
            <p:nvPr/>
          </p:nvSpPr>
          <p:spPr>
            <a:xfrm>
              <a:off x="152280" y="5292720"/>
              <a:ext cx="89917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0000"/>
                  </a:solidFill>
                  <a:latin typeface="Arial Black"/>
                </a:rPr>
                <a:t>Four bird species associated primarily with this habita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 Black"/>
                </a:rPr>
                <a:t>Three are on the Red L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hland is a very rare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324000" y="2133720"/>
            <a:ext cx="5256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ce 1800 the UK has lost over 80% of it’s lowland heathl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thland is rarer than tropical rainfores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UK still has 20% of the world’s total amou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C:\Documents and Settings\plzlg\Local Settings\Temporary Internet Files\Content.IE5\2WFLFRBK\MC910215880[1].jpg"/>
          <p:cNvPicPr/>
          <p:nvPr/>
        </p:nvPicPr>
        <p:blipFill>
          <a:blip r:embed="rId4"/>
          <a:stretch/>
        </p:blipFill>
        <p:spPr>
          <a:xfrm>
            <a:off x="5867280" y="1773360"/>
            <a:ext cx="3141720" cy="313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plzlg\Local Settings\Temporary Internet Files\Content.IE5\C4S0K0AL\MC900129223[1].wmf"/>
          <p:cNvPicPr/>
          <p:nvPr/>
        </p:nvPicPr>
        <p:blipFill>
          <a:blip r:embed="rId5"/>
          <a:stretch/>
        </p:blipFill>
        <p:spPr>
          <a:xfrm>
            <a:off x="6032520" y="4437000"/>
            <a:ext cx="28130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threatening heath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324000" y="2133720"/>
            <a:ext cx="856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s due to fire and house buil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mage from inappropriate use (e.g. dirt bike rid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:\Documents and Settings\plzlg\Local Settings\Temporary Internet Files\Content.IE5\8IPUW9M3\MP900448748[1].jpg"/>
          <p:cNvPicPr/>
          <p:nvPr/>
        </p:nvPicPr>
        <p:blipFill>
          <a:blip r:embed="rId4"/>
          <a:stretch/>
        </p:blipFill>
        <p:spPr>
          <a:xfrm>
            <a:off x="179280" y="4005360"/>
            <a:ext cx="2640240" cy="197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C:\Documents and Settings\plzlg\Local Settings\Temporary Internet Files\Content.IE5\K6CLVPNQ\MP900448679[1].jpg"/>
          <p:cNvPicPr/>
          <p:nvPr/>
        </p:nvPicPr>
        <p:blipFill>
          <a:blip r:embed="rId5"/>
          <a:stretch/>
        </p:blipFill>
        <p:spPr>
          <a:xfrm>
            <a:off x="6300720" y="4005360"/>
            <a:ext cx="2657520" cy="197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C:\Documents and Settings\plzlg\Local Settings\Temporary Internet Files\Content.IE5\V61DQJ5I\MP900438812[1].jpg"/>
          <p:cNvPicPr/>
          <p:nvPr/>
        </p:nvPicPr>
        <p:blipFill>
          <a:blip r:embed="rId6"/>
          <a:stretch/>
        </p:blipFill>
        <p:spPr>
          <a:xfrm>
            <a:off x="3252960" y="4005360"/>
            <a:ext cx="2614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2:41:47Z</dcterms:created>
  <dc:creator>Information Services</dc:creator>
  <dc:description/>
  <dc:language>en-US</dc:language>
  <cp:lastModifiedBy>Information Services</cp:lastModifiedBy>
  <dcterms:modified xsi:type="dcterms:W3CDTF">2012-08-23T09:06:09Z</dcterms:modified>
  <cp:revision>70</cp:revision>
  <dc:subject/>
  <dc:title>Slide 1</dc:title>
</cp:coreProperties>
</file>