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10160" indent="-430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2440" indent="-4305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87680" indent="-430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20320" indent="-430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20320" indent="-43092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20320" indent="-43092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990360" y="640044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ou will need a model kit, craft knife and a board to cut 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222640" y="203040"/>
            <a:ext cx="5715000" cy="59072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91640" y="6652080"/>
            <a:ext cx="8568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A battery holder, motor, gearbox and switc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670840" y="6309360"/>
            <a:ext cx="481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t all starts to take shap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6713280" y="5598000"/>
            <a:ext cx="3128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A happy builder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279880" y="6906240"/>
            <a:ext cx="559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Adding the finishing touche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886200" y="6588720"/>
            <a:ext cx="2379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ady to go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-114480" y="0"/>
            <a:ext cx="10160280" cy="7620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3529080" y="6502320"/>
            <a:ext cx="308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ttery in plac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361280" y="6438960"/>
            <a:ext cx="1841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We did i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69800" y="165240"/>
            <a:ext cx="10160280" cy="76197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6810840" y="666468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Go Go G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838760" y="6921360"/>
            <a:ext cx="509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Everything else is in the box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585800" y="276840"/>
            <a:ext cx="6982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pen the packets as you need them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00880" y="5801040"/>
            <a:ext cx="695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he grown up should do the cuttin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825920" y="6715440"/>
            <a:ext cx="6500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Having small hands can be useful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404160" y="7109280"/>
            <a:ext cx="4995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`Careful with that grease.’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855160" y="6880680"/>
            <a:ext cx="444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Follow the instruction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10480" y="5940720"/>
            <a:ext cx="553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ome bits are tricky to mak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698480" y="674100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ake care with that craft knife dad.’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8217000" y="76320"/>
            <a:ext cx="1828800" cy="88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