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6BA9-2D44-45A7-9EDE-99602C18F4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C322-2DE0-46B6-88E4-1730BA234E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EB5B-1CF3-4493-820E-43A6792B99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1F47-CBC4-430B-8369-87327394AC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177B-A7B6-42CC-8F39-FF600173EA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240C-6AEA-480F-BA13-EE5A4D8BBE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D67B-7AA7-4EE2-A11D-1CF122D956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F850-D188-4185-8FFE-13D6E4244F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0382-A3CB-4C17-951E-61BD822FA6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A9BD-5D13-4A44-928F-F6E7E39998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CE47-375F-48C1-A246-B4ACCCCC5A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A39C-45ED-4015-8463-D437CFF0E2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9AA9-ABB9-4E4C-B200-CDD3B569E3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0AFD-3AA9-4741-9B8D-9CE93B9B06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93CB-43EA-41C0-8D96-549265A38F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CAB2-59C3-44EC-A422-37696B22FD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F194-CCAF-4B59-96A8-74FA454E4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0366-BD88-4C10-B79B-A6027ED3AB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9A2C5-1EFE-4D9A-ABEA-C1E1498824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705E-7C36-4E73-A60F-DB24ACE3E3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2B4A-3571-4AD5-A273-868AEA5D13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7485-CD61-4C9C-876C-F54923A2A2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7621-112B-4F5E-AC9C-B5C459AE77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0315-8104-46B8-BCFD-F3B80BBEBB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1D9-8272-424F-96F2-3DC7377812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893-CD85-4134-A61E-1A76142CD0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D52-B456-4FFC-8391-9A89DB446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6AA-C378-4092-B329-C1B935C3CA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C1E-5D1B-44D4-8D17-C0FA60EF5E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2B0-A410-42C3-A9F3-AF55BB2BA0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717-AE52-46C3-8A12-697FA40CE6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658-959A-4AD6-9554-BC98E4C814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C0C-E15F-4C9B-9CDB-8C407925AF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A34-7D2B-4FFD-892C-79BB1C814D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3AA-0766-42FD-938A-C81E90446D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980-D21F-4BAA-A86A-0D1890DB5D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00D0C-892C-439F-A1E6-05204DEA5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CC098-CDBC-48E2-AA1C-6BC424CD2E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07ADF-3E13-4F8E-89EB-930ACDC44A7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B173D-0D2F-4B75-B494-157DEB1B86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F93C1-D1DF-431C-8982-7B9A5EBA33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276F8-611F-44F3-BE93-399C6B0028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D129B-76A3-4B39-9743-FD111367215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EB8EB-10D4-4D54-8CF3-F3F941EA10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EACE4-D7B0-4DC5-B60F-A250B381EA8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C802C-FD9D-4F03-A6F8-2A17A5BEE4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24F52-FE4B-4180-B054-73AFB00C0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5E81C-F87D-4E50-B5EE-301BA4773D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CD85E-B5D3-4FFF-803B-E96EA5107CF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ECB93-8F50-4B32-BDC6-C61461A4601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F666-CF52-4FFC-BEAE-2A91A82FDFD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B055C-6D3C-4362-AE79-E122DD5CA5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E5DE8-4BEA-42A8-8A8A-A5F9685DB2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EE40C-6919-430B-AB79-BC4E3CB8E30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CAD2A-C8B2-4188-A078-B98F0113585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D43E9-9984-42FB-90CA-96438892A6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614B4-85B8-4C6C-B4BB-17ECB6BDD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B9C3F-3D95-46A7-93CB-1305C76290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5F60C-B973-4938-ACAF-EF89AD8ADB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73E46-DA72-483C-A4F6-B3005B78A8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0D18-BFA8-498A-84F4-E4B5A4CC06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2C4C-96BE-4FF1-BEFD-D21EDD44CE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203A-20B1-40F9-9C87-F07039D4C1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DDD4-C965-4327-9C52-9220AA374F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5FD4-9D22-4931-9E0B-720CAD949B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C6A7-2091-4747-B09E-5CC5876E58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3912-5979-42E1-8D09-92EF0025C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AA40-4176-44B4-BA88-4E689FBFB1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F84F-2A37-4957-B1AA-D5DEEA7CFB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50B4-7F21-48A9-B6D3-5E7ADD8FBF8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4E1F-4A2B-4918-8932-D583781080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7AE5-BD98-4A82-B850-C6D224E36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75A-02E1-4E78-8DF6-4B0A3E2DD9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B10F-A4D2-4915-B586-6ADD64D4AA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CDF4-4BF5-40D6-A736-D5954B22D1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8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174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AF27-8568-4DED-A15C-BE16FF74DB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3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4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9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0" name="Group 13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31" name="Picture 14" descr=""/>
            <p:cNvPicPr/>
            <p:nvPr/>
          </p:nvPicPr>
          <p:blipFill>
            <a:blip r:embed="rId4"/>
            <a:srcRect l="0" t="0" r="30587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5" descr=""/>
            <p:cNvPicPr/>
            <p:nvPr/>
          </p:nvPicPr>
          <p:blipFill>
            <a:blip r:embed="rId5"/>
            <a:srcRect l="76373" t="0" r="0" b="1516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Rectangle 14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35" name="Picture 16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37" name="TextBox 15"/>
              <p:cNvSpPr/>
              <p:nvPr/>
            </p:nvSpPr>
            <p:spPr>
              <a:xfrm>
                <a:off x="431640" y="4213080"/>
                <a:ext cx="273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38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640" y="4624920"/>
                <a:ext cx="310428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D240-243A-44C8-856D-CB14565391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0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115-87AB-48F4-AFC8-86B5416A55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5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1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EDD6-9E26-4E2C-BDBB-B1603C08C873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23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34680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36240" y="150624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revi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learning from this unit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re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 presentation to meet specified criteri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valu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ir own work and othe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6BA9-493B-4B8A-B51A-1F0107266F08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29" name="Group 19" descr=""/>
          <p:cNvPicPr/>
          <p:nvPr/>
        </p:nvPicPr>
        <p:blipFill>
          <a:blip r:embed="rId2"/>
          <a:stretch/>
        </p:blipFill>
        <p:spPr>
          <a:xfrm>
            <a:off x="7765920" y="3224160"/>
            <a:ext cx="33163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07218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What makes a good presentation?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36240" y="1506240"/>
            <a:ext cx="115189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for the audience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lear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imag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asy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o read text and font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Bullet points, or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hort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sentenc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Use of only a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f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colou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Keep i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imp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!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0018-A8F0-48AB-9B89-35275A947264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6850080" y="1623960"/>
            <a:ext cx="1441440" cy="1406520"/>
            <a:chOff x="6850080" y="1623960"/>
            <a:chExt cx="1441440" cy="1406520"/>
          </a:xfrm>
        </p:grpSpPr>
        <p:sp>
          <p:nvSpPr>
            <p:cNvPr id="334" name="Freeform: Shape 4"/>
            <p:cNvSpPr/>
            <p:nvPr/>
          </p:nvSpPr>
          <p:spPr>
            <a:xfrm>
              <a:off x="6982560" y="172044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5" name="Freeform: Shape 5"/>
            <p:cNvSpPr/>
            <p:nvPr/>
          </p:nvSpPr>
          <p:spPr>
            <a:xfrm>
              <a:off x="6850080" y="162396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6" name="Freeform: Shape 6"/>
            <p:cNvSpPr/>
            <p:nvPr/>
          </p:nvSpPr>
          <p:spPr>
            <a:xfrm>
              <a:off x="7827480" y="20001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7" name="Freeform: Shape 7"/>
            <p:cNvSpPr/>
            <p:nvPr/>
          </p:nvSpPr>
          <p:spPr>
            <a:xfrm>
              <a:off x="7363080" y="1947240"/>
              <a:ext cx="470520" cy="59148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8" name="Freeform: Shape 8"/>
            <p:cNvSpPr/>
            <p:nvPr/>
          </p:nvSpPr>
          <p:spPr>
            <a:xfrm>
              <a:off x="7181640" y="22161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39" name="Group 26"/>
          <p:cNvGrpSpPr/>
          <p:nvPr/>
        </p:nvGrpSpPr>
        <p:grpSpPr>
          <a:xfrm>
            <a:off x="8761320" y="2120760"/>
            <a:ext cx="1862280" cy="1816200"/>
            <a:chOff x="8761320" y="2120760"/>
            <a:chExt cx="1862280" cy="1816200"/>
          </a:xfrm>
        </p:grpSpPr>
        <p:sp>
          <p:nvSpPr>
            <p:cNvPr id="340" name="Freeform: Shape 27"/>
            <p:cNvSpPr/>
            <p:nvPr/>
          </p:nvSpPr>
          <p:spPr>
            <a:xfrm>
              <a:off x="8932680" y="224532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1" name="Freeform: Shape 28"/>
            <p:cNvSpPr/>
            <p:nvPr/>
          </p:nvSpPr>
          <p:spPr>
            <a:xfrm>
              <a:off x="8761320" y="212076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2" name="Freeform: Shape 29"/>
            <p:cNvSpPr/>
            <p:nvPr/>
          </p:nvSpPr>
          <p:spPr>
            <a:xfrm>
              <a:off x="10024200" y="2606400"/>
              <a:ext cx="7560" cy="75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3" name="Freeform: Shape 30"/>
            <p:cNvSpPr/>
            <p:nvPr/>
          </p:nvSpPr>
          <p:spPr>
            <a:xfrm>
              <a:off x="9424080" y="2538360"/>
              <a:ext cx="607680" cy="7639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4" name="Freeform: Shape 31"/>
            <p:cNvSpPr/>
            <p:nvPr/>
          </p:nvSpPr>
          <p:spPr>
            <a:xfrm>
              <a:off x="9189720" y="2885760"/>
              <a:ext cx="233640" cy="41292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45" name="Group 32"/>
          <p:cNvGrpSpPr/>
          <p:nvPr/>
        </p:nvGrpSpPr>
        <p:grpSpPr>
          <a:xfrm>
            <a:off x="7219800" y="3624120"/>
            <a:ext cx="1441440" cy="1405080"/>
            <a:chOff x="7219800" y="3624120"/>
            <a:chExt cx="1441440" cy="1405080"/>
          </a:xfrm>
        </p:grpSpPr>
        <p:sp>
          <p:nvSpPr>
            <p:cNvPr id="346" name="Freeform: Shape 33"/>
            <p:cNvSpPr/>
            <p:nvPr/>
          </p:nvSpPr>
          <p:spPr>
            <a:xfrm>
              <a:off x="7352280" y="372060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7" name="Freeform: Shape 34"/>
            <p:cNvSpPr/>
            <p:nvPr/>
          </p:nvSpPr>
          <p:spPr>
            <a:xfrm>
              <a:off x="7219800" y="362412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8" name="Freeform: Shape 35"/>
            <p:cNvSpPr/>
            <p:nvPr/>
          </p:nvSpPr>
          <p:spPr>
            <a:xfrm>
              <a:off x="8197200" y="39999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9" name="Freeform: Shape 36"/>
            <p:cNvSpPr/>
            <p:nvPr/>
          </p:nvSpPr>
          <p:spPr>
            <a:xfrm>
              <a:off x="7732800" y="3947040"/>
              <a:ext cx="470520" cy="5911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0" name="Freeform: Shape 37"/>
            <p:cNvSpPr/>
            <p:nvPr/>
          </p:nvSpPr>
          <p:spPr>
            <a:xfrm>
              <a:off x="7551360" y="42159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4475160"/>
            <a:ext cx="1844640" cy="238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482904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Success criteria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C7A9-C31F-4860-8327-87785C739C78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579600" y="137304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Explai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what you have learn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227640" y="137304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Be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for your audienc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(your peers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579600" y="2916360"/>
            <a:ext cx="11032920" cy="128880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Includ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t least: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r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lide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uitable image (and the source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Italian word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creenshot of your spreadshee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579600" y="447516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Use no more tha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fonts and colours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6227640" y="447516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Check for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pelling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punctuatio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6800-01B4-4424-B917-DDBCA00DC33F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10:09Z</dcterms:created>
  <dc:creator>Nicola Ramsay</dc:creator>
  <dc:description/>
  <dc:language>en-US</dc:language>
  <cp:lastModifiedBy>Isabel Boulter</cp:lastModifiedBy>
  <dcterms:modified xsi:type="dcterms:W3CDTF">2019-11-08T12:37:53Z</dcterms:modified>
  <cp:revision>105</cp:revision>
  <dc:subject/>
  <dc:title>PowerPoint Presentation</dc:title>
</cp:coreProperties>
</file>