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12193588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1AC2-7CF1-42EC-AD5A-2B02463517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D283-7E9F-4F22-8F71-F5257D414F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11A2-29E7-4559-98E6-1696C056A6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97D9-D797-42A7-99C2-A33D1609F7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005F-7599-4498-895F-C223B8EAD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591E-EA67-4533-83A8-1AAA15FA02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4A26-C0B7-4837-9AC4-76CDAD734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9BF3-4F68-4C39-A1A3-4DF28D4789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6A7D-9DD4-4536-B20F-3760067969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0982-45C8-4803-B1AB-2DBD06482C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81BD-FF88-41C5-A481-02F141DC96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DD53-34F7-4DE6-949C-5AD9603DDB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3E26-347B-40AD-BD7C-45B777A701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CEE5-FA18-49B7-BD25-B45CDBF4EF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5EF3-0825-4600-A66B-984F6C1571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58F8-32FF-40F1-A09C-B33663D40A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9B6E-CE0E-468E-AB63-2F7248560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48CA-7F4C-4973-8E11-5ADB479EA4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7C40-24C9-48A4-8AE9-C0B2F7B62C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4B1A-3102-4C97-AA48-A75A1C8BC8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D35E-21F3-454E-AB10-54D857D5FB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C12F-43CD-49EA-B090-84458C8153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3534-0914-478C-86D4-3D13235545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5492-E329-4480-B382-1E7BD515E5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B08-CDDA-4C2F-83F0-6E8C74963E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30C-C6A7-4D27-8F1C-550D6E7576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E98-43C1-4C24-B42E-D58583BCA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D4B-D2E0-4DA5-9DCE-140385315A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C57-9FEA-42FA-98B4-B569C51C55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C64-15D1-4ACA-8330-24E3A11AFB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28B-8534-40FE-A7F1-AACEB33971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93B-C23D-48E7-A6B9-D380A3ACDB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AD7-851E-4D4E-BCA1-957F02B3A9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544-5F72-4D36-B170-929EFF94F9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751-BC2A-4738-B85E-11E6BDA231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803-072B-47E0-82DF-8733C998D2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9C72A-5E1F-448E-AEDC-7F1FA8710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F8989-89BC-46B6-BE24-A9C6B57489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8AD70-1039-47B7-927E-8FD59C2F36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750C7-51BC-4BA7-8986-E6E3C328DF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84A56-8176-4F14-ABC7-AAD1452A9E1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9F4D2-1FB3-441F-B4F7-15439617B7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28E2A-06F6-4180-8976-E00815178E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81792-4F2D-4CF7-903F-9FA359F8A9E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6CC51-7676-4A2D-88AB-A6D7F22930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0EA73-9E4F-4C5F-92F8-A27A325082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26FF0-1331-4B42-9C78-675B7E5A1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3C1BB-D5A7-431C-BA71-176647E9BF7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3B275-BEAB-4AE1-9F3E-7B8058A0D28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D2EB1-B107-40B9-AC32-6BF4C9362C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84B59-B262-4579-8044-D075684639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FD00B-8C59-47A2-BE79-C2EC8A3654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291E8-EC3F-4E31-AACA-BFDCD6B8E0D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6D647-BE6B-4153-BA34-35EB895219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DA2DA-3E1C-4B6A-9E26-63F52BAB58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B5555-C993-4CB9-918E-D44CC2F72A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BD661-598C-43BB-8F3E-7BB0C17D8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80296-E3C6-41FB-92FD-E25099873AD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F308E-8FD1-475D-8B4E-97A066F47A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78EE8-DF3A-4E71-B3C0-C19E134BC6C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DBEF-11E3-4ED3-9825-216DEA8169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D40A-CCA5-4215-AAB5-0551F69995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4661-4C05-47D2-81D4-47B5DAA7CE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8047-6B75-4263-BD42-132C7E2489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DF62-9338-4AB4-A664-D31FED53E9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41B4-BA06-47C6-80E0-0C4241C3FEE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C388-F810-4465-92F5-40D5DCAAE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50C7-99D8-49CF-9D62-A4BE07B784B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0991-8EE0-4CC4-BBC2-2731712344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1BCB-2921-4428-B054-B9CDE39072B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2843-3397-4CAF-A743-899B07943C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C295-E9C6-4C8B-A72A-A4A1AF504B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E046A-29C7-42C7-81FA-74F28FC45AA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1D8F1-B1E3-4C9C-B611-F31DE2C63C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38BEB-BFEE-4996-BB69-64529EB1EC4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28E9C-9131-43AE-B91A-428B1A9913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9807F-62DE-4F03-8B5B-A34C411A8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0DA2D-4495-4F41-A467-3AAD77EBC7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DBF0E-F003-4C02-9B3B-FC824D52B32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530C0-B9A8-439A-B356-BA84909B24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9E308-A595-4FF2-BBED-021C0A950C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DAED1-C19B-4875-8C9E-6B64BDDDE86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160D0-2395-41EE-BB52-08EB6F1A65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1987D-35DE-40BB-AFFD-373268495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A449-8A07-4F7C-B4C2-459FFACEE3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02E6-D26B-4667-A990-4AFC57BEB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9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7C93-A54F-4535-9A05-8D72B435B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9B92-9913-4E83-B13D-35A1C0494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2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3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4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5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218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629F-4CFB-47C2-BE5A-679B31EA4A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7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8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7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74" name="Picture 13" descr=""/>
            <p:cNvPicPr/>
            <p:nvPr/>
          </p:nvPicPr>
          <p:blipFill>
            <a:blip r:embed="rId4"/>
            <a:srcRect l="0" t="0" r="30587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4" descr=""/>
            <p:cNvPicPr/>
            <p:nvPr/>
          </p:nvPicPr>
          <p:blipFill>
            <a:blip r:embed="rId5"/>
            <a:srcRect l="76373" t="0" r="0" b="1516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Rectangle 13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77" name="Group 14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78" name="Picture 15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80" name="TextBox 15"/>
              <p:cNvSpPr/>
              <p:nvPr/>
            </p:nvSpPr>
            <p:spPr>
              <a:xfrm>
                <a:off x="431640" y="4213080"/>
                <a:ext cx="273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81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640" y="4624920"/>
                <a:ext cx="310428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403A-2DEF-4151-8C30-B2E0729CEE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2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3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7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9AEE-1954-49BD-922D-CACA897EB7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3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4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DCAD-C562-45C2-B3C3-4E1532FB3B83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66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60037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Adjusting the total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5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20CB-6E84-46E1-9E3D-A10180BFCABC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54" name="Group 14" descr=""/>
          <p:cNvPicPr/>
          <p:nvPr/>
        </p:nvPicPr>
        <p:blipFill>
          <a:blip r:embed="rId2"/>
          <a:stretch/>
        </p:blipFill>
        <p:spPr>
          <a:xfrm>
            <a:off x="8931240" y="3133800"/>
            <a:ext cx="2048040" cy="2724120"/>
          </a:xfrm>
          <a:prstGeom prst="rect">
            <a:avLst/>
          </a:prstGeom>
          <a:ln w="0">
            <a:noFill/>
          </a:ln>
        </p:spPr>
      </p:pic>
      <p:pic>
        <p:nvPicPr>
          <p:cNvPr id="455" name="Group 26" descr=""/>
          <p:cNvPicPr/>
          <p:nvPr/>
        </p:nvPicPr>
        <p:blipFill>
          <a:blip r:embed="rId3"/>
          <a:stretch/>
        </p:blipFill>
        <p:spPr>
          <a:xfrm>
            <a:off x="689040" y="1822320"/>
            <a:ext cx="2286000" cy="3164040"/>
          </a:xfrm>
          <a:prstGeom prst="rect">
            <a:avLst/>
          </a:prstGeom>
          <a:ln w="0">
            <a:noFill/>
          </a:ln>
        </p:spPr>
      </p:pic>
      <p:pic>
        <p:nvPicPr>
          <p:cNvPr id="456" name="Group 29" descr=""/>
          <p:cNvPicPr/>
          <p:nvPr/>
        </p:nvPicPr>
        <p:blipFill>
          <a:blip r:embed="rId4"/>
          <a:stretch/>
        </p:blipFill>
        <p:spPr>
          <a:xfrm>
            <a:off x="8016840" y="317520"/>
            <a:ext cx="1182600" cy="1749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3" descr=""/>
          <p:cNvPicPr/>
          <p:nvPr/>
        </p:nvPicPr>
        <p:blipFill>
          <a:blip r:embed="rId5"/>
          <a:stretch/>
        </p:blipFill>
        <p:spPr>
          <a:xfrm>
            <a:off x="3409920" y="2513160"/>
            <a:ext cx="5372280" cy="69840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sp>
        <p:nvSpPr>
          <p:cNvPr id="458" name="Rectangle 32"/>
          <p:cNvSpPr/>
          <p:nvPr/>
        </p:nvSpPr>
        <p:spPr>
          <a:xfrm>
            <a:off x="3409920" y="3409920"/>
            <a:ext cx="5372280" cy="144612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Why and how might you need to adjust the =SUM() function? 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6240" y="194760"/>
            <a:ext cx="7086600" cy="1189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omplete the costing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60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C309-A6E5-45E3-910E-568B1BAC5B42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61" name="Group 6" descr=""/>
          <p:cNvPicPr/>
          <p:nvPr/>
        </p:nvPicPr>
        <p:blipFill>
          <a:blip r:embed="rId2"/>
          <a:stretch/>
        </p:blipFill>
        <p:spPr>
          <a:xfrm>
            <a:off x="9004320" y="3548160"/>
            <a:ext cx="2151000" cy="2547720"/>
          </a:xfrm>
          <a:prstGeom prst="rect">
            <a:avLst/>
          </a:prstGeom>
          <a:ln w="0">
            <a:noFill/>
          </a:ln>
        </p:spPr>
      </p:pic>
      <p:pic>
        <p:nvPicPr>
          <p:cNvPr id="462" name="Group 9" descr=""/>
          <p:cNvPicPr/>
          <p:nvPr/>
        </p:nvPicPr>
        <p:blipFill>
          <a:blip r:embed="rId3"/>
          <a:stretch/>
        </p:blipFill>
        <p:spPr>
          <a:xfrm>
            <a:off x="987480" y="2189160"/>
            <a:ext cx="1706400" cy="2620800"/>
          </a:xfrm>
          <a:prstGeom prst="rect">
            <a:avLst/>
          </a:prstGeom>
          <a:ln w="0">
            <a:noFill/>
          </a:ln>
        </p:spPr>
      </p:pic>
      <p:pic>
        <p:nvPicPr>
          <p:cNvPr id="463" name="Group 12" descr=""/>
          <p:cNvPicPr/>
          <p:nvPr/>
        </p:nvPicPr>
        <p:blipFill>
          <a:blip r:embed="rId4"/>
          <a:stretch/>
        </p:blipFill>
        <p:spPr>
          <a:xfrm>
            <a:off x="9577440" y="1487520"/>
            <a:ext cx="968400" cy="13590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5"/>
          <p:cNvSpPr/>
          <p:nvPr/>
        </p:nvSpPr>
        <p:spPr>
          <a:xfrm>
            <a:off x="3081240" y="2219400"/>
            <a:ext cx="6029280" cy="16365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Add the data attributes and values for the remaining toppings, including their price,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number of pizzas they will make and how many pupils wanted each topping 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5" name="Rectangle 16"/>
          <p:cNvSpPr/>
          <p:nvPr/>
        </p:nvSpPr>
        <p:spPr>
          <a:xfrm>
            <a:off x="3081240" y="4003560"/>
            <a:ext cx="6029280" cy="14493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Add the formula to calculate the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quantities needed, the costs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and the new total cost</a:t>
            </a:r>
            <a:endParaRPr b="0" lang="en-US" sz="2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466" name="Title 3452"/>
          <p:cNvGrpSpPr/>
          <p:nvPr/>
        </p:nvGrpSpPr>
        <p:grpSpPr>
          <a:xfrm>
            <a:off x="4645080" y="1047600"/>
            <a:ext cx="2901960" cy="1189080"/>
            <a:chOff x="4645080" y="1047600"/>
            <a:chExt cx="2901960" cy="1189080"/>
          </a:xfrm>
        </p:grpSpPr>
        <p:pic>
          <p:nvPicPr>
            <p:cNvPr id="467" name="Title 3452" descr=""/>
            <p:cNvPicPr/>
            <p:nvPr/>
          </p:nvPicPr>
          <p:blipFill>
            <a:blip r:embed="rId5"/>
            <a:stretch/>
          </p:blipFill>
          <p:spPr>
            <a:xfrm>
              <a:off x="4646520" y="1047600"/>
              <a:ext cx="28987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645080" y="1047600"/>
              <a:ext cx="290196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400aa"/>
                  </a:solidFill>
                  <a:latin typeface="Calibri"/>
                  <a:ea typeface="Calibri"/>
                </a:rPr>
                <a:t>Can you?</a:t>
              </a:r>
              <a:endParaRPr b="0" lang="en-US" sz="40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8A89-A729-4DF6-97B9-A7E524E0A055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95120" y="28440"/>
            <a:ext cx="10320480" cy="672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FF1A-C60B-4191-9B9D-23E132B81479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2323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36240" y="1496880"/>
            <a:ext cx="1037412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predict wha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hanging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 spreadsheet will do </a:t>
            </a:r>
            <a:br>
              <a:rPr sz="2800"/>
            </a:b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(formula or data changes)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apply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nd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valu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changes made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say what the spreadshee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modelling cyc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i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say how data modelling can help with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cision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making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895F-4D5B-41F3-986E-D70533A8A36A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72" name="Group 19" descr=""/>
          <p:cNvPicPr/>
          <p:nvPr/>
        </p:nvPicPr>
        <p:blipFill>
          <a:blip r:embed="rId2"/>
          <a:stretch/>
        </p:blipFill>
        <p:spPr>
          <a:xfrm>
            <a:off x="9150480" y="4187880"/>
            <a:ext cx="213984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5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5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5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DF2D-771C-453A-96E1-2893E827294B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74" name="Group 6"/>
          <p:cNvGrpSpPr/>
          <p:nvPr/>
        </p:nvGrpSpPr>
        <p:grpSpPr>
          <a:xfrm>
            <a:off x="407880" y="277920"/>
            <a:ext cx="8518680" cy="6302160"/>
            <a:chOff x="407880" y="277920"/>
            <a:chExt cx="8518680" cy="6302160"/>
          </a:xfrm>
        </p:grpSpPr>
        <p:pic>
          <p:nvPicPr>
            <p:cNvPr id="375" name="Picture 4" descr=""/>
            <p:cNvPicPr/>
            <p:nvPr/>
          </p:nvPicPr>
          <p:blipFill>
            <a:blip r:embed="rId1"/>
            <a:stretch/>
          </p:blipFill>
          <p:spPr>
            <a:xfrm>
              <a:off x="407880" y="3429000"/>
              <a:ext cx="8518680" cy="3151080"/>
            </a:xfrm>
            <a:prstGeom prst="rect">
              <a:avLst/>
            </a:prstGeom>
            <a:ln w="19080">
              <a:solidFill>
                <a:srgbClr val="6400aa"/>
              </a:solidFill>
              <a:miter/>
            </a:ln>
          </p:spPr>
        </p:pic>
        <p:pic>
          <p:nvPicPr>
            <p:cNvPr id="376" name="Picture 5" descr=""/>
            <p:cNvPicPr/>
            <p:nvPr/>
          </p:nvPicPr>
          <p:blipFill>
            <a:blip r:embed="rId2"/>
            <a:stretch/>
          </p:blipFill>
          <p:spPr>
            <a:xfrm>
              <a:off x="407880" y="277920"/>
              <a:ext cx="8518680" cy="3039840"/>
            </a:xfrm>
            <a:prstGeom prst="rect">
              <a:avLst/>
            </a:prstGeom>
            <a:ln w="19080">
              <a:solidFill>
                <a:srgbClr val="6400aa"/>
              </a:solidFill>
              <a:miter/>
            </a:ln>
          </p:spPr>
        </p:pic>
      </p:grpSp>
      <p:sp>
        <p:nvSpPr>
          <p:cNvPr id="377" name="Rectangle 7"/>
          <p:cNvSpPr/>
          <p:nvPr/>
        </p:nvSpPr>
        <p:spPr>
          <a:xfrm>
            <a:off x="9085320" y="2533680"/>
            <a:ext cx="2698560" cy="842760"/>
          </a:xfrm>
          <a:prstGeom prst="rect">
            <a:avLst/>
          </a:prstGeom>
          <a:solidFill>
            <a:srgbClr val="6400aa"/>
          </a:solidFill>
          <a:ln w="12600">
            <a:solidFill>
              <a:srgbClr val="47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What are these formulas doing? 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6256440" y="1712520"/>
            <a:ext cx="4316400" cy="967320"/>
            <a:chOff x="6256440" y="1712520"/>
            <a:chExt cx="4316400" cy="967320"/>
          </a:xfrm>
        </p:grpSpPr>
        <p:sp>
          <p:nvSpPr>
            <p:cNvPr id="379" name="Rectangle 11"/>
            <p:cNvSpPr/>
            <p:nvPr/>
          </p:nvSpPr>
          <p:spPr>
            <a:xfrm>
              <a:off x="10469880" y="1780920"/>
              <a:ext cx="102960" cy="89892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0" name="Arrow: Right 12"/>
            <p:cNvSpPr/>
            <p:nvPr/>
          </p:nvSpPr>
          <p:spPr>
            <a:xfrm rot="10800000">
              <a:off x="6256440" y="1712160"/>
              <a:ext cx="4316400" cy="252360"/>
            </a:xfrm>
            <a:prstGeom prst="rightArrow">
              <a:avLst>
                <a:gd name="adj1" fmla="val 50000"/>
                <a:gd name="adj2" fmla="val 50045"/>
              </a:avLst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pic>
        <p:nvPicPr>
          <p:cNvPr id="381" name="Group 16" descr=""/>
          <p:cNvPicPr/>
          <p:nvPr/>
        </p:nvPicPr>
        <p:blipFill>
          <a:blip r:embed="rId3"/>
          <a:stretch/>
        </p:blipFill>
        <p:spPr>
          <a:xfrm>
            <a:off x="7875720" y="3736800"/>
            <a:ext cx="2695320" cy="14446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8"/>
          <p:cNvSpPr/>
          <p:nvPr/>
        </p:nvSpPr>
        <p:spPr>
          <a:xfrm>
            <a:off x="9085320" y="3481560"/>
            <a:ext cx="2698560" cy="8427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How do you know?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6600" y="88920"/>
            <a:ext cx="12236400" cy="2008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Data modelling with spreadsheets - </a:t>
            </a:r>
            <a:br>
              <a:rPr sz="4400"/>
            </a:b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advantages for our pizza party problem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36600" y="2096640"/>
            <a:ext cx="858024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can easily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termin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nd add up how much the pizza ingredients will cost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can mak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hanges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o the amounts and costs and the spreadsheet will adjust all the calculation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can mak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cisions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from the information – e.g. how much of each topping to buy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411A-9524-4ADB-BAB7-6D570D67EF09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9128520" y="3198600"/>
            <a:ext cx="967320" cy="1059840"/>
            <a:chOff x="9128520" y="3198600"/>
            <a:chExt cx="967320" cy="1059840"/>
          </a:xfrm>
        </p:grpSpPr>
        <p:sp>
          <p:nvSpPr>
            <p:cNvPr id="387" name="Oval 5"/>
            <p:cNvSpPr/>
            <p:nvPr/>
          </p:nvSpPr>
          <p:spPr>
            <a:xfrm rot="4396200">
              <a:off x="9224280" y="3386880"/>
              <a:ext cx="775440" cy="77688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8" name="Star: 4 Points 6"/>
            <p:cNvSpPr/>
            <p:nvPr/>
          </p:nvSpPr>
          <p:spPr>
            <a:xfrm rot="4396200">
              <a:off x="9568800" y="3255480"/>
              <a:ext cx="467640" cy="468720"/>
            </a:xfrm>
            <a:custGeom>
              <a:avLst/>
              <a:gdLst>
                <a:gd name="textAreaLeft" fmla="*/ 168120 w 467640"/>
                <a:gd name="textAreaRight" fmla="*/ 299520 w 467640"/>
                <a:gd name="textAreaTop" fmla="*/ 168480 h 468720"/>
                <a:gd name="textAreaBottom" fmla="*/ 300240 h 4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774" y="7774"/>
                  </a:lnTo>
                  <a:lnTo>
                    <a:pt x="10800" y="0"/>
                  </a:lnTo>
                  <a:lnTo>
                    <a:pt x="13826" y="7774"/>
                  </a:lnTo>
                  <a:lnTo>
                    <a:pt x="21600" y="10800"/>
                  </a:lnTo>
                  <a:lnTo>
                    <a:pt x="13826" y="13826"/>
                  </a:lnTo>
                  <a:lnTo>
                    <a:pt x="10800" y="21600"/>
                  </a:lnTo>
                  <a:lnTo>
                    <a:pt x="7774" y="1382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ab9f0"/>
            </a:solidFill>
            <a:ln w="12600">
              <a:solidFill>
                <a:srgbClr val="0ab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9" name="Star: 4 Points 7"/>
            <p:cNvSpPr/>
            <p:nvPr/>
          </p:nvSpPr>
          <p:spPr>
            <a:xfrm rot="4396200">
              <a:off x="9616320" y="3318480"/>
              <a:ext cx="388440" cy="389160"/>
            </a:xfrm>
            <a:custGeom>
              <a:avLst/>
              <a:gdLst>
                <a:gd name="textAreaLeft" fmla="*/ 160200 w 388440"/>
                <a:gd name="textAreaRight" fmla="*/ 228600 w 388440"/>
                <a:gd name="textAreaTop" fmla="*/ 160200 h 389160"/>
                <a:gd name="textAreaBottom" fmla="*/ 228960 h 38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3a5"/>
            </a:solidFill>
            <a:ln w="12600">
              <a:solidFill>
                <a:srgbClr val="00c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90" name="Group 9"/>
          <p:cNvGrpSpPr/>
          <p:nvPr/>
        </p:nvGrpSpPr>
        <p:grpSpPr>
          <a:xfrm>
            <a:off x="9100440" y="4271040"/>
            <a:ext cx="1167480" cy="1062360"/>
            <a:chOff x="9100440" y="4271040"/>
            <a:chExt cx="1167480" cy="1062360"/>
          </a:xfrm>
        </p:grpSpPr>
        <p:sp>
          <p:nvSpPr>
            <p:cNvPr id="391" name="Rectangle 19"/>
            <p:cNvSpPr/>
            <p:nvPr/>
          </p:nvSpPr>
          <p:spPr>
            <a:xfrm rot="20884800">
              <a:off x="9194400" y="4502160"/>
              <a:ext cx="1008360" cy="734760"/>
            </a:xfrm>
            <a:custGeom>
              <a:avLst/>
              <a:gdLst/>
              <a:ahLst/>
              <a:rect l="l" t="t" r="r" b="b"/>
              <a:pathLst>
                <a:path w="769759" h="622858">
                  <a:moveTo>
                    <a:pt x="0" y="121603"/>
                  </a:moveTo>
                  <a:lnTo>
                    <a:pt x="769759" y="0"/>
                  </a:lnTo>
                  <a:lnTo>
                    <a:pt x="763186" y="516841"/>
                  </a:lnTo>
                  <a:lnTo>
                    <a:pt x="0" y="622858"/>
                  </a:lnTo>
                  <a:lnTo>
                    <a:pt x="0" y="121603"/>
                  </a:lnTo>
                  <a:close/>
                </a:path>
              </a:pathLst>
            </a:custGeom>
            <a:solidFill>
              <a:srgbClr val="ffe100"/>
            </a:solidFill>
            <a:ln w="28440">
              <a:solidFill>
                <a:srgbClr val="e6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2" name="Isosceles Triangle 14"/>
            <p:cNvSpPr/>
            <p:nvPr/>
          </p:nvSpPr>
          <p:spPr>
            <a:xfrm rot="4684800">
              <a:off x="9490320" y="3998160"/>
              <a:ext cx="260280" cy="1008360"/>
            </a:xfrm>
            <a:prstGeom prst="triangle">
              <a:avLst>
                <a:gd name="adj" fmla="val 51440"/>
              </a:avLst>
            </a:prstGeom>
            <a:solidFill>
              <a:srgbClr val="ffe100"/>
            </a:solidFill>
            <a:ln w="28440">
              <a:solidFill>
                <a:srgbClr val="e6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3" name="Oval 15"/>
            <p:cNvSpPr/>
            <p:nvPr/>
          </p:nvSpPr>
          <p:spPr>
            <a:xfrm rot="20884800">
              <a:off x="9507240" y="4759200"/>
              <a:ext cx="120600" cy="11880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4" name="Oval 16"/>
            <p:cNvSpPr/>
            <p:nvPr/>
          </p:nvSpPr>
          <p:spPr>
            <a:xfrm rot="20884800">
              <a:off x="9718560" y="4584600"/>
              <a:ext cx="212760" cy="21096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5" name="Oval 17"/>
            <p:cNvSpPr/>
            <p:nvPr/>
          </p:nvSpPr>
          <p:spPr>
            <a:xfrm rot="20884800">
              <a:off x="9929880" y="4868640"/>
              <a:ext cx="102960" cy="10296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6" name="Oval 18"/>
            <p:cNvSpPr/>
            <p:nvPr/>
          </p:nvSpPr>
          <p:spPr>
            <a:xfrm rot="20884800">
              <a:off x="9393120" y="4961160"/>
              <a:ext cx="102960" cy="10296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7" name="Oval 19"/>
            <p:cNvSpPr/>
            <p:nvPr/>
          </p:nvSpPr>
          <p:spPr>
            <a:xfrm rot="20884800">
              <a:off x="9521280" y="5038560"/>
              <a:ext cx="72720" cy="72720"/>
            </a:xfrm>
            <a:prstGeom prst="ellipse">
              <a:avLst/>
            </a:pr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98" name="Group 49"/>
          <p:cNvGrpSpPr/>
          <p:nvPr/>
        </p:nvGrpSpPr>
        <p:grpSpPr>
          <a:xfrm>
            <a:off x="10395000" y="3713040"/>
            <a:ext cx="1054080" cy="1055880"/>
            <a:chOff x="10395000" y="3713040"/>
            <a:chExt cx="1054080" cy="1055880"/>
          </a:xfrm>
        </p:grpSpPr>
        <p:sp>
          <p:nvSpPr>
            <p:cNvPr id="399" name="Freeform: Shape 20"/>
            <p:cNvSpPr/>
            <p:nvPr/>
          </p:nvSpPr>
          <p:spPr>
            <a:xfrm>
              <a:off x="10395000" y="3713040"/>
              <a:ext cx="1054080" cy="1055880"/>
            </a:xfrm>
            <a:custGeom>
              <a:avLst/>
              <a:gdLst/>
              <a:ahLst/>
              <a:rect l="l" t="t" r="r" b="b"/>
              <a:pathLst>
                <a:path w="333375" h="333375">
                  <a:moveTo>
                    <a:pt x="308284" y="138389"/>
                  </a:moveTo>
                  <a:cubicBezTo>
                    <a:pt x="325685" y="214819"/>
                    <a:pt x="277832" y="290883"/>
                    <a:pt x="201402" y="308284"/>
                  </a:cubicBezTo>
                  <a:cubicBezTo>
                    <a:pt x="124972" y="325685"/>
                    <a:pt x="48908" y="277832"/>
                    <a:pt x="31507" y="201402"/>
                  </a:cubicBezTo>
                  <a:cubicBezTo>
                    <a:pt x="14106" y="124972"/>
                    <a:pt x="61959" y="48908"/>
                    <a:pt x="138389" y="31507"/>
                  </a:cubicBezTo>
                  <a:cubicBezTo>
                    <a:pt x="214819" y="14106"/>
                    <a:pt x="290883" y="61959"/>
                    <a:pt x="308284" y="138389"/>
                  </a:cubicBezTo>
                  <a:close/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0" name="Freeform: Shape 21"/>
            <p:cNvSpPr/>
            <p:nvPr/>
          </p:nvSpPr>
          <p:spPr>
            <a:xfrm>
              <a:off x="10459800" y="3777840"/>
              <a:ext cx="933840" cy="935280"/>
            </a:xfrm>
            <a:custGeom>
              <a:avLst/>
              <a:gdLst/>
              <a:ahLst/>
              <a:rect l="l" t="t" r="r" b="b"/>
              <a:pathLst>
                <a:path w="295275" h="295275">
                  <a:moveTo>
                    <a:pt x="149352" y="0"/>
                  </a:moveTo>
                  <a:cubicBezTo>
                    <a:pt x="66961" y="0"/>
                    <a:pt x="0" y="66961"/>
                    <a:pt x="0" y="149352"/>
                  </a:cubicBezTo>
                  <a:cubicBezTo>
                    <a:pt x="0" y="231743"/>
                    <a:pt x="66961" y="298704"/>
                    <a:pt x="149352" y="298704"/>
                  </a:cubicBezTo>
                  <a:cubicBezTo>
                    <a:pt x="231743" y="298704"/>
                    <a:pt x="298704" y="231743"/>
                    <a:pt x="298704" y="149352"/>
                  </a:cubicBezTo>
                  <a:cubicBezTo>
                    <a:pt x="298704" y="66961"/>
                    <a:pt x="231743" y="0"/>
                    <a:pt x="149352" y="0"/>
                  </a:cubicBezTo>
                  <a:close/>
                  <a:moveTo>
                    <a:pt x="149352" y="283940"/>
                  </a:moveTo>
                  <a:cubicBezTo>
                    <a:pt x="75152" y="283940"/>
                    <a:pt x="14764" y="223552"/>
                    <a:pt x="14764" y="149352"/>
                  </a:cubicBezTo>
                  <a:cubicBezTo>
                    <a:pt x="14764" y="75152"/>
                    <a:pt x="75152" y="14764"/>
                    <a:pt x="149352" y="14764"/>
                  </a:cubicBezTo>
                  <a:cubicBezTo>
                    <a:pt x="223552" y="14764"/>
                    <a:pt x="283940" y="75152"/>
                    <a:pt x="283940" y="149352"/>
                  </a:cubicBezTo>
                  <a:cubicBezTo>
                    <a:pt x="283940" y="223552"/>
                    <a:pt x="223552" y="283940"/>
                    <a:pt x="149352" y="28394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1" name="Freeform: Shape 22"/>
            <p:cNvSpPr/>
            <p:nvPr/>
          </p:nvSpPr>
          <p:spPr>
            <a:xfrm>
              <a:off x="10807920" y="393516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-28579" y="18479"/>
                  </a:moveTo>
                  <a:cubicBezTo>
                    <a:pt x="-28579" y="28684"/>
                    <a:pt x="28684" y="-28579"/>
                    <a:pt x="18479" y="-28579"/>
                  </a:cubicBezTo>
                  <a:cubicBezTo>
                    <a:pt x="8273" y="-28579"/>
                    <a:pt x="0" y="28684"/>
                    <a:pt x="0" y="18479"/>
                  </a:cubicBezTo>
                  <a:cubicBezTo>
                    <a:pt x="0" y="8273"/>
                    <a:pt x="8273" y="0"/>
                    <a:pt x="18479" y="0"/>
                  </a:cubicBezTo>
                  <a:cubicBezTo>
                    <a:pt x="28684" y="0"/>
                    <a:pt x="-28579" y="8273"/>
                    <a:pt x="-28579" y="18479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2" name="Freeform: Shape 24"/>
            <p:cNvSpPr/>
            <p:nvPr/>
          </p:nvSpPr>
          <p:spPr>
            <a:xfrm>
              <a:off x="11170080" y="407016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9" y="0"/>
                  </a:moveTo>
                  <a:cubicBezTo>
                    <a:pt x="8287" y="0"/>
                    <a:pt x="0" y="8287"/>
                    <a:pt x="0" y="18478"/>
                  </a:cubicBezTo>
                  <a:cubicBezTo>
                    <a:pt x="0" y="28670"/>
                    <a:pt x="8287" y="-28579"/>
                    <a:pt x="18479" y="-28579"/>
                  </a:cubicBezTo>
                  <a:cubicBezTo>
                    <a:pt x="28670" y="-28579"/>
                    <a:pt x="-28579" y="28670"/>
                    <a:pt x="-28579" y="18478"/>
                  </a:cubicBezTo>
                  <a:cubicBezTo>
                    <a:pt x="-28579" y="8287"/>
                    <a:pt x="28670" y="0"/>
                    <a:pt x="18479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3" name="Freeform: Shape 25"/>
            <p:cNvSpPr/>
            <p:nvPr/>
          </p:nvSpPr>
          <p:spPr>
            <a:xfrm>
              <a:off x="11014920" y="437184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9" y="0"/>
                  </a:moveTo>
                  <a:cubicBezTo>
                    <a:pt x="8287" y="0"/>
                    <a:pt x="0" y="8287"/>
                    <a:pt x="0" y="18479"/>
                  </a:cubicBezTo>
                  <a:cubicBezTo>
                    <a:pt x="0" y="28670"/>
                    <a:pt x="8287" y="-28579"/>
                    <a:pt x="18479" y="-28579"/>
                  </a:cubicBezTo>
                  <a:cubicBezTo>
                    <a:pt x="28670" y="-28579"/>
                    <a:pt x="-28579" y="28670"/>
                    <a:pt x="-28579" y="18479"/>
                  </a:cubicBezTo>
                  <a:cubicBezTo>
                    <a:pt x="-28579" y="8287"/>
                    <a:pt x="28670" y="0"/>
                    <a:pt x="18479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4" name="Freeform: Shape 27"/>
            <p:cNvSpPr/>
            <p:nvPr/>
          </p:nvSpPr>
          <p:spPr>
            <a:xfrm>
              <a:off x="10722960" y="449604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9" y="0"/>
                  </a:moveTo>
                  <a:cubicBezTo>
                    <a:pt x="8287" y="0"/>
                    <a:pt x="0" y="8287"/>
                    <a:pt x="0" y="18479"/>
                  </a:cubicBezTo>
                  <a:cubicBezTo>
                    <a:pt x="0" y="28670"/>
                    <a:pt x="8287" y="-28579"/>
                    <a:pt x="18479" y="-28579"/>
                  </a:cubicBezTo>
                  <a:cubicBezTo>
                    <a:pt x="28670" y="-28579"/>
                    <a:pt x="-28579" y="28670"/>
                    <a:pt x="-28579" y="18479"/>
                  </a:cubicBezTo>
                  <a:cubicBezTo>
                    <a:pt x="-28579" y="8287"/>
                    <a:pt x="28670" y="0"/>
                    <a:pt x="18479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5" name="Freeform: Shape 28"/>
            <p:cNvSpPr/>
            <p:nvPr/>
          </p:nvSpPr>
          <p:spPr>
            <a:xfrm>
              <a:off x="10537200" y="420048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9" y="0"/>
                  </a:moveTo>
                  <a:cubicBezTo>
                    <a:pt x="8287" y="0"/>
                    <a:pt x="0" y="8287"/>
                    <a:pt x="0" y="18478"/>
                  </a:cubicBezTo>
                  <a:cubicBezTo>
                    <a:pt x="0" y="28670"/>
                    <a:pt x="8287" y="-28579"/>
                    <a:pt x="18479" y="-28579"/>
                  </a:cubicBezTo>
                  <a:cubicBezTo>
                    <a:pt x="28670" y="-28579"/>
                    <a:pt x="-28579" y="28670"/>
                    <a:pt x="-28579" y="18478"/>
                  </a:cubicBezTo>
                  <a:cubicBezTo>
                    <a:pt x="-28484" y="8287"/>
                    <a:pt x="28766" y="0"/>
                    <a:pt x="18479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6" name="Freeform: Shape 29"/>
            <p:cNvSpPr/>
            <p:nvPr/>
          </p:nvSpPr>
          <p:spPr>
            <a:xfrm>
              <a:off x="11093040" y="3927240"/>
              <a:ext cx="90360" cy="90360"/>
            </a:xfrm>
            <a:custGeom>
              <a:avLst/>
              <a:gdLst/>
              <a:ahLst/>
              <a:rect l="l" t="t" r="r" b="b"/>
              <a:pathLst>
                <a:path w="28575" h="28575">
                  <a:moveTo>
                    <a:pt x="18478" y="0"/>
                  </a:moveTo>
                  <a:cubicBezTo>
                    <a:pt x="8287" y="0"/>
                    <a:pt x="0" y="8287"/>
                    <a:pt x="0" y="18479"/>
                  </a:cubicBezTo>
                  <a:cubicBezTo>
                    <a:pt x="0" y="28670"/>
                    <a:pt x="8287" y="-28579"/>
                    <a:pt x="18478" y="-28579"/>
                  </a:cubicBezTo>
                  <a:cubicBezTo>
                    <a:pt x="28670" y="-28579"/>
                    <a:pt x="-28579" y="28670"/>
                    <a:pt x="-28579" y="18479"/>
                  </a:cubicBezTo>
                  <a:cubicBezTo>
                    <a:pt x="-28579" y="8287"/>
                    <a:pt x="28670" y="0"/>
                    <a:pt x="18478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7" name="Freeform: Shape 30"/>
            <p:cNvSpPr/>
            <p:nvPr/>
          </p:nvSpPr>
          <p:spPr>
            <a:xfrm>
              <a:off x="10932120" y="385452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6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527"/>
                    <a:pt x="6191" y="27813"/>
                    <a:pt x="13906" y="27813"/>
                  </a:cubicBezTo>
                  <a:cubicBezTo>
                    <a:pt x="21527" y="27813"/>
                    <a:pt x="27813" y="21622"/>
                    <a:pt x="27813" y="13907"/>
                  </a:cubicBezTo>
                  <a:cubicBezTo>
                    <a:pt x="27718" y="6191"/>
                    <a:pt x="21527" y="0"/>
                    <a:pt x="13906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8" name="Freeform: Shape 31"/>
            <p:cNvSpPr/>
            <p:nvPr/>
          </p:nvSpPr>
          <p:spPr>
            <a:xfrm>
              <a:off x="11014920" y="453888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6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527"/>
                    <a:pt x="6191" y="27813"/>
                    <a:pt x="13906" y="27813"/>
                  </a:cubicBezTo>
                  <a:cubicBezTo>
                    <a:pt x="21622" y="27813"/>
                    <a:pt x="27813" y="21622"/>
                    <a:pt x="27813" y="13907"/>
                  </a:cubicBezTo>
                  <a:cubicBezTo>
                    <a:pt x="27718" y="6191"/>
                    <a:pt x="21527" y="0"/>
                    <a:pt x="13906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09" name="Freeform: Shape 32"/>
            <p:cNvSpPr/>
            <p:nvPr/>
          </p:nvSpPr>
          <p:spPr>
            <a:xfrm>
              <a:off x="11169720" y="442152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7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527"/>
                    <a:pt x="6191" y="27813"/>
                    <a:pt x="13907" y="27813"/>
                  </a:cubicBezTo>
                  <a:cubicBezTo>
                    <a:pt x="21527" y="27813"/>
                    <a:pt x="27813" y="21622"/>
                    <a:pt x="27813" y="13907"/>
                  </a:cubicBezTo>
                  <a:cubicBezTo>
                    <a:pt x="27813" y="6191"/>
                    <a:pt x="21622" y="0"/>
                    <a:pt x="13907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0" name="Freeform: Shape 33"/>
            <p:cNvSpPr/>
            <p:nvPr/>
          </p:nvSpPr>
          <p:spPr>
            <a:xfrm>
              <a:off x="10888200" y="448704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7" y="0"/>
                  </a:moveTo>
                  <a:cubicBezTo>
                    <a:pt x="6286" y="0"/>
                    <a:pt x="0" y="6191"/>
                    <a:pt x="0" y="13906"/>
                  </a:cubicBezTo>
                  <a:cubicBezTo>
                    <a:pt x="0" y="21527"/>
                    <a:pt x="6191" y="27813"/>
                    <a:pt x="13907" y="27813"/>
                  </a:cubicBezTo>
                  <a:cubicBezTo>
                    <a:pt x="21526" y="27813"/>
                    <a:pt x="27813" y="21622"/>
                    <a:pt x="27813" y="13906"/>
                  </a:cubicBezTo>
                  <a:cubicBezTo>
                    <a:pt x="27813" y="6191"/>
                    <a:pt x="21526" y="0"/>
                    <a:pt x="13907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1" name="Freeform: Shape 34"/>
            <p:cNvSpPr/>
            <p:nvPr/>
          </p:nvSpPr>
          <p:spPr>
            <a:xfrm>
              <a:off x="11005200" y="422748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6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622"/>
                    <a:pt x="6191" y="27813"/>
                    <a:pt x="13906" y="27813"/>
                  </a:cubicBezTo>
                  <a:cubicBezTo>
                    <a:pt x="21527" y="27813"/>
                    <a:pt x="27813" y="21622"/>
                    <a:pt x="27813" y="13907"/>
                  </a:cubicBezTo>
                  <a:cubicBezTo>
                    <a:pt x="27813" y="6191"/>
                    <a:pt x="21622" y="0"/>
                    <a:pt x="13906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2" name="Freeform: Shape 35"/>
            <p:cNvSpPr/>
            <p:nvPr/>
          </p:nvSpPr>
          <p:spPr>
            <a:xfrm>
              <a:off x="10700640" y="389124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13907" y="0"/>
                  </a:moveTo>
                  <a:cubicBezTo>
                    <a:pt x="6286" y="0"/>
                    <a:pt x="0" y="6191"/>
                    <a:pt x="0" y="13907"/>
                  </a:cubicBezTo>
                  <a:cubicBezTo>
                    <a:pt x="0" y="21527"/>
                    <a:pt x="6191" y="27813"/>
                    <a:pt x="13907" y="27813"/>
                  </a:cubicBezTo>
                  <a:cubicBezTo>
                    <a:pt x="21527" y="27813"/>
                    <a:pt x="27813" y="21622"/>
                    <a:pt x="27813" y="13907"/>
                  </a:cubicBezTo>
                  <a:cubicBezTo>
                    <a:pt x="27813" y="6286"/>
                    <a:pt x="21527" y="0"/>
                    <a:pt x="13907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3" name="Freeform: Shape 36"/>
            <p:cNvSpPr/>
            <p:nvPr/>
          </p:nvSpPr>
          <p:spPr>
            <a:xfrm>
              <a:off x="10712520" y="421488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27813" y="13906"/>
                  </a:moveTo>
                  <a:cubicBezTo>
                    <a:pt x="27813" y="21587"/>
                    <a:pt x="21587" y="27813"/>
                    <a:pt x="13907" y="27813"/>
                  </a:cubicBezTo>
                  <a:cubicBezTo>
                    <a:pt x="6226" y="27813"/>
                    <a:pt x="0" y="21587"/>
                    <a:pt x="0" y="13906"/>
                  </a:cubicBezTo>
                  <a:cubicBezTo>
                    <a:pt x="0" y="6226"/>
                    <a:pt x="6226" y="0"/>
                    <a:pt x="13907" y="0"/>
                  </a:cubicBezTo>
                  <a:cubicBezTo>
                    <a:pt x="21587" y="0"/>
                    <a:pt x="27813" y="6226"/>
                    <a:pt x="27813" y="13906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4" name="Freeform: Shape 37"/>
            <p:cNvSpPr/>
            <p:nvPr/>
          </p:nvSpPr>
          <p:spPr>
            <a:xfrm>
              <a:off x="10813320" y="4107600"/>
              <a:ext cx="60120" cy="60120"/>
            </a:xfrm>
            <a:custGeom>
              <a:avLst/>
              <a:gdLst/>
              <a:ahLst/>
              <a:rect l="l" t="t" r="r" b="b"/>
              <a:pathLst>
                <a:path w="19050" h="19050">
                  <a:moveTo>
                    <a:pt x="27813" y="13907"/>
                  </a:moveTo>
                  <a:cubicBezTo>
                    <a:pt x="27813" y="21587"/>
                    <a:pt x="21587" y="27813"/>
                    <a:pt x="13906" y="27813"/>
                  </a:cubicBezTo>
                  <a:cubicBezTo>
                    <a:pt x="6226" y="27813"/>
                    <a:pt x="0" y="21587"/>
                    <a:pt x="0" y="13907"/>
                  </a:cubicBezTo>
                  <a:cubicBezTo>
                    <a:pt x="0" y="6226"/>
                    <a:pt x="6226" y="0"/>
                    <a:pt x="13906" y="0"/>
                  </a:cubicBezTo>
                  <a:cubicBezTo>
                    <a:pt x="21587" y="0"/>
                    <a:pt x="27813" y="6226"/>
                    <a:pt x="27813" y="13907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5" name="Freeform: Shape 38"/>
            <p:cNvSpPr/>
            <p:nvPr/>
          </p:nvSpPr>
          <p:spPr>
            <a:xfrm>
              <a:off x="10945440" y="401580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26194" y="0"/>
                  </a:moveTo>
                  <a:cubicBezTo>
                    <a:pt x="11716" y="0"/>
                    <a:pt x="0" y="11716"/>
                    <a:pt x="0" y="26194"/>
                  </a:cubicBezTo>
                  <a:cubicBezTo>
                    <a:pt x="0" y="-24864"/>
                    <a:pt x="11716" y="-13148"/>
                    <a:pt x="26194" y="-13148"/>
                  </a:cubicBezTo>
                  <a:cubicBezTo>
                    <a:pt x="-24864" y="-13148"/>
                    <a:pt x="-13148" y="-24864"/>
                    <a:pt x="-13148" y="26194"/>
                  </a:cubicBezTo>
                  <a:cubicBezTo>
                    <a:pt x="-13148" y="11716"/>
                    <a:pt x="-24864" y="0"/>
                    <a:pt x="26194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6" name="Freeform: Shape 39"/>
            <p:cNvSpPr/>
            <p:nvPr/>
          </p:nvSpPr>
          <p:spPr>
            <a:xfrm>
              <a:off x="11139840" y="421092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-13149" y="26194"/>
                  </a:moveTo>
                  <a:cubicBezTo>
                    <a:pt x="-13149" y="-24876"/>
                    <a:pt x="-24876" y="-13148"/>
                    <a:pt x="26194" y="-13148"/>
                  </a:cubicBezTo>
                  <a:cubicBezTo>
                    <a:pt x="11727" y="-13148"/>
                    <a:pt x="0" y="-24876"/>
                    <a:pt x="0" y="26194"/>
                  </a:cubicBezTo>
                  <a:cubicBezTo>
                    <a:pt x="0" y="11727"/>
                    <a:pt x="11727" y="0"/>
                    <a:pt x="26194" y="0"/>
                  </a:cubicBezTo>
                  <a:cubicBezTo>
                    <a:pt x="-24876" y="0"/>
                    <a:pt x="-13149" y="11727"/>
                    <a:pt x="-13149" y="26194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7" name="Freeform: Shape 40"/>
            <p:cNvSpPr/>
            <p:nvPr/>
          </p:nvSpPr>
          <p:spPr>
            <a:xfrm>
              <a:off x="10818720" y="427104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-13148" y="26194"/>
                  </a:moveTo>
                  <a:cubicBezTo>
                    <a:pt x="-13148" y="-24876"/>
                    <a:pt x="-24876" y="-13148"/>
                    <a:pt x="26194" y="-13148"/>
                  </a:cubicBezTo>
                  <a:cubicBezTo>
                    <a:pt x="11727" y="-13148"/>
                    <a:pt x="0" y="-24876"/>
                    <a:pt x="0" y="26194"/>
                  </a:cubicBezTo>
                  <a:cubicBezTo>
                    <a:pt x="0" y="11727"/>
                    <a:pt x="11727" y="0"/>
                    <a:pt x="26194" y="0"/>
                  </a:cubicBezTo>
                  <a:cubicBezTo>
                    <a:pt x="-24876" y="0"/>
                    <a:pt x="-13148" y="11727"/>
                    <a:pt x="-13148" y="26194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8" name="Freeform: Shape 41"/>
            <p:cNvSpPr/>
            <p:nvPr/>
          </p:nvSpPr>
          <p:spPr>
            <a:xfrm>
              <a:off x="10590840" y="431856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26194" y="0"/>
                  </a:moveTo>
                  <a:cubicBezTo>
                    <a:pt x="11716" y="0"/>
                    <a:pt x="0" y="11716"/>
                    <a:pt x="0" y="26194"/>
                  </a:cubicBezTo>
                  <a:cubicBezTo>
                    <a:pt x="0" y="-24864"/>
                    <a:pt x="11716" y="-13148"/>
                    <a:pt x="26194" y="-13148"/>
                  </a:cubicBezTo>
                  <a:cubicBezTo>
                    <a:pt x="-24864" y="-13148"/>
                    <a:pt x="-13148" y="-24864"/>
                    <a:pt x="-13148" y="26194"/>
                  </a:cubicBezTo>
                  <a:cubicBezTo>
                    <a:pt x="-13148" y="11716"/>
                    <a:pt x="-24864" y="0"/>
                    <a:pt x="26194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19" name="Freeform: Shape 42"/>
            <p:cNvSpPr/>
            <p:nvPr/>
          </p:nvSpPr>
          <p:spPr>
            <a:xfrm>
              <a:off x="10603080" y="4011120"/>
              <a:ext cx="150480" cy="150840"/>
            </a:xfrm>
            <a:custGeom>
              <a:avLst/>
              <a:gdLst/>
              <a:ahLst/>
              <a:rect l="l" t="t" r="r" b="b"/>
              <a:pathLst>
                <a:path w="47625" h="47625">
                  <a:moveTo>
                    <a:pt x="26194" y="0"/>
                  </a:moveTo>
                  <a:cubicBezTo>
                    <a:pt x="11716" y="0"/>
                    <a:pt x="0" y="11716"/>
                    <a:pt x="0" y="26194"/>
                  </a:cubicBezTo>
                  <a:cubicBezTo>
                    <a:pt x="0" y="-24864"/>
                    <a:pt x="11716" y="-13149"/>
                    <a:pt x="26194" y="-13149"/>
                  </a:cubicBezTo>
                  <a:cubicBezTo>
                    <a:pt x="-24864" y="-13149"/>
                    <a:pt x="-13148" y="-24864"/>
                    <a:pt x="-13148" y="26194"/>
                  </a:cubicBezTo>
                  <a:cubicBezTo>
                    <a:pt x="-13148" y="11811"/>
                    <a:pt x="-24864" y="0"/>
                    <a:pt x="26194" y="0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420" name="Group 48"/>
          <p:cNvGrpSpPr/>
          <p:nvPr/>
        </p:nvGrpSpPr>
        <p:grpSpPr>
          <a:xfrm>
            <a:off x="10247400" y="2652840"/>
            <a:ext cx="930240" cy="779400"/>
            <a:chOff x="10247400" y="2652840"/>
            <a:chExt cx="930240" cy="779400"/>
          </a:xfrm>
        </p:grpSpPr>
        <p:sp>
          <p:nvSpPr>
            <p:cNvPr id="421" name="Freeform: Shape 46"/>
            <p:cNvSpPr/>
            <p:nvPr/>
          </p:nvSpPr>
          <p:spPr>
            <a:xfrm>
              <a:off x="10263240" y="2668680"/>
              <a:ext cx="900360" cy="749520"/>
            </a:xfrm>
            <a:custGeom>
              <a:avLst/>
              <a:gdLst/>
              <a:ahLst/>
              <a:rect l="l" t="t" r="r" b="b"/>
              <a:pathLst>
                <a:path w="285750" h="238125">
                  <a:moveTo>
                    <a:pt x="257884" y="136052"/>
                  </a:moveTo>
                  <a:cubicBezTo>
                    <a:pt x="247407" y="130528"/>
                    <a:pt x="181303" y="104525"/>
                    <a:pt x="138917" y="91761"/>
                  </a:cubicBezTo>
                  <a:cubicBezTo>
                    <a:pt x="128630" y="88713"/>
                    <a:pt x="126725" y="80236"/>
                    <a:pt x="134535" y="72997"/>
                  </a:cubicBezTo>
                  <a:cubicBezTo>
                    <a:pt x="148632" y="59852"/>
                    <a:pt x="164539" y="50327"/>
                    <a:pt x="181017" y="44803"/>
                  </a:cubicBezTo>
                  <a:cubicBezTo>
                    <a:pt x="195114" y="40136"/>
                    <a:pt x="196448" y="20609"/>
                    <a:pt x="183303" y="13751"/>
                  </a:cubicBezTo>
                  <a:cubicBezTo>
                    <a:pt x="122629" y="-17872"/>
                    <a:pt x="47096" y="6893"/>
                    <a:pt x="14711" y="69092"/>
                  </a:cubicBezTo>
                  <a:cubicBezTo>
                    <a:pt x="-17674" y="131290"/>
                    <a:pt x="5186" y="207395"/>
                    <a:pt x="65860" y="239018"/>
                  </a:cubicBezTo>
                  <a:cubicBezTo>
                    <a:pt x="79005" y="245876"/>
                    <a:pt x="94245" y="233588"/>
                    <a:pt x="90053" y="219396"/>
                  </a:cubicBezTo>
                  <a:cubicBezTo>
                    <a:pt x="85101" y="202823"/>
                    <a:pt x="83862" y="184249"/>
                    <a:pt x="86529" y="165199"/>
                  </a:cubicBezTo>
                  <a:cubicBezTo>
                    <a:pt x="88053" y="154626"/>
                    <a:pt x="96054" y="151388"/>
                    <a:pt x="104436" y="158055"/>
                  </a:cubicBezTo>
                  <a:cubicBezTo>
                    <a:pt x="139107" y="185487"/>
                    <a:pt x="198353" y="224730"/>
                    <a:pt x="208830" y="230255"/>
                  </a:cubicBezTo>
                  <a:cubicBezTo>
                    <a:pt x="234834" y="243780"/>
                    <a:pt x="266838" y="233684"/>
                    <a:pt x="280363" y="207776"/>
                  </a:cubicBezTo>
                  <a:cubicBezTo>
                    <a:pt x="293889" y="181582"/>
                    <a:pt x="283792" y="149578"/>
                    <a:pt x="257884" y="136052"/>
                  </a:cubicBezTo>
                  <a:close/>
                </a:path>
              </a:pathLst>
            </a:custGeom>
            <a:solidFill>
              <a:srgbClr val="0ab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22" name="Freeform: Shape 47"/>
            <p:cNvSpPr/>
            <p:nvPr/>
          </p:nvSpPr>
          <p:spPr>
            <a:xfrm>
              <a:off x="10247400" y="2652840"/>
              <a:ext cx="930240" cy="779400"/>
            </a:xfrm>
            <a:custGeom>
              <a:avLst/>
              <a:gdLst/>
              <a:ahLst/>
              <a:rect l="l" t="t" r="r" b="b"/>
              <a:pathLst>
                <a:path w="295275" h="247650">
                  <a:moveTo>
                    <a:pt x="268711" y="136913"/>
                  </a:moveTo>
                  <a:cubicBezTo>
                    <a:pt x="257758" y="131198"/>
                    <a:pt x="190987" y="104909"/>
                    <a:pt x="148506" y="92050"/>
                  </a:cubicBezTo>
                  <a:cubicBezTo>
                    <a:pt x="145934" y="91288"/>
                    <a:pt x="144696" y="90145"/>
                    <a:pt x="144601" y="89669"/>
                  </a:cubicBezTo>
                  <a:cubicBezTo>
                    <a:pt x="144410" y="89193"/>
                    <a:pt x="144982" y="87669"/>
                    <a:pt x="146982" y="85764"/>
                  </a:cubicBezTo>
                  <a:cubicBezTo>
                    <a:pt x="160126" y="73572"/>
                    <a:pt x="175271" y="64333"/>
                    <a:pt x="190702" y="59189"/>
                  </a:cubicBezTo>
                  <a:cubicBezTo>
                    <a:pt x="200036" y="56141"/>
                    <a:pt x="206323" y="48045"/>
                    <a:pt x="207085" y="38234"/>
                  </a:cubicBezTo>
                  <a:cubicBezTo>
                    <a:pt x="207847" y="28233"/>
                    <a:pt x="202894" y="19184"/>
                    <a:pt x="194035" y="14517"/>
                  </a:cubicBezTo>
                  <a:cubicBezTo>
                    <a:pt x="129932" y="-18916"/>
                    <a:pt x="49827" y="7373"/>
                    <a:pt x="15537" y="73096"/>
                  </a:cubicBezTo>
                  <a:cubicBezTo>
                    <a:pt x="-18753" y="138818"/>
                    <a:pt x="5631" y="219495"/>
                    <a:pt x="69829" y="253023"/>
                  </a:cubicBezTo>
                  <a:cubicBezTo>
                    <a:pt x="78688" y="257595"/>
                    <a:pt x="88975" y="256547"/>
                    <a:pt x="96690" y="250166"/>
                  </a:cubicBezTo>
                  <a:cubicBezTo>
                    <a:pt x="104310" y="243879"/>
                    <a:pt x="107263" y="234164"/>
                    <a:pt x="104500" y="224734"/>
                  </a:cubicBezTo>
                  <a:cubicBezTo>
                    <a:pt x="99833" y="209113"/>
                    <a:pt x="98785" y="191492"/>
                    <a:pt x="101262" y="173680"/>
                  </a:cubicBezTo>
                  <a:cubicBezTo>
                    <a:pt x="101643" y="170918"/>
                    <a:pt x="102595" y="169679"/>
                    <a:pt x="103072" y="169489"/>
                  </a:cubicBezTo>
                  <a:cubicBezTo>
                    <a:pt x="103548" y="169298"/>
                    <a:pt x="105167" y="169584"/>
                    <a:pt x="107263" y="171298"/>
                  </a:cubicBezTo>
                  <a:cubicBezTo>
                    <a:pt x="142124" y="198826"/>
                    <a:pt x="201846" y="238450"/>
                    <a:pt x="212800" y="244165"/>
                  </a:cubicBezTo>
                  <a:cubicBezTo>
                    <a:pt x="242327" y="259595"/>
                    <a:pt x="278903" y="248070"/>
                    <a:pt x="294334" y="218543"/>
                  </a:cubicBezTo>
                  <a:cubicBezTo>
                    <a:pt x="309764" y="188920"/>
                    <a:pt x="298239" y="152344"/>
                    <a:pt x="268711" y="136913"/>
                  </a:cubicBezTo>
                  <a:close/>
                  <a:moveTo>
                    <a:pt x="281189" y="211589"/>
                  </a:moveTo>
                  <a:cubicBezTo>
                    <a:pt x="269569" y="233878"/>
                    <a:pt x="241946" y="242545"/>
                    <a:pt x="219658" y="230925"/>
                  </a:cubicBezTo>
                  <a:cubicBezTo>
                    <a:pt x="209371" y="225496"/>
                    <a:pt x="149935" y="186062"/>
                    <a:pt x="116407" y="159488"/>
                  </a:cubicBezTo>
                  <a:cubicBezTo>
                    <a:pt x="110311" y="154630"/>
                    <a:pt x="103357" y="153201"/>
                    <a:pt x="97547" y="155582"/>
                  </a:cubicBezTo>
                  <a:cubicBezTo>
                    <a:pt x="93928" y="157011"/>
                    <a:pt x="90975" y="159773"/>
                    <a:pt x="89070" y="163583"/>
                  </a:cubicBezTo>
                  <a:cubicBezTo>
                    <a:pt x="87832" y="165869"/>
                    <a:pt x="86974" y="168536"/>
                    <a:pt x="86593" y="171489"/>
                  </a:cubicBezTo>
                  <a:cubicBezTo>
                    <a:pt x="83831" y="191396"/>
                    <a:pt x="85069" y="211208"/>
                    <a:pt x="90308" y="228830"/>
                  </a:cubicBezTo>
                  <a:cubicBezTo>
                    <a:pt x="91927" y="234259"/>
                    <a:pt x="88403" y="237688"/>
                    <a:pt x="87260" y="238640"/>
                  </a:cubicBezTo>
                  <a:cubicBezTo>
                    <a:pt x="86117" y="239593"/>
                    <a:pt x="81926" y="242545"/>
                    <a:pt x="76687" y="239783"/>
                  </a:cubicBezTo>
                  <a:cubicBezTo>
                    <a:pt x="19728" y="210160"/>
                    <a:pt x="-1799" y="138342"/>
                    <a:pt x="28681" y="79859"/>
                  </a:cubicBezTo>
                  <a:cubicBezTo>
                    <a:pt x="59161" y="21375"/>
                    <a:pt x="130313" y="-2057"/>
                    <a:pt x="187273" y="27661"/>
                  </a:cubicBezTo>
                  <a:cubicBezTo>
                    <a:pt x="192511" y="30424"/>
                    <a:pt x="192511" y="35567"/>
                    <a:pt x="192416" y="36996"/>
                  </a:cubicBezTo>
                  <a:cubicBezTo>
                    <a:pt x="192321" y="38425"/>
                    <a:pt x="191464" y="43282"/>
                    <a:pt x="186130" y="45092"/>
                  </a:cubicBezTo>
                  <a:cubicBezTo>
                    <a:pt x="168699" y="50902"/>
                    <a:pt x="151649" y="61189"/>
                    <a:pt x="136981" y="74810"/>
                  </a:cubicBezTo>
                  <a:cubicBezTo>
                    <a:pt x="131266" y="80144"/>
                    <a:pt x="128789" y="86717"/>
                    <a:pt x="130218" y="92908"/>
                  </a:cubicBezTo>
                  <a:cubicBezTo>
                    <a:pt x="131647" y="99099"/>
                    <a:pt x="136790" y="103861"/>
                    <a:pt x="144220" y="106148"/>
                  </a:cubicBezTo>
                  <a:cubicBezTo>
                    <a:pt x="185177" y="118435"/>
                    <a:pt x="251566" y="144533"/>
                    <a:pt x="261853" y="149963"/>
                  </a:cubicBezTo>
                  <a:cubicBezTo>
                    <a:pt x="284142" y="161678"/>
                    <a:pt x="292810" y="189301"/>
                    <a:pt x="281189" y="211589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5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1857-0EDE-4DD5-9BF4-55FFF5ED3AB4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36240" y="209520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Allows us 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predict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 effect of a change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make the change to th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formula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or th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at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he spreadsheet completes th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alculation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W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valu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 changes and check they are as we predicted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It is easy to make changes and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xplor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how this affects the outcome - e.g. how much the pizza ingredients will cos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pending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on the amount needed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25" name="Title 7"/>
          <p:cNvSpPr/>
          <p:nvPr/>
        </p:nvSpPr>
        <p:spPr>
          <a:xfrm>
            <a:off x="336600" y="88920"/>
            <a:ext cx="8999640" cy="200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Data modelling with spreadsheets</a:t>
            </a:r>
            <a:br>
              <a:rPr sz="4400"/>
            </a:b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- general advantag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5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5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5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5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5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8B9-271B-4D0F-B8C2-9E382F4BFB14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88678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Topping costs and quantities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474920" y="1592280"/>
          <a:ext cx="9242280" cy="3849840"/>
        </p:xfrm>
        <a:graphic>
          <a:graphicData uri="http://schemas.openxmlformats.org/drawingml/2006/table">
            <a:tbl>
              <a:tblPr/>
              <a:tblGrid>
                <a:gridCol w="3081240"/>
                <a:gridCol w="2743200"/>
                <a:gridCol w="3417840"/>
              </a:tblGrid>
              <a:tr h="860400">
                <a:tc>
                  <a:txBody>
                    <a:bodyPr lIns="122760" rIns="122760" tIns="61560" bIns="61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Topp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ctr" marL="122760" marR="122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400aa"/>
                    </a:solidFill>
                  </a:tcPr>
                </a:tc>
                <a:tc>
                  <a:txBody>
                    <a:bodyPr lIns="122760" rIns="122760" tIns="61560" bIns="61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Price per pack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ctr" marL="122760" marR="122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400aa"/>
                    </a:solidFill>
                  </a:tcPr>
                </a:tc>
                <a:tc>
                  <a:txBody>
                    <a:bodyPr lIns="122760" rIns="122760" tIns="61560" bIns="61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Number of pizzas packet will ma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ctr" marL="122760" marR="122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400aa"/>
                    </a:solidFill>
                  </a:tcPr>
                </a:tc>
              </a:tr>
              <a:tr h="49860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H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1.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24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Ol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2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Mushro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0.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24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Pepp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Sweetco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1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122760" rIns="122760" tIns="61560" bIns="61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Peppero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£2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760" rIns="122760" tIns="61560" bIns="61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400aa"/>
                          </a:solidFill>
                          <a:latin typeface="Calibri Light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 Light"/>
                      </a:endParaRPr>
                    </a:p>
                  </a:txBody>
                  <a:tcPr anchor="t" marL="122760" marR="122760">
                    <a:lnL w="5760">
                      <a:solidFill>
                        <a:srgbClr val="6400aa"/>
                      </a:solidFill>
                    </a:lnL>
                    <a:lnR w="5760">
                      <a:solidFill>
                        <a:srgbClr val="6400aa"/>
                      </a:solidFill>
                    </a:lnR>
                    <a:lnT w="5760">
                      <a:solidFill>
                        <a:srgbClr val="6400aa"/>
                      </a:solidFill>
                    </a:lnT>
                    <a:lnB w="5760">
                      <a:solidFill>
                        <a:srgbClr val="6400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952956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Adding ingredient information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B9EA-52E4-4A03-9385-34ABF86E46FE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1871640" y="1560600"/>
            <a:ext cx="8448840" cy="409104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sp>
        <p:nvSpPr>
          <p:cNvPr id="432" name="Rectangle 2"/>
          <p:cNvSpPr/>
          <p:nvPr/>
        </p:nvSpPr>
        <p:spPr>
          <a:xfrm>
            <a:off x="3814920" y="4834080"/>
            <a:ext cx="360360" cy="207720"/>
          </a:xfrm>
          <a:prstGeom prst="rect">
            <a:avLst/>
          </a:prstGeom>
          <a:noFill/>
          <a:ln w="19080">
            <a:solidFill>
              <a:srgbClr val="640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5391000" y="4834080"/>
            <a:ext cx="358920" cy="207720"/>
          </a:xfrm>
          <a:prstGeom prst="rect">
            <a:avLst/>
          </a:prstGeom>
          <a:noFill/>
          <a:ln w="19080">
            <a:solidFill>
              <a:srgbClr val="640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7018200" y="4834080"/>
            <a:ext cx="360360" cy="207720"/>
          </a:xfrm>
          <a:prstGeom prst="rect">
            <a:avLst/>
          </a:prstGeom>
          <a:noFill/>
          <a:ln w="19080">
            <a:solidFill>
              <a:srgbClr val="640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5" name="Arrow: Right 13"/>
          <p:cNvSpPr/>
          <p:nvPr/>
        </p:nvSpPr>
        <p:spPr>
          <a:xfrm rot="16200000">
            <a:off x="3813840" y="5172480"/>
            <a:ext cx="360360" cy="25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6" name="Arrow: Right 14"/>
          <p:cNvSpPr/>
          <p:nvPr/>
        </p:nvSpPr>
        <p:spPr>
          <a:xfrm rot="16200000">
            <a:off x="5390280" y="5172480"/>
            <a:ext cx="360360" cy="25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7" name="Arrow: Right 15"/>
          <p:cNvSpPr/>
          <p:nvPr/>
        </p:nvSpPr>
        <p:spPr>
          <a:xfrm rot="16200000">
            <a:off x="7018920" y="5172480"/>
            <a:ext cx="360360" cy="25056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7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7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8212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alculating quantity 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7DCA-E244-45D7-A6F2-98DF0267E94F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2"/>
          <a:stretch/>
        </p:blipFill>
        <p:spPr>
          <a:xfrm>
            <a:off x="407880" y="1506600"/>
            <a:ext cx="8086680" cy="391464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grpSp>
        <p:nvGrpSpPr>
          <p:cNvPr id="441" name="Group 2"/>
          <p:cNvGrpSpPr/>
          <p:nvPr/>
        </p:nvGrpSpPr>
        <p:grpSpPr>
          <a:xfrm>
            <a:off x="6095880" y="3773520"/>
            <a:ext cx="3929040" cy="1055160"/>
            <a:chOff x="6095880" y="3773520"/>
            <a:chExt cx="3929040" cy="1055160"/>
          </a:xfrm>
        </p:grpSpPr>
        <p:sp>
          <p:nvSpPr>
            <p:cNvPr id="442" name="Arrow: Right 6"/>
            <p:cNvSpPr/>
            <p:nvPr/>
          </p:nvSpPr>
          <p:spPr>
            <a:xfrm rot="10800000">
              <a:off x="6095880" y="4576320"/>
              <a:ext cx="3929040" cy="252360"/>
            </a:xfrm>
            <a:prstGeom prst="rightArrow">
              <a:avLst>
                <a:gd name="adj1" fmla="val 50000"/>
                <a:gd name="adj2" fmla="val 50023"/>
              </a:avLst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43" name="Rectangle 7"/>
            <p:cNvSpPr/>
            <p:nvPr/>
          </p:nvSpPr>
          <p:spPr>
            <a:xfrm>
              <a:off x="9890280" y="3773520"/>
              <a:ext cx="134640" cy="90000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444" name="Rectangle 5"/>
          <p:cNvSpPr/>
          <p:nvPr/>
        </p:nvSpPr>
        <p:spPr>
          <a:xfrm>
            <a:off x="8825040" y="2478240"/>
            <a:ext cx="2292120" cy="1422360"/>
          </a:xfrm>
          <a:prstGeom prst="rect">
            <a:avLst/>
          </a:prstGeom>
          <a:solidFill>
            <a:srgbClr val="6400aa"/>
          </a:solidFill>
          <a:ln w="12600">
            <a:solidFill>
              <a:srgbClr val="47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How does this formula calculate the quantity?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9" descr=""/>
          <p:cNvPicPr/>
          <p:nvPr/>
        </p:nvPicPr>
        <p:blipFill>
          <a:blip r:embed="rId1"/>
          <a:stretch/>
        </p:blipFill>
        <p:spPr>
          <a:xfrm>
            <a:off x="407880" y="1498680"/>
            <a:ext cx="8086680" cy="393372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50054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alculating cost 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628D-AD2D-4F37-9855-6371F5C65DBB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448" name="Group 2"/>
          <p:cNvGrpSpPr/>
          <p:nvPr/>
        </p:nvGrpSpPr>
        <p:grpSpPr>
          <a:xfrm>
            <a:off x="7556040" y="3816360"/>
            <a:ext cx="2467440" cy="1022040"/>
            <a:chOff x="7556040" y="3816360"/>
            <a:chExt cx="2467440" cy="1022040"/>
          </a:xfrm>
        </p:grpSpPr>
        <p:sp>
          <p:nvSpPr>
            <p:cNvPr id="449" name="Rectangle 7"/>
            <p:cNvSpPr/>
            <p:nvPr/>
          </p:nvSpPr>
          <p:spPr>
            <a:xfrm>
              <a:off x="9902880" y="3816360"/>
              <a:ext cx="120600" cy="90180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450" name="Arrow: Right 6"/>
            <p:cNvSpPr/>
            <p:nvPr/>
          </p:nvSpPr>
          <p:spPr>
            <a:xfrm rot="10800000">
              <a:off x="7556040" y="4586040"/>
              <a:ext cx="2467080" cy="252360"/>
            </a:xfrm>
            <a:prstGeom prst="rightArrow">
              <a:avLst>
                <a:gd name="adj1" fmla="val 50000"/>
                <a:gd name="adj2" fmla="val 44897"/>
              </a:avLst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451" name="Rectangle 12"/>
          <p:cNvSpPr/>
          <p:nvPr/>
        </p:nvSpPr>
        <p:spPr>
          <a:xfrm>
            <a:off x="8825040" y="2478240"/>
            <a:ext cx="2292120" cy="1422360"/>
          </a:xfrm>
          <a:prstGeom prst="rect">
            <a:avLst/>
          </a:prstGeom>
          <a:solidFill>
            <a:srgbClr val="6400aa"/>
          </a:solidFill>
          <a:ln w="12600">
            <a:solidFill>
              <a:srgbClr val="47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How does this formula calculate the cost?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7T20:30:31Z</dcterms:created>
  <dc:creator>Adam Strand</dc:creator>
  <dc:description/>
  <dc:language>en-US</dc:language>
  <cp:lastModifiedBy>Isabel Boulter</cp:lastModifiedBy>
  <cp:lastPrinted>2019-03-18T12:08:37Z</cp:lastPrinted>
  <dcterms:modified xsi:type="dcterms:W3CDTF">2019-11-08T12:29:58Z</dcterms:modified>
  <cp:revision>3</cp:revision>
  <dc:subject/>
  <dc:title>PowerPoint Presentation</dc:title>
</cp:coreProperties>
</file>