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8"/>
          </p:nvPr>
        </p:nvSpPr>
        <p:spPr>
          <a:xfrm>
            <a:off x="385920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4480" cy="335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968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9"/>
          </p:nvPr>
        </p:nvSpPr>
        <p:spPr>
          <a:xfrm>
            <a:off x="0" y="944352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 type="sldNum" idx="10"/>
          </p:nvPr>
        </p:nvSpPr>
        <p:spPr>
          <a:xfrm>
            <a:off x="3859200" y="944352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F324-6F96-4F5E-9C8E-5E2FB4DE0D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4480" cy="33559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968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Sum () is a function. It is a special pre-defined form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5920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AE2A-7A7F-430F-8DFC-E48F84E9AE9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6E93-D0A4-4ED8-BB83-72B774034F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89F8-972F-4F49-9DA8-941A4140A5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5A70-72C0-4C34-BC80-9D46A740B6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7E95-AC28-44CF-801D-D856FD71EF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89CE-62CB-4F85-ACEA-6512D92358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353D-F693-42A2-AF65-25A920433A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5619-8292-476A-AD52-5E5D2DEBC9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1D46-8C03-49FB-A3EB-1A6D99A4A8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D0B9-E82D-4307-8423-477DDD8A96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BF62-CD87-4CAB-91BE-757527AEC8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8F52-9C51-4B46-AFAD-3FE82DC2F4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E8CD-6804-4442-9087-22084EBA20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97AC-070F-43E5-9E04-79B760E02C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1751E-BF14-4ACF-9852-043006497D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82661-5060-460D-9052-CE179EFCEA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FB377-62A6-4382-A1CA-B4D2CA8982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5370-2C2D-443D-A2E3-AC4E4FE3AF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03CE-E45C-4139-AE3D-B101EAF579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BE734-7D92-4A32-A319-AD9C0572FC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43A5-6B3C-49B7-8B0A-B95103EB12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D57C-E53D-4ADF-8D53-3E9436AE07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4369-24EA-4A38-8BEC-BFC91E0DC4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1F068-5AA0-4988-BC87-2E5F3E4180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F8037-F78D-4A61-8BEB-BBBF7F6BE1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6AFC-1285-4EA0-A71F-FD977934F2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150-33EB-4E8B-8B50-3B60C6DA94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B97-C49E-4E78-85AD-011081685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88E-853B-4CCC-9171-D120943A29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D87D-6761-4DE6-ACBF-AE7F8AA738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0EF-927A-4C51-937F-65CD34F26E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B0A-2E23-487E-AA7D-112825C929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59F-3C1B-4AFA-AC2F-DABE3504C9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83B-FF2B-4BE0-A95C-F95B02B6C4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647-4551-4828-BBB2-850FA7D4AB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085-36D5-40FF-872F-78309F6B05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6A0-84DC-4D9D-9ECE-5E7FF907CF1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DEEDA-F5E9-4CC9-A362-9C917E02A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D7E99-7E39-4C75-8A3B-221EA40C905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481DB-A4B3-4BA5-812E-3C620817F3C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B5CCF-BFE4-46D7-830F-8C6AA902A44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BA8DA-2C98-45DB-A9F3-676F5429264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691AC-DA96-49BF-8F59-D91F8C9FFD4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5960E-9E1A-41B4-9FA2-C2DDA2B0EBB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969ED-572B-4F59-BAED-456CC22B41C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46E1E-C776-489D-B876-7887F8D1599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B7361-4635-429C-ABAB-725C8121264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CFC87-7B5B-4BC6-82A0-47B2E341A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E5E33-C83C-42E0-9272-5A0ED6D6B1E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53955-8CCA-4E4D-92DC-0690822639D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0CDC0-BF3D-4C18-B932-CF49263B854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C8AFD-5AC0-4295-B375-A362248A4A0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10C4A-2253-458F-840D-EEB9263D8E3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09D24-A000-4D38-98F9-32C05FA1EAD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3A68A-71FB-4715-985B-4A27738ED8E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264F6-482C-4323-B06D-D90E111C019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50270-E4CA-42C4-BE92-23F82850644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A22D4-B7E1-4641-969F-A72E50F34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89B08-6CFF-48FF-A3BE-53C7520B35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BD8B2-8217-43FB-B033-D5327D5148B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94C8A-3EE8-453D-8A54-66AA6405D1E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3603-B56E-44BC-B0BF-1F16B987F57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E229-FA20-4DE8-90AF-D41B9809C7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807B-992E-4D40-A1F0-F44E6E79CD3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A76C-5F93-43A1-877F-E022408806A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CDEB-4565-4EDF-80B0-4DA88F2EDD3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4360-B6BD-429A-9EE9-8C32BB66DDC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DF8B-5086-4CB2-9554-FF8F4CDBE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4358-D39A-4374-9FFE-331AB4295B7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359F-9573-4241-90DC-29CBBA93E43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B32A-4612-450B-A5CB-A325EC48FA6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87E0-AC42-4A4C-96D2-BA3C5B586C4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BB26-BF6F-45E3-9407-DECB6CD6FA5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F68659-33CC-490D-B72F-EC4588ABF5E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62F044-D752-4E5B-9909-97DE7E500D2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4D1407-4162-402C-A501-381771C8127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4C1C7A-071D-42C4-83AC-22A2BBC72B0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3860E9-A581-4EED-B2B5-408C7EE5B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336240" y="185760"/>
            <a:ext cx="1225404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AB5A6F-9336-43D7-AFBF-CFED765FEAE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5F78D3-5A03-4ADF-AC54-08FC6DC105A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8FA130-63F9-4F98-904B-BB381F2E50C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85BB6D-5378-408B-BAC0-3FC65DFC049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6240" y="3945960"/>
            <a:ext cx="1101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748A99-CEA1-48EB-8FE3-B26C00A089E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981760" y="150624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3624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981760" y="3945960"/>
            <a:ext cx="537624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BE5A6F-2EAF-4EF4-BE4C-C6A1344186D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3624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06116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85720" y="150624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3624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406116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785720" y="3945960"/>
            <a:ext cx="35470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7C84EF-258C-46E6-9309-56686D2C2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" name="Oval 4"/>
          <p:cNvSpPr/>
          <p:nvPr/>
        </p:nvSpPr>
        <p:spPr>
          <a:xfrm>
            <a:off x="10161720" y="-2030400"/>
            <a:ext cx="4060800" cy="4060800"/>
          </a:xfrm>
          <a:prstGeom prst="ellipse">
            <a:avLst/>
          </a:pr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" name="Isosceles Triangle 5"/>
          <p:cNvSpPr/>
          <p:nvPr/>
        </p:nvSpPr>
        <p:spPr>
          <a:xfrm rot="18169200">
            <a:off x="2850480" y="4704120"/>
            <a:ext cx="4100760" cy="4178160"/>
          </a:xfrm>
          <a:prstGeom prst="triangle">
            <a:avLst>
              <a:gd name="adj" fmla="val 50000"/>
            </a:avLst>
          </a:prstGeom>
          <a:solidFill>
            <a:srgbClr val="ffe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" name="Freeform 5"/>
          <p:cNvSpPr/>
          <p:nvPr/>
        </p:nvSpPr>
        <p:spPr>
          <a:xfrm rot="15148800">
            <a:off x="-2812320" y="4866480"/>
            <a:ext cx="3844800" cy="5719680"/>
          </a:xfrm>
          <a:custGeom>
            <a:avLst/>
            <a:gdLst/>
            <a:ahLst/>
            <a:rect l="l" t="t" r="r" b="b"/>
            <a:pathLst>
              <a:path w="945" h="1407">
                <a:moveTo>
                  <a:pt x="587" y="1331"/>
                </a:moveTo>
                <a:cubicBezTo>
                  <a:pt x="594" y="1326"/>
                  <a:pt x="600" y="1322"/>
                  <a:pt x="607" y="1317"/>
                </a:cubicBezTo>
                <a:cubicBezTo>
                  <a:pt x="730" y="1233"/>
                  <a:pt x="811" y="1093"/>
                  <a:pt x="844" y="929"/>
                </a:cubicBezTo>
                <a:cubicBezTo>
                  <a:pt x="856" y="871"/>
                  <a:pt x="859" y="807"/>
                  <a:pt x="852" y="744"/>
                </a:cubicBezTo>
                <a:cubicBezTo>
                  <a:pt x="850" y="728"/>
                  <a:pt x="849" y="712"/>
                  <a:pt x="846" y="696"/>
                </a:cubicBezTo>
                <a:cubicBezTo>
                  <a:pt x="843" y="681"/>
                  <a:pt x="839" y="665"/>
                  <a:pt x="836" y="650"/>
                </a:cubicBezTo>
                <a:cubicBezTo>
                  <a:pt x="827" y="620"/>
                  <a:pt x="821" y="589"/>
                  <a:pt x="811" y="561"/>
                </a:cubicBezTo>
                <a:cubicBezTo>
                  <a:pt x="831" y="629"/>
                  <a:pt x="848" y="699"/>
                  <a:pt x="851" y="770"/>
                </a:cubicBezTo>
                <a:cubicBezTo>
                  <a:pt x="855" y="841"/>
                  <a:pt x="849" y="913"/>
                  <a:pt x="830" y="981"/>
                </a:cubicBezTo>
                <a:cubicBezTo>
                  <a:pt x="795" y="1118"/>
                  <a:pt x="711" y="1239"/>
                  <a:pt x="603" y="1311"/>
                </a:cubicBezTo>
                <a:cubicBezTo>
                  <a:pt x="612" y="1301"/>
                  <a:pt x="621" y="1290"/>
                  <a:pt x="631" y="1278"/>
                </a:cubicBezTo>
                <a:cubicBezTo>
                  <a:pt x="636" y="1272"/>
                  <a:pt x="641" y="1266"/>
                  <a:pt x="647" y="1260"/>
                </a:cubicBezTo>
                <a:cubicBezTo>
                  <a:pt x="652" y="1254"/>
                  <a:pt x="658" y="1247"/>
                  <a:pt x="664" y="1241"/>
                </a:cubicBezTo>
                <a:cubicBezTo>
                  <a:pt x="725" y="1180"/>
                  <a:pt x="769" y="1103"/>
                  <a:pt x="797" y="1023"/>
                </a:cubicBezTo>
                <a:cubicBezTo>
                  <a:pt x="800" y="1024"/>
                  <a:pt x="805" y="1025"/>
                  <a:pt x="807" y="1026"/>
                </a:cubicBezTo>
                <a:cubicBezTo>
                  <a:pt x="841" y="907"/>
                  <a:pt x="849" y="785"/>
                  <a:pt x="825" y="666"/>
                </a:cubicBezTo>
                <a:cubicBezTo>
                  <a:pt x="820" y="636"/>
                  <a:pt x="811" y="606"/>
                  <a:pt x="803" y="577"/>
                </a:cubicBezTo>
                <a:cubicBezTo>
                  <a:pt x="793" y="548"/>
                  <a:pt x="785" y="518"/>
                  <a:pt x="771" y="490"/>
                </a:cubicBezTo>
                <a:cubicBezTo>
                  <a:pt x="748" y="433"/>
                  <a:pt x="715" y="380"/>
                  <a:pt x="675" y="333"/>
                </a:cubicBezTo>
                <a:cubicBezTo>
                  <a:pt x="679" y="341"/>
                  <a:pt x="675" y="338"/>
                  <a:pt x="672" y="337"/>
                </a:cubicBezTo>
                <a:cubicBezTo>
                  <a:pt x="671" y="336"/>
                  <a:pt x="671" y="336"/>
                  <a:pt x="671" y="336"/>
                </a:cubicBezTo>
                <a:cubicBezTo>
                  <a:pt x="672" y="337"/>
                  <a:pt x="672" y="337"/>
                  <a:pt x="672" y="337"/>
                </a:cubicBezTo>
                <a:cubicBezTo>
                  <a:pt x="670" y="337"/>
                  <a:pt x="670" y="339"/>
                  <a:pt x="679" y="350"/>
                </a:cubicBezTo>
                <a:cubicBezTo>
                  <a:pt x="670" y="339"/>
                  <a:pt x="670" y="337"/>
                  <a:pt x="672" y="337"/>
                </a:cubicBezTo>
                <a:cubicBezTo>
                  <a:pt x="709" y="385"/>
                  <a:pt x="741" y="436"/>
                  <a:pt x="763" y="492"/>
                </a:cubicBezTo>
                <a:cubicBezTo>
                  <a:pt x="776" y="519"/>
                  <a:pt x="785" y="548"/>
                  <a:pt x="795" y="576"/>
                </a:cubicBezTo>
                <a:cubicBezTo>
                  <a:pt x="803" y="605"/>
                  <a:pt x="812" y="635"/>
                  <a:pt x="818" y="663"/>
                </a:cubicBezTo>
                <a:cubicBezTo>
                  <a:pt x="843" y="779"/>
                  <a:pt x="838" y="900"/>
                  <a:pt x="801" y="1014"/>
                </a:cubicBezTo>
                <a:cubicBezTo>
                  <a:pt x="828" y="925"/>
                  <a:pt x="839" y="831"/>
                  <a:pt x="827" y="739"/>
                </a:cubicBezTo>
                <a:cubicBezTo>
                  <a:pt x="823" y="692"/>
                  <a:pt x="811" y="647"/>
                  <a:pt x="799" y="601"/>
                </a:cubicBezTo>
                <a:cubicBezTo>
                  <a:pt x="785" y="556"/>
                  <a:pt x="769" y="512"/>
                  <a:pt x="749" y="469"/>
                </a:cubicBezTo>
                <a:cubicBezTo>
                  <a:pt x="709" y="385"/>
                  <a:pt x="654" y="309"/>
                  <a:pt x="582" y="251"/>
                </a:cubicBezTo>
                <a:cubicBezTo>
                  <a:pt x="511" y="193"/>
                  <a:pt x="425" y="153"/>
                  <a:pt x="332" y="133"/>
                </a:cubicBezTo>
                <a:cubicBezTo>
                  <a:pt x="316" y="130"/>
                  <a:pt x="283" y="125"/>
                  <a:pt x="267" y="122"/>
                </a:cubicBezTo>
                <a:cubicBezTo>
                  <a:pt x="202" y="109"/>
                  <a:pt x="134" y="104"/>
                  <a:pt x="66" y="112"/>
                </a:cubicBezTo>
                <a:cubicBezTo>
                  <a:pt x="74" y="105"/>
                  <a:pt x="60" y="97"/>
                  <a:pt x="62" y="89"/>
                </a:cubicBezTo>
                <a:cubicBezTo>
                  <a:pt x="63" y="86"/>
                  <a:pt x="67" y="82"/>
                  <a:pt x="80" y="79"/>
                </a:cubicBezTo>
                <a:cubicBezTo>
                  <a:pt x="87" y="78"/>
                  <a:pt x="96" y="76"/>
                  <a:pt x="107" y="75"/>
                </a:cubicBezTo>
                <a:cubicBezTo>
                  <a:pt x="119" y="75"/>
                  <a:pt x="133" y="74"/>
                  <a:pt x="150" y="75"/>
                </a:cubicBezTo>
                <a:cubicBezTo>
                  <a:pt x="150" y="72"/>
                  <a:pt x="150" y="67"/>
                  <a:pt x="150" y="65"/>
                </a:cubicBezTo>
                <a:cubicBezTo>
                  <a:pt x="132" y="64"/>
                  <a:pt x="116" y="62"/>
                  <a:pt x="101" y="60"/>
                </a:cubicBezTo>
                <a:cubicBezTo>
                  <a:pt x="86" y="60"/>
                  <a:pt x="73" y="58"/>
                  <a:pt x="62" y="57"/>
                </a:cubicBezTo>
                <a:cubicBezTo>
                  <a:pt x="38" y="54"/>
                  <a:pt x="22" y="50"/>
                  <a:pt x="15" y="44"/>
                </a:cubicBezTo>
                <a:cubicBezTo>
                  <a:pt x="0" y="35"/>
                  <a:pt x="20" y="21"/>
                  <a:pt x="94" y="9"/>
                </a:cubicBezTo>
                <a:cubicBezTo>
                  <a:pt x="176" y="0"/>
                  <a:pt x="276" y="2"/>
                  <a:pt x="378" y="27"/>
                </a:cubicBezTo>
                <a:cubicBezTo>
                  <a:pt x="480" y="52"/>
                  <a:pt x="582" y="103"/>
                  <a:pt x="664" y="171"/>
                </a:cubicBezTo>
                <a:cubicBezTo>
                  <a:pt x="724" y="221"/>
                  <a:pt x="774" y="281"/>
                  <a:pt x="814" y="346"/>
                </a:cubicBezTo>
                <a:cubicBezTo>
                  <a:pt x="853" y="412"/>
                  <a:pt x="881" y="482"/>
                  <a:pt x="902" y="554"/>
                </a:cubicBezTo>
                <a:cubicBezTo>
                  <a:pt x="929" y="651"/>
                  <a:pt x="945" y="763"/>
                  <a:pt x="936" y="871"/>
                </a:cubicBezTo>
                <a:cubicBezTo>
                  <a:pt x="926" y="979"/>
                  <a:pt x="895" y="1086"/>
                  <a:pt x="840" y="1174"/>
                </a:cubicBezTo>
                <a:cubicBezTo>
                  <a:pt x="835" y="1183"/>
                  <a:pt x="830" y="1192"/>
                  <a:pt x="824" y="1201"/>
                </a:cubicBezTo>
                <a:cubicBezTo>
                  <a:pt x="818" y="1210"/>
                  <a:pt x="812" y="1220"/>
                  <a:pt x="806" y="1229"/>
                </a:cubicBezTo>
                <a:cubicBezTo>
                  <a:pt x="793" y="1250"/>
                  <a:pt x="778" y="1269"/>
                  <a:pt x="763" y="1288"/>
                </a:cubicBezTo>
                <a:cubicBezTo>
                  <a:pt x="748" y="1306"/>
                  <a:pt x="732" y="1322"/>
                  <a:pt x="719" y="1336"/>
                </a:cubicBezTo>
                <a:cubicBezTo>
                  <a:pt x="705" y="1348"/>
                  <a:pt x="693" y="1358"/>
                  <a:pt x="685" y="1362"/>
                </a:cubicBezTo>
                <a:cubicBezTo>
                  <a:pt x="662" y="1378"/>
                  <a:pt x="657" y="1373"/>
                  <a:pt x="657" y="1366"/>
                </a:cubicBezTo>
                <a:cubicBezTo>
                  <a:pt x="705" y="1329"/>
                  <a:pt x="747" y="1284"/>
                  <a:pt x="782" y="1236"/>
                </a:cubicBezTo>
                <a:cubicBezTo>
                  <a:pt x="818" y="1187"/>
                  <a:pt x="846" y="1133"/>
                  <a:pt x="867" y="1078"/>
                </a:cubicBezTo>
                <a:cubicBezTo>
                  <a:pt x="921" y="942"/>
                  <a:pt x="934" y="790"/>
                  <a:pt x="906" y="645"/>
                </a:cubicBezTo>
                <a:cubicBezTo>
                  <a:pt x="932" y="787"/>
                  <a:pt x="921" y="939"/>
                  <a:pt x="867" y="1078"/>
                </a:cubicBezTo>
                <a:cubicBezTo>
                  <a:pt x="845" y="1133"/>
                  <a:pt x="817" y="1186"/>
                  <a:pt x="781" y="1234"/>
                </a:cubicBezTo>
                <a:cubicBezTo>
                  <a:pt x="745" y="1281"/>
                  <a:pt x="704" y="1324"/>
                  <a:pt x="657" y="1360"/>
                </a:cubicBezTo>
                <a:cubicBezTo>
                  <a:pt x="657" y="1354"/>
                  <a:pt x="657" y="1347"/>
                  <a:pt x="648" y="1347"/>
                </a:cubicBezTo>
                <a:cubicBezTo>
                  <a:pt x="648" y="1347"/>
                  <a:pt x="620" y="1369"/>
                  <a:pt x="605" y="1379"/>
                </a:cubicBezTo>
                <a:cubicBezTo>
                  <a:pt x="538" y="1407"/>
                  <a:pt x="547" y="1381"/>
                  <a:pt x="568" y="1353"/>
                </a:cubicBezTo>
                <a:cubicBezTo>
                  <a:pt x="573" y="1346"/>
                  <a:pt x="580" y="1340"/>
                  <a:pt x="587" y="1331"/>
                </a:cubicBezTo>
              </a:path>
            </a:pathLst>
          </a:custGeom>
          <a:solidFill>
            <a:srgbClr val="e5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" name="Freeform 9"/>
          <p:cNvSpPr/>
          <p:nvPr/>
        </p:nvSpPr>
        <p:spPr>
          <a:xfrm rot="20131800">
            <a:off x="12455640" y="2901600"/>
            <a:ext cx="1003320" cy="5575320"/>
          </a:xfrm>
          <a:custGeom>
            <a:avLst/>
            <a:gdLst/>
            <a:ahLst/>
            <a:rect l="l" t="t" r="r" b="b"/>
            <a:pathLst>
              <a:path w="219" h="1220">
                <a:moveTo>
                  <a:pt x="157" y="1217"/>
                </a:moveTo>
                <a:cubicBezTo>
                  <a:pt x="149" y="1212"/>
                  <a:pt x="142" y="1207"/>
                  <a:pt x="136" y="1201"/>
                </a:cubicBezTo>
                <a:cubicBezTo>
                  <a:pt x="130" y="1195"/>
                  <a:pt x="123" y="1188"/>
                  <a:pt x="118" y="1180"/>
                </a:cubicBezTo>
                <a:cubicBezTo>
                  <a:pt x="113" y="1173"/>
                  <a:pt x="108" y="1165"/>
                  <a:pt x="105" y="1157"/>
                </a:cubicBezTo>
                <a:cubicBezTo>
                  <a:pt x="97" y="1141"/>
                  <a:pt x="94" y="1125"/>
                  <a:pt x="91" y="1110"/>
                </a:cubicBezTo>
                <a:cubicBezTo>
                  <a:pt x="89" y="1096"/>
                  <a:pt x="88" y="1081"/>
                  <a:pt x="88" y="1068"/>
                </a:cubicBezTo>
                <a:cubicBezTo>
                  <a:pt x="88" y="1055"/>
                  <a:pt x="88" y="1043"/>
                  <a:pt x="88" y="1031"/>
                </a:cubicBezTo>
                <a:cubicBezTo>
                  <a:pt x="88" y="981"/>
                  <a:pt x="88" y="930"/>
                  <a:pt x="89" y="877"/>
                </a:cubicBezTo>
                <a:cubicBezTo>
                  <a:pt x="93" y="802"/>
                  <a:pt x="88" y="717"/>
                  <a:pt x="85" y="642"/>
                </a:cubicBezTo>
                <a:cubicBezTo>
                  <a:pt x="86" y="730"/>
                  <a:pt x="87" y="821"/>
                  <a:pt x="87" y="911"/>
                </a:cubicBezTo>
                <a:cubicBezTo>
                  <a:pt x="87" y="956"/>
                  <a:pt x="86" y="1001"/>
                  <a:pt x="84" y="1046"/>
                </a:cubicBezTo>
                <a:cubicBezTo>
                  <a:pt x="84" y="1068"/>
                  <a:pt x="82" y="1093"/>
                  <a:pt x="87" y="1121"/>
                </a:cubicBezTo>
                <a:cubicBezTo>
                  <a:pt x="88" y="1128"/>
                  <a:pt x="90" y="1135"/>
                  <a:pt x="92" y="1143"/>
                </a:cubicBezTo>
                <a:cubicBezTo>
                  <a:pt x="93" y="1146"/>
                  <a:pt x="94" y="1150"/>
                  <a:pt x="95" y="1154"/>
                </a:cubicBezTo>
                <a:cubicBezTo>
                  <a:pt x="96" y="1156"/>
                  <a:pt x="97" y="1157"/>
                  <a:pt x="98" y="1159"/>
                </a:cubicBezTo>
                <a:cubicBezTo>
                  <a:pt x="100" y="1165"/>
                  <a:pt x="100" y="1165"/>
                  <a:pt x="100" y="1165"/>
                </a:cubicBezTo>
                <a:cubicBezTo>
                  <a:pt x="104" y="1173"/>
                  <a:pt x="108" y="1181"/>
                  <a:pt x="113" y="1187"/>
                </a:cubicBezTo>
                <a:cubicBezTo>
                  <a:pt x="118" y="1194"/>
                  <a:pt x="124" y="1201"/>
                  <a:pt x="131" y="1207"/>
                </a:cubicBezTo>
                <a:cubicBezTo>
                  <a:pt x="118" y="1200"/>
                  <a:pt x="105" y="1191"/>
                  <a:pt x="94" y="1177"/>
                </a:cubicBezTo>
                <a:cubicBezTo>
                  <a:pt x="91" y="1173"/>
                  <a:pt x="88" y="1169"/>
                  <a:pt x="86" y="1165"/>
                </a:cubicBezTo>
                <a:cubicBezTo>
                  <a:pt x="84" y="1163"/>
                  <a:pt x="83" y="1161"/>
                  <a:pt x="82" y="1160"/>
                </a:cubicBezTo>
                <a:cubicBezTo>
                  <a:pt x="81" y="1158"/>
                  <a:pt x="80" y="1156"/>
                  <a:pt x="79" y="1154"/>
                </a:cubicBezTo>
                <a:cubicBezTo>
                  <a:pt x="75" y="1146"/>
                  <a:pt x="73" y="1137"/>
                  <a:pt x="70" y="1129"/>
                </a:cubicBezTo>
                <a:cubicBezTo>
                  <a:pt x="66" y="1108"/>
                  <a:pt x="65" y="1090"/>
                  <a:pt x="65" y="1073"/>
                </a:cubicBezTo>
                <a:cubicBezTo>
                  <a:pt x="65" y="1065"/>
                  <a:pt x="65" y="1057"/>
                  <a:pt x="65" y="1050"/>
                </a:cubicBezTo>
                <a:cubicBezTo>
                  <a:pt x="65" y="1043"/>
                  <a:pt x="65" y="1036"/>
                  <a:pt x="65" y="1029"/>
                </a:cubicBezTo>
                <a:cubicBezTo>
                  <a:pt x="65" y="1000"/>
                  <a:pt x="65" y="972"/>
                  <a:pt x="65" y="944"/>
                </a:cubicBezTo>
                <a:cubicBezTo>
                  <a:pt x="68" y="944"/>
                  <a:pt x="73" y="943"/>
                  <a:pt x="76" y="943"/>
                </a:cubicBezTo>
                <a:cubicBezTo>
                  <a:pt x="70" y="863"/>
                  <a:pt x="72" y="786"/>
                  <a:pt x="72" y="709"/>
                </a:cubicBezTo>
                <a:cubicBezTo>
                  <a:pt x="73" y="631"/>
                  <a:pt x="72" y="554"/>
                  <a:pt x="60" y="476"/>
                </a:cubicBezTo>
                <a:cubicBezTo>
                  <a:pt x="59" y="481"/>
                  <a:pt x="56" y="478"/>
                  <a:pt x="54" y="477"/>
                </a:cubicBezTo>
                <a:cubicBezTo>
                  <a:pt x="54" y="477"/>
                  <a:pt x="54" y="476"/>
                  <a:pt x="54" y="476"/>
                </a:cubicBezTo>
                <a:cubicBezTo>
                  <a:pt x="54" y="476"/>
                  <a:pt x="54" y="477"/>
                  <a:pt x="54" y="477"/>
                </a:cubicBezTo>
                <a:cubicBezTo>
                  <a:pt x="53" y="476"/>
                  <a:pt x="51" y="477"/>
                  <a:pt x="52" y="487"/>
                </a:cubicBezTo>
                <a:cubicBezTo>
                  <a:pt x="51" y="477"/>
                  <a:pt x="53" y="476"/>
                  <a:pt x="54" y="477"/>
                </a:cubicBezTo>
                <a:cubicBezTo>
                  <a:pt x="61" y="555"/>
                  <a:pt x="64" y="630"/>
                  <a:pt x="65" y="706"/>
                </a:cubicBezTo>
                <a:cubicBezTo>
                  <a:pt x="66" y="782"/>
                  <a:pt x="66" y="859"/>
                  <a:pt x="65" y="937"/>
                </a:cubicBezTo>
                <a:cubicBezTo>
                  <a:pt x="65" y="876"/>
                  <a:pt x="64" y="816"/>
                  <a:pt x="63" y="755"/>
                </a:cubicBezTo>
                <a:cubicBezTo>
                  <a:pt x="62" y="695"/>
                  <a:pt x="60" y="635"/>
                  <a:pt x="56" y="575"/>
                </a:cubicBezTo>
                <a:cubicBezTo>
                  <a:pt x="50" y="456"/>
                  <a:pt x="39" y="337"/>
                  <a:pt x="21" y="216"/>
                </a:cubicBezTo>
                <a:cubicBezTo>
                  <a:pt x="19" y="206"/>
                  <a:pt x="16" y="185"/>
                  <a:pt x="14" y="175"/>
                </a:cubicBezTo>
                <a:cubicBezTo>
                  <a:pt x="15" y="133"/>
                  <a:pt x="9" y="91"/>
                  <a:pt x="0" y="51"/>
                </a:cubicBezTo>
                <a:cubicBezTo>
                  <a:pt x="7" y="54"/>
                  <a:pt x="16" y="44"/>
                  <a:pt x="23" y="43"/>
                </a:cubicBezTo>
                <a:cubicBezTo>
                  <a:pt x="27" y="43"/>
                  <a:pt x="31" y="45"/>
                  <a:pt x="35" y="53"/>
                </a:cubicBezTo>
                <a:cubicBezTo>
                  <a:pt x="37" y="56"/>
                  <a:pt x="39" y="61"/>
                  <a:pt x="41" y="68"/>
                </a:cubicBezTo>
                <a:cubicBezTo>
                  <a:pt x="43" y="75"/>
                  <a:pt x="44" y="83"/>
                  <a:pt x="46" y="94"/>
                </a:cubicBezTo>
                <a:cubicBezTo>
                  <a:pt x="48" y="93"/>
                  <a:pt x="54" y="92"/>
                  <a:pt x="56" y="92"/>
                </a:cubicBezTo>
                <a:cubicBezTo>
                  <a:pt x="56" y="81"/>
                  <a:pt x="56" y="71"/>
                  <a:pt x="56" y="62"/>
                </a:cubicBezTo>
                <a:cubicBezTo>
                  <a:pt x="57" y="52"/>
                  <a:pt x="57" y="44"/>
                  <a:pt x="58" y="37"/>
                </a:cubicBezTo>
                <a:cubicBezTo>
                  <a:pt x="61" y="22"/>
                  <a:pt x="65" y="11"/>
                  <a:pt x="70" y="6"/>
                </a:cubicBezTo>
                <a:cubicBezTo>
                  <a:pt x="75" y="0"/>
                  <a:pt x="82" y="0"/>
                  <a:pt x="89" y="6"/>
                </a:cubicBezTo>
                <a:cubicBezTo>
                  <a:pt x="96" y="13"/>
                  <a:pt x="103" y="25"/>
                  <a:pt x="111" y="46"/>
                </a:cubicBezTo>
                <a:cubicBezTo>
                  <a:pt x="127" y="93"/>
                  <a:pt x="138" y="150"/>
                  <a:pt x="146" y="210"/>
                </a:cubicBezTo>
                <a:cubicBezTo>
                  <a:pt x="155" y="270"/>
                  <a:pt x="160" y="332"/>
                  <a:pt x="168" y="391"/>
                </a:cubicBezTo>
                <a:cubicBezTo>
                  <a:pt x="179" y="478"/>
                  <a:pt x="186" y="564"/>
                  <a:pt x="183" y="651"/>
                </a:cubicBezTo>
                <a:cubicBezTo>
                  <a:pt x="179" y="770"/>
                  <a:pt x="184" y="897"/>
                  <a:pt x="176" y="1015"/>
                </a:cubicBezTo>
                <a:cubicBezTo>
                  <a:pt x="176" y="1026"/>
                  <a:pt x="176" y="1039"/>
                  <a:pt x="177" y="1052"/>
                </a:cubicBezTo>
                <a:cubicBezTo>
                  <a:pt x="177" y="1065"/>
                  <a:pt x="178" y="1077"/>
                  <a:pt x="180" y="1087"/>
                </a:cubicBezTo>
                <a:cubicBezTo>
                  <a:pt x="182" y="1098"/>
                  <a:pt x="184" y="1105"/>
                  <a:pt x="186" y="1111"/>
                </a:cubicBezTo>
                <a:cubicBezTo>
                  <a:pt x="186" y="1113"/>
                  <a:pt x="187" y="1114"/>
                  <a:pt x="187" y="1115"/>
                </a:cubicBezTo>
                <a:cubicBezTo>
                  <a:pt x="188" y="1116"/>
                  <a:pt x="188" y="1117"/>
                  <a:pt x="188" y="1118"/>
                </a:cubicBezTo>
                <a:cubicBezTo>
                  <a:pt x="189" y="1120"/>
                  <a:pt x="189" y="1122"/>
                  <a:pt x="189" y="1124"/>
                </a:cubicBezTo>
                <a:cubicBezTo>
                  <a:pt x="189" y="1125"/>
                  <a:pt x="189" y="1126"/>
                  <a:pt x="189" y="1127"/>
                </a:cubicBezTo>
                <a:cubicBezTo>
                  <a:pt x="190" y="1128"/>
                  <a:pt x="190" y="1129"/>
                  <a:pt x="189" y="1129"/>
                </a:cubicBezTo>
                <a:cubicBezTo>
                  <a:pt x="189" y="1131"/>
                  <a:pt x="189" y="1132"/>
                  <a:pt x="188" y="1134"/>
                </a:cubicBezTo>
                <a:cubicBezTo>
                  <a:pt x="187" y="1136"/>
                  <a:pt x="185" y="1139"/>
                  <a:pt x="182" y="1140"/>
                </a:cubicBezTo>
                <a:cubicBezTo>
                  <a:pt x="178" y="1136"/>
                  <a:pt x="174" y="1131"/>
                  <a:pt x="172" y="1126"/>
                </a:cubicBezTo>
                <a:cubicBezTo>
                  <a:pt x="171" y="1125"/>
                  <a:pt x="170" y="1124"/>
                  <a:pt x="170" y="1122"/>
                </a:cubicBezTo>
                <a:cubicBezTo>
                  <a:pt x="169" y="1121"/>
                  <a:pt x="168" y="1119"/>
                  <a:pt x="168" y="1118"/>
                </a:cubicBezTo>
                <a:cubicBezTo>
                  <a:pt x="167" y="1115"/>
                  <a:pt x="166" y="1111"/>
                  <a:pt x="165" y="1108"/>
                </a:cubicBezTo>
                <a:cubicBezTo>
                  <a:pt x="161" y="1095"/>
                  <a:pt x="160" y="1079"/>
                  <a:pt x="159" y="1063"/>
                </a:cubicBezTo>
                <a:cubicBezTo>
                  <a:pt x="159" y="1055"/>
                  <a:pt x="159" y="1046"/>
                  <a:pt x="159" y="1037"/>
                </a:cubicBezTo>
                <a:cubicBezTo>
                  <a:pt x="159" y="1028"/>
                  <a:pt x="159" y="1020"/>
                  <a:pt x="159" y="1011"/>
                </a:cubicBezTo>
                <a:cubicBezTo>
                  <a:pt x="159" y="994"/>
                  <a:pt x="158" y="976"/>
                  <a:pt x="158" y="959"/>
                </a:cubicBezTo>
                <a:cubicBezTo>
                  <a:pt x="159" y="874"/>
                  <a:pt x="161" y="789"/>
                  <a:pt x="164" y="703"/>
                </a:cubicBezTo>
                <a:cubicBezTo>
                  <a:pt x="159" y="787"/>
                  <a:pt x="158" y="872"/>
                  <a:pt x="158" y="959"/>
                </a:cubicBezTo>
                <a:cubicBezTo>
                  <a:pt x="158" y="993"/>
                  <a:pt x="157" y="1028"/>
                  <a:pt x="157" y="1062"/>
                </a:cubicBezTo>
                <a:cubicBezTo>
                  <a:pt x="157" y="1079"/>
                  <a:pt x="158" y="1094"/>
                  <a:pt x="161" y="1108"/>
                </a:cubicBezTo>
                <a:cubicBezTo>
                  <a:pt x="162" y="1112"/>
                  <a:pt x="162" y="1115"/>
                  <a:pt x="164" y="1118"/>
                </a:cubicBezTo>
                <a:cubicBezTo>
                  <a:pt x="164" y="1120"/>
                  <a:pt x="165" y="1121"/>
                  <a:pt x="165" y="1123"/>
                </a:cubicBezTo>
                <a:cubicBezTo>
                  <a:pt x="166" y="1125"/>
                  <a:pt x="166" y="1125"/>
                  <a:pt x="166" y="1125"/>
                </a:cubicBezTo>
                <a:cubicBezTo>
                  <a:pt x="167" y="1127"/>
                  <a:pt x="167" y="1127"/>
                  <a:pt x="167" y="1127"/>
                </a:cubicBezTo>
                <a:cubicBezTo>
                  <a:pt x="170" y="1133"/>
                  <a:pt x="173" y="1138"/>
                  <a:pt x="177" y="1143"/>
                </a:cubicBezTo>
                <a:cubicBezTo>
                  <a:pt x="172" y="1146"/>
                  <a:pt x="166" y="1148"/>
                  <a:pt x="165" y="1154"/>
                </a:cubicBezTo>
                <a:cubicBezTo>
                  <a:pt x="165" y="1154"/>
                  <a:pt x="166" y="1155"/>
                  <a:pt x="167" y="1157"/>
                </a:cubicBezTo>
                <a:cubicBezTo>
                  <a:pt x="169" y="1158"/>
                  <a:pt x="171" y="1160"/>
                  <a:pt x="173" y="1162"/>
                </a:cubicBezTo>
                <a:cubicBezTo>
                  <a:pt x="178" y="1166"/>
                  <a:pt x="185" y="1169"/>
                  <a:pt x="189" y="1171"/>
                </a:cubicBezTo>
                <a:cubicBezTo>
                  <a:pt x="191" y="1172"/>
                  <a:pt x="193" y="1174"/>
                  <a:pt x="195" y="1175"/>
                </a:cubicBezTo>
                <a:cubicBezTo>
                  <a:pt x="197" y="1177"/>
                  <a:pt x="198" y="1178"/>
                  <a:pt x="200" y="1179"/>
                </a:cubicBezTo>
                <a:cubicBezTo>
                  <a:pt x="202" y="1180"/>
                  <a:pt x="203" y="1181"/>
                  <a:pt x="205" y="1182"/>
                </a:cubicBezTo>
                <a:cubicBezTo>
                  <a:pt x="206" y="1183"/>
                  <a:pt x="208" y="1184"/>
                  <a:pt x="209" y="1185"/>
                </a:cubicBezTo>
                <a:cubicBezTo>
                  <a:pt x="214" y="1189"/>
                  <a:pt x="218" y="1193"/>
                  <a:pt x="218" y="1197"/>
                </a:cubicBezTo>
                <a:cubicBezTo>
                  <a:pt x="219" y="1201"/>
                  <a:pt x="217" y="1205"/>
                  <a:pt x="212" y="1209"/>
                </a:cubicBezTo>
                <a:cubicBezTo>
                  <a:pt x="209" y="1211"/>
                  <a:pt x="206" y="1213"/>
                  <a:pt x="202" y="1215"/>
                </a:cubicBezTo>
                <a:cubicBezTo>
                  <a:pt x="198" y="1216"/>
                  <a:pt x="194" y="1218"/>
                  <a:pt x="189" y="1219"/>
                </a:cubicBezTo>
                <a:cubicBezTo>
                  <a:pt x="179" y="1220"/>
                  <a:pt x="168" y="1219"/>
                  <a:pt x="157" y="1217"/>
                </a:cubicBezTo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D008-7FC9-4237-8CA7-8EE47A4973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: Shape 3"/>
          <p:cNvSpPr/>
          <p:nvPr/>
        </p:nvSpPr>
        <p:spPr>
          <a:xfrm>
            <a:off x="5583240" y="5419800"/>
            <a:ext cx="4270320" cy="143820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4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Freeform: Shape 6"/>
          <p:cNvSpPr/>
          <p:nvPr/>
        </p:nvSpPr>
        <p:spPr>
          <a:xfrm>
            <a:off x="9387000" y="-20520"/>
            <a:ext cx="2805120" cy="138276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6450-300F-4553-9F4B-05DEE6EB0E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10161720" y="-2030400"/>
            <a:ext cx="4060800" cy="4060800"/>
          </a:xfrm>
          <a:prstGeom prst="ellipse">
            <a:avLst/>
          </a:pr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Isosceles Triangle 5"/>
          <p:cNvSpPr/>
          <p:nvPr/>
        </p:nvSpPr>
        <p:spPr>
          <a:xfrm rot="18169200">
            <a:off x="2850480" y="4704120"/>
            <a:ext cx="4100760" cy="4178160"/>
          </a:xfrm>
          <a:prstGeom prst="triangle">
            <a:avLst>
              <a:gd name="adj" fmla="val 50000"/>
            </a:avLst>
          </a:prstGeom>
          <a:solidFill>
            <a:srgbClr val="ffe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8" name="Freeform 5"/>
          <p:cNvSpPr/>
          <p:nvPr/>
        </p:nvSpPr>
        <p:spPr>
          <a:xfrm rot="15148800">
            <a:off x="-2812320" y="4866480"/>
            <a:ext cx="3844800" cy="5719680"/>
          </a:xfrm>
          <a:custGeom>
            <a:avLst/>
            <a:gdLst/>
            <a:ahLst/>
            <a:rect l="l" t="t" r="r" b="b"/>
            <a:pathLst>
              <a:path w="945" h="1407">
                <a:moveTo>
                  <a:pt x="587" y="1331"/>
                </a:moveTo>
                <a:cubicBezTo>
                  <a:pt x="594" y="1326"/>
                  <a:pt x="600" y="1322"/>
                  <a:pt x="607" y="1317"/>
                </a:cubicBezTo>
                <a:cubicBezTo>
                  <a:pt x="730" y="1233"/>
                  <a:pt x="811" y="1093"/>
                  <a:pt x="844" y="929"/>
                </a:cubicBezTo>
                <a:cubicBezTo>
                  <a:pt x="856" y="871"/>
                  <a:pt x="859" y="807"/>
                  <a:pt x="852" y="744"/>
                </a:cubicBezTo>
                <a:cubicBezTo>
                  <a:pt x="850" y="728"/>
                  <a:pt x="849" y="712"/>
                  <a:pt x="846" y="696"/>
                </a:cubicBezTo>
                <a:cubicBezTo>
                  <a:pt x="843" y="681"/>
                  <a:pt x="839" y="665"/>
                  <a:pt x="836" y="650"/>
                </a:cubicBezTo>
                <a:cubicBezTo>
                  <a:pt x="827" y="620"/>
                  <a:pt x="821" y="589"/>
                  <a:pt x="811" y="561"/>
                </a:cubicBezTo>
                <a:cubicBezTo>
                  <a:pt x="831" y="629"/>
                  <a:pt x="848" y="699"/>
                  <a:pt x="851" y="770"/>
                </a:cubicBezTo>
                <a:cubicBezTo>
                  <a:pt x="855" y="841"/>
                  <a:pt x="849" y="913"/>
                  <a:pt x="830" y="981"/>
                </a:cubicBezTo>
                <a:cubicBezTo>
                  <a:pt x="795" y="1118"/>
                  <a:pt x="711" y="1239"/>
                  <a:pt x="603" y="1311"/>
                </a:cubicBezTo>
                <a:cubicBezTo>
                  <a:pt x="612" y="1301"/>
                  <a:pt x="621" y="1290"/>
                  <a:pt x="631" y="1278"/>
                </a:cubicBezTo>
                <a:cubicBezTo>
                  <a:pt x="636" y="1272"/>
                  <a:pt x="641" y="1266"/>
                  <a:pt x="647" y="1260"/>
                </a:cubicBezTo>
                <a:cubicBezTo>
                  <a:pt x="652" y="1254"/>
                  <a:pt x="658" y="1247"/>
                  <a:pt x="664" y="1241"/>
                </a:cubicBezTo>
                <a:cubicBezTo>
                  <a:pt x="725" y="1180"/>
                  <a:pt x="769" y="1103"/>
                  <a:pt x="797" y="1023"/>
                </a:cubicBezTo>
                <a:cubicBezTo>
                  <a:pt x="800" y="1024"/>
                  <a:pt x="805" y="1025"/>
                  <a:pt x="807" y="1026"/>
                </a:cubicBezTo>
                <a:cubicBezTo>
                  <a:pt x="841" y="907"/>
                  <a:pt x="849" y="785"/>
                  <a:pt x="825" y="666"/>
                </a:cubicBezTo>
                <a:cubicBezTo>
                  <a:pt x="820" y="636"/>
                  <a:pt x="811" y="606"/>
                  <a:pt x="803" y="577"/>
                </a:cubicBezTo>
                <a:cubicBezTo>
                  <a:pt x="793" y="548"/>
                  <a:pt x="785" y="518"/>
                  <a:pt x="771" y="490"/>
                </a:cubicBezTo>
                <a:cubicBezTo>
                  <a:pt x="748" y="433"/>
                  <a:pt x="715" y="380"/>
                  <a:pt x="675" y="333"/>
                </a:cubicBezTo>
                <a:cubicBezTo>
                  <a:pt x="679" y="341"/>
                  <a:pt x="675" y="338"/>
                  <a:pt x="672" y="337"/>
                </a:cubicBezTo>
                <a:cubicBezTo>
                  <a:pt x="671" y="336"/>
                  <a:pt x="671" y="336"/>
                  <a:pt x="671" y="336"/>
                </a:cubicBezTo>
                <a:cubicBezTo>
                  <a:pt x="672" y="337"/>
                  <a:pt x="672" y="337"/>
                  <a:pt x="672" y="337"/>
                </a:cubicBezTo>
                <a:cubicBezTo>
                  <a:pt x="670" y="337"/>
                  <a:pt x="670" y="339"/>
                  <a:pt x="679" y="350"/>
                </a:cubicBezTo>
                <a:cubicBezTo>
                  <a:pt x="670" y="339"/>
                  <a:pt x="670" y="337"/>
                  <a:pt x="672" y="337"/>
                </a:cubicBezTo>
                <a:cubicBezTo>
                  <a:pt x="709" y="385"/>
                  <a:pt x="741" y="436"/>
                  <a:pt x="763" y="492"/>
                </a:cubicBezTo>
                <a:cubicBezTo>
                  <a:pt x="776" y="519"/>
                  <a:pt x="785" y="548"/>
                  <a:pt x="795" y="576"/>
                </a:cubicBezTo>
                <a:cubicBezTo>
                  <a:pt x="803" y="605"/>
                  <a:pt x="812" y="635"/>
                  <a:pt x="818" y="663"/>
                </a:cubicBezTo>
                <a:cubicBezTo>
                  <a:pt x="843" y="779"/>
                  <a:pt x="838" y="900"/>
                  <a:pt x="801" y="1014"/>
                </a:cubicBezTo>
                <a:cubicBezTo>
                  <a:pt x="828" y="925"/>
                  <a:pt x="839" y="831"/>
                  <a:pt x="827" y="739"/>
                </a:cubicBezTo>
                <a:cubicBezTo>
                  <a:pt x="823" y="692"/>
                  <a:pt x="811" y="647"/>
                  <a:pt x="799" y="601"/>
                </a:cubicBezTo>
                <a:cubicBezTo>
                  <a:pt x="785" y="556"/>
                  <a:pt x="769" y="512"/>
                  <a:pt x="749" y="469"/>
                </a:cubicBezTo>
                <a:cubicBezTo>
                  <a:pt x="709" y="385"/>
                  <a:pt x="654" y="309"/>
                  <a:pt x="582" y="251"/>
                </a:cubicBezTo>
                <a:cubicBezTo>
                  <a:pt x="511" y="193"/>
                  <a:pt x="425" y="153"/>
                  <a:pt x="332" y="133"/>
                </a:cubicBezTo>
                <a:cubicBezTo>
                  <a:pt x="316" y="130"/>
                  <a:pt x="283" y="125"/>
                  <a:pt x="267" y="122"/>
                </a:cubicBezTo>
                <a:cubicBezTo>
                  <a:pt x="202" y="109"/>
                  <a:pt x="134" y="104"/>
                  <a:pt x="66" y="112"/>
                </a:cubicBezTo>
                <a:cubicBezTo>
                  <a:pt x="74" y="105"/>
                  <a:pt x="60" y="97"/>
                  <a:pt x="62" y="89"/>
                </a:cubicBezTo>
                <a:cubicBezTo>
                  <a:pt x="63" y="86"/>
                  <a:pt x="67" y="82"/>
                  <a:pt x="80" y="79"/>
                </a:cubicBezTo>
                <a:cubicBezTo>
                  <a:pt x="87" y="78"/>
                  <a:pt x="96" y="76"/>
                  <a:pt x="107" y="75"/>
                </a:cubicBezTo>
                <a:cubicBezTo>
                  <a:pt x="119" y="75"/>
                  <a:pt x="133" y="74"/>
                  <a:pt x="150" y="75"/>
                </a:cubicBezTo>
                <a:cubicBezTo>
                  <a:pt x="150" y="72"/>
                  <a:pt x="150" y="67"/>
                  <a:pt x="150" y="65"/>
                </a:cubicBezTo>
                <a:cubicBezTo>
                  <a:pt x="132" y="64"/>
                  <a:pt x="116" y="62"/>
                  <a:pt x="101" y="60"/>
                </a:cubicBezTo>
                <a:cubicBezTo>
                  <a:pt x="86" y="60"/>
                  <a:pt x="73" y="58"/>
                  <a:pt x="62" y="57"/>
                </a:cubicBezTo>
                <a:cubicBezTo>
                  <a:pt x="38" y="54"/>
                  <a:pt x="22" y="50"/>
                  <a:pt x="15" y="44"/>
                </a:cubicBezTo>
                <a:cubicBezTo>
                  <a:pt x="0" y="35"/>
                  <a:pt x="20" y="21"/>
                  <a:pt x="94" y="9"/>
                </a:cubicBezTo>
                <a:cubicBezTo>
                  <a:pt x="176" y="0"/>
                  <a:pt x="276" y="2"/>
                  <a:pt x="378" y="27"/>
                </a:cubicBezTo>
                <a:cubicBezTo>
                  <a:pt x="480" y="52"/>
                  <a:pt x="582" y="103"/>
                  <a:pt x="664" y="171"/>
                </a:cubicBezTo>
                <a:cubicBezTo>
                  <a:pt x="724" y="221"/>
                  <a:pt x="774" y="281"/>
                  <a:pt x="814" y="346"/>
                </a:cubicBezTo>
                <a:cubicBezTo>
                  <a:pt x="853" y="412"/>
                  <a:pt x="881" y="482"/>
                  <a:pt x="902" y="554"/>
                </a:cubicBezTo>
                <a:cubicBezTo>
                  <a:pt x="929" y="651"/>
                  <a:pt x="945" y="763"/>
                  <a:pt x="936" y="871"/>
                </a:cubicBezTo>
                <a:cubicBezTo>
                  <a:pt x="926" y="979"/>
                  <a:pt x="895" y="1086"/>
                  <a:pt x="840" y="1174"/>
                </a:cubicBezTo>
                <a:cubicBezTo>
                  <a:pt x="835" y="1183"/>
                  <a:pt x="830" y="1192"/>
                  <a:pt x="824" y="1201"/>
                </a:cubicBezTo>
                <a:cubicBezTo>
                  <a:pt x="818" y="1210"/>
                  <a:pt x="812" y="1220"/>
                  <a:pt x="806" y="1229"/>
                </a:cubicBezTo>
                <a:cubicBezTo>
                  <a:pt x="793" y="1250"/>
                  <a:pt x="778" y="1269"/>
                  <a:pt x="763" y="1288"/>
                </a:cubicBezTo>
                <a:cubicBezTo>
                  <a:pt x="748" y="1306"/>
                  <a:pt x="732" y="1322"/>
                  <a:pt x="719" y="1336"/>
                </a:cubicBezTo>
                <a:cubicBezTo>
                  <a:pt x="705" y="1348"/>
                  <a:pt x="693" y="1358"/>
                  <a:pt x="685" y="1362"/>
                </a:cubicBezTo>
                <a:cubicBezTo>
                  <a:pt x="662" y="1378"/>
                  <a:pt x="657" y="1373"/>
                  <a:pt x="657" y="1366"/>
                </a:cubicBezTo>
                <a:cubicBezTo>
                  <a:pt x="705" y="1329"/>
                  <a:pt x="747" y="1284"/>
                  <a:pt x="782" y="1236"/>
                </a:cubicBezTo>
                <a:cubicBezTo>
                  <a:pt x="818" y="1187"/>
                  <a:pt x="846" y="1133"/>
                  <a:pt x="867" y="1078"/>
                </a:cubicBezTo>
                <a:cubicBezTo>
                  <a:pt x="921" y="942"/>
                  <a:pt x="934" y="790"/>
                  <a:pt x="906" y="645"/>
                </a:cubicBezTo>
                <a:cubicBezTo>
                  <a:pt x="932" y="787"/>
                  <a:pt x="921" y="939"/>
                  <a:pt x="867" y="1078"/>
                </a:cubicBezTo>
                <a:cubicBezTo>
                  <a:pt x="845" y="1133"/>
                  <a:pt x="817" y="1186"/>
                  <a:pt x="781" y="1234"/>
                </a:cubicBezTo>
                <a:cubicBezTo>
                  <a:pt x="745" y="1281"/>
                  <a:pt x="704" y="1324"/>
                  <a:pt x="657" y="1360"/>
                </a:cubicBezTo>
                <a:cubicBezTo>
                  <a:pt x="657" y="1354"/>
                  <a:pt x="657" y="1347"/>
                  <a:pt x="648" y="1347"/>
                </a:cubicBezTo>
                <a:cubicBezTo>
                  <a:pt x="648" y="1347"/>
                  <a:pt x="620" y="1369"/>
                  <a:pt x="605" y="1379"/>
                </a:cubicBezTo>
                <a:cubicBezTo>
                  <a:pt x="538" y="1407"/>
                  <a:pt x="547" y="1381"/>
                  <a:pt x="568" y="1353"/>
                </a:cubicBezTo>
                <a:cubicBezTo>
                  <a:pt x="573" y="1346"/>
                  <a:pt x="580" y="1340"/>
                  <a:pt x="587" y="1331"/>
                </a:cubicBezTo>
              </a:path>
            </a:pathLst>
          </a:custGeom>
          <a:solidFill>
            <a:srgbClr val="e5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9" name="Freeform 9"/>
          <p:cNvSpPr/>
          <p:nvPr/>
        </p:nvSpPr>
        <p:spPr>
          <a:xfrm rot="20131800">
            <a:off x="12455640" y="2901600"/>
            <a:ext cx="1003320" cy="5575320"/>
          </a:xfrm>
          <a:custGeom>
            <a:avLst/>
            <a:gdLst/>
            <a:ahLst/>
            <a:rect l="l" t="t" r="r" b="b"/>
            <a:pathLst>
              <a:path w="219" h="1220">
                <a:moveTo>
                  <a:pt x="157" y="1217"/>
                </a:moveTo>
                <a:cubicBezTo>
                  <a:pt x="149" y="1212"/>
                  <a:pt x="142" y="1207"/>
                  <a:pt x="136" y="1201"/>
                </a:cubicBezTo>
                <a:cubicBezTo>
                  <a:pt x="130" y="1195"/>
                  <a:pt x="123" y="1188"/>
                  <a:pt x="118" y="1180"/>
                </a:cubicBezTo>
                <a:cubicBezTo>
                  <a:pt x="113" y="1173"/>
                  <a:pt x="108" y="1165"/>
                  <a:pt x="105" y="1157"/>
                </a:cubicBezTo>
                <a:cubicBezTo>
                  <a:pt x="97" y="1141"/>
                  <a:pt x="94" y="1125"/>
                  <a:pt x="91" y="1110"/>
                </a:cubicBezTo>
                <a:cubicBezTo>
                  <a:pt x="89" y="1096"/>
                  <a:pt x="88" y="1081"/>
                  <a:pt x="88" y="1068"/>
                </a:cubicBezTo>
                <a:cubicBezTo>
                  <a:pt x="88" y="1055"/>
                  <a:pt x="88" y="1043"/>
                  <a:pt x="88" y="1031"/>
                </a:cubicBezTo>
                <a:cubicBezTo>
                  <a:pt x="88" y="981"/>
                  <a:pt x="88" y="930"/>
                  <a:pt x="89" y="877"/>
                </a:cubicBezTo>
                <a:cubicBezTo>
                  <a:pt x="93" y="802"/>
                  <a:pt x="88" y="717"/>
                  <a:pt x="85" y="642"/>
                </a:cubicBezTo>
                <a:cubicBezTo>
                  <a:pt x="86" y="730"/>
                  <a:pt x="87" y="821"/>
                  <a:pt x="87" y="911"/>
                </a:cubicBezTo>
                <a:cubicBezTo>
                  <a:pt x="87" y="956"/>
                  <a:pt x="86" y="1001"/>
                  <a:pt x="84" y="1046"/>
                </a:cubicBezTo>
                <a:cubicBezTo>
                  <a:pt x="84" y="1068"/>
                  <a:pt x="82" y="1093"/>
                  <a:pt x="87" y="1121"/>
                </a:cubicBezTo>
                <a:cubicBezTo>
                  <a:pt x="88" y="1128"/>
                  <a:pt x="90" y="1135"/>
                  <a:pt x="92" y="1143"/>
                </a:cubicBezTo>
                <a:cubicBezTo>
                  <a:pt x="93" y="1146"/>
                  <a:pt x="94" y="1150"/>
                  <a:pt x="95" y="1154"/>
                </a:cubicBezTo>
                <a:cubicBezTo>
                  <a:pt x="96" y="1156"/>
                  <a:pt x="97" y="1157"/>
                  <a:pt x="98" y="1159"/>
                </a:cubicBezTo>
                <a:cubicBezTo>
                  <a:pt x="100" y="1165"/>
                  <a:pt x="100" y="1165"/>
                  <a:pt x="100" y="1165"/>
                </a:cubicBezTo>
                <a:cubicBezTo>
                  <a:pt x="104" y="1173"/>
                  <a:pt x="108" y="1181"/>
                  <a:pt x="113" y="1187"/>
                </a:cubicBezTo>
                <a:cubicBezTo>
                  <a:pt x="118" y="1194"/>
                  <a:pt x="124" y="1201"/>
                  <a:pt x="131" y="1207"/>
                </a:cubicBezTo>
                <a:cubicBezTo>
                  <a:pt x="118" y="1200"/>
                  <a:pt x="105" y="1191"/>
                  <a:pt x="94" y="1177"/>
                </a:cubicBezTo>
                <a:cubicBezTo>
                  <a:pt x="91" y="1173"/>
                  <a:pt x="88" y="1169"/>
                  <a:pt x="86" y="1165"/>
                </a:cubicBezTo>
                <a:cubicBezTo>
                  <a:pt x="84" y="1163"/>
                  <a:pt x="83" y="1161"/>
                  <a:pt x="82" y="1160"/>
                </a:cubicBezTo>
                <a:cubicBezTo>
                  <a:pt x="81" y="1158"/>
                  <a:pt x="80" y="1156"/>
                  <a:pt x="79" y="1154"/>
                </a:cubicBezTo>
                <a:cubicBezTo>
                  <a:pt x="75" y="1146"/>
                  <a:pt x="73" y="1137"/>
                  <a:pt x="70" y="1129"/>
                </a:cubicBezTo>
                <a:cubicBezTo>
                  <a:pt x="66" y="1108"/>
                  <a:pt x="65" y="1090"/>
                  <a:pt x="65" y="1073"/>
                </a:cubicBezTo>
                <a:cubicBezTo>
                  <a:pt x="65" y="1065"/>
                  <a:pt x="65" y="1057"/>
                  <a:pt x="65" y="1050"/>
                </a:cubicBezTo>
                <a:cubicBezTo>
                  <a:pt x="65" y="1043"/>
                  <a:pt x="65" y="1036"/>
                  <a:pt x="65" y="1029"/>
                </a:cubicBezTo>
                <a:cubicBezTo>
                  <a:pt x="65" y="1000"/>
                  <a:pt x="65" y="972"/>
                  <a:pt x="65" y="944"/>
                </a:cubicBezTo>
                <a:cubicBezTo>
                  <a:pt x="68" y="944"/>
                  <a:pt x="73" y="943"/>
                  <a:pt x="76" y="943"/>
                </a:cubicBezTo>
                <a:cubicBezTo>
                  <a:pt x="70" y="863"/>
                  <a:pt x="72" y="786"/>
                  <a:pt x="72" y="709"/>
                </a:cubicBezTo>
                <a:cubicBezTo>
                  <a:pt x="73" y="631"/>
                  <a:pt x="72" y="554"/>
                  <a:pt x="60" y="476"/>
                </a:cubicBezTo>
                <a:cubicBezTo>
                  <a:pt x="59" y="481"/>
                  <a:pt x="56" y="478"/>
                  <a:pt x="54" y="477"/>
                </a:cubicBezTo>
                <a:cubicBezTo>
                  <a:pt x="54" y="477"/>
                  <a:pt x="54" y="476"/>
                  <a:pt x="54" y="476"/>
                </a:cubicBezTo>
                <a:cubicBezTo>
                  <a:pt x="54" y="476"/>
                  <a:pt x="54" y="477"/>
                  <a:pt x="54" y="477"/>
                </a:cubicBezTo>
                <a:cubicBezTo>
                  <a:pt x="53" y="476"/>
                  <a:pt x="51" y="477"/>
                  <a:pt x="52" y="487"/>
                </a:cubicBezTo>
                <a:cubicBezTo>
                  <a:pt x="51" y="477"/>
                  <a:pt x="53" y="476"/>
                  <a:pt x="54" y="477"/>
                </a:cubicBezTo>
                <a:cubicBezTo>
                  <a:pt x="61" y="555"/>
                  <a:pt x="64" y="630"/>
                  <a:pt x="65" y="706"/>
                </a:cubicBezTo>
                <a:cubicBezTo>
                  <a:pt x="66" y="782"/>
                  <a:pt x="66" y="859"/>
                  <a:pt x="65" y="937"/>
                </a:cubicBezTo>
                <a:cubicBezTo>
                  <a:pt x="65" y="876"/>
                  <a:pt x="64" y="816"/>
                  <a:pt x="63" y="755"/>
                </a:cubicBezTo>
                <a:cubicBezTo>
                  <a:pt x="62" y="695"/>
                  <a:pt x="60" y="635"/>
                  <a:pt x="56" y="575"/>
                </a:cubicBezTo>
                <a:cubicBezTo>
                  <a:pt x="50" y="456"/>
                  <a:pt x="39" y="337"/>
                  <a:pt x="21" y="216"/>
                </a:cubicBezTo>
                <a:cubicBezTo>
                  <a:pt x="19" y="206"/>
                  <a:pt x="16" y="185"/>
                  <a:pt x="14" y="175"/>
                </a:cubicBezTo>
                <a:cubicBezTo>
                  <a:pt x="15" y="133"/>
                  <a:pt x="9" y="91"/>
                  <a:pt x="0" y="51"/>
                </a:cubicBezTo>
                <a:cubicBezTo>
                  <a:pt x="7" y="54"/>
                  <a:pt x="16" y="44"/>
                  <a:pt x="23" y="43"/>
                </a:cubicBezTo>
                <a:cubicBezTo>
                  <a:pt x="27" y="43"/>
                  <a:pt x="31" y="45"/>
                  <a:pt x="35" y="53"/>
                </a:cubicBezTo>
                <a:cubicBezTo>
                  <a:pt x="37" y="56"/>
                  <a:pt x="39" y="61"/>
                  <a:pt x="41" y="68"/>
                </a:cubicBezTo>
                <a:cubicBezTo>
                  <a:pt x="43" y="75"/>
                  <a:pt x="44" y="83"/>
                  <a:pt x="46" y="94"/>
                </a:cubicBezTo>
                <a:cubicBezTo>
                  <a:pt x="48" y="93"/>
                  <a:pt x="54" y="92"/>
                  <a:pt x="56" y="92"/>
                </a:cubicBezTo>
                <a:cubicBezTo>
                  <a:pt x="56" y="81"/>
                  <a:pt x="56" y="71"/>
                  <a:pt x="56" y="62"/>
                </a:cubicBezTo>
                <a:cubicBezTo>
                  <a:pt x="57" y="52"/>
                  <a:pt x="57" y="44"/>
                  <a:pt x="58" y="37"/>
                </a:cubicBezTo>
                <a:cubicBezTo>
                  <a:pt x="61" y="22"/>
                  <a:pt x="65" y="11"/>
                  <a:pt x="70" y="6"/>
                </a:cubicBezTo>
                <a:cubicBezTo>
                  <a:pt x="75" y="0"/>
                  <a:pt x="82" y="0"/>
                  <a:pt x="89" y="6"/>
                </a:cubicBezTo>
                <a:cubicBezTo>
                  <a:pt x="96" y="13"/>
                  <a:pt x="103" y="25"/>
                  <a:pt x="111" y="46"/>
                </a:cubicBezTo>
                <a:cubicBezTo>
                  <a:pt x="127" y="93"/>
                  <a:pt x="138" y="150"/>
                  <a:pt x="146" y="210"/>
                </a:cubicBezTo>
                <a:cubicBezTo>
                  <a:pt x="155" y="270"/>
                  <a:pt x="160" y="332"/>
                  <a:pt x="168" y="391"/>
                </a:cubicBezTo>
                <a:cubicBezTo>
                  <a:pt x="179" y="478"/>
                  <a:pt x="186" y="564"/>
                  <a:pt x="183" y="651"/>
                </a:cubicBezTo>
                <a:cubicBezTo>
                  <a:pt x="179" y="770"/>
                  <a:pt x="184" y="897"/>
                  <a:pt x="176" y="1015"/>
                </a:cubicBezTo>
                <a:cubicBezTo>
                  <a:pt x="176" y="1026"/>
                  <a:pt x="176" y="1039"/>
                  <a:pt x="177" y="1052"/>
                </a:cubicBezTo>
                <a:cubicBezTo>
                  <a:pt x="177" y="1065"/>
                  <a:pt x="178" y="1077"/>
                  <a:pt x="180" y="1087"/>
                </a:cubicBezTo>
                <a:cubicBezTo>
                  <a:pt x="182" y="1098"/>
                  <a:pt x="184" y="1105"/>
                  <a:pt x="186" y="1111"/>
                </a:cubicBezTo>
                <a:cubicBezTo>
                  <a:pt x="186" y="1113"/>
                  <a:pt x="187" y="1114"/>
                  <a:pt x="187" y="1115"/>
                </a:cubicBezTo>
                <a:cubicBezTo>
                  <a:pt x="188" y="1116"/>
                  <a:pt x="188" y="1117"/>
                  <a:pt x="188" y="1118"/>
                </a:cubicBezTo>
                <a:cubicBezTo>
                  <a:pt x="189" y="1120"/>
                  <a:pt x="189" y="1122"/>
                  <a:pt x="189" y="1124"/>
                </a:cubicBezTo>
                <a:cubicBezTo>
                  <a:pt x="189" y="1125"/>
                  <a:pt x="189" y="1126"/>
                  <a:pt x="189" y="1127"/>
                </a:cubicBezTo>
                <a:cubicBezTo>
                  <a:pt x="190" y="1128"/>
                  <a:pt x="190" y="1129"/>
                  <a:pt x="189" y="1129"/>
                </a:cubicBezTo>
                <a:cubicBezTo>
                  <a:pt x="189" y="1131"/>
                  <a:pt x="189" y="1132"/>
                  <a:pt x="188" y="1134"/>
                </a:cubicBezTo>
                <a:cubicBezTo>
                  <a:pt x="187" y="1136"/>
                  <a:pt x="185" y="1139"/>
                  <a:pt x="182" y="1140"/>
                </a:cubicBezTo>
                <a:cubicBezTo>
                  <a:pt x="178" y="1136"/>
                  <a:pt x="174" y="1131"/>
                  <a:pt x="172" y="1126"/>
                </a:cubicBezTo>
                <a:cubicBezTo>
                  <a:pt x="171" y="1125"/>
                  <a:pt x="170" y="1124"/>
                  <a:pt x="170" y="1122"/>
                </a:cubicBezTo>
                <a:cubicBezTo>
                  <a:pt x="169" y="1121"/>
                  <a:pt x="168" y="1119"/>
                  <a:pt x="168" y="1118"/>
                </a:cubicBezTo>
                <a:cubicBezTo>
                  <a:pt x="167" y="1115"/>
                  <a:pt x="166" y="1111"/>
                  <a:pt x="165" y="1108"/>
                </a:cubicBezTo>
                <a:cubicBezTo>
                  <a:pt x="161" y="1095"/>
                  <a:pt x="160" y="1079"/>
                  <a:pt x="159" y="1063"/>
                </a:cubicBezTo>
                <a:cubicBezTo>
                  <a:pt x="159" y="1055"/>
                  <a:pt x="159" y="1046"/>
                  <a:pt x="159" y="1037"/>
                </a:cubicBezTo>
                <a:cubicBezTo>
                  <a:pt x="159" y="1028"/>
                  <a:pt x="159" y="1020"/>
                  <a:pt x="159" y="1011"/>
                </a:cubicBezTo>
                <a:cubicBezTo>
                  <a:pt x="159" y="994"/>
                  <a:pt x="158" y="976"/>
                  <a:pt x="158" y="959"/>
                </a:cubicBezTo>
                <a:cubicBezTo>
                  <a:pt x="159" y="874"/>
                  <a:pt x="161" y="789"/>
                  <a:pt x="164" y="703"/>
                </a:cubicBezTo>
                <a:cubicBezTo>
                  <a:pt x="159" y="787"/>
                  <a:pt x="158" y="872"/>
                  <a:pt x="158" y="959"/>
                </a:cubicBezTo>
                <a:cubicBezTo>
                  <a:pt x="158" y="993"/>
                  <a:pt x="157" y="1028"/>
                  <a:pt x="157" y="1062"/>
                </a:cubicBezTo>
                <a:cubicBezTo>
                  <a:pt x="157" y="1079"/>
                  <a:pt x="158" y="1094"/>
                  <a:pt x="161" y="1108"/>
                </a:cubicBezTo>
                <a:cubicBezTo>
                  <a:pt x="162" y="1112"/>
                  <a:pt x="162" y="1115"/>
                  <a:pt x="164" y="1118"/>
                </a:cubicBezTo>
                <a:cubicBezTo>
                  <a:pt x="164" y="1120"/>
                  <a:pt x="165" y="1121"/>
                  <a:pt x="165" y="1123"/>
                </a:cubicBezTo>
                <a:cubicBezTo>
                  <a:pt x="166" y="1125"/>
                  <a:pt x="166" y="1125"/>
                  <a:pt x="166" y="1125"/>
                </a:cubicBezTo>
                <a:cubicBezTo>
                  <a:pt x="167" y="1127"/>
                  <a:pt x="167" y="1127"/>
                  <a:pt x="167" y="1127"/>
                </a:cubicBezTo>
                <a:cubicBezTo>
                  <a:pt x="170" y="1133"/>
                  <a:pt x="173" y="1138"/>
                  <a:pt x="177" y="1143"/>
                </a:cubicBezTo>
                <a:cubicBezTo>
                  <a:pt x="172" y="1146"/>
                  <a:pt x="166" y="1148"/>
                  <a:pt x="165" y="1154"/>
                </a:cubicBezTo>
                <a:cubicBezTo>
                  <a:pt x="165" y="1154"/>
                  <a:pt x="166" y="1155"/>
                  <a:pt x="167" y="1157"/>
                </a:cubicBezTo>
                <a:cubicBezTo>
                  <a:pt x="169" y="1158"/>
                  <a:pt x="171" y="1160"/>
                  <a:pt x="173" y="1162"/>
                </a:cubicBezTo>
                <a:cubicBezTo>
                  <a:pt x="178" y="1166"/>
                  <a:pt x="185" y="1169"/>
                  <a:pt x="189" y="1171"/>
                </a:cubicBezTo>
                <a:cubicBezTo>
                  <a:pt x="191" y="1172"/>
                  <a:pt x="193" y="1174"/>
                  <a:pt x="195" y="1175"/>
                </a:cubicBezTo>
                <a:cubicBezTo>
                  <a:pt x="197" y="1177"/>
                  <a:pt x="198" y="1178"/>
                  <a:pt x="200" y="1179"/>
                </a:cubicBezTo>
                <a:cubicBezTo>
                  <a:pt x="202" y="1180"/>
                  <a:pt x="203" y="1181"/>
                  <a:pt x="205" y="1182"/>
                </a:cubicBezTo>
                <a:cubicBezTo>
                  <a:pt x="206" y="1183"/>
                  <a:pt x="208" y="1184"/>
                  <a:pt x="209" y="1185"/>
                </a:cubicBezTo>
                <a:cubicBezTo>
                  <a:pt x="214" y="1189"/>
                  <a:pt x="218" y="1193"/>
                  <a:pt x="218" y="1197"/>
                </a:cubicBezTo>
                <a:cubicBezTo>
                  <a:pt x="219" y="1201"/>
                  <a:pt x="217" y="1205"/>
                  <a:pt x="212" y="1209"/>
                </a:cubicBezTo>
                <a:cubicBezTo>
                  <a:pt x="209" y="1211"/>
                  <a:pt x="206" y="1213"/>
                  <a:pt x="202" y="1215"/>
                </a:cubicBezTo>
                <a:cubicBezTo>
                  <a:pt x="198" y="1216"/>
                  <a:pt x="194" y="1218"/>
                  <a:pt x="189" y="1219"/>
                </a:cubicBezTo>
                <a:cubicBezTo>
                  <a:pt x="179" y="1220"/>
                  <a:pt x="168" y="1219"/>
                  <a:pt x="157" y="1217"/>
                </a:cubicBezTo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3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7F5E-AA9D-43B2-A235-67302F5ADB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0" name="Freeform: Shape 4"/>
          <p:cNvSpPr/>
          <p:nvPr/>
        </p:nvSpPr>
        <p:spPr>
          <a:xfrm>
            <a:off x="10377360" y="-2682720"/>
            <a:ext cx="5511960" cy="5033880"/>
          </a:xfrm>
          <a:custGeom>
            <a:avLst/>
            <a:gdLst/>
            <a:ahLst/>
            <a:rect l="l" t="t" r="r" b="b"/>
            <a:pathLst>
              <a:path w="5511285" h="5034334">
                <a:moveTo>
                  <a:pt x="3741315" y="4146693"/>
                </a:moveTo>
                <a:lnTo>
                  <a:pt x="3758492" y="4152063"/>
                </a:lnTo>
                <a:cubicBezTo>
                  <a:pt x="3772718" y="4156511"/>
                  <a:pt x="3791687" y="4162441"/>
                  <a:pt x="3816978" y="4170349"/>
                </a:cubicBezTo>
                <a:cubicBezTo>
                  <a:pt x="3854915" y="4183000"/>
                  <a:pt x="3886529" y="4201977"/>
                  <a:pt x="3924466" y="4214629"/>
                </a:cubicBezTo>
                <a:lnTo>
                  <a:pt x="3741315" y="4146693"/>
                </a:lnTo>
                <a:close/>
                <a:moveTo>
                  <a:pt x="0" y="0"/>
                </a:moveTo>
                <a:lnTo>
                  <a:pt x="334206" y="0"/>
                </a:lnTo>
                <a:lnTo>
                  <a:pt x="364729" y="14371"/>
                </a:lnTo>
                <a:cubicBezTo>
                  <a:pt x="377375" y="20696"/>
                  <a:pt x="396343" y="27022"/>
                  <a:pt x="408989" y="33348"/>
                </a:cubicBezTo>
                <a:cubicBezTo>
                  <a:pt x="415312" y="39673"/>
                  <a:pt x="421635" y="39673"/>
                  <a:pt x="434280" y="45999"/>
                </a:cubicBezTo>
                <a:cubicBezTo>
                  <a:pt x="440603" y="45999"/>
                  <a:pt x="446926" y="45999"/>
                  <a:pt x="453249" y="52325"/>
                </a:cubicBezTo>
                <a:cubicBezTo>
                  <a:pt x="456410" y="45999"/>
                  <a:pt x="459572" y="36510"/>
                  <a:pt x="462733" y="26231"/>
                </a:cubicBezTo>
                <a:lnTo>
                  <a:pt x="470800" y="0"/>
                </a:lnTo>
                <a:lnTo>
                  <a:pt x="2863482" y="0"/>
                </a:lnTo>
                <a:lnTo>
                  <a:pt x="2874881" y="20696"/>
                </a:lnTo>
                <a:cubicBezTo>
                  <a:pt x="2912818" y="109256"/>
                  <a:pt x="2931786" y="210467"/>
                  <a:pt x="2919141" y="311678"/>
                </a:cubicBezTo>
                <a:cubicBezTo>
                  <a:pt x="2912818" y="362283"/>
                  <a:pt x="2900172" y="412889"/>
                  <a:pt x="2887527" y="463495"/>
                </a:cubicBezTo>
                <a:cubicBezTo>
                  <a:pt x="2868558" y="514100"/>
                  <a:pt x="2855913" y="545729"/>
                  <a:pt x="2843267" y="577357"/>
                </a:cubicBezTo>
                <a:cubicBezTo>
                  <a:pt x="2824299" y="608985"/>
                  <a:pt x="2811653" y="634288"/>
                  <a:pt x="2799007" y="665917"/>
                </a:cubicBezTo>
                <a:cubicBezTo>
                  <a:pt x="2773716" y="703871"/>
                  <a:pt x="2773716" y="703871"/>
                  <a:pt x="2773716" y="703871"/>
                </a:cubicBezTo>
                <a:cubicBezTo>
                  <a:pt x="2767393" y="722848"/>
                  <a:pt x="2761071" y="735499"/>
                  <a:pt x="2748425" y="748151"/>
                </a:cubicBezTo>
                <a:cubicBezTo>
                  <a:pt x="2704165" y="830385"/>
                  <a:pt x="2704165" y="830385"/>
                  <a:pt x="2704165" y="830385"/>
                </a:cubicBezTo>
                <a:cubicBezTo>
                  <a:pt x="2647260" y="906293"/>
                  <a:pt x="2647260" y="906293"/>
                  <a:pt x="2647260" y="906293"/>
                </a:cubicBezTo>
                <a:cubicBezTo>
                  <a:pt x="2621969" y="944247"/>
                  <a:pt x="2621969" y="944247"/>
                  <a:pt x="2621969" y="944247"/>
                </a:cubicBezTo>
                <a:cubicBezTo>
                  <a:pt x="2596678" y="975875"/>
                  <a:pt x="2596678" y="975875"/>
                  <a:pt x="2596678" y="975875"/>
                </a:cubicBezTo>
                <a:cubicBezTo>
                  <a:pt x="2577709" y="1001178"/>
                  <a:pt x="2558741" y="1026481"/>
                  <a:pt x="2539773" y="1051784"/>
                </a:cubicBezTo>
                <a:cubicBezTo>
                  <a:pt x="2520804" y="1070761"/>
                  <a:pt x="2501836" y="1096064"/>
                  <a:pt x="2476545" y="1115041"/>
                </a:cubicBezTo>
                <a:cubicBezTo>
                  <a:pt x="2451253" y="1146669"/>
                  <a:pt x="2451253" y="1146669"/>
                  <a:pt x="2451253" y="1146669"/>
                </a:cubicBezTo>
                <a:cubicBezTo>
                  <a:pt x="2419639" y="1178298"/>
                  <a:pt x="2419639" y="1178298"/>
                  <a:pt x="2419639" y="1178298"/>
                </a:cubicBezTo>
                <a:cubicBezTo>
                  <a:pt x="2400671" y="1203600"/>
                  <a:pt x="2381703" y="1222577"/>
                  <a:pt x="2362734" y="1241554"/>
                </a:cubicBezTo>
                <a:cubicBezTo>
                  <a:pt x="2343766" y="1260531"/>
                  <a:pt x="2318475" y="1285834"/>
                  <a:pt x="2299506" y="1304811"/>
                </a:cubicBezTo>
                <a:cubicBezTo>
                  <a:pt x="2261569" y="1342765"/>
                  <a:pt x="2223633" y="1380720"/>
                  <a:pt x="2185696" y="1418674"/>
                </a:cubicBezTo>
                <a:cubicBezTo>
                  <a:pt x="2090854" y="1507233"/>
                  <a:pt x="1996012" y="1589467"/>
                  <a:pt x="1907493" y="1671701"/>
                </a:cubicBezTo>
                <a:cubicBezTo>
                  <a:pt x="1818973" y="1747610"/>
                  <a:pt x="1736777" y="1829843"/>
                  <a:pt x="1660903" y="1912077"/>
                </a:cubicBezTo>
                <a:cubicBezTo>
                  <a:pt x="1622967" y="1950032"/>
                  <a:pt x="1585030" y="1987986"/>
                  <a:pt x="1547093" y="2032266"/>
                </a:cubicBezTo>
                <a:cubicBezTo>
                  <a:pt x="1521802" y="2063894"/>
                  <a:pt x="1521802" y="2063894"/>
                  <a:pt x="1521802" y="2063894"/>
                </a:cubicBezTo>
                <a:cubicBezTo>
                  <a:pt x="1515479" y="2070220"/>
                  <a:pt x="1509156" y="2082871"/>
                  <a:pt x="1496511" y="2089197"/>
                </a:cubicBezTo>
                <a:cubicBezTo>
                  <a:pt x="1483865" y="2114500"/>
                  <a:pt x="1464897" y="2133477"/>
                  <a:pt x="1452251" y="2152454"/>
                </a:cubicBezTo>
                <a:cubicBezTo>
                  <a:pt x="1389023" y="2241013"/>
                  <a:pt x="1332118" y="2329573"/>
                  <a:pt x="1287858" y="2424458"/>
                </a:cubicBezTo>
                <a:cubicBezTo>
                  <a:pt x="1193016" y="2607903"/>
                  <a:pt x="1123465" y="2810325"/>
                  <a:pt x="1085529" y="3019073"/>
                </a:cubicBezTo>
                <a:cubicBezTo>
                  <a:pt x="1085529" y="3044376"/>
                  <a:pt x="1079206" y="3069679"/>
                  <a:pt x="1072883" y="3094981"/>
                </a:cubicBezTo>
                <a:cubicBezTo>
                  <a:pt x="1072883" y="3120284"/>
                  <a:pt x="1066560" y="3145587"/>
                  <a:pt x="1066560" y="3177215"/>
                </a:cubicBezTo>
                <a:cubicBezTo>
                  <a:pt x="1060237" y="3253124"/>
                  <a:pt x="1060237" y="3253124"/>
                  <a:pt x="1060237" y="3253124"/>
                </a:cubicBezTo>
                <a:cubicBezTo>
                  <a:pt x="1060237" y="3272101"/>
                  <a:pt x="1060237" y="3297403"/>
                  <a:pt x="1060237" y="3316381"/>
                </a:cubicBezTo>
                <a:cubicBezTo>
                  <a:pt x="1060237" y="3354335"/>
                  <a:pt x="1066560" y="3392289"/>
                  <a:pt x="1066560" y="3411266"/>
                </a:cubicBezTo>
                <a:cubicBezTo>
                  <a:pt x="1072883" y="3411266"/>
                  <a:pt x="1072883" y="3411266"/>
                  <a:pt x="1072883" y="3411266"/>
                </a:cubicBezTo>
                <a:cubicBezTo>
                  <a:pt x="1072883" y="3417592"/>
                  <a:pt x="1072883" y="3417592"/>
                  <a:pt x="1072883" y="3417592"/>
                </a:cubicBezTo>
                <a:cubicBezTo>
                  <a:pt x="1072883" y="3417592"/>
                  <a:pt x="1072883" y="3417592"/>
                  <a:pt x="1072883" y="3423917"/>
                </a:cubicBezTo>
                <a:cubicBezTo>
                  <a:pt x="1072883" y="3423917"/>
                  <a:pt x="1072883" y="3423917"/>
                  <a:pt x="1072883" y="3430243"/>
                </a:cubicBezTo>
                <a:cubicBezTo>
                  <a:pt x="1072883" y="3430243"/>
                  <a:pt x="1079206" y="3430243"/>
                  <a:pt x="1079206" y="3430243"/>
                </a:cubicBezTo>
                <a:cubicBezTo>
                  <a:pt x="1072883" y="3430243"/>
                  <a:pt x="1085529" y="3430243"/>
                  <a:pt x="1098174" y="3436569"/>
                </a:cubicBezTo>
                <a:cubicBezTo>
                  <a:pt x="1123465" y="3436569"/>
                  <a:pt x="1148757" y="3436569"/>
                  <a:pt x="1186693" y="3430243"/>
                </a:cubicBezTo>
                <a:cubicBezTo>
                  <a:pt x="1211985" y="3430243"/>
                  <a:pt x="1211985" y="3430243"/>
                  <a:pt x="1211985" y="3430243"/>
                </a:cubicBezTo>
                <a:cubicBezTo>
                  <a:pt x="1243599" y="3430243"/>
                  <a:pt x="1243599" y="3430243"/>
                  <a:pt x="1243599" y="3430243"/>
                </a:cubicBezTo>
                <a:cubicBezTo>
                  <a:pt x="1306827" y="3423917"/>
                  <a:pt x="1306827" y="3423917"/>
                  <a:pt x="1306827" y="3423917"/>
                </a:cubicBezTo>
                <a:cubicBezTo>
                  <a:pt x="1483865" y="3404940"/>
                  <a:pt x="1654581" y="3385963"/>
                  <a:pt x="1831619" y="3373312"/>
                </a:cubicBezTo>
                <a:cubicBezTo>
                  <a:pt x="2008657" y="3354335"/>
                  <a:pt x="2192019" y="3341683"/>
                  <a:pt x="2375380" y="3335358"/>
                </a:cubicBezTo>
                <a:cubicBezTo>
                  <a:pt x="2565064" y="3329032"/>
                  <a:pt x="2754748" y="3335358"/>
                  <a:pt x="2944432" y="3360660"/>
                </a:cubicBezTo>
                <a:cubicBezTo>
                  <a:pt x="3323800" y="3398614"/>
                  <a:pt x="3690522" y="3499826"/>
                  <a:pt x="4031953" y="3632665"/>
                </a:cubicBezTo>
                <a:cubicBezTo>
                  <a:pt x="4373385" y="3765505"/>
                  <a:pt x="4689525" y="3929973"/>
                  <a:pt x="4993019" y="4100766"/>
                </a:cubicBezTo>
                <a:cubicBezTo>
                  <a:pt x="5100507" y="4157697"/>
                  <a:pt x="5233286" y="4227280"/>
                  <a:pt x="5366065" y="4303188"/>
                </a:cubicBezTo>
                <a:lnTo>
                  <a:pt x="5511285" y="4378583"/>
                </a:lnTo>
                <a:lnTo>
                  <a:pt x="5511285" y="4479684"/>
                </a:lnTo>
                <a:lnTo>
                  <a:pt x="5434825" y="4437610"/>
                </a:lnTo>
                <a:cubicBezTo>
                  <a:pt x="5083119" y="4243095"/>
                  <a:pt x="4727462" y="4050161"/>
                  <a:pt x="4354417" y="3885693"/>
                </a:cubicBezTo>
                <a:cubicBezTo>
                  <a:pt x="4240606" y="3835087"/>
                  <a:pt x="4120473" y="3784482"/>
                  <a:pt x="4006663" y="3740202"/>
                </a:cubicBezTo>
                <a:cubicBezTo>
                  <a:pt x="3886529" y="3695922"/>
                  <a:pt x="3772719" y="3651642"/>
                  <a:pt x="3646263" y="3613688"/>
                </a:cubicBezTo>
                <a:cubicBezTo>
                  <a:pt x="3526129" y="3575734"/>
                  <a:pt x="3405996" y="3544105"/>
                  <a:pt x="3279540" y="3518803"/>
                </a:cubicBezTo>
                <a:cubicBezTo>
                  <a:pt x="3184698" y="3499826"/>
                  <a:pt x="3184698" y="3499826"/>
                  <a:pt x="3184698" y="3499826"/>
                </a:cubicBezTo>
                <a:cubicBezTo>
                  <a:pt x="3140439" y="3493500"/>
                  <a:pt x="3140439" y="3493500"/>
                  <a:pt x="3140439" y="3493500"/>
                </a:cubicBezTo>
                <a:cubicBezTo>
                  <a:pt x="3089856" y="3487174"/>
                  <a:pt x="3089856" y="3487174"/>
                  <a:pt x="3089856" y="3487174"/>
                </a:cubicBezTo>
                <a:cubicBezTo>
                  <a:pt x="2995014" y="3468197"/>
                  <a:pt x="2995014" y="3468197"/>
                  <a:pt x="2995014" y="3468197"/>
                </a:cubicBezTo>
                <a:cubicBezTo>
                  <a:pt x="2900172" y="3455546"/>
                  <a:pt x="2900172" y="3455546"/>
                  <a:pt x="2900172" y="3455546"/>
                </a:cubicBezTo>
                <a:cubicBezTo>
                  <a:pt x="2640937" y="3430243"/>
                  <a:pt x="2388025" y="3430243"/>
                  <a:pt x="2135113" y="3442894"/>
                </a:cubicBezTo>
                <a:cubicBezTo>
                  <a:pt x="1888524" y="3455546"/>
                  <a:pt x="1641935" y="3480849"/>
                  <a:pt x="1401669" y="3506151"/>
                </a:cubicBezTo>
                <a:cubicBezTo>
                  <a:pt x="1635612" y="3487174"/>
                  <a:pt x="1875879" y="3461872"/>
                  <a:pt x="2122468" y="3449220"/>
                </a:cubicBezTo>
                <a:cubicBezTo>
                  <a:pt x="2375380" y="3436569"/>
                  <a:pt x="2628292" y="3436569"/>
                  <a:pt x="2881204" y="3461872"/>
                </a:cubicBezTo>
                <a:cubicBezTo>
                  <a:pt x="3140439" y="3493500"/>
                  <a:pt x="3393351" y="3544105"/>
                  <a:pt x="3639940" y="3620014"/>
                </a:cubicBezTo>
                <a:cubicBezTo>
                  <a:pt x="3760073" y="3651642"/>
                  <a:pt x="3880206" y="3695922"/>
                  <a:pt x="4000339" y="3740202"/>
                </a:cubicBezTo>
                <a:cubicBezTo>
                  <a:pt x="4120473" y="3784482"/>
                  <a:pt x="4234283" y="3835087"/>
                  <a:pt x="4354417" y="3885693"/>
                </a:cubicBezTo>
                <a:cubicBezTo>
                  <a:pt x="4721139" y="4050161"/>
                  <a:pt x="5075215" y="4246257"/>
                  <a:pt x="5422970" y="4442353"/>
                </a:cubicBezTo>
                <a:lnTo>
                  <a:pt x="5511285" y="4492920"/>
                </a:lnTo>
                <a:lnTo>
                  <a:pt x="5511285" y="4893831"/>
                </a:lnTo>
                <a:lnTo>
                  <a:pt x="5284362" y="4765557"/>
                </a:lnTo>
                <a:cubicBezTo>
                  <a:pt x="5162549" y="4696963"/>
                  <a:pt x="5040440" y="4628962"/>
                  <a:pt x="4917145" y="4562542"/>
                </a:cubicBezTo>
                <a:cubicBezTo>
                  <a:pt x="4670557" y="4429702"/>
                  <a:pt x="4417645" y="4296863"/>
                  <a:pt x="4152087" y="4183000"/>
                </a:cubicBezTo>
                <a:cubicBezTo>
                  <a:pt x="4025631" y="4126069"/>
                  <a:pt x="3892852" y="4075463"/>
                  <a:pt x="3753750" y="4024858"/>
                </a:cubicBezTo>
                <a:cubicBezTo>
                  <a:pt x="3620971" y="3980578"/>
                  <a:pt x="3481870" y="3936298"/>
                  <a:pt x="3336445" y="3898344"/>
                </a:cubicBezTo>
                <a:cubicBezTo>
                  <a:pt x="3140439" y="3847739"/>
                  <a:pt x="2925463" y="3809784"/>
                  <a:pt x="2710488" y="3797133"/>
                </a:cubicBezTo>
                <a:cubicBezTo>
                  <a:pt x="2495513" y="3784482"/>
                  <a:pt x="2274215" y="3797133"/>
                  <a:pt x="2046594" y="3816110"/>
                </a:cubicBezTo>
                <a:cubicBezTo>
                  <a:pt x="1825296" y="3835087"/>
                  <a:pt x="1597675" y="3866716"/>
                  <a:pt x="1370055" y="3898344"/>
                </a:cubicBezTo>
                <a:cubicBezTo>
                  <a:pt x="1313149" y="3904670"/>
                  <a:pt x="1262567" y="3910995"/>
                  <a:pt x="1199339" y="3917321"/>
                </a:cubicBezTo>
                <a:cubicBezTo>
                  <a:pt x="1167725" y="3917321"/>
                  <a:pt x="1129788" y="3917321"/>
                  <a:pt x="1098174" y="3917321"/>
                </a:cubicBezTo>
                <a:cubicBezTo>
                  <a:pt x="1079206" y="3917321"/>
                  <a:pt x="1060237" y="3917321"/>
                  <a:pt x="1041269" y="3917321"/>
                </a:cubicBezTo>
                <a:cubicBezTo>
                  <a:pt x="1028623" y="3917321"/>
                  <a:pt x="1003332" y="3910995"/>
                  <a:pt x="984364" y="3910995"/>
                </a:cubicBezTo>
                <a:cubicBezTo>
                  <a:pt x="902167" y="3892018"/>
                  <a:pt x="826294" y="3860390"/>
                  <a:pt x="763066" y="3809784"/>
                </a:cubicBezTo>
                <a:cubicBezTo>
                  <a:pt x="699838" y="3759179"/>
                  <a:pt x="649255" y="3689596"/>
                  <a:pt x="617641" y="3620014"/>
                </a:cubicBezTo>
                <a:cubicBezTo>
                  <a:pt x="636610" y="3664294"/>
                  <a:pt x="661901" y="3702248"/>
                  <a:pt x="687192" y="3740202"/>
                </a:cubicBezTo>
                <a:cubicBezTo>
                  <a:pt x="718806" y="3778156"/>
                  <a:pt x="756743" y="3809784"/>
                  <a:pt x="794680" y="3835087"/>
                </a:cubicBezTo>
                <a:cubicBezTo>
                  <a:pt x="832617" y="3866716"/>
                  <a:pt x="876876" y="3885693"/>
                  <a:pt x="927459" y="3898344"/>
                </a:cubicBezTo>
                <a:cubicBezTo>
                  <a:pt x="946427" y="3904670"/>
                  <a:pt x="971718" y="3910995"/>
                  <a:pt x="997009" y="3917321"/>
                </a:cubicBezTo>
                <a:cubicBezTo>
                  <a:pt x="1009655" y="3917321"/>
                  <a:pt x="1022301" y="3917321"/>
                  <a:pt x="1028623" y="3917321"/>
                </a:cubicBezTo>
                <a:cubicBezTo>
                  <a:pt x="1041269" y="3923647"/>
                  <a:pt x="1053915" y="3923647"/>
                  <a:pt x="1060237" y="3923647"/>
                </a:cubicBezTo>
                <a:cubicBezTo>
                  <a:pt x="1142434" y="3929973"/>
                  <a:pt x="1218307" y="3917321"/>
                  <a:pt x="1281535" y="3910995"/>
                </a:cubicBezTo>
                <a:cubicBezTo>
                  <a:pt x="1344763" y="3904670"/>
                  <a:pt x="1414314" y="3898344"/>
                  <a:pt x="1477542" y="3892018"/>
                </a:cubicBezTo>
                <a:cubicBezTo>
                  <a:pt x="1730454" y="3866716"/>
                  <a:pt x="1989689" y="3835087"/>
                  <a:pt x="2236278" y="3822436"/>
                </a:cubicBezTo>
                <a:cubicBezTo>
                  <a:pt x="2489190" y="3803459"/>
                  <a:pt x="2735779" y="3809784"/>
                  <a:pt x="2976046" y="3841413"/>
                </a:cubicBezTo>
                <a:cubicBezTo>
                  <a:pt x="3070888" y="3854064"/>
                  <a:pt x="3070888" y="3854064"/>
                  <a:pt x="3070888" y="3854064"/>
                </a:cubicBezTo>
                <a:cubicBezTo>
                  <a:pt x="3102502" y="3860390"/>
                  <a:pt x="3127793" y="3866716"/>
                  <a:pt x="3159407" y="3873041"/>
                </a:cubicBezTo>
                <a:cubicBezTo>
                  <a:pt x="3222635" y="3879367"/>
                  <a:pt x="3279540" y="3898344"/>
                  <a:pt x="3342768" y="3910995"/>
                </a:cubicBezTo>
                <a:cubicBezTo>
                  <a:pt x="3374382" y="3917321"/>
                  <a:pt x="3399673" y="3923647"/>
                  <a:pt x="3431287" y="3936298"/>
                </a:cubicBezTo>
                <a:cubicBezTo>
                  <a:pt x="3475547" y="3948950"/>
                  <a:pt x="3475547" y="3948950"/>
                  <a:pt x="3475547" y="3948950"/>
                </a:cubicBezTo>
                <a:cubicBezTo>
                  <a:pt x="3488193" y="3948950"/>
                  <a:pt x="3507161" y="3955275"/>
                  <a:pt x="3519807" y="3961601"/>
                </a:cubicBezTo>
                <a:cubicBezTo>
                  <a:pt x="3608326" y="3986904"/>
                  <a:pt x="3608326" y="3986904"/>
                  <a:pt x="3608326" y="3986904"/>
                </a:cubicBezTo>
                <a:cubicBezTo>
                  <a:pt x="3696845" y="4012207"/>
                  <a:pt x="3696845" y="4012207"/>
                  <a:pt x="3696845" y="4012207"/>
                </a:cubicBezTo>
                <a:cubicBezTo>
                  <a:pt x="3741105" y="4031184"/>
                  <a:pt x="3741105" y="4031184"/>
                  <a:pt x="3741105" y="4031184"/>
                </a:cubicBezTo>
                <a:cubicBezTo>
                  <a:pt x="3785364" y="4043835"/>
                  <a:pt x="3785364" y="4043835"/>
                  <a:pt x="3785364" y="4043835"/>
                </a:cubicBezTo>
                <a:cubicBezTo>
                  <a:pt x="3873883" y="4075463"/>
                  <a:pt x="3873883" y="4075463"/>
                  <a:pt x="3873883" y="4075463"/>
                </a:cubicBezTo>
                <a:cubicBezTo>
                  <a:pt x="3962403" y="4113418"/>
                  <a:pt x="3962403" y="4113418"/>
                  <a:pt x="3962403" y="4113418"/>
                </a:cubicBezTo>
                <a:cubicBezTo>
                  <a:pt x="4006663" y="4132395"/>
                  <a:pt x="4006663" y="4132395"/>
                  <a:pt x="4006663" y="4132395"/>
                </a:cubicBezTo>
                <a:cubicBezTo>
                  <a:pt x="4044599" y="4151372"/>
                  <a:pt x="4044599" y="4151372"/>
                  <a:pt x="4044599" y="4151372"/>
                </a:cubicBezTo>
                <a:cubicBezTo>
                  <a:pt x="4133119" y="4183000"/>
                  <a:pt x="4133119" y="4183000"/>
                  <a:pt x="4133119" y="4183000"/>
                </a:cubicBezTo>
                <a:cubicBezTo>
                  <a:pt x="4221637" y="4220954"/>
                  <a:pt x="4221637" y="4220954"/>
                  <a:pt x="4221637" y="4220954"/>
                </a:cubicBezTo>
                <a:cubicBezTo>
                  <a:pt x="4278543" y="4246257"/>
                  <a:pt x="4335448" y="4277885"/>
                  <a:pt x="4392353" y="4303188"/>
                </a:cubicBezTo>
                <a:cubicBezTo>
                  <a:pt x="4613651" y="4417051"/>
                  <a:pt x="4834949" y="4537239"/>
                  <a:pt x="5056247" y="4657427"/>
                </a:cubicBezTo>
                <a:lnTo>
                  <a:pt x="5511285" y="4924732"/>
                </a:lnTo>
                <a:lnTo>
                  <a:pt x="5511285" y="5034334"/>
                </a:lnTo>
                <a:lnTo>
                  <a:pt x="5260158" y="4892268"/>
                </a:lnTo>
                <a:cubicBezTo>
                  <a:pt x="5117895" y="4810825"/>
                  <a:pt x="4977212" y="4730172"/>
                  <a:pt x="4834949" y="4651101"/>
                </a:cubicBezTo>
                <a:cubicBezTo>
                  <a:pt x="4550423" y="4499285"/>
                  <a:pt x="4272220" y="4353794"/>
                  <a:pt x="3987694" y="4239931"/>
                </a:cubicBezTo>
                <a:cubicBezTo>
                  <a:pt x="3994017" y="4227280"/>
                  <a:pt x="4000339" y="4201977"/>
                  <a:pt x="4006663" y="4189326"/>
                </a:cubicBezTo>
                <a:cubicBezTo>
                  <a:pt x="3798010" y="4113418"/>
                  <a:pt x="3595680" y="4043835"/>
                  <a:pt x="3387028" y="3993229"/>
                </a:cubicBezTo>
                <a:cubicBezTo>
                  <a:pt x="3285863" y="3967927"/>
                  <a:pt x="3178375" y="3948950"/>
                  <a:pt x="3077211" y="3929973"/>
                </a:cubicBezTo>
                <a:cubicBezTo>
                  <a:pt x="3001337" y="3917321"/>
                  <a:pt x="3001337" y="3917321"/>
                  <a:pt x="3001337" y="3917321"/>
                </a:cubicBezTo>
                <a:cubicBezTo>
                  <a:pt x="2969723" y="3917321"/>
                  <a:pt x="2944432" y="3910995"/>
                  <a:pt x="2919141" y="3910995"/>
                </a:cubicBezTo>
                <a:cubicBezTo>
                  <a:pt x="2843267" y="3904670"/>
                  <a:pt x="2843267" y="3904670"/>
                  <a:pt x="2843267" y="3904670"/>
                </a:cubicBezTo>
                <a:cubicBezTo>
                  <a:pt x="2830621" y="3898344"/>
                  <a:pt x="2817976" y="3898344"/>
                  <a:pt x="2805330" y="3898344"/>
                </a:cubicBezTo>
                <a:cubicBezTo>
                  <a:pt x="2767393" y="3898344"/>
                  <a:pt x="2767393" y="3898344"/>
                  <a:pt x="2767393" y="3898344"/>
                </a:cubicBezTo>
                <a:cubicBezTo>
                  <a:pt x="2350089" y="3866716"/>
                  <a:pt x="1920138" y="3917321"/>
                  <a:pt x="1477542" y="3961601"/>
                </a:cubicBezTo>
                <a:cubicBezTo>
                  <a:pt x="1306827" y="3980578"/>
                  <a:pt x="1306827" y="3980578"/>
                  <a:pt x="1306827" y="3980578"/>
                </a:cubicBezTo>
                <a:cubicBezTo>
                  <a:pt x="1256244" y="3986904"/>
                  <a:pt x="1186693" y="3993229"/>
                  <a:pt x="1117143" y="3993229"/>
                </a:cubicBezTo>
                <a:cubicBezTo>
                  <a:pt x="1098174" y="3993229"/>
                  <a:pt x="1079206" y="3993229"/>
                  <a:pt x="1060237" y="3986904"/>
                </a:cubicBezTo>
                <a:cubicBezTo>
                  <a:pt x="1041269" y="3986904"/>
                  <a:pt x="1022301" y="3986904"/>
                  <a:pt x="997009" y="3980578"/>
                </a:cubicBezTo>
                <a:cubicBezTo>
                  <a:pt x="946427" y="3974252"/>
                  <a:pt x="902167" y="3961601"/>
                  <a:pt x="857908" y="3948950"/>
                </a:cubicBezTo>
                <a:cubicBezTo>
                  <a:pt x="813648" y="3929973"/>
                  <a:pt x="775711" y="3904670"/>
                  <a:pt x="737775" y="3879367"/>
                </a:cubicBezTo>
                <a:cubicBezTo>
                  <a:pt x="718806" y="3866716"/>
                  <a:pt x="699838" y="3847739"/>
                  <a:pt x="680869" y="3828762"/>
                </a:cubicBezTo>
                <a:cubicBezTo>
                  <a:pt x="674547" y="3822436"/>
                  <a:pt x="668224" y="3816110"/>
                  <a:pt x="655578" y="3803459"/>
                </a:cubicBezTo>
                <a:cubicBezTo>
                  <a:pt x="649255" y="3797133"/>
                  <a:pt x="642933" y="3790807"/>
                  <a:pt x="636610" y="3778156"/>
                </a:cubicBezTo>
                <a:cubicBezTo>
                  <a:pt x="611319" y="3752853"/>
                  <a:pt x="611319" y="3752853"/>
                  <a:pt x="611319" y="3752853"/>
                </a:cubicBezTo>
                <a:cubicBezTo>
                  <a:pt x="604996" y="3740202"/>
                  <a:pt x="598673" y="3727550"/>
                  <a:pt x="592350" y="3721225"/>
                </a:cubicBezTo>
                <a:cubicBezTo>
                  <a:pt x="579705" y="3702248"/>
                  <a:pt x="573382" y="3676945"/>
                  <a:pt x="560736" y="3657968"/>
                </a:cubicBezTo>
                <a:cubicBezTo>
                  <a:pt x="554413" y="3645317"/>
                  <a:pt x="554413" y="3632665"/>
                  <a:pt x="548091" y="3626339"/>
                </a:cubicBezTo>
                <a:cubicBezTo>
                  <a:pt x="541768" y="3613688"/>
                  <a:pt x="541768" y="3601037"/>
                  <a:pt x="535445" y="3594711"/>
                </a:cubicBezTo>
                <a:cubicBezTo>
                  <a:pt x="529122" y="3575734"/>
                  <a:pt x="522799" y="3550431"/>
                  <a:pt x="522799" y="3531454"/>
                </a:cubicBezTo>
                <a:cubicBezTo>
                  <a:pt x="503831" y="3455546"/>
                  <a:pt x="497508" y="3385963"/>
                  <a:pt x="491185" y="3316381"/>
                </a:cubicBezTo>
                <a:cubicBezTo>
                  <a:pt x="491185" y="3284752"/>
                  <a:pt x="491185" y="3246798"/>
                  <a:pt x="497508" y="3215169"/>
                </a:cubicBezTo>
                <a:cubicBezTo>
                  <a:pt x="503831" y="3120284"/>
                  <a:pt x="503831" y="3120284"/>
                  <a:pt x="503831" y="3120284"/>
                </a:cubicBezTo>
                <a:cubicBezTo>
                  <a:pt x="503831" y="3094981"/>
                  <a:pt x="510154" y="3063353"/>
                  <a:pt x="510154" y="3031724"/>
                </a:cubicBezTo>
                <a:cubicBezTo>
                  <a:pt x="516477" y="3000096"/>
                  <a:pt x="516477" y="2968468"/>
                  <a:pt x="522799" y="2936839"/>
                </a:cubicBezTo>
                <a:cubicBezTo>
                  <a:pt x="560736" y="2696463"/>
                  <a:pt x="636610" y="2456087"/>
                  <a:pt x="737775" y="2228362"/>
                </a:cubicBezTo>
                <a:cubicBezTo>
                  <a:pt x="794680" y="2114500"/>
                  <a:pt x="851585" y="2006963"/>
                  <a:pt x="921136" y="1899426"/>
                </a:cubicBezTo>
                <a:cubicBezTo>
                  <a:pt x="946427" y="1855146"/>
                  <a:pt x="946427" y="1855146"/>
                  <a:pt x="946427" y="1855146"/>
                </a:cubicBezTo>
                <a:cubicBezTo>
                  <a:pt x="971718" y="1817192"/>
                  <a:pt x="971718" y="1817192"/>
                  <a:pt x="971718" y="1817192"/>
                </a:cubicBezTo>
                <a:cubicBezTo>
                  <a:pt x="1003332" y="1779238"/>
                  <a:pt x="1003332" y="1779238"/>
                  <a:pt x="1003332" y="1779238"/>
                </a:cubicBezTo>
                <a:cubicBezTo>
                  <a:pt x="1009655" y="1766587"/>
                  <a:pt x="1022301" y="1753935"/>
                  <a:pt x="1028623" y="1741284"/>
                </a:cubicBezTo>
                <a:cubicBezTo>
                  <a:pt x="1066560" y="1690678"/>
                  <a:pt x="1104497" y="1640073"/>
                  <a:pt x="1148757" y="1589467"/>
                </a:cubicBezTo>
                <a:cubicBezTo>
                  <a:pt x="1091851" y="1640073"/>
                  <a:pt x="1110820" y="1602119"/>
                  <a:pt x="1117143" y="1583142"/>
                </a:cubicBezTo>
                <a:cubicBezTo>
                  <a:pt x="1034946" y="1678027"/>
                  <a:pt x="952750" y="1779238"/>
                  <a:pt x="883199" y="1886775"/>
                </a:cubicBezTo>
                <a:cubicBezTo>
                  <a:pt x="813648" y="1987986"/>
                  <a:pt x="756743" y="2101848"/>
                  <a:pt x="699838" y="2209385"/>
                </a:cubicBezTo>
                <a:cubicBezTo>
                  <a:pt x="592350" y="2437110"/>
                  <a:pt x="522799" y="2677486"/>
                  <a:pt x="478540" y="2924188"/>
                </a:cubicBezTo>
                <a:cubicBezTo>
                  <a:pt x="478540" y="2955816"/>
                  <a:pt x="472217" y="2981119"/>
                  <a:pt x="465894" y="3012747"/>
                </a:cubicBezTo>
                <a:cubicBezTo>
                  <a:pt x="459571" y="3107633"/>
                  <a:pt x="459571" y="3107633"/>
                  <a:pt x="459571" y="3107633"/>
                </a:cubicBezTo>
                <a:cubicBezTo>
                  <a:pt x="453249" y="3139261"/>
                  <a:pt x="453249" y="3170890"/>
                  <a:pt x="453249" y="3202518"/>
                </a:cubicBezTo>
                <a:cubicBezTo>
                  <a:pt x="446926" y="3215169"/>
                  <a:pt x="446926" y="3234147"/>
                  <a:pt x="446926" y="3246798"/>
                </a:cubicBezTo>
                <a:cubicBezTo>
                  <a:pt x="446926" y="3265775"/>
                  <a:pt x="446926" y="3284752"/>
                  <a:pt x="446926" y="3297403"/>
                </a:cubicBezTo>
                <a:cubicBezTo>
                  <a:pt x="446926" y="3366986"/>
                  <a:pt x="453249" y="3442894"/>
                  <a:pt x="472217" y="3518803"/>
                </a:cubicBezTo>
                <a:cubicBezTo>
                  <a:pt x="478540" y="3544105"/>
                  <a:pt x="478540" y="3563083"/>
                  <a:pt x="484863" y="3582060"/>
                </a:cubicBezTo>
                <a:cubicBezTo>
                  <a:pt x="497508" y="3613688"/>
                  <a:pt x="497508" y="3613688"/>
                  <a:pt x="497508" y="3613688"/>
                </a:cubicBezTo>
                <a:cubicBezTo>
                  <a:pt x="497508" y="3613688"/>
                  <a:pt x="503831" y="3620014"/>
                  <a:pt x="503831" y="3626339"/>
                </a:cubicBezTo>
                <a:cubicBezTo>
                  <a:pt x="510154" y="3645317"/>
                  <a:pt x="510154" y="3645317"/>
                  <a:pt x="510154" y="3645317"/>
                </a:cubicBezTo>
                <a:cubicBezTo>
                  <a:pt x="529122" y="3689596"/>
                  <a:pt x="554413" y="3733876"/>
                  <a:pt x="579705" y="3778156"/>
                </a:cubicBezTo>
                <a:cubicBezTo>
                  <a:pt x="636610" y="3860390"/>
                  <a:pt x="718806" y="3923647"/>
                  <a:pt x="807325" y="3967927"/>
                </a:cubicBezTo>
                <a:cubicBezTo>
                  <a:pt x="851585" y="3986904"/>
                  <a:pt x="902167" y="4005881"/>
                  <a:pt x="946427" y="4012207"/>
                </a:cubicBezTo>
                <a:cubicBezTo>
                  <a:pt x="959073" y="4018532"/>
                  <a:pt x="971718" y="4018532"/>
                  <a:pt x="984364" y="4018532"/>
                </a:cubicBezTo>
                <a:cubicBezTo>
                  <a:pt x="997009" y="4024858"/>
                  <a:pt x="1009655" y="4024858"/>
                  <a:pt x="1022301" y="4024858"/>
                </a:cubicBezTo>
                <a:cubicBezTo>
                  <a:pt x="1041269" y="4031184"/>
                  <a:pt x="1060237" y="4031184"/>
                  <a:pt x="1085529" y="4031184"/>
                </a:cubicBezTo>
                <a:cubicBezTo>
                  <a:pt x="1161402" y="4031184"/>
                  <a:pt x="1224630" y="4024858"/>
                  <a:pt x="1287858" y="4018532"/>
                </a:cubicBezTo>
                <a:cubicBezTo>
                  <a:pt x="1452251" y="3999555"/>
                  <a:pt x="1452251" y="3999555"/>
                  <a:pt x="1452251" y="3999555"/>
                </a:cubicBezTo>
                <a:cubicBezTo>
                  <a:pt x="1673549" y="3974252"/>
                  <a:pt x="1882201" y="3948950"/>
                  <a:pt x="2097177" y="3936298"/>
                </a:cubicBezTo>
                <a:cubicBezTo>
                  <a:pt x="2305829" y="3917321"/>
                  <a:pt x="2514481" y="3910995"/>
                  <a:pt x="2716811" y="3923647"/>
                </a:cubicBezTo>
                <a:cubicBezTo>
                  <a:pt x="2919141" y="3936298"/>
                  <a:pt x="3121470" y="3967927"/>
                  <a:pt x="3323800" y="4018532"/>
                </a:cubicBezTo>
                <a:cubicBezTo>
                  <a:pt x="3421803" y="4040672"/>
                  <a:pt x="3521387" y="4069138"/>
                  <a:pt x="3621762" y="4102348"/>
                </a:cubicBezTo>
                <a:lnTo>
                  <a:pt x="3741315" y="4146693"/>
                </a:lnTo>
                <a:lnTo>
                  <a:pt x="3728459" y="4142674"/>
                </a:lnTo>
                <a:cubicBezTo>
                  <a:pt x="3715813" y="4138720"/>
                  <a:pt x="3715813" y="4138720"/>
                  <a:pt x="3715813" y="4138720"/>
                </a:cubicBezTo>
                <a:cubicBezTo>
                  <a:pt x="3646263" y="4113418"/>
                  <a:pt x="3576712" y="4088115"/>
                  <a:pt x="3507161" y="4069138"/>
                </a:cubicBezTo>
                <a:cubicBezTo>
                  <a:pt x="3368059" y="4031184"/>
                  <a:pt x="3222635" y="3993229"/>
                  <a:pt x="3083533" y="3974252"/>
                </a:cubicBezTo>
                <a:cubicBezTo>
                  <a:pt x="3051919" y="3961601"/>
                  <a:pt x="3013983" y="3961601"/>
                  <a:pt x="2982369" y="3955275"/>
                </a:cubicBezTo>
                <a:cubicBezTo>
                  <a:pt x="2963400" y="3955275"/>
                  <a:pt x="2944432" y="3948950"/>
                  <a:pt x="2925463" y="3948950"/>
                </a:cubicBezTo>
                <a:cubicBezTo>
                  <a:pt x="2874881" y="3942624"/>
                  <a:pt x="2874881" y="3942624"/>
                  <a:pt x="2874881" y="3942624"/>
                </a:cubicBezTo>
                <a:cubicBezTo>
                  <a:pt x="2836944" y="3942624"/>
                  <a:pt x="2805330" y="3936298"/>
                  <a:pt x="2767393" y="3936298"/>
                </a:cubicBezTo>
                <a:cubicBezTo>
                  <a:pt x="2716811" y="3929973"/>
                  <a:pt x="2716811" y="3929973"/>
                  <a:pt x="2716811" y="3929973"/>
                </a:cubicBezTo>
                <a:cubicBezTo>
                  <a:pt x="2659906" y="3929973"/>
                  <a:pt x="2659906" y="3929973"/>
                  <a:pt x="2659906" y="3929973"/>
                </a:cubicBezTo>
                <a:cubicBezTo>
                  <a:pt x="2520804" y="3923647"/>
                  <a:pt x="2375380" y="3929973"/>
                  <a:pt x="2229955" y="3936298"/>
                </a:cubicBezTo>
                <a:cubicBezTo>
                  <a:pt x="1932784" y="3955275"/>
                  <a:pt x="1629289" y="3999555"/>
                  <a:pt x="1319472" y="4031184"/>
                </a:cubicBezTo>
                <a:cubicBezTo>
                  <a:pt x="1281535" y="4037509"/>
                  <a:pt x="1237276" y="4043835"/>
                  <a:pt x="1193016" y="4043835"/>
                </a:cubicBezTo>
                <a:cubicBezTo>
                  <a:pt x="1142434" y="4050161"/>
                  <a:pt x="1091851" y="4050161"/>
                  <a:pt x="1028623" y="4043835"/>
                </a:cubicBezTo>
                <a:cubicBezTo>
                  <a:pt x="1009655" y="4043835"/>
                  <a:pt x="1009655" y="4043835"/>
                  <a:pt x="1009655" y="4043835"/>
                </a:cubicBezTo>
                <a:cubicBezTo>
                  <a:pt x="978041" y="4037509"/>
                  <a:pt x="978041" y="4037509"/>
                  <a:pt x="978041" y="4037509"/>
                </a:cubicBezTo>
                <a:cubicBezTo>
                  <a:pt x="959073" y="4037509"/>
                  <a:pt x="946427" y="4031184"/>
                  <a:pt x="927459" y="4031184"/>
                </a:cubicBezTo>
                <a:cubicBezTo>
                  <a:pt x="889522" y="4018532"/>
                  <a:pt x="857908" y="4012207"/>
                  <a:pt x="826294" y="3999555"/>
                </a:cubicBezTo>
                <a:cubicBezTo>
                  <a:pt x="756743" y="3967927"/>
                  <a:pt x="693515" y="3929973"/>
                  <a:pt x="642933" y="3879367"/>
                </a:cubicBezTo>
                <a:cubicBezTo>
                  <a:pt x="592350" y="3828762"/>
                  <a:pt x="548091" y="3771830"/>
                  <a:pt x="516477" y="3708573"/>
                </a:cubicBezTo>
                <a:cubicBezTo>
                  <a:pt x="503831" y="3683271"/>
                  <a:pt x="503831" y="3683271"/>
                  <a:pt x="503831" y="3683271"/>
                </a:cubicBezTo>
                <a:cubicBezTo>
                  <a:pt x="491185" y="3657968"/>
                  <a:pt x="491185" y="3657968"/>
                  <a:pt x="491185" y="3657968"/>
                </a:cubicBezTo>
                <a:cubicBezTo>
                  <a:pt x="484863" y="3632665"/>
                  <a:pt x="484863" y="3632665"/>
                  <a:pt x="484863" y="3632665"/>
                </a:cubicBezTo>
                <a:cubicBezTo>
                  <a:pt x="478540" y="3620014"/>
                  <a:pt x="478540" y="3613688"/>
                  <a:pt x="472217" y="3607362"/>
                </a:cubicBezTo>
                <a:cubicBezTo>
                  <a:pt x="465894" y="3575734"/>
                  <a:pt x="459571" y="3550431"/>
                  <a:pt x="453249" y="3518803"/>
                </a:cubicBezTo>
                <a:cubicBezTo>
                  <a:pt x="440603" y="3468197"/>
                  <a:pt x="434280" y="3411266"/>
                  <a:pt x="427957" y="3360660"/>
                </a:cubicBezTo>
                <a:cubicBezTo>
                  <a:pt x="427957" y="3310055"/>
                  <a:pt x="427957" y="3259449"/>
                  <a:pt x="427957" y="3215169"/>
                </a:cubicBezTo>
                <a:cubicBezTo>
                  <a:pt x="434280" y="3038050"/>
                  <a:pt x="459571" y="2867257"/>
                  <a:pt x="503831" y="2696463"/>
                </a:cubicBezTo>
                <a:cubicBezTo>
                  <a:pt x="548091" y="2525669"/>
                  <a:pt x="604996" y="2361201"/>
                  <a:pt x="680869" y="2203059"/>
                </a:cubicBezTo>
                <a:cubicBezTo>
                  <a:pt x="756743" y="2044917"/>
                  <a:pt x="845262" y="1893100"/>
                  <a:pt x="952750" y="1753935"/>
                </a:cubicBezTo>
                <a:cubicBezTo>
                  <a:pt x="1053915" y="1614770"/>
                  <a:pt x="1174048" y="1488256"/>
                  <a:pt x="1294181" y="1374394"/>
                </a:cubicBezTo>
                <a:cubicBezTo>
                  <a:pt x="1414314" y="1254206"/>
                  <a:pt x="1534447" y="1152995"/>
                  <a:pt x="1648258" y="1051784"/>
                </a:cubicBezTo>
                <a:cubicBezTo>
                  <a:pt x="1762068" y="944247"/>
                  <a:pt x="1875879" y="849362"/>
                  <a:pt x="1970721" y="741825"/>
                </a:cubicBezTo>
                <a:cubicBezTo>
                  <a:pt x="2065563" y="640614"/>
                  <a:pt x="2154082" y="539403"/>
                  <a:pt x="2217310" y="425540"/>
                </a:cubicBezTo>
                <a:cubicBezTo>
                  <a:pt x="2229955" y="406563"/>
                  <a:pt x="2229955" y="406563"/>
                  <a:pt x="2229955" y="406563"/>
                </a:cubicBezTo>
                <a:cubicBezTo>
                  <a:pt x="2229955" y="400238"/>
                  <a:pt x="2236278" y="393912"/>
                  <a:pt x="2236278" y="387586"/>
                </a:cubicBezTo>
                <a:cubicBezTo>
                  <a:pt x="2261569" y="343306"/>
                  <a:pt x="2261569" y="343306"/>
                  <a:pt x="2261569" y="343306"/>
                </a:cubicBezTo>
                <a:cubicBezTo>
                  <a:pt x="2267892" y="324329"/>
                  <a:pt x="2267892" y="324329"/>
                  <a:pt x="2267892" y="324329"/>
                </a:cubicBezTo>
                <a:cubicBezTo>
                  <a:pt x="2274215" y="318004"/>
                  <a:pt x="2274215" y="318004"/>
                  <a:pt x="2274215" y="311678"/>
                </a:cubicBezTo>
                <a:cubicBezTo>
                  <a:pt x="2280538" y="305352"/>
                  <a:pt x="2280538" y="305352"/>
                  <a:pt x="2280538" y="305352"/>
                </a:cubicBezTo>
                <a:cubicBezTo>
                  <a:pt x="2280538" y="299027"/>
                  <a:pt x="2280538" y="292701"/>
                  <a:pt x="2286861" y="286375"/>
                </a:cubicBezTo>
                <a:cubicBezTo>
                  <a:pt x="2286861" y="280049"/>
                  <a:pt x="2286861" y="273724"/>
                  <a:pt x="2286861" y="267398"/>
                </a:cubicBezTo>
                <a:cubicBezTo>
                  <a:pt x="2286861" y="261072"/>
                  <a:pt x="2280538" y="261072"/>
                  <a:pt x="2280538" y="261072"/>
                </a:cubicBezTo>
                <a:cubicBezTo>
                  <a:pt x="2267892" y="248421"/>
                  <a:pt x="2267892" y="248421"/>
                  <a:pt x="2267892" y="248421"/>
                </a:cubicBezTo>
                <a:cubicBezTo>
                  <a:pt x="2255247" y="242095"/>
                  <a:pt x="2242601" y="229444"/>
                  <a:pt x="2229955" y="216793"/>
                </a:cubicBezTo>
                <a:cubicBezTo>
                  <a:pt x="2179373" y="178838"/>
                  <a:pt x="2122468" y="140884"/>
                  <a:pt x="2071885" y="109256"/>
                </a:cubicBezTo>
                <a:cubicBezTo>
                  <a:pt x="1964398" y="45999"/>
                  <a:pt x="1856910" y="14371"/>
                  <a:pt x="1768391" y="8045"/>
                </a:cubicBezTo>
                <a:cubicBezTo>
                  <a:pt x="1749423" y="8045"/>
                  <a:pt x="1724131" y="8045"/>
                  <a:pt x="1698840" y="14371"/>
                </a:cubicBezTo>
                <a:cubicBezTo>
                  <a:pt x="1673549" y="14371"/>
                  <a:pt x="1641935" y="20696"/>
                  <a:pt x="1610321" y="33348"/>
                </a:cubicBezTo>
                <a:cubicBezTo>
                  <a:pt x="1578707" y="39673"/>
                  <a:pt x="1547093" y="52325"/>
                  <a:pt x="1509156" y="64976"/>
                </a:cubicBezTo>
                <a:cubicBezTo>
                  <a:pt x="1477542" y="71302"/>
                  <a:pt x="1445928" y="83953"/>
                  <a:pt x="1420637" y="96604"/>
                </a:cubicBezTo>
                <a:cubicBezTo>
                  <a:pt x="1306827" y="128233"/>
                  <a:pt x="1186693" y="178838"/>
                  <a:pt x="1047592" y="216793"/>
                </a:cubicBezTo>
                <a:cubicBezTo>
                  <a:pt x="978041" y="235770"/>
                  <a:pt x="908490" y="254747"/>
                  <a:pt x="826294" y="267398"/>
                </a:cubicBezTo>
                <a:cubicBezTo>
                  <a:pt x="744097" y="273724"/>
                  <a:pt x="661901" y="280049"/>
                  <a:pt x="573382" y="267398"/>
                </a:cubicBezTo>
                <a:cubicBezTo>
                  <a:pt x="484863" y="254747"/>
                  <a:pt x="402666" y="235770"/>
                  <a:pt x="326792" y="204141"/>
                </a:cubicBezTo>
                <a:cubicBezTo>
                  <a:pt x="244596" y="172513"/>
                  <a:pt x="175045" y="128233"/>
                  <a:pt x="111817" y="83953"/>
                </a:cubicBezTo>
                <a:cubicBezTo>
                  <a:pt x="86526" y="71302"/>
                  <a:pt x="86526" y="71302"/>
                  <a:pt x="86526" y="71302"/>
                </a:cubicBezTo>
                <a:cubicBezTo>
                  <a:pt x="67558" y="52325"/>
                  <a:pt x="67558" y="52325"/>
                  <a:pt x="67558" y="52325"/>
                </a:cubicBezTo>
                <a:cubicBezTo>
                  <a:pt x="48589" y="39673"/>
                  <a:pt x="35944" y="27022"/>
                  <a:pt x="16975" y="1437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1" name="Freeform: Shape 5"/>
          <p:cNvSpPr/>
          <p:nvPr/>
        </p:nvSpPr>
        <p:spPr>
          <a:xfrm>
            <a:off x="-1967040" y="3855960"/>
            <a:ext cx="3422880" cy="4257720"/>
          </a:xfrm>
          <a:custGeom>
            <a:avLst/>
            <a:gdLst/>
            <a:ahLst/>
            <a:rect l="l" t="t" r="r" b="b"/>
            <a:pathLst>
              <a:path w="3423843" h="4258261">
                <a:moveTo>
                  <a:pt x="0" y="0"/>
                </a:moveTo>
                <a:lnTo>
                  <a:pt x="3423843" y="2478611"/>
                </a:lnTo>
                <a:lnTo>
                  <a:pt x="1252343" y="3608608"/>
                </a:lnTo>
                <a:lnTo>
                  <a:pt x="0" y="4258261"/>
                </a:lnTo>
                <a:lnTo>
                  <a:pt x="0" y="0"/>
                </a:ln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4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8878-474E-4319-8525-237A621FC6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: Shape 3"/>
          <p:cNvSpPr/>
          <p:nvPr/>
        </p:nvSpPr>
        <p:spPr>
          <a:xfrm>
            <a:off x="5527800" y="4729320"/>
            <a:ext cx="6323040" cy="2128680"/>
          </a:xfrm>
          <a:custGeom>
            <a:avLst/>
            <a:gdLst/>
            <a:ahLst/>
            <a:rect l="l" t="t" r="r" b="b"/>
            <a:pathLst>
              <a:path w="6321919" h="2128398">
                <a:moveTo>
                  <a:pt x="3207891" y="306"/>
                </a:moveTo>
                <a:cubicBezTo>
                  <a:pt x="4550900" y="18347"/>
                  <a:pt x="5791483" y="834293"/>
                  <a:pt x="6316765" y="2113774"/>
                </a:cubicBezTo>
                <a:lnTo>
                  <a:pt x="6321919" y="2128398"/>
                </a:lnTo>
                <a:lnTo>
                  <a:pt x="0" y="2128398"/>
                </a:lnTo>
                <a:lnTo>
                  <a:pt x="17989" y="2079729"/>
                </a:lnTo>
                <a:cubicBezTo>
                  <a:pt x="402825" y="1174418"/>
                  <a:pt x="1174065" y="441835"/>
                  <a:pt x="2191004" y="141606"/>
                </a:cubicBezTo>
                <a:cubicBezTo>
                  <a:pt x="2529984" y="41154"/>
                  <a:pt x="2872138" y="-4205"/>
                  <a:pt x="3207891" y="306"/>
                </a:cubicBezTo>
                <a:close/>
              </a:path>
            </a:pathLst>
          </a:custGeom>
          <a:solidFill>
            <a:srgbClr val="0ab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2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3" name="Freeform: Shape 5"/>
          <p:cNvSpPr/>
          <p:nvPr/>
        </p:nvSpPr>
        <p:spPr>
          <a:xfrm rot="700200">
            <a:off x="-22320" y="5238360"/>
            <a:ext cx="6175440" cy="2021040"/>
          </a:xfrm>
          <a:custGeom>
            <a:avLst/>
            <a:gdLst/>
            <a:ahLst/>
            <a:rect l="l" t="t" r="r" b="b"/>
            <a:pathLst>
              <a:path w="6174844" h="2021760">
                <a:moveTo>
                  <a:pt x="2115631" y="129960"/>
                </a:moveTo>
                <a:cubicBezTo>
                  <a:pt x="2223462" y="106824"/>
                  <a:pt x="2331701" y="86886"/>
                  <a:pt x="2440066" y="69832"/>
                </a:cubicBezTo>
                <a:cubicBezTo>
                  <a:pt x="3028042" y="-22461"/>
                  <a:pt x="3690270" y="-32493"/>
                  <a:pt x="4314368" y="95915"/>
                </a:cubicBezTo>
                <a:cubicBezTo>
                  <a:pt x="4938466" y="228335"/>
                  <a:pt x="5542498" y="489164"/>
                  <a:pt x="6016090" y="874387"/>
                </a:cubicBezTo>
                <a:cubicBezTo>
                  <a:pt x="6062245" y="908495"/>
                  <a:pt x="6110407" y="944609"/>
                  <a:pt x="6160575" y="982731"/>
                </a:cubicBezTo>
                <a:lnTo>
                  <a:pt x="6174844" y="994745"/>
                </a:lnTo>
                <a:lnTo>
                  <a:pt x="6055097" y="1019493"/>
                </a:lnTo>
                <a:lnTo>
                  <a:pt x="5922024" y="919781"/>
                </a:lnTo>
                <a:cubicBezTo>
                  <a:pt x="5777789" y="818709"/>
                  <a:pt x="5627784" y="726918"/>
                  <a:pt x="5474268" y="643654"/>
                </a:cubicBezTo>
                <a:cubicBezTo>
                  <a:pt x="4717724" y="230341"/>
                  <a:pt x="3838769" y="47762"/>
                  <a:pt x="2973860" y="109959"/>
                </a:cubicBezTo>
                <a:cubicBezTo>
                  <a:pt x="3820708" y="61806"/>
                  <a:pt x="4699663" y="230342"/>
                  <a:pt x="5474268" y="643654"/>
                </a:cubicBezTo>
                <a:cubicBezTo>
                  <a:pt x="5626780" y="728925"/>
                  <a:pt x="5775279" y="821720"/>
                  <a:pt x="5917257" y="923543"/>
                </a:cubicBezTo>
                <a:lnTo>
                  <a:pt x="6044844" y="1021612"/>
                </a:lnTo>
                <a:lnTo>
                  <a:pt x="5548305" y="1124231"/>
                </a:lnTo>
                <a:lnTo>
                  <a:pt x="5253620" y="953325"/>
                </a:lnTo>
                <a:cubicBezTo>
                  <a:pt x="5044573" y="844040"/>
                  <a:pt x="4821573" y="750494"/>
                  <a:pt x="4587286" y="673750"/>
                </a:cubicBezTo>
                <a:cubicBezTo>
                  <a:pt x="4258179" y="563399"/>
                  <a:pt x="3884924" y="501202"/>
                  <a:pt x="3511669" y="495182"/>
                </a:cubicBezTo>
                <a:cubicBezTo>
                  <a:pt x="3417351" y="497189"/>
                  <a:pt x="3325042" y="491170"/>
                  <a:pt x="3230724" y="499195"/>
                </a:cubicBezTo>
                <a:cubicBezTo>
                  <a:pt x="3138413" y="505214"/>
                  <a:pt x="3046104" y="513240"/>
                  <a:pt x="2953793" y="519259"/>
                </a:cubicBezTo>
                <a:cubicBezTo>
                  <a:pt x="2771179" y="551361"/>
                  <a:pt x="2586558" y="567412"/>
                  <a:pt x="2415985" y="607539"/>
                </a:cubicBezTo>
                <a:cubicBezTo>
                  <a:pt x="2829375" y="535310"/>
                  <a:pt x="3248785" y="489164"/>
                  <a:pt x="3666188" y="519259"/>
                </a:cubicBezTo>
                <a:cubicBezTo>
                  <a:pt x="4083592" y="545342"/>
                  <a:pt x="4498989" y="635628"/>
                  <a:pt x="4884284" y="790119"/>
                </a:cubicBezTo>
                <a:cubicBezTo>
                  <a:pt x="5077434" y="866361"/>
                  <a:pt x="5262807" y="959532"/>
                  <a:pt x="5437551" y="1067061"/>
                </a:cubicBezTo>
                <a:lnTo>
                  <a:pt x="5528180" y="1128390"/>
                </a:lnTo>
                <a:lnTo>
                  <a:pt x="5369435" y="1161198"/>
                </a:lnTo>
                <a:lnTo>
                  <a:pt x="5103019" y="1012826"/>
                </a:lnTo>
                <a:cubicBezTo>
                  <a:pt x="5109040" y="998781"/>
                  <a:pt x="5121081" y="972699"/>
                  <a:pt x="5127101" y="960660"/>
                </a:cubicBezTo>
                <a:cubicBezTo>
                  <a:pt x="4458854" y="675756"/>
                  <a:pt x="3748465" y="543335"/>
                  <a:pt x="3040083" y="597507"/>
                </a:cubicBezTo>
                <a:cubicBezTo>
                  <a:pt x="2861483" y="609545"/>
                  <a:pt x="2680875" y="637635"/>
                  <a:pt x="2502275" y="661711"/>
                </a:cubicBezTo>
                <a:cubicBezTo>
                  <a:pt x="2325681" y="701839"/>
                  <a:pt x="2145074" y="727921"/>
                  <a:pt x="1974500" y="786106"/>
                </a:cubicBezTo>
                <a:cubicBezTo>
                  <a:pt x="1623319" y="880406"/>
                  <a:pt x="1292206" y="1036903"/>
                  <a:pt x="989187" y="1235533"/>
                </a:cubicBezTo>
                <a:cubicBezTo>
                  <a:pt x="1037349" y="1215470"/>
                  <a:pt x="1017282" y="1241552"/>
                  <a:pt x="1013268" y="1255597"/>
                </a:cubicBezTo>
                <a:cubicBezTo>
                  <a:pt x="1316287" y="1075024"/>
                  <a:pt x="1639373" y="928558"/>
                  <a:pt x="1980520" y="834259"/>
                </a:cubicBezTo>
                <a:cubicBezTo>
                  <a:pt x="2147080" y="778081"/>
                  <a:pt x="2323674" y="747985"/>
                  <a:pt x="2494248" y="709864"/>
                </a:cubicBezTo>
                <a:cubicBezTo>
                  <a:pt x="2668835" y="679769"/>
                  <a:pt x="2847435" y="653686"/>
                  <a:pt x="3020016" y="637635"/>
                </a:cubicBezTo>
                <a:cubicBezTo>
                  <a:pt x="3708330" y="575437"/>
                  <a:pt x="4412698" y="687794"/>
                  <a:pt x="5050844" y="986744"/>
                </a:cubicBezTo>
                <a:cubicBezTo>
                  <a:pt x="4553171" y="762030"/>
                  <a:pt x="4011349" y="635628"/>
                  <a:pt x="3465514" y="637635"/>
                </a:cubicBezTo>
                <a:cubicBezTo>
                  <a:pt x="3192596" y="627603"/>
                  <a:pt x="2921685" y="663718"/>
                  <a:pt x="2642747" y="705851"/>
                </a:cubicBezTo>
                <a:cubicBezTo>
                  <a:pt x="2367823" y="751998"/>
                  <a:pt x="2098918" y="818208"/>
                  <a:pt x="1838042" y="902476"/>
                </a:cubicBezTo>
                <a:cubicBezTo>
                  <a:pt x="1314280" y="1073017"/>
                  <a:pt x="832661" y="1343877"/>
                  <a:pt x="443352" y="1719069"/>
                </a:cubicBezTo>
                <a:cubicBezTo>
                  <a:pt x="346025" y="1812365"/>
                  <a:pt x="254592" y="1911931"/>
                  <a:pt x="169337" y="2017109"/>
                </a:cubicBezTo>
                <a:lnTo>
                  <a:pt x="165797" y="2021760"/>
                </a:lnTo>
                <a:lnTo>
                  <a:pt x="0" y="1219529"/>
                </a:lnTo>
                <a:lnTo>
                  <a:pt x="35982" y="1183368"/>
                </a:lnTo>
                <a:cubicBezTo>
                  <a:pt x="369102" y="872380"/>
                  <a:pt x="754398" y="621584"/>
                  <a:pt x="1163774" y="432985"/>
                </a:cubicBezTo>
                <a:cubicBezTo>
                  <a:pt x="1472312" y="297555"/>
                  <a:pt x="1792137" y="199368"/>
                  <a:pt x="2115631" y="129960"/>
                </a:cubicBezTo>
                <a:close/>
              </a:path>
            </a:pathLst>
          </a:cu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4" name="Freeform: Shape 6"/>
          <p:cNvSpPr/>
          <p:nvPr/>
        </p:nvSpPr>
        <p:spPr>
          <a:xfrm>
            <a:off x="9175680" y="-9360"/>
            <a:ext cx="3016440" cy="1382400"/>
          </a:xfrm>
          <a:custGeom>
            <a:avLst/>
            <a:gdLst/>
            <a:ahLst/>
            <a:rect l="l" t="t" r="r" b="b"/>
            <a:pathLst>
              <a:path w="3202953" h="1383420">
                <a:moveTo>
                  <a:pt x="2203039" y="705851"/>
                </a:moveTo>
                <a:cubicBezTo>
                  <a:pt x="2471866" y="749993"/>
                  <a:pt x="2745708" y="767550"/>
                  <a:pt x="3018045" y="756514"/>
                </a:cubicBezTo>
                <a:lnTo>
                  <a:pt x="3202953" y="744117"/>
                </a:lnTo>
                <a:lnTo>
                  <a:pt x="3202953" y="751279"/>
                </a:lnTo>
                <a:lnTo>
                  <a:pt x="2985174" y="764434"/>
                </a:lnTo>
                <a:cubicBezTo>
                  <a:pt x="2724674" y="771500"/>
                  <a:pt x="2462587" y="752501"/>
                  <a:pt x="2203039" y="705851"/>
                </a:cubicBezTo>
                <a:close/>
                <a:moveTo>
                  <a:pt x="32365" y="158087"/>
                </a:moveTo>
                <a:cubicBezTo>
                  <a:pt x="291161" y="402876"/>
                  <a:pt x="582055" y="611548"/>
                  <a:pt x="893011" y="780090"/>
                </a:cubicBezTo>
                <a:cubicBezTo>
                  <a:pt x="1205973" y="946627"/>
                  <a:pt x="1541003" y="1065008"/>
                  <a:pt x="1882052" y="1147273"/>
                </a:cubicBezTo>
                <a:cubicBezTo>
                  <a:pt x="2300338" y="1248599"/>
                  <a:pt x="2733670" y="1286721"/>
                  <a:pt x="3164746" y="1264149"/>
                </a:cubicBezTo>
                <a:lnTo>
                  <a:pt x="3202953" y="1260800"/>
                </a:lnTo>
                <a:lnTo>
                  <a:pt x="3202953" y="1372697"/>
                </a:lnTo>
                <a:lnTo>
                  <a:pt x="3143932" y="1378015"/>
                </a:lnTo>
                <a:cubicBezTo>
                  <a:pt x="2505971" y="1408112"/>
                  <a:pt x="1855972" y="1313809"/>
                  <a:pt x="1298257" y="1063001"/>
                </a:cubicBezTo>
                <a:cubicBezTo>
                  <a:pt x="1246097" y="1040930"/>
                  <a:pt x="1189924" y="1018859"/>
                  <a:pt x="1131745" y="996788"/>
                </a:cubicBezTo>
                <a:cubicBezTo>
                  <a:pt x="1073566" y="968697"/>
                  <a:pt x="1013381" y="940607"/>
                  <a:pt x="949184" y="910510"/>
                </a:cubicBezTo>
                <a:cubicBezTo>
                  <a:pt x="822795" y="856335"/>
                  <a:pt x="698413" y="780090"/>
                  <a:pt x="576037" y="711871"/>
                </a:cubicBezTo>
                <a:cubicBezTo>
                  <a:pt x="457673" y="639638"/>
                  <a:pt x="351346" y="561386"/>
                  <a:pt x="263074" y="495173"/>
                </a:cubicBezTo>
                <a:cubicBezTo>
                  <a:pt x="178815" y="422940"/>
                  <a:pt x="112612" y="358733"/>
                  <a:pt x="76501" y="316598"/>
                </a:cubicBezTo>
                <a:cubicBezTo>
                  <a:pt x="-29826" y="196211"/>
                  <a:pt x="-5752" y="164107"/>
                  <a:pt x="32365" y="158087"/>
                </a:cubicBezTo>
                <a:close/>
                <a:moveTo>
                  <a:pt x="508435" y="0"/>
                </a:moveTo>
                <a:lnTo>
                  <a:pt x="622972" y="0"/>
                </a:lnTo>
                <a:lnTo>
                  <a:pt x="642240" y="13622"/>
                </a:lnTo>
                <a:cubicBezTo>
                  <a:pt x="684370" y="37700"/>
                  <a:pt x="726499" y="65791"/>
                  <a:pt x="768629" y="95887"/>
                </a:cubicBezTo>
                <a:cubicBezTo>
                  <a:pt x="1173875" y="402876"/>
                  <a:pt x="1653349" y="593489"/>
                  <a:pt x="2146866" y="693813"/>
                </a:cubicBezTo>
                <a:cubicBezTo>
                  <a:pt x="2142854" y="707857"/>
                  <a:pt x="2138841" y="737954"/>
                  <a:pt x="2134829" y="752000"/>
                </a:cubicBezTo>
                <a:cubicBezTo>
                  <a:pt x="2404157" y="789621"/>
                  <a:pt x="2673767" y="805516"/>
                  <a:pt x="2941015" y="798309"/>
                </a:cubicBezTo>
                <a:lnTo>
                  <a:pt x="3202953" y="783599"/>
                </a:lnTo>
                <a:lnTo>
                  <a:pt x="3202953" y="862259"/>
                </a:lnTo>
                <a:lnTo>
                  <a:pt x="3038107" y="875899"/>
                </a:lnTo>
                <a:cubicBezTo>
                  <a:pt x="2829465" y="884928"/>
                  <a:pt x="2620322" y="877403"/>
                  <a:pt x="2413687" y="852322"/>
                </a:cubicBezTo>
                <a:cubicBezTo>
                  <a:pt x="1692218" y="769807"/>
                  <a:pt x="1009150" y="461471"/>
                  <a:pt x="510973" y="2587"/>
                </a:cubicBezTo>
                <a:lnTo>
                  <a:pt x="508435" y="0"/>
                </a:lnTo>
                <a:close/>
                <a:moveTo>
                  <a:pt x="41615" y="0"/>
                </a:moveTo>
                <a:lnTo>
                  <a:pt x="452796" y="0"/>
                </a:lnTo>
                <a:lnTo>
                  <a:pt x="510221" y="55903"/>
                </a:lnTo>
                <a:cubicBezTo>
                  <a:pt x="1088707" y="558596"/>
                  <a:pt x="1870517" y="841037"/>
                  <a:pt x="2730661" y="888439"/>
                </a:cubicBezTo>
                <a:cubicBezTo>
                  <a:pt x="2817428" y="893957"/>
                  <a:pt x="2905950" y="895838"/>
                  <a:pt x="2995601" y="894145"/>
                </a:cubicBezTo>
                <a:lnTo>
                  <a:pt x="3202953" y="882134"/>
                </a:lnTo>
                <a:lnTo>
                  <a:pt x="3202953" y="1253513"/>
                </a:lnTo>
                <a:lnTo>
                  <a:pt x="3176783" y="1255872"/>
                </a:lnTo>
                <a:cubicBezTo>
                  <a:pt x="2746209" y="1280200"/>
                  <a:pt x="2309366" y="1246592"/>
                  <a:pt x="1882052" y="1147273"/>
                </a:cubicBezTo>
                <a:cubicBezTo>
                  <a:pt x="1543010" y="1060995"/>
                  <a:pt x="1211992" y="940607"/>
                  <a:pt x="907054" y="772065"/>
                </a:cubicBezTo>
                <a:cubicBezTo>
                  <a:pt x="600111" y="603522"/>
                  <a:pt x="317241" y="394850"/>
                  <a:pt x="68476" y="152069"/>
                </a:cubicBezTo>
                <a:cubicBezTo>
                  <a:pt x="106593" y="150062"/>
                  <a:pt x="144710" y="142036"/>
                  <a:pt x="134679" y="91875"/>
                </a:cubicBezTo>
                <a:cubicBezTo>
                  <a:pt x="134679" y="91875"/>
                  <a:pt x="97064" y="55257"/>
                  <a:pt x="50671" y="9108"/>
                </a:cubicBezTo>
                <a:lnTo>
                  <a:pt x="41615" y="0"/>
                </a:lnTo>
                <a:close/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5" name="Freeform: Shape 7"/>
          <p:cNvSpPr/>
          <p:nvPr/>
        </p:nvSpPr>
        <p:spPr>
          <a:xfrm>
            <a:off x="817560" y="332100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6126120" y="3425760"/>
            <a:ext cx="847800" cy="83196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5191200" y="2546280"/>
            <a:ext cx="1809720" cy="1871640"/>
            <a:chOff x="5191200" y="2546280"/>
            <a:chExt cx="1809720" cy="1871640"/>
          </a:xfrm>
        </p:grpSpPr>
        <p:sp>
          <p:nvSpPr>
            <p:cNvPr id="218" name="Rectangle 24"/>
            <p:cNvSpPr/>
            <p:nvPr/>
          </p:nvSpPr>
          <p:spPr>
            <a:xfrm>
              <a:off x="5235480" y="3443040"/>
              <a:ext cx="847800" cy="831960"/>
            </a:xfrm>
            <a:prstGeom prst="rect">
              <a:avLst/>
            </a:pr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>
              <a:off x="6058080" y="3311280"/>
              <a:ext cx="942840" cy="990720"/>
            </a:xfrm>
            <a:custGeom>
              <a:avLst/>
              <a:gdLst/>
              <a:ahLst/>
              <a:rect l="l" t="t" r="r" b="b"/>
              <a:pathLst>
                <a:path w="181" h="194">
                  <a:moveTo>
                    <a:pt x="46" y="15"/>
                  </a:moveTo>
                  <a:cubicBezTo>
                    <a:pt x="49" y="15"/>
                    <a:pt x="52" y="15"/>
                    <a:pt x="55" y="15"/>
                  </a:cubicBezTo>
                  <a:cubicBezTo>
                    <a:pt x="74" y="15"/>
                    <a:pt x="94" y="15"/>
                    <a:pt x="114" y="15"/>
                  </a:cubicBezTo>
                  <a:cubicBezTo>
                    <a:pt x="135" y="16"/>
                    <a:pt x="156" y="16"/>
                    <a:pt x="178" y="16"/>
                  </a:cubicBezTo>
                  <a:cubicBezTo>
                    <a:pt x="178" y="24"/>
                    <a:pt x="178" y="32"/>
                    <a:pt x="178" y="40"/>
                  </a:cubicBezTo>
                  <a:cubicBezTo>
                    <a:pt x="178" y="46"/>
                    <a:pt x="178" y="53"/>
                    <a:pt x="178" y="60"/>
                  </a:cubicBezTo>
                  <a:cubicBezTo>
                    <a:pt x="178" y="80"/>
                    <a:pt x="178" y="101"/>
                    <a:pt x="178" y="122"/>
                  </a:cubicBezTo>
                  <a:cubicBezTo>
                    <a:pt x="178" y="144"/>
                    <a:pt x="178" y="167"/>
                    <a:pt x="178" y="187"/>
                  </a:cubicBezTo>
                  <a:cubicBezTo>
                    <a:pt x="178" y="131"/>
                    <a:pt x="178" y="73"/>
                    <a:pt x="179" y="16"/>
                  </a:cubicBezTo>
                  <a:cubicBezTo>
                    <a:pt x="167" y="15"/>
                    <a:pt x="155" y="15"/>
                    <a:pt x="144" y="15"/>
                  </a:cubicBezTo>
                  <a:cubicBezTo>
                    <a:pt x="134" y="15"/>
                    <a:pt x="124" y="15"/>
                    <a:pt x="114" y="15"/>
                  </a:cubicBezTo>
                  <a:cubicBezTo>
                    <a:pt x="94" y="15"/>
                    <a:pt x="74" y="14"/>
                    <a:pt x="55" y="14"/>
                  </a:cubicBezTo>
                  <a:cubicBezTo>
                    <a:pt x="64" y="13"/>
                    <a:pt x="75" y="13"/>
                    <a:pt x="88" y="13"/>
                  </a:cubicBezTo>
                  <a:cubicBezTo>
                    <a:pt x="102" y="13"/>
                    <a:pt x="117" y="13"/>
                    <a:pt x="131" y="13"/>
                  </a:cubicBezTo>
                  <a:cubicBezTo>
                    <a:pt x="148" y="13"/>
                    <a:pt x="164" y="13"/>
                    <a:pt x="181" y="13"/>
                  </a:cubicBezTo>
                  <a:cubicBezTo>
                    <a:pt x="181" y="16"/>
                    <a:pt x="181" y="19"/>
                    <a:pt x="181" y="22"/>
                  </a:cubicBezTo>
                  <a:cubicBezTo>
                    <a:pt x="181" y="22"/>
                    <a:pt x="180" y="22"/>
                    <a:pt x="180" y="22"/>
                  </a:cubicBezTo>
                  <a:cubicBezTo>
                    <a:pt x="180" y="30"/>
                    <a:pt x="180" y="38"/>
                    <a:pt x="180" y="45"/>
                  </a:cubicBezTo>
                  <a:cubicBezTo>
                    <a:pt x="180" y="52"/>
                    <a:pt x="180" y="59"/>
                    <a:pt x="180" y="66"/>
                  </a:cubicBezTo>
                  <a:cubicBezTo>
                    <a:pt x="180" y="79"/>
                    <a:pt x="180" y="93"/>
                    <a:pt x="180" y="107"/>
                  </a:cubicBezTo>
                  <a:cubicBezTo>
                    <a:pt x="180" y="135"/>
                    <a:pt x="179" y="164"/>
                    <a:pt x="179" y="192"/>
                  </a:cubicBezTo>
                  <a:cubicBezTo>
                    <a:pt x="170" y="192"/>
                    <a:pt x="162" y="192"/>
                    <a:pt x="153" y="192"/>
                  </a:cubicBezTo>
                  <a:cubicBezTo>
                    <a:pt x="145" y="192"/>
                    <a:pt x="138" y="192"/>
                    <a:pt x="131" y="192"/>
                  </a:cubicBezTo>
                  <a:cubicBezTo>
                    <a:pt x="116" y="192"/>
                    <a:pt x="102" y="193"/>
                    <a:pt x="87" y="193"/>
                  </a:cubicBezTo>
                  <a:cubicBezTo>
                    <a:pt x="90" y="193"/>
                    <a:pt x="88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3"/>
                    <a:pt x="87" y="193"/>
                    <a:pt x="87" y="193"/>
                  </a:cubicBezTo>
                  <a:cubicBezTo>
                    <a:pt x="87" y="194"/>
                    <a:pt x="87" y="194"/>
                    <a:pt x="93" y="194"/>
                  </a:cubicBezTo>
                  <a:cubicBezTo>
                    <a:pt x="87" y="194"/>
                    <a:pt x="87" y="194"/>
                    <a:pt x="87" y="193"/>
                  </a:cubicBezTo>
                  <a:cubicBezTo>
                    <a:pt x="119" y="193"/>
                    <a:pt x="150" y="193"/>
                    <a:pt x="180" y="193"/>
                  </a:cubicBezTo>
                  <a:cubicBezTo>
                    <a:pt x="180" y="165"/>
                    <a:pt x="180" y="137"/>
                    <a:pt x="180" y="108"/>
                  </a:cubicBezTo>
                  <a:cubicBezTo>
                    <a:pt x="181" y="82"/>
                    <a:pt x="181" y="55"/>
                    <a:pt x="181" y="28"/>
                  </a:cubicBezTo>
                  <a:cubicBezTo>
                    <a:pt x="181" y="55"/>
                    <a:pt x="181" y="81"/>
                    <a:pt x="181" y="108"/>
                  </a:cubicBezTo>
                  <a:cubicBezTo>
                    <a:pt x="181" y="137"/>
                    <a:pt x="181" y="165"/>
                    <a:pt x="181" y="194"/>
                  </a:cubicBezTo>
                  <a:cubicBezTo>
                    <a:pt x="121" y="194"/>
                    <a:pt x="61" y="194"/>
                    <a:pt x="0" y="194"/>
                  </a:cubicBezTo>
                  <a:cubicBezTo>
                    <a:pt x="0" y="171"/>
                    <a:pt x="0" y="148"/>
                    <a:pt x="0" y="125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" y="80"/>
                    <a:pt x="1" y="57"/>
                    <a:pt x="1" y="34"/>
                  </a:cubicBezTo>
                  <a:cubicBezTo>
                    <a:pt x="3" y="40"/>
                    <a:pt x="6" y="17"/>
                    <a:pt x="5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8" y="17"/>
                    <a:pt x="12" y="0"/>
                    <a:pt x="13" y="46"/>
                  </a:cubicBezTo>
                  <a:cubicBezTo>
                    <a:pt x="14" y="66"/>
                    <a:pt x="14" y="89"/>
                    <a:pt x="14" y="113"/>
                  </a:cubicBezTo>
                  <a:cubicBezTo>
                    <a:pt x="14" y="135"/>
                    <a:pt x="14" y="158"/>
                    <a:pt x="14" y="181"/>
                  </a:cubicBezTo>
                  <a:cubicBezTo>
                    <a:pt x="25" y="180"/>
                    <a:pt x="36" y="180"/>
                    <a:pt x="47" y="180"/>
                  </a:cubicBezTo>
                  <a:cubicBezTo>
                    <a:pt x="68" y="180"/>
                    <a:pt x="89" y="180"/>
                    <a:pt x="111" y="180"/>
                  </a:cubicBezTo>
                  <a:cubicBezTo>
                    <a:pt x="142" y="180"/>
                    <a:pt x="142" y="180"/>
                    <a:pt x="142" y="180"/>
                  </a:cubicBezTo>
                  <a:cubicBezTo>
                    <a:pt x="158" y="180"/>
                    <a:pt x="158" y="180"/>
                    <a:pt x="158" y="180"/>
                  </a:cubicBezTo>
                  <a:cubicBezTo>
                    <a:pt x="166" y="180"/>
                    <a:pt x="166" y="180"/>
                    <a:pt x="166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80"/>
                    <a:pt x="167" y="180"/>
                    <a:pt x="167" y="180"/>
                  </a:cubicBezTo>
                  <a:cubicBezTo>
                    <a:pt x="167" y="178"/>
                    <a:pt x="167" y="178"/>
                    <a:pt x="167" y="178"/>
                  </a:cubicBezTo>
                  <a:cubicBezTo>
                    <a:pt x="168" y="153"/>
                    <a:pt x="168" y="126"/>
                    <a:pt x="168" y="99"/>
                  </a:cubicBezTo>
                  <a:cubicBezTo>
                    <a:pt x="168" y="86"/>
                    <a:pt x="168" y="73"/>
                    <a:pt x="168" y="60"/>
                  </a:cubicBezTo>
                  <a:cubicBezTo>
                    <a:pt x="168" y="53"/>
                    <a:pt x="168" y="46"/>
                    <a:pt x="168" y="40"/>
                  </a:cubicBezTo>
                  <a:cubicBezTo>
                    <a:pt x="168" y="36"/>
                    <a:pt x="168" y="33"/>
                    <a:pt x="168" y="30"/>
                  </a:cubicBezTo>
                  <a:cubicBezTo>
                    <a:pt x="168" y="27"/>
                    <a:pt x="168" y="27"/>
                    <a:pt x="168" y="27"/>
                  </a:cubicBezTo>
                  <a:cubicBezTo>
                    <a:pt x="169" y="27"/>
                    <a:pt x="169" y="27"/>
                    <a:pt x="169" y="27"/>
                  </a:cubicBezTo>
                  <a:cubicBezTo>
                    <a:pt x="169" y="26"/>
                    <a:pt x="169" y="26"/>
                    <a:pt x="169" y="26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7" y="26"/>
                    <a:pt x="167" y="26"/>
                    <a:pt x="167" y="26"/>
                  </a:cubicBezTo>
                  <a:cubicBezTo>
                    <a:pt x="166" y="26"/>
                    <a:pt x="166" y="26"/>
                    <a:pt x="166" y="26"/>
                  </a:cubicBezTo>
                  <a:cubicBezTo>
                    <a:pt x="165" y="26"/>
                    <a:pt x="165" y="26"/>
                    <a:pt x="165" y="26"/>
                  </a:cubicBezTo>
                  <a:cubicBezTo>
                    <a:pt x="162" y="25"/>
                    <a:pt x="159" y="25"/>
                    <a:pt x="157" y="25"/>
                  </a:cubicBezTo>
                  <a:cubicBezTo>
                    <a:pt x="151" y="25"/>
                    <a:pt x="145" y="25"/>
                    <a:pt x="139" y="25"/>
                  </a:cubicBezTo>
                  <a:cubicBezTo>
                    <a:pt x="116" y="25"/>
                    <a:pt x="76" y="26"/>
                    <a:pt x="65" y="25"/>
                  </a:cubicBezTo>
                  <a:cubicBezTo>
                    <a:pt x="57" y="24"/>
                    <a:pt x="57" y="24"/>
                    <a:pt x="58" y="23"/>
                  </a:cubicBezTo>
                  <a:cubicBezTo>
                    <a:pt x="95" y="23"/>
                    <a:pt x="132" y="23"/>
                    <a:pt x="168" y="23"/>
                  </a:cubicBezTo>
                  <a:cubicBezTo>
                    <a:pt x="171" y="23"/>
                    <a:pt x="171" y="23"/>
                    <a:pt x="171" y="23"/>
                  </a:cubicBezTo>
                  <a:cubicBezTo>
                    <a:pt x="171" y="44"/>
                    <a:pt x="170" y="65"/>
                    <a:pt x="170" y="85"/>
                  </a:cubicBezTo>
                  <a:cubicBezTo>
                    <a:pt x="170" y="107"/>
                    <a:pt x="170" y="129"/>
                    <a:pt x="170" y="151"/>
                  </a:cubicBezTo>
                  <a:cubicBezTo>
                    <a:pt x="170" y="129"/>
                    <a:pt x="170" y="108"/>
                    <a:pt x="170" y="86"/>
                  </a:cubicBezTo>
                  <a:cubicBezTo>
                    <a:pt x="171" y="65"/>
                    <a:pt x="171" y="44"/>
                    <a:pt x="171" y="23"/>
                  </a:cubicBezTo>
                  <a:cubicBezTo>
                    <a:pt x="170" y="23"/>
                    <a:pt x="169" y="23"/>
                    <a:pt x="168" y="23"/>
                  </a:cubicBezTo>
                  <a:cubicBezTo>
                    <a:pt x="132" y="23"/>
                    <a:pt x="95" y="23"/>
                    <a:pt x="59" y="22"/>
                  </a:cubicBezTo>
                  <a:cubicBezTo>
                    <a:pt x="60" y="22"/>
                    <a:pt x="62" y="21"/>
                    <a:pt x="59" y="21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0" y="19"/>
                    <a:pt x="25" y="17"/>
                    <a:pt x="37" y="16"/>
                  </a:cubicBezTo>
                  <a:cubicBezTo>
                    <a:pt x="40" y="15"/>
                    <a:pt x="43" y="15"/>
                    <a:pt x="46" y="15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0" name="Freeform 26"/>
            <p:cNvSpPr/>
            <p:nvPr/>
          </p:nvSpPr>
          <p:spPr>
            <a:xfrm>
              <a:off x="5191200" y="3425760"/>
              <a:ext cx="946080" cy="992160"/>
            </a:xfrm>
            <a:custGeom>
              <a:avLst/>
              <a:gdLst/>
              <a:ahLst/>
              <a:rect l="l" t="t" r="r" b="b"/>
              <a:pathLst>
                <a:path w="182" h="195">
                  <a:moveTo>
                    <a:pt x="28" y="169"/>
                  </a:moveTo>
                  <a:cubicBezTo>
                    <a:pt x="31" y="169"/>
                    <a:pt x="34" y="169"/>
                    <a:pt x="36" y="169"/>
                  </a:cubicBezTo>
                  <a:cubicBezTo>
                    <a:pt x="59" y="170"/>
                    <a:pt x="81" y="170"/>
                    <a:pt x="104" y="170"/>
                  </a:cubicBezTo>
                  <a:cubicBezTo>
                    <a:pt x="126" y="170"/>
                    <a:pt x="148" y="170"/>
                    <a:pt x="171" y="170"/>
                  </a:cubicBezTo>
                  <a:cubicBezTo>
                    <a:pt x="171" y="163"/>
                    <a:pt x="171" y="156"/>
                    <a:pt x="171" y="149"/>
                  </a:cubicBezTo>
                  <a:cubicBezTo>
                    <a:pt x="171" y="108"/>
                    <a:pt x="171" y="61"/>
                    <a:pt x="171" y="20"/>
                  </a:cubicBezTo>
                  <a:cubicBezTo>
                    <a:pt x="171" y="69"/>
                    <a:pt x="171" y="120"/>
                    <a:pt x="171" y="170"/>
                  </a:cubicBezTo>
                  <a:cubicBezTo>
                    <a:pt x="148" y="170"/>
                    <a:pt x="126" y="170"/>
                    <a:pt x="105" y="169"/>
                  </a:cubicBezTo>
                  <a:cubicBezTo>
                    <a:pt x="82" y="169"/>
                    <a:pt x="59" y="169"/>
                    <a:pt x="37" y="168"/>
                  </a:cubicBezTo>
                  <a:cubicBezTo>
                    <a:pt x="46" y="168"/>
                    <a:pt x="57" y="167"/>
                    <a:pt x="70" y="167"/>
                  </a:cubicBezTo>
                  <a:cubicBezTo>
                    <a:pt x="102" y="167"/>
                    <a:pt x="133" y="167"/>
                    <a:pt x="164" y="168"/>
                  </a:cubicBezTo>
                  <a:cubicBezTo>
                    <a:pt x="164" y="169"/>
                    <a:pt x="164" y="169"/>
                    <a:pt x="164" y="169"/>
                  </a:cubicBezTo>
                  <a:cubicBezTo>
                    <a:pt x="167" y="169"/>
                    <a:pt x="167" y="169"/>
                    <a:pt x="167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8" y="169"/>
                    <a:pt x="168" y="169"/>
                    <a:pt x="168" y="169"/>
                  </a:cubicBezTo>
                  <a:cubicBezTo>
                    <a:pt x="169" y="169"/>
                    <a:pt x="169" y="169"/>
                    <a:pt x="169" y="169"/>
                  </a:cubicBezTo>
                  <a:cubicBezTo>
                    <a:pt x="169" y="167"/>
                    <a:pt x="169" y="167"/>
                    <a:pt x="169" y="167"/>
                  </a:cubicBezTo>
                  <a:cubicBezTo>
                    <a:pt x="169" y="164"/>
                    <a:pt x="169" y="164"/>
                    <a:pt x="169" y="164"/>
                  </a:cubicBezTo>
                  <a:cubicBezTo>
                    <a:pt x="169" y="160"/>
                    <a:pt x="169" y="157"/>
                    <a:pt x="169" y="153"/>
                  </a:cubicBezTo>
                  <a:cubicBezTo>
                    <a:pt x="169" y="146"/>
                    <a:pt x="169" y="139"/>
                    <a:pt x="169" y="132"/>
                  </a:cubicBezTo>
                  <a:cubicBezTo>
                    <a:pt x="169" y="118"/>
                    <a:pt x="169" y="104"/>
                    <a:pt x="169" y="90"/>
                  </a:cubicBezTo>
                  <a:cubicBezTo>
                    <a:pt x="169" y="64"/>
                    <a:pt x="170" y="38"/>
                    <a:pt x="170" y="12"/>
                  </a:cubicBezTo>
                  <a:cubicBezTo>
                    <a:pt x="158" y="12"/>
                    <a:pt x="147" y="12"/>
                    <a:pt x="135" y="12"/>
                  </a:cubicBezTo>
                  <a:cubicBezTo>
                    <a:pt x="122" y="12"/>
                    <a:pt x="108" y="12"/>
                    <a:pt x="95" y="12"/>
                  </a:cubicBezTo>
                  <a:cubicBezTo>
                    <a:pt x="98" y="13"/>
                    <a:pt x="96" y="13"/>
                    <a:pt x="96" y="13"/>
                  </a:cubicBezTo>
                  <a:cubicBezTo>
                    <a:pt x="95" y="13"/>
                    <a:pt x="95" y="13"/>
                    <a:pt x="95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95" y="13"/>
                    <a:pt x="95" y="13"/>
                    <a:pt x="101" y="13"/>
                  </a:cubicBezTo>
                  <a:cubicBezTo>
                    <a:pt x="95" y="13"/>
                    <a:pt x="95" y="13"/>
                    <a:pt x="96" y="13"/>
                  </a:cubicBezTo>
                  <a:cubicBezTo>
                    <a:pt x="120" y="13"/>
                    <a:pt x="145" y="13"/>
                    <a:pt x="169" y="13"/>
                  </a:cubicBezTo>
                  <a:cubicBezTo>
                    <a:pt x="169" y="39"/>
                    <a:pt x="169" y="64"/>
                    <a:pt x="169" y="90"/>
                  </a:cubicBezTo>
                  <a:cubicBezTo>
                    <a:pt x="169" y="104"/>
                    <a:pt x="168" y="118"/>
                    <a:pt x="168" y="132"/>
                  </a:cubicBezTo>
                  <a:cubicBezTo>
                    <a:pt x="168" y="139"/>
                    <a:pt x="168" y="146"/>
                    <a:pt x="168" y="153"/>
                  </a:cubicBezTo>
                  <a:cubicBezTo>
                    <a:pt x="168" y="157"/>
                    <a:pt x="168" y="160"/>
                    <a:pt x="168" y="164"/>
                  </a:cubicBezTo>
                  <a:cubicBezTo>
                    <a:pt x="168" y="166"/>
                    <a:pt x="168" y="166"/>
                    <a:pt x="168" y="166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7"/>
                    <a:pt x="168" y="167"/>
                    <a:pt x="168" y="167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68"/>
                    <a:pt x="168" y="168"/>
                    <a:pt x="168" y="168"/>
                  </a:cubicBezTo>
                  <a:cubicBezTo>
                    <a:pt x="168" y="142"/>
                    <a:pt x="168" y="116"/>
                    <a:pt x="168" y="90"/>
                  </a:cubicBezTo>
                  <a:cubicBezTo>
                    <a:pt x="168" y="65"/>
                    <a:pt x="168" y="39"/>
                    <a:pt x="168" y="13"/>
                  </a:cubicBezTo>
                  <a:cubicBezTo>
                    <a:pt x="117" y="13"/>
                    <a:pt x="66" y="14"/>
                    <a:pt x="14" y="14"/>
                  </a:cubicBezTo>
                  <a:cubicBezTo>
                    <a:pt x="14" y="31"/>
                    <a:pt x="14" y="48"/>
                    <a:pt x="14" y="66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3" y="113"/>
                    <a:pt x="13" y="136"/>
                    <a:pt x="13" y="160"/>
                  </a:cubicBezTo>
                  <a:cubicBezTo>
                    <a:pt x="11" y="154"/>
                    <a:pt x="9" y="177"/>
                    <a:pt x="9" y="130"/>
                  </a:cubicBezTo>
                  <a:cubicBezTo>
                    <a:pt x="8" y="130"/>
                    <a:pt x="8" y="130"/>
                    <a:pt x="8" y="130"/>
                  </a:cubicBezTo>
                  <a:cubicBezTo>
                    <a:pt x="6" y="177"/>
                    <a:pt x="2" y="195"/>
                    <a:pt x="1" y="148"/>
                  </a:cubicBezTo>
                  <a:cubicBezTo>
                    <a:pt x="1" y="128"/>
                    <a:pt x="1" y="105"/>
                    <a:pt x="1" y="81"/>
                  </a:cubicBezTo>
                  <a:cubicBezTo>
                    <a:pt x="1" y="55"/>
                    <a:pt x="1" y="28"/>
                    <a:pt x="1" y="0"/>
                  </a:cubicBezTo>
                  <a:cubicBezTo>
                    <a:pt x="11" y="0"/>
                    <a:pt x="21" y="0"/>
                    <a:pt x="31" y="0"/>
                  </a:cubicBezTo>
                  <a:cubicBezTo>
                    <a:pt x="39" y="0"/>
                    <a:pt x="46" y="0"/>
                    <a:pt x="54" y="0"/>
                  </a:cubicBezTo>
                  <a:cubicBezTo>
                    <a:pt x="74" y="0"/>
                    <a:pt x="94" y="0"/>
                    <a:pt x="114" y="0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57" y="0"/>
                    <a:pt x="170" y="0"/>
                    <a:pt x="182" y="0"/>
                  </a:cubicBezTo>
                  <a:cubicBezTo>
                    <a:pt x="182" y="17"/>
                    <a:pt x="182" y="17"/>
                    <a:pt x="182" y="17"/>
                  </a:cubicBezTo>
                  <a:cubicBezTo>
                    <a:pt x="182" y="27"/>
                    <a:pt x="182" y="27"/>
                    <a:pt x="182" y="27"/>
                  </a:cubicBezTo>
                  <a:cubicBezTo>
                    <a:pt x="181" y="50"/>
                    <a:pt x="181" y="75"/>
                    <a:pt x="181" y="100"/>
                  </a:cubicBezTo>
                  <a:cubicBezTo>
                    <a:pt x="181" y="127"/>
                    <a:pt x="181" y="154"/>
                    <a:pt x="181" y="180"/>
                  </a:cubicBezTo>
                  <a:cubicBezTo>
                    <a:pt x="174" y="180"/>
                    <a:pt x="168" y="180"/>
                    <a:pt x="162" y="180"/>
                  </a:cubicBezTo>
                  <a:cubicBezTo>
                    <a:pt x="157" y="180"/>
                    <a:pt x="153" y="180"/>
                    <a:pt x="149" y="180"/>
                  </a:cubicBezTo>
                  <a:cubicBezTo>
                    <a:pt x="140" y="180"/>
                    <a:pt x="132" y="180"/>
                    <a:pt x="123" y="179"/>
                  </a:cubicBezTo>
                  <a:cubicBezTo>
                    <a:pt x="100" y="179"/>
                    <a:pt x="59" y="180"/>
                    <a:pt x="47" y="179"/>
                  </a:cubicBezTo>
                  <a:cubicBezTo>
                    <a:pt x="39" y="179"/>
                    <a:pt x="38" y="178"/>
                    <a:pt x="40" y="177"/>
                  </a:cubicBezTo>
                  <a:cubicBezTo>
                    <a:pt x="78" y="177"/>
                    <a:pt x="116" y="178"/>
                    <a:pt x="154" y="178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9" y="115"/>
                    <a:pt x="179" y="115"/>
                    <a:pt x="179" y="115"/>
                  </a:cubicBezTo>
                  <a:cubicBezTo>
                    <a:pt x="179" y="95"/>
                    <a:pt x="179" y="75"/>
                    <a:pt x="179" y="55"/>
                  </a:cubicBezTo>
                  <a:cubicBezTo>
                    <a:pt x="179" y="74"/>
                    <a:pt x="179" y="94"/>
                    <a:pt x="179" y="114"/>
                  </a:cubicBezTo>
                  <a:cubicBezTo>
                    <a:pt x="179" y="135"/>
                    <a:pt x="178" y="156"/>
                    <a:pt x="178" y="178"/>
                  </a:cubicBezTo>
                  <a:cubicBezTo>
                    <a:pt x="170" y="178"/>
                    <a:pt x="162" y="178"/>
                    <a:pt x="154" y="178"/>
                  </a:cubicBezTo>
                  <a:cubicBezTo>
                    <a:pt x="117" y="177"/>
                    <a:pt x="79" y="177"/>
                    <a:pt x="41" y="177"/>
                  </a:cubicBezTo>
                  <a:cubicBezTo>
                    <a:pt x="42" y="176"/>
                    <a:pt x="43" y="176"/>
                    <a:pt x="41" y="175"/>
                  </a:cubicBezTo>
                  <a:cubicBezTo>
                    <a:pt x="24" y="175"/>
                    <a:pt x="24" y="175"/>
                    <a:pt x="24" y="175"/>
                  </a:cubicBezTo>
                  <a:cubicBezTo>
                    <a:pt x="0" y="174"/>
                    <a:pt x="6" y="171"/>
                    <a:pt x="18" y="170"/>
                  </a:cubicBezTo>
                  <a:cubicBezTo>
                    <a:pt x="21" y="170"/>
                    <a:pt x="24" y="169"/>
                    <a:pt x="28" y="16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1" name="Freeform 27"/>
            <p:cNvSpPr/>
            <p:nvPr/>
          </p:nvSpPr>
          <p:spPr>
            <a:xfrm>
              <a:off x="5627520" y="2546280"/>
              <a:ext cx="939960" cy="968400"/>
            </a:xfrm>
            <a:custGeom>
              <a:avLst/>
              <a:gdLst/>
              <a:ahLst/>
              <a:rect l="l" t="t" r="r" b="b"/>
              <a:pathLst>
                <a:path w="181" h="190">
                  <a:moveTo>
                    <a:pt x="169" y="159"/>
                  </a:moveTo>
                  <a:cubicBezTo>
                    <a:pt x="169" y="157"/>
                    <a:pt x="169" y="155"/>
                    <a:pt x="169" y="153"/>
                  </a:cubicBezTo>
                  <a:cubicBezTo>
                    <a:pt x="170" y="113"/>
                    <a:pt x="170" y="74"/>
                    <a:pt x="171" y="30"/>
                  </a:cubicBezTo>
                  <a:cubicBezTo>
                    <a:pt x="171" y="24"/>
                    <a:pt x="171" y="17"/>
                    <a:pt x="171" y="11"/>
                  </a:cubicBezTo>
                  <a:cubicBezTo>
                    <a:pt x="169" y="11"/>
                    <a:pt x="167" y="11"/>
                    <a:pt x="165" y="11"/>
                  </a:cubicBezTo>
                  <a:cubicBezTo>
                    <a:pt x="162" y="11"/>
                    <a:pt x="159" y="11"/>
                    <a:pt x="156" y="11"/>
                  </a:cubicBezTo>
                  <a:cubicBezTo>
                    <a:pt x="150" y="11"/>
                    <a:pt x="143" y="11"/>
                    <a:pt x="137" y="11"/>
                  </a:cubicBezTo>
                  <a:cubicBezTo>
                    <a:pt x="124" y="11"/>
                    <a:pt x="112" y="11"/>
                    <a:pt x="100" y="11"/>
                  </a:cubicBezTo>
                  <a:cubicBezTo>
                    <a:pt x="123" y="11"/>
                    <a:pt x="147" y="11"/>
                    <a:pt x="170" y="11"/>
                  </a:cubicBezTo>
                  <a:cubicBezTo>
                    <a:pt x="170" y="34"/>
                    <a:pt x="170" y="58"/>
                    <a:pt x="170" y="81"/>
                  </a:cubicBezTo>
                  <a:cubicBezTo>
                    <a:pt x="170" y="105"/>
                    <a:pt x="169" y="129"/>
                    <a:pt x="168" y="153"/>
                  </a:cubicBezTo>
                  <a:cubicBezTo>
                    <a:pt x="168" y="145"/>
                    <a:pt x="167" y="137"/>
                    <a:pt x="167" y="127"/>
                  </a:cubicBezTo>
                  <a:cubicBezTo>
                    <a:pt x="167" y="103"/>
                    <a:pt x="168" y="80"/>
                    <a:pt x="168" y="57"/>
                  </a:cubicBezTo>
                  <a:cubicBezTo>
                    <a:pt x="169" y="57"/>
                    <a:pt x="169" y="57"/>
                    <a:pt x="169" y="57"/>
                  </a:cubicBezTo>
                  <a:cubicBezTo>
                    <a:pt x="169" y="48"/>
                    <a:pt x="169" y="40"/>
                    <a:pt x="169" y="32"/>
                  </a:cubicBezTo>
                  <a:cubicBezTo>
                    <a:pt x="169" y="28"/>
                    <a:pt x="169" y="24"/>
                    <a:pt x="169" y="19"/>
                  </a:cubicBezTo>
                  <a:cubicBezTo>
                    <a:pt x="169" y="14"/>
                    <a:pt x="169" y="14"/>
                    <a:pt x="169" y="14"/>
                  </a:cubicBezTo>
                  <a:cubicBezTo>
                    <a:pt x="169" y="13"/>
                    <a:pt x="169" y="13"/>
                    <a:pt x="169" y="13"/>
                  </a:cubicBezTo>
                  <a:cubicBezTo>
                    <a:pt x="147" y="13"/>
                    <a:pt x="125" y="12"/>
                    <a:pt x="103" y="12"/>
                  </a:cubicBezTo>
                  <a:cubicBezTo>
                    <a:pt x="79" y="12"/>
                    <a:pt x="55" y="12"/>
                    <a:pt x="31" y="13"/>
                  </a:cubicBezTo>
                  <a:cubicBezTo>
                    <a:pt x="33" y="13"/>
                    <a:pt x="32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31" y="13"/>
                    <a:pt x="35" y="13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56" y="13"/>
                    <a:pt x="80" y="13"/>
                    <a:pt x="103" y="13"/>
                  </a:cubicBezTo>
                  <a:cubicBezTo>
                    <a:pt x="115" y="13"/>
                    <a:pt x="127" y="13"/>
                    <a:pt x="139" y="13"/>
                  </a:cubicBezTo>
                  <a:cubicBezTo>
                    <a:pt x="145" y="13"/>
                    <a:pt x="151" y="13"/>
                    <a:pt x="157" y="13"/>
                  </a:cubicBezTo>
                  <a:cubicBezTo>
                    <a:pt x="160" y="13"/>
                    <a:pt x="163" y="13"/>
                    <a:pt x="166" y="13"/>
                  </a:cubicBezTo>
                  <a:cubicBezTo>
                    <a:pt x="167" y="13"/>
                    <a:pt x="167" y="13"/>
                    <a:pt x="167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4"/>
                    <a:pt x="168" y="14"/>
                    <a:pt x="168" y="14"/>
                  </a:cubicBezTo>
                  <a:cubicBezTo>
                    <a:pt x="168" y="16"/>
                    <a:pt x="168" y="16"/>
                    <a:pt x="168" y="16"/>
                  </a:cubicBezTo>
                  <a:cubicBezTo>
                    <a:pt x="168" y="19"/>
                    <a:pt x="168" y="19"/>
                    <a:pt x="168" y="19"/>
                  </a:cubicBezTo>
                  <a:cubicBezTo>
                    <a:pt x="168" y="23"/>
                    <a:pt x="168" y="27"/>
                    <a:pt x="168" y="31"/>
                  </a:cubicBezTo>
                  <a:cubicBezTo>
                    <a:pt x="168" y="38"/>
                    <a:pt x="168" y="46"/>
                    <a:pt x="168" y="54"/>
                  </a:cubicBezTo>
                  <a:cubicBezTo>
                    <a:pt x="168" y="41"/>
                    <a:pt x="168" y="27"/>
                    <a:pt x="168" y="14"/>
                  </a:cubicBezTo>
                  <a:cubicBezTo>
                    <a:pt x="142" y="14"/>
                    <a:pt x="117" y="14"/>
                    <a:pt x="91" y="14"/>
                  </a:cubicBezTo>
                  <a:cubicBezTo>
                    <a:pt x="65" y="14"/>
                    <a:pt x="40" y="14"/>
                    <a:pt x="14" y="14"/>
                  </a:cubicBezTo>
                  <a:cubicBezTo>
                    <a:pt x="14" y="40"/>
                    <a:pt x="14" y="66"/>
                    <a:pt x="14" y="93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3" y="128"/>
                    <a:pt x="13" y="146"/>
                    <a:pt x="13" y="163"/>
                  </a:cubicBezTo>
                  <a:cubicBezTo>
                    <a:pt x="11" y="159"/>
                    <a:pt x="8" y="177"/>
                    <a:pt x="9" y="141"/>
                  </a:cubicBezTo>
                  <a:cubicBezTo>
                    <a:pt x="8" y="141"/>
                    <a:pt x="8" y="141"/>
                    <a:pt x="8" y="141"/>
                  </a:cubicBezTo>
                  <a:cubicBezTo>
                    <a:pt x="6" y="177"/>
                    <a:pt x="2" y="190"/>
                    <a:pt x="1" y="155"/>
                  </a:cubicBezTo>
                  <a:cubicBezTo>
                    <a:pt x="0" y="135"/>
                    <a:pt x="0" y="112"/>
                    <a:pt x="0" y="88"/>
                  </a:cubicBezTo>
                  <a:cubicBezTo>
                    <a:pt x="0" y="76"/>
                    <a:pt x="0" y="63"/>
                    <a:pt x="0" y="51"/>
                  </a:cubicBezTo>
                  <a:cubicBezTo>
                    <a:pt x="0" y="45"/>
                    <a:pt x="0" y="38"/>
                    <a:pt x="0" y="32"/>
                  </a:cubicBezTo>
                  <a:cubicBezTo>
                    <a:pt x="0" y="26"/>
                    <a:pt x="0" y="20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0"/>
                    <a:pt x="38" y="0"/>
                    <a:pt x="56" y="0"/>
                  </a:cubicBezTo>
                  <a:cubicBezTo>
                    <a:pt x="73" y="0"/>
                    <a:pt x="89" y="0"/>
                    <a:pt x="106" y="0"/>
                  </a:cubicBezTo>
                  <a:cubicBezTo>
                    <a:pt x="117" y="0"/>
                    <a:pt x="128" y="0"/>
                    <a:pt x="140" y="1"/>
                  </a:cubicBezTo>
                  <a:cubicBezTo>
                    <a:pt x="153" y="1"/>
                    <a:pt x="167" y="1"/>
                    <a:pt x="181" y="1"/>
                  </a:cubicBezTo>
                  <a:cubicBezTo>
                    <a:pt x="181" y="10"/>
                    <a:pt x="181" y="19"/>
                    <a:pt x="181" y="27"/>
                  </a:cubicBezTo>
                  <a:cubicBezTo>
                    <a:pt x="180" y="34"/>
                    <a:pt x="180" y="41"/>
                    <a:pt x="180" y="48"/>
                  </a:cubicBezTo>
                  <a:cubicBezTo>
                    <a:pt x="180" y="61"/>
                    <a:pt x="180" y="75"/>
                    <a:pt x="180" y="88"/>
                  </a:cubicBezTo>
                  <a:cubicBezTo>
                    <a:pt x="179" y="105"/>
                    <a:pt x="180" y="136"/>
                    <a:pt x="179" y="145"/>
                  </a:cubicBezTo>
                  <a:cubicBezTo>
                    <a:pt x="179" y="151"/>
                    <a:pt x="178" y="151"/>
                    <a:pt x="178" y="150"/>
                  </a:cubicBezTo>
                  <a:cubicBezTo>
                    <a:pt x="178" y="121"/>
                    <a:pt x="178" y="93"/>
                    <a:pt x="178" y="64"/>
                  </a:cubicBezTo>
                  <a:cubicBezTo>
                    <a:pt x="178" y="44"/>
                    <a:pt x="178" y="23"/>
                    <a:pt x="178" y="3"/>
                  </a:cubicBezTo>
                  <a:cubicBezTo>
                    <a:pt x="151" y="3"/>
                    <a:pt x="151" y="3"/>
                    <a:pt x="151" y="3"/>
                  </a:cubicBezTo>
                  <a:cubicBezTo>
                    <a:pt x="143" y="3"/>
                    <a:pt x="135" y="3"/>
                    <a:pt x="127" y="2"/>
                  </a:cubicBezTo>
                  <a:cubicBezTo>
                    <a:pt x="135" y="3"/>
                    <a:pt x="143" y="3"/>
                    <a:pt x="151" y="3"/>
                  </a:cubicBezTo>
                  <a:cubicBezTo>
                    <a:pt x="154" y="3"/>
                    <a:pt x="158" y="3"/>
                    <a:pt x="162" y="3"/>
                  </a:cubicBezTo>
                  <a:cubicBezTo>
                    <a:pt x="168" y="3"/>
                    <a:pt x="173" y="3"/>
                    <a:pt x="178" y="3"/>
                  </a:cubicBezTo>
                  <a:cubicBezTo>
                    <a:pt x="178" y="23"/>
                    <a:pt x="178" y="44"/>
                    <a:pt x="178" y="64"/>
                  </a:cubicBezTo>
                  <a:cubicBezTo>
                    <a:pt x="178" y="93"/>
                    <a:pt x="177" y="121"/>
                    <a:pt x="177" y="149"/>
                  </a:cubicBezTo>
                  <a:cubicBezTo>
                    <a:pt x="176" y="148"/>
                    <a:pt x="176" y="147"/>
                    <a:pt x="175" y="149"/>
                  </a:cubicBezTo>
                  <a:cubicBezTo>
                    <a:pt x="175" y="162"/>
                    <a:pt x="175" y="162"/>
                    <a:pt x="175" y="162"/>
                  </a:cubicBezTo>
                  <a:cubicBezTo>
                    <a:pt x="174" y="180"/>
                    <a:pt x="172" y="176"/>
                    <a:pt x="170" y="167"/>
                  </a:cubicBezTo>
                  <a:cubicBezTo>
                    <a:pt x="170" y="164"/>
                    <a:pt x="170" y="162"/>
                    <a:pt x="169" y="159"/>
                  </a:cubicBezTo>
                </a:path>
              </a:pathLst>
            </a:custGeom>
            <a:solidFill>
              <a:srgbClr val="e6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5487480" y="3700080"/>
              <a:ext cx="114120" cy="41256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2" y="78"/>
                  </a:moveTo>
                  <a:cubicBezTo>
                    <a:pt x="2" y="78"/>
                    <a:pt x="2" y="77"/>
                    <a:pt x="2" y="77"/>
                  </a:cubicBezTo>
                  <a:cubicBezTo>
                    <a:pt x="3" y="70"/>
                    <a:pt x="3" y="64"/>
                    <a:pt x="4" y="57"/>
                  </a:cubicBezTo>
                  <a:cubicBezTo>
                    <a:pt x="5" y="52"/>
                    <a:pt x="5" y="46"/>
                    <a:pt x="6" y="42"/>
                  </a:cubicBezTo>
                  <a:cubicBezTo>
                    <a:pt x="4" y="53"/>
                    <a:pt x="3" y="65"/>
                    <a:pt x="1" y="77"/>
                  </a:cubicBezTo>
                  <a:cubicBezTo>
                    <a:pt x="0" y="76"/>
                    <a:pt x="0" y="74"/>
                    <a:pt x="0" y="73"/>
                  </a:cubicBezTo>
                  <a:cubicBezTo>
                    <a:pt x="0" y="69"/>
                    <a:pt x="1" y="65"/>
                    <a:pt x="1" y="61"/>
                  </a:cubicBezTo>
                  <a:cubicBezTo>
                    <a:pt x="1" y="61"/>
                    <a:pt x="2" y="61"/>
                    <a:pt x="2" y="61"/>
                  </a:cubicBezTo>
                  <a:cubicBezTo>
                    <a:pt x="2" y="51"/>
                    <a:pt x="5" y="41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4" y="30"/>
                    <a:pt x="4" y="31"/>
                  </a:cubicBezTo>
                  <a:cubicBezTo>
                    <a:pt x="4" y="30"/>
                    <a:pt x="5" y="30"/>
                    <a:pt x="5" y="30"/>
                  </a:cubicBezTo>
                  <a:cubicBezTo>
                    <a:pt x="4" y="41"/>
                    <a:pt x="2" y="50"/>
                    <a:pt x="1" y="61"/>
                  </a:cubicBezTo>
                  <a:cubicBezTo>
                    <a:pt x="3" y="45"/>
                    <a:pt x="4" y="29"/>
                    <a:pt x="7" y="12"/>
                  </a:cubicBezTo>
                  <a:cubicBezTo>
                    <a:pt x="7" y="12"/>
                    <a:pt x="7" y="10"/>
                    <a:pt x="8" y="10"/>
                  </a:cubicBezTo>
                  <a:cubicBezTo>
                    <a:pt x="9" y="7"/>
                    <a:pt x="10" y="4"/>
                    <a:pt x="10" y="1"/>
                  </a:cubicBezTo>
                  <a:cubicBezTo>
                    <a:pt x="12" y="2"/>
                    <a:pt x="15" y="0"/>
                    <a:pt x="13" y="6"/>
                  </a:cubicBezTo>
                  <a:cubicBezTo>
                    <a:pt x="14" y="6"/>
                    <a:pt x="14" y="6"/>
                    <a:pt x="15" y="6"/>
                  </a:cubicBezTo>
                  <a:cubicBezTo>
                    <a:pt x="17" y="1"/>
                    <a:pt x="22" y="0"/>
                    <a:pt x="22" y="5"/>
                  </a:cubicBezTo>
                  <a:cubicBezTo>
                    <a:pt x="22" y="12"/>
                    <a:pt x="19" y="19"/>
                    <a:pt x="18" y="27"/>
                  </a:cubicBezTo>
                  <a:cubicBezTo>
                    <a:pt x="18" y="33"/>
                    <a:pt x="17" y="38"/>
                    <a:pt x="16" y="43"/>
                  </a:cubicBezTo>
                  <a:cubicBezTo>
                    <a:pt x="15" y="51"/>
                    <a:pt x="14" y="59"/>
                    <a:pt x="13" y="67"/>
                  </a:cubicBezTo>
                  <a:cubicBezTo>
                    <a:pt x="12" y="70"/>
                    <a:pt x="13" y="74"/>
                    <a:pt x="12" y="76"/>
                  </a:cubicBezTo>
                  <a:cubicBezTo>
                    <a:pt x="12" y="77"/>
                    <a:pt x="11" y="77"/>
                    <a:pt x="10" y="77"/>
                  </a:cubicBezTo>
                  <a:cubicBezTo>
                    <a:pt x="10" y="72"/>
                    <a:pt x="11" y="67"/>
                    <a:pt x="11" y="63"/>
                  </a:cubicBezTo>
                  <a:cubicBezTo>
                    <a:pt x="12" y="57"/>
                    <a:pt x="12" y="52"/>
                    <a:pt x="14" y="47"/>
                  </a:cubicBezTo>
                  <a:cubicBezTo>
                    <a:pt x="12" y="52"/>
                    <a:pt x="12" y="57"/>
                    <a:pt x="11" y="63"/>
                  </a:cubicBezTo>
                  <a:cubicBezTo>
                    <a:pt x="11" y="67"/>
                    <a:pt x="10" y="72"/>
                    <a:pt x="10" y="76"/>
                  </a:cubicBezTo>
                  <a:cubicBezTo>
                    <a:pt x="9" y="76"/>
                    <a:pt x="8" y="76"/>
                    <a:pt x="8" y="76"/>
                  </a:cubicBezTo>
                  <a:cubicBezTo>
                    <a:pt x="8" y="76"/>
                    <a:pt x="8" y="78"/>
                    <a:pt x="8" y="78"/>
                  </a:cubicBezTo>
                  <a:cubicBezTo>
                    <a:pt x="6" y="81"/>
                    <a:pt x="4" y="81"/>
                    <a:pt x="3" y="79"/>
                  </a:cubicBezTo>
                  <a:cubicBezTo>
                    <a:pt x="2" y="79"/>
                    <a:pt x="2" y="78"/>
                    <a:pt x="2" y="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5456880" y="3627000"/>
              <a:ext cx="373320" cy="53712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14" y="96"/>
                  </a:moveTo>
                  <a:cubicBezTo>
                    <a:pt x="14" y="96"/>
                    <a:pt x="15" y="96"/>
                    <a:pt x="16" y="95"/>
                  </a:cubicBezTo>
                  <a:cubicBezTo>
                    <a:pt x="17" y="95"/>
                    <a:pt x="19" y="95"/>
                    <a:pt x="21" y="94"/>
                  </a:cubicBezTo>
                  <a:cubicBezTo>
                    <a:pt x="23" y="94"/>
                    <a:pt x="25" y="93"/>
                    <a:pt x="27" y="92"/>
                  </a:cubicBezTo>
                  <a:cubicBezTo>
                    <a:pt x="31" y="91"/>
                    <a:pt x="35" y="90"/>
                    <a:pt x="38" y="89"/>
                  </a:cubicBezTo>
                  <a:cubicBezTo>
                    <a:pt x="42" y="87"/>
                    <a:pt x="46" y="86"/>
                    <a:pt x="49" y="84"/>
                  </a:cubicBezTo>
                  <a:cubicBezTo>
                    <a:pt x="53" y="82"/>
                    <a:pt x="56" y="80"/>
                    <a:pt x="58" y="77"/>
                  </a:cubicBezTo>
                  <a:cubicBezTo>
                    <a:pt x="61" y="73"/>
                    <a:pt x="63" y="67"/>
                    <a:pt x="61" y="62"/>
                  </a:cubicBezTo>
                  <a:cubicBezTo>
                    <a:pt x="60" y="59"/>
                    <a:pt x="59" y="57"/>
                    <a:pt x="56" y="56"/>
                  </a:cubicBezTo>
                  <a:cubicBezTo>
                    <a:pt x="55" y="55"/>
                    <a:pt x="54" y="55"/>
                    <a:pt x="53" y="54"/>
                  </a:cubicBezTo>
                  <a:cubicBezTo>
                    <a:pt x="52" y="54"/>
                    <a:pt x="51" y="54"/>
                    <a:pt x="51" y="53"/>
                  </a:cubicBezTo>
                  <a:cubicBezTo>
                    <a:pt x="50" y="53"/>
                    <a:pt x="48" y="53"/>
                    <a:pt x="47" y="53"/>
                  </a:cubicBezTo>
                  <a:cubicBezTo>
                    <a:pt x="48" y="53"/>
                    <a:pt x="49" y="53"/>
                    <a:pt x="49" y="53"/>
                  </a:cubicBezTo>
                  <a:cubicBezTo>
                    <a:pt x="50" y="53"/>
                    <a:pt x="51" y="54"/>
                    <a:pt x="51" y="54"/>
                  </a:cubicBezTo>
                  <a:cubicBezTo>
                    <a:pt x="52" y="54"/>
                    <a:pt x="52" y="54"/>
                    <a:pt x="53" y="54"/>
                  </a:cubicBezTo>
                  <a:cubicBezTo>
                    <a:pt x="55" y="55"/>
                    <a:pt x="56" y="56"/>
                    <a:pt x="57" y="57"/>
                  </a:cubicBezTo>
                  <a:cubicBezTo>
                    <a:pt x="59" y="59"/>
                    <a:pt x="61" y="61"/>
                    <a:pt x="61" y="64"/>
                  </a:cubicBezTo>
                  <a:cubicBezTo>
                    <a:pt x="62" y="67"/>
                    <a:pt x="61" y="70"/>
                    <a:pt x="60" y="73"/>
                  </a:cubicBezTo>
                  <a:cubicBezTo>
                    <a:pt x="59" y="76"/>
                    <a:pt x="57" y="78"/>
                    <a:pt x="54" y="80"/>
                  </a:cubicBezTo>
                  <a:cubicBezTo>
                    <a:pt x="49" y="84"/>
                    <a:pt x="43" y="87"/>
                    <a:pt x="36" y="89"/>
                  </a:cubicBezTo>
                  <a:cubicBezTo>
                    <a:pt x="32" y="90"/>
                    <a:pt x="29" y="91"/>
                    <a:pt x="25" y="92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18" y="94"/>
                    <a:pt x="17" y="94"/>
                    <a:pt x="16" y="95"/>
                  </a:cubicBezTo>
                  <a:cubicBezTo>
                    <a:pt x="17" y="94"/>
                    <a:pt x="18" y="93"/>
                    <a:pt x="19" y="93"/>
                  </a:cubicBezTo>
                  <a:cubicBezTo>
                    <a:pt x="21" y="92"/>
                    <a:pt x="22" y="91"/>
                    <a:pt x="24" y="90"/>
                  </a:cubicBezTo>
                  <a:cubicBezTo>
                    <a:pt x="29" y="89"/>
                    <a:pt x="33" y="88"/>
                    <a:pt x="38" y="86"/>
                  </a:cubicBezTo>
                  <a:cubicBezTo>
                    <a:pt x="42" y="85"/>
                    <a:pt x="46" y="83"/>
                    <a:pt x="49" y="81"/>
                  </a:cubicBezTo>
                  <a:cubicBezTo>
                    <a:pt x="50" y="81"/>
                    <a:pt x="50" y="82"/>
                    <a:pt x="50" y="82"/>
                  </a:cubicBezTo>
                  <a:cubicBezTo>
                    <a:pt x="52" y="80"/>
                    <a:pt x="54" y="79"/>
                    <a:pt x="55" y="77"/>
                  </a:cubicBezTo>
                  <a:cubicBezTo>
                    <a:pt x="57" y="76"/>
                    <a:pt x="58" y="74"/>
                    <a:pt x="59" y="72"/>
                  </a:cubicBezTo>
                  <a:cubicBezTo>
                    <a:pt x="60" y="68"/>
                    <a:pt x="60" y="64"/>
                    <a:pt x="59" y="61"/>
                  </a:cubicBezTo>
                  <a:cubicBezTo>
                    <a:pt x="58" y="59"/>
                    <a:pt x="57" y="58"/>
                    <a:pt x="55" y="57"/>
                  </a:cubicBezTo>
                  <a:cubicBezTo>
                    <a:pt x="54" y="56"/>
                    <a:pt x="53" y="56"/>
                    <a:pt x="52" y="55"/>
                  </a:cubicBezTo>
                  <a:cubicBezTo>
                    <a:pt x="52" y="55"/>
                    <a:pt x="51" y="55"/>
                    <a:pt x="50" y="55"/>
                  </a:cubicBezTo>
                  <a:cubicBezTo>
                    <a:pt x="50" y="55"/>
                    <a:pt x="50" y="55"/>
                    <a:pt x="50" y="55"/>
                  </a:cubicBezTo>
                  <a:cubicBezTo>
                    <a:pt x="50" y="55"/>
                    <a:pt x="49" y="55"/>
                    <a:pt x="49" y="55"/>
                  </a:cubicBezTo>
                  <a:cubicBezTo>
                    <a:pt x="48" y="54"/>
                    <a:pt x="48" y="54"/>
                    <a:pt x="47" y="54"/>
                  </a:cubicBezTo>
                  <a:cubicBezTo>
                    <a:pt x="45" y="54"/>
                    <a:pt x="42" y="54"/>
                    <a:pt x="39" y="54"/>
                  </a:cubicBezTo>
                  <a:cubicBezTo>
                    <a:pt x="36" y="55"/>
                    <a:pt x="32" y="55"/>
                    <a:pt x="29" y="56"/>
                  </a:cubicBezTo>
                  <a:cubicBezTo>
                    <a:pt x="21" y="56"/>
                    <a:pt x="14" y="57"/>
                    <a:pt x="7" y="58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9" y="57"/>
                  </a:cubicBezTo>
                  <a:cubicBezTo>
                    <a:pt x="9" y="57"/>
                    <a:pt x="9" y="57"/>
                    <a:pt x="10" y="57"/>
                  </a:cubicBezTo>
                  <a:cubicBezTo>
                    <a:pt x="10" y="56"/>
                    <a:pt x="10" y="56"/>
                    <a:pt x="10" y="56"/>
                  </a:cubicBezTo>
                  <a:cubicBezTo>
                    <a:pt x="12" y="55"/>
                    <a:pt x="13" y="54"/>
                    <a:pt x="15" y="53"/>
                  </a:cubicBezTo>
                  <a:cubicBezTo>
                    <a:pt x="18" y="51"/>
                    <a:pt x="22" y="49"/>
                    <a:pt x="25" y="47"/>
                  </a:cubicBezTo>
                  <a:cubicBezTo>
                    <a:pt x="23" y="48"/>
                    <a:pt x="23" y="48"/>
                    <a:pt x="23" y="47"/>
                  </a:cubicBezTo>
                  <a:cubicBezTo>
                    <a:pt x="23" y="47"/>
                    <a:pt x="24" y="47"/>
                    <a:pt x="24" y="47"/>
                  </a:cubicBezTo>
                  <a:cubicBezTo>
                    <a:pt x="24" y="47"/>
                    <a:pt x="23" y="47"/>
                    <a:pt x="23" y="47"/>
                  </a:cubicBezTo>
                  <a:cubicBezTo>
                    <a:pt x="23" y="47"/>
                    <a:pt x="23" y="47"/>
                    <a:pt x="19" y="49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19" y="50"/>
                    <a:pt x="16" y="52"/>
                    <a:pt x="12" y="54"/>
                  </a:cubicBezTo>
                  <a:cubicBezTo>
                    <a:pt x="10" y="55"/>
                    <a:pt x="8" y="56"/>
                    <a:pt x="7" y="57"/>
                  </a:cubicBezTo>
                  <a:cubicBezTo>
                    <a:pt x="6" y="58"/>
                    <a:pt x="6" y="58"/>
                    <a:pt x="6" y="58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5" y="59"/>
                    <a:pt x="5" y="59"/>
                    <a:pt x="5" y="59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0" y="59"/>
                    <a:pt x="18" y="58"/>
                    <a:pt x="26" y="57"/>
                  </a:cubicBezTo>
                  <a:cubicBezTo>
                    <a:pt x="30" y="56"/>
                    <a:pt x="33" y="56"/>
                    <a:pt x="37" y="55"/>
                  </a:cubicBezTo>
                  <a:cubicBezTo>
                    <a:pt x="41" y="55"/>
                    <a:pt x="44" y="55"/>
                    <a:pt x="46" y="55"/>
                  </a:cubicBezTo>
                  <a:cubicBezTo>
                    <a:pt x="47" y="55"/>
                    <a:pt x="48" y="55"/>
                    <a:pt x="48" y="55"/>
                  </a:cubicBezTo>
                  <a:cubicBezTo>
                    <a:pt x="49" y="55"/>
                    <a:pt x="50" y="56"/>
                    <a:pt x="50" y="56"/>
                  </a:cubicBezTo>
                  <a:cubicBezTo>
                    <a:pt x="51" y="56"/>
                    <a:pt x="51" y="56"/>
                    <a:pt x="51" y="56"/>
                  </a:cubicBezTo>
                  <a:cubicBezTo>
                    <a:pt x="52" y="57"/>
                    <a:pt x="53" y="57"/>
                    <a:pt x="54" y="57"/>
                  </a:cubicBezTo>
                  <a:cubicBezTo>
                    <a:pt x="56" y="58"/>
                    <a:pt x="57" y="60"/>
                    <a:pt x="58" y="61"/>
                  </a:cubicBezTo>
                  <a:cubicBezTo>
                    <a:pt x="59" y="62"/>
                    <a:pt x="59" y="64"/>
                    <a:pt x="59" y="66"/>
                  </a:cubicBezTo>
                  <a:cubicBezTo>
                    <a:pt x="59" y="67"/>
                    <a:pt x="59" y="69"/>
                    <a:pt x="58" y="71"/>
                  </a:cubicBezTo>
                  <a:cubicBezTo>
                    <a:pt x="57" y="73"/>
                    <a:pt x="56" y="75"/>
                    <a:pt x="55" y="76"/>
                  </a:cubicBezTo>
                  <a:cubicBezTo>
                    <a:pt x="54" y="78"/>
                    <a:pt x="52" y="79"/>
                    <a:pt x="50" y="80"/>
                  </a:cubicBezTo>
                  <a:cubicBezTo>
                    <a:pt x="52" y="79"/>
                    <a:pt x="54" y="78"/>
                    <a:pt x="55" y="76"/>
                  </a:cubicBezTo>
                  <a:cubicBezTo>
                    <a:pt x="56" y="75"/>
                    <a:pt x="57" y="73"/>
                    <a:pt x="58" y="71"/>
                  </a:cubicBezTo>
                  <a:cubicBezTo>
                    <a:pt x="59" y="69"/>
                    <a:pt x="59" y="67"/>
                    <a:pt x="59" y="66"/>
                  </a:cubicBezTo>
                  <a:cubicBezTo>
                    <a:pt x="59" y="64"/>
                    <a:pt x="58" y="63"/>
                    <a:pt x="58" y="61"/>
                  </a:cubicBezTo>
                  <a:cubicBezTo>
                    <a:pt x="57" y="60"/>
                    <a:pt x="56" y="59"/>
                    <a:pt x="54" y="58"/>
                  </a:cubicBezTo>
                  <a:cubicBezTo>
                    <a:pt x="53" y="57"/>
                    <a:pt x="52" y="57"/>
                    <a:pt x="51" y="57"/>
                  </a:cubicBezTo>
                  <a:cubicBezTo>
                    <a:pt x="51" y="56"/>
                    <a:pt x="50" y="56"/>
                    <a:pt x="50" y="56"/>
                  </a:cubicBezTo>
                  <a:cubicBezTo>
                    <a:pt x="49" y="56"/>
                    <a:pt x="49" y="56"/>
                    <a:pt x="48" y="56"/>
                  </a:cubicBezTo>
                  <a:cubicBezTo>
                    <a:pt x="47" y="56"/>
                    <a:pt x="47" y="56"/>
                    <a:pt x="46" y="55"/>
                  </a:cubicBezTo>
                  <a:cubicBezTo>
                    <a:pt x="43" y="55"/>
                    <a:pt x="40" y="55"/>
                    <a:pt x="36" y="56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16" y="59"/>
                    <a:pt x="8" y="60"/>
                    <a:pt x="0" y="61"/>
                  </a:cubicBezTo>
                  <a:cubicBezTo>
                    <a:pt x="3" y="59"/>
                    <a:pt x="3" y="59"/>
                    <a:pt x="3" y="59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7" y="51"/>
                    <a:pt x="21" y="48"/>
                    <a:pt x="26" y="45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7" y="38"/>
                    <a:pt x="38" y="37"/>
                    <a:pt x="39" y="37"/>
                  </a:cubicBezTo>
                  <a:cubicBezTo>
                    <a:pt x="40" y="36"/>
                    <a:pt x="41" y="35"/>
                    <a:pt x="42" y="35"/>
                  </a:cubicBezTo>
                  <a:cubicBezTo>
                    <a:pt x="43" y="33"/>
                    <a:pt x="43" y="33"/>
                    <a:pt x="43" y="33"/>
                  </a:cubicBezTo>
                  <a:cubicBezTo>
                    <a:pt x="43" y="33"/>
                    <a:pt x="44" y="33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5" y="32"/>
                    <a:pt x="46" y="31"/>
                    <a:pt x="46" y="30"/>
                  </a:cubicBezTo>
                  <a:cubicBezTo>
                    <a:pt x="49" y="27"/>
                    <a:pt x="51" y="24"/>
                    <a:pt x="51" y="21"/>
                  </a:cubicBezTo>
                  <a:cubicBezTo>
                    <a:pt x="52" y="20"/>
                    <a:pt x="52" y="19"/>
                    <a:pt x="51" y="18"/>
                  </a:cubicBezTo>
                  <a:cubicBezTo>
                    <a:pt x="51" y="17"/>
                    <a:pt x="50" y="16"/>
                    <a:pt x="49" y="16"/>
                  </a:cubicBezTo>
                  <a:cubicBezTo>
                    <a:pt x="49" y="15"/>
                    <a:pt x="48" y="15"/>
                    <a:pt x="47" y="15"/>
                  </a:cubicBezTo>
                  <a:cubicBezTo>
                    <a:pt x="47" y="14"/>
                    <a:pt x="46" y="14"/>
                    <a:pt x="45" y="14"/>
                  </a:cubicBezTo>
                  <a:cubicBezTo>
                    <a:pt x="43" y="13"/>
                    <a:pt x="40" y="13"/>
                    <a:pt x="36" y="14"/>
                  </a:cubicBezTo>
                  <a:cubicBezTo>
                    <a:pt x="33" y="14"/>
                    <a:pt x="31" y="15"/>
                    <a:pt x="28" y="16"/>
                  </a:cubicBezTo>
                  <a:cubicBezTo>
                    <a:pt x="28" y="15"/>
                    <a:pt x="27" y="15"/>
                    <a:pt x="27" y="14"/>
                  </a:cubicBezTo>
                  <a:cubicBezTo>
                    <a:pt x="27" y="14"/>
                    <a:pt x="27" y="13"/>
                    <a:pt x="28" y="12"/>
                  </a:cubicBezTo>
                  <a:cubicBezTo>
                    <a:pt x="29" y="11"/>
                    <a:pt x="31" y="10"/>
                    <a:pt x="34" y="10"/>
                  </a:cubicBezTo>
                  <a:cubicBezTo>
                    <a:pt x="34" y="10"/>
                    <a:pt x="34" y="9"/>
                    <a:pt x="34" y="9"/>
                  </a:cubicBezTo>
                  <a:cubicBezTo>
                    <a:pt x="30" y="9"/>
                    <a:pt x="27" y="10"/>
                    <a:pt x="25" y="11"/>
                  </a:cubicBezTo>
                  <a:cubicBezTo>
                    <a:pt x="23" y="11"/>
                    <a:pt x="21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20" y="8"/>
                    <a:pt x="22" y="6"/>
                    <a:pt x="26" y="4"/>
                  </a:cubicBezTo>
                  <a:cubicBezTo>
                    <a:pt x="28" y="3"/>
                    <a:pt x="31" y="2"/>
                    <a:pt x="33" y="1"/>
                  </a:cubicBezTo>
                  <a:cubicBezTo>
                    <a:pt x="36" y="1"/>
                    <a:pt x="38" y="1"/>
                    <a:pt x="41" y="0"/>
                  </a:cubicBezTo>
                  <a:cubicBezTo>
                    <a:pt x="44" y="0"/>
                    <a:pt x="47" y="0"/>
                    <a:pt x="50" y="1"/>
                  </a:cubicBezTo>
                  <a:cubicBezTo>
                    <a:pt x="53" y="2"/>
                    <a:pt x="56" y="4"/>
                    <a:pt x="59" y="6"/>
                  </a:cubicBezTo>
                  <a:cubicBezTo>
                    <a:pt x="61" y="7"/>
                    <a:pt x="62" y="9"/>
                    <a:pt x="63" y="11"/>
                  </a:cubicBezTo>
                  <a:cubicBezTo>
                    <a:pt x="64" y="12"/>
                    <a:pt x="64" y="15"/>
                    <a:pt x="65" y="17"/>
                  </a:cubicBezTo>
                  <a:cubicBezTo>
                    <a:pt x="65" y="21"/>
                    <a:pt x="65" y="24"/>
                    <a:pt x="64" y="27"/>
                  </a:cubicBezTo>
                  <a:cubicBezTo>
                    <a:pt x="63" y="29"/>
                    <a:pt x="62" y="30"/>
                    <a:pt x="62" y="32"/>
                  </a:cubicBezTo>
                  <a:cubicBezTo>
                    <a:pt x="61" y="34"/>
                    <a:pt x="61" y="34"/>
                    <a:pt x="61" y="34"/>
                  </a:cubicBezTo>
                  <a:cubicBezTo>
                    <a:pt x="59" y="36"/>
                    <a:pt x="59" y="36"/>
                    <a:pt x="59" y="36"/>
                  </a:cubicBezTo>
                  <a:cubicBezTo>
                    <a:pt x="58" y="38"/>
                    <a:pt x="56" y="40"/>
                    <a:pt x="54" y="42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3" y="43"/>
                    <a:pt x="53" y="43"/>
                  </a:cubicBezTo>
                  <a:cubicBezTo>
                    <a:pt x="53" y="43"/>
                    <a:pt x="54" y="43"/>
                    <a:pt x="54" y="43"/>
                  </a:cubicBezTo>
                  <a:cubicBezTo>
                    <a:pt x="54" y="43"/>
                    <a:pt x="53" y="43"/>
                    <a:pt x="53" y="43"/>
                  </a:cubicBezTo>
                  <a:cubicBezTo>
                    <a:pt x="59" y="45"/>
                    <a:pt x="65" y="49"/>
                    <a:pt x="69" y="55"/>
                  </a:cubicBezTo>
                  <a:cubicBezTo>
                    <a:pt x="71" y="58"/>
                    <a:pt x="72" y="62"/>
                    <a:pt x="72" y="65"/>
                  </a:cubicBezTo>
                  <a:cubicBezTo>
                    <a:pt x="72" y="69"/>
                    <a:pt x="71" y="72"/>
                    <a:pt x="70" y="75"/>
                  </a:cubicBezTo>
                  <a:cubicBezTo>
                    <a:pt x="69" y="78"/>
                    <a:pt x="67" y="81"/>
                    <a:pt x="65" y="83"/>
                  </a:cubicBezTo>
                  <a:cubicBezTo>
                    <a:pt x="64" y="85"/>
                    <a:pt x="63" y="86"/>
                    <a:pt x="62" y="87"/>
                  </a:cubicBezTo>
                  <a:cubicBezTo>
                    <a:pt x="61" y="88"/>
                    <a:pt x="60" y="89"/>
                    <a:pt x="59" y="90"/>
                  </a:cubicBezTo>
                  <a:cubicBezTo>
                    <a:pt x="54" y="93"/>
                    <a:pt x="49" y="95"/>
                    <a:pt x="44" y="97"/>
                  </a:cubicBezTo>
                  <a:cubicBezTo>
                    <a:pt x="37" y="99"/>
                    <a:pt x="25" y="104"/>
                    <a:pt x="21" y="104"/>
                  </a:cubicBezTo>
                  <a:cubicBezTo>
                    <a:pt x="19" y="105"/>
                    <a:pt x="18" y="104"/>
                    <a:pt x="18" y="103"/>
                  </a:cubicBezTo>
                  <a:cubicBezTo>
                    <a:pt x="20" y="103"/>
                    <a:pt x="22" y="102"/>
                    <a:pt x="23" y="102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0" y="100"/>
                    <a:pt x="33" y="99"/>
                    <a:pt x="35" y="98"/>
                  </a:cubicBezTo>
                  <a:cubicBezTo>
                    <a:pt x="41" y="96"/>
                    <a:pt x="47" y="94"/>
                    <a:pt x="52" y="91"/>
                  </a:cubicBezTo>
                  <a:cubicBezTo>
                    <a:pt x="55" y="89"/>
                    <a:pt x="59" y="87"/>
                    <a:pt x="62" y="84"/>
                  </a:cubicBezTo>
                  <a:cubicBezTo>
                    <a:pt x="64" y="81"/>
                    <a:pt x="67" y="78"/>
                    <a:pt x="68" y="74"/>
                  </a:cubicBezTo>
                  <a:cubicBezTo>
                    <a:pt x="70" y="70"/>
                    <a:pt x="70" y="66"/>
                    <a:pt x="69" y="61"/>
                  </a:cubicBezTo>
                  <a:cubicBezTo>
                    <a:pt x="68" y="57"/>
                    <a:pt x="65" y="53"/>
                    <a:pt x="62" y="50"/>
                  </a:cubicBezTo>
                  <a:cubicBezTo>
                    <a:pt x="65" y="52"/>
                    <a:pt x="68" y="56"/>
                    <a:pt x="69" y="61"/>
                  </a:cubicBezTo>
                  <a:cubicBezTo>
                    <a:pt x="70" y="65"/>
                    <a:pt x="69" y="70"/>
                    <a:pt x="68" y="74"/>
                  </a:cubicBezTo>
                  <a:cubicBezTo>
                    <a:pt x="67" y="77"/>
                    <a:pt x="65" y="81"/>
                    <a:pt x="62" y="84"/>
                  </a:cubicBezTo>
                  <a:cubicBezTo>
                    <a:pt x="59" y="87"/>
                    <a:pt x="56" y="89"/>
                    <a:pt x="52" y="91"/>
                  </a:cubicBezTo>
                  <a:cubicBezTo>
                    <a:pt x="47" y="94"/>
                    <a:pt x="41" y="96"/>
                    <a:pt x="35" y="97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4" y="101"/>
                    <a:pt x="22" y="102"/>
                    <a:pt x="19" y="103"/>
                  </a:cubicBezTo>
                  <a:cubicBezTo>
                    <a:pt x="19" y="102"/>
                    <a:pt x="19" y="101"/>
                    <a:pt x="18" y="101"/>
                  </a:cubicBezTo>
                  <a:cubicBezTo>
                    <a:pt x="18" y="101"/>
                    <a:pt x="18" y="101"/>
                    <a:pt x="16" y="101"/>
                  </a:cubicBezTo>
                  <a:cubicBezTo>
                    <a:pt x="15" y="102"/>
                    <a:pt x="14" y="102"/>
                    <a:pt x="13" y="102"/>
                  </a:cubicBezTo>
                  <a:cubicBezTo>
                    <a:pt x="11" y="101"/>
                    <a:pt x="10" y="100"/>
                    <a:pt x="10" y="99"/>
                  </a:cubicBezTo>
                  <a:cubicBezTo>
                    <a:pt x="9" y="99"/>
                    <a:pt x="9" y="98"/>
                    <a:pt x="10" y="98"/>
                  </a:cubicBezTo>
                  <a:cubicBezTo>
                    <a:pt x="10" y="97"/>
                    <a:pt x="10" y="97"/>
                    <a:pt x="11" y="97"/>
                  </a:cubicBezTo>
                  <a:cubicBezTo>
                    <a:pt x="11" y="97"/>
                    <a:pt x="12" y="97"/>
                    <a:pt x="12" y="96"/>
                  </a:cubicBezTo>
                  <a:cubicBezTo>
                    <a:pt x="13" y="96"/>
                    <a:pt x="13" y="96"/>
                    <a:pt x="14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6377400" y="3678840"/>
              <a:ext cx="342360" cy="393120"/>
            </a:xfrm>
            <a:custGeom>
              <a:avLst/>
              <a:gdLst/>
              <a:ahLst/>
              <a:rect l="l" t="t" r="r" b="b"/>
              <a:pathLst>
                <a:path w="66" h="77">
                  <a:moveTo>
                    <a:pt x="65" y="67"/>
                  </a:moveTo>
                  <a:cubicBezTo>
                    <a:pt x="65" y="67"/>
                    <a:pt x="64" y="68"/>
                    <a:pt x="64" y="68"/>
                  </a:cubicBezTo>
                  <a:cubicBezTo>
                    <a:pt x="62" y="69"/>
                    <a:pt x="60" y="72"/>
                    <a:pt x="56" y="74"/>
                  </a:cubicBezTo>
                  <a:cubicBezTo>
                    <a:pt x="54" y="74"/>
                    <a:pt x="52" y="75"/>
                    <a:pt x="50" y="75"/>
                  </a:cubicBezTo>
                  <a:cubicBezTo>
                    <a:pt x="48" y="75"/>
                    <a:pt x="47" y="75"/>
                    <a:pt x="45" y="75"/>
                  </a:cubicBezTo>
                  <a:cubicBezTo>
                    <a:pt x="43" y="75"/>
                    <a:pt x="40" y="75"/>
                    <a:pt x="36" y="75"/>
                  </a:cubicBezTo>
                  <a:cubicBezTo>
                    <a:pt x="33" y="75"/>
                    <a:pt x="30" y="75"/>
                    <a:pt x="27" y="74"/>
                  </a:cubicBezTo>
                  <a:cubicBezTo>
                    <a:pt x="22" y="74"/>
                    <a:pt x="17" y="72"/>
                    <a:pt x="12" y="69"/>
                  </a:cubicBezTo>
                  <a:cubicBezTo>
                    <a:pt x="10" y="68"/>
                    <a:pt x="8" y="66"/>
                    <a:pt x="6" y="63"/>
                  </a:cubicBezTo>
                  <a:cubicBezTo>
                    <a:pt x="5" y="61"/>
                    <a:pt x="4" y="58"/>
                    <a:pt x="4" y="56"/>
                  </a:cubicBezTo>
                  <a:cubicBezTo>
                    <a:pt x="4" y="59"/>
                    <a:pt x="5" y="62"/>
                    <a:pt x="7" y="64"/>
                  </a:cubicBezTo>
                  <a:cubicBezTo>
                    <a:pt x="9" y="67"/>
                    <a:pt x="11" y="69"/>
                    <a:pt x="14" y="71"/>
                  </a:cubicBezTo>
                  <a:cubicBezTo>
                    <a:pt x="20" y="74"/>
                    <a:pt x="26" y="75"/>
                    <a:pt x="31" y="75"/>
                  </a:cubicBezTo>
                  <a:cubicBezTo>
                    <a:pt x="33" y="75"/>
                    <a:pt x="34" y="75"/>
                    <a:pt x="35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42" y="75"/>
                    <a:pt x="45" y="75"/>
                    <a:pt x="47" y="75"/>
                  </a:cubicBezTo>
                  <a:cubicBezTo>
                    <a:pt x="49" y="75"/>
                    <a:pt x="50" y="75"/>
                    <a:pt x="52" y="75"/>
                  </a:cubicBezTo>
                  <a:cubicBezTo>
                    <a:pt x="53" y="75"/>
                    <a:pt x="55" y="74"/>
                    <a:pt x="57" y="74"/>
                  </a:cubicBezTo>
                  <a:cubicBezTo>
                    <a:pt x="61" y="72"/>
                    <a:pt x="63" y="70"/>
                    <a:pt x="64" y="69"/>
                  </a:cubicBezTo>
                  <a:cubicBezTo>
                    <a:pt x="64" y="69"/>
                    <a:pt x="63" y="70"/>
                    <a:pt x="63" y="71"/>
                  </a:cubicBezTo>
                  <a:cubicBezTo>
                    <a:pt x="62" y="73"/>
                    <a:pt x="60" y="74"/>
                    <a:pt x="58" y="75"/>
                  </a:cubicBezTo>
                  <a:cubicBezTo>
                    <a:pt x="57" y="76"/>
                    <a:pt x="56" y="76"/>
                    <a:pt x="54" y="77"/>
                  </a:cubicBezTo>
                  <a:cubicBezTo>
                    <a:pt x="53" y="77"/>
                    <a:pt x="52" y="77"/>
                    <a:pt x="51" y="77"/>
                  </a:cubicBezTo>
                  <a:cubicBezTo>
                    <a:pt x="50" y="77"/>
                    <a:pt x="49" y="77"/>
                    <a:pt x="48" y="77"/>
                  </a:cubicBezTo>
                  <a:cubicBezTo>
                    <a:pt x="45" y="77"/>
                    <a:pt x="45" y="77"/>
                    <a:pt x="45" y="77"/>
                  </a:cubicBezTo>
                  <a:cubicBezTo>
                    <a:pt x="42" y="77"/>
                    <a:pt x="38" y="77"/>
                    <a:pt x="35" y="77"/>
                  </a:cubicBezTo>
                  <a:cubicBezTo>
                    <a:pt x="35" y="77"/>
                    <a:pt x="35" y="77"/>
                    <a:pt x="35" y="76"/>
                  </a:cubicBezTo>
                  <a:cubicBezTo>
                    <a:pt x="33" y="76"/>
                    <a:pt x="30" y="76"/>
                    <a:pt x="28" y="76"/>
                  </a:cubicBezTo>
                  <a:cubicBezTo>
                    <a:pt x="25" y="76"/>
                    <a:pt x="22" y="76"/>
                    <a:pt x="20" y="75"/>
                  </a:cubicBezTo>
                  <a:cubicBezTo>
                    <a:pt x="17" y="74"/>
                    <a:pt x="15" y="73"/>
                    <a:pt x="12" y="71"/>
                  </a:cubicBezTo>
                  <a:cubicBezTo>
                    <a:pt x="10" y="70"/>
                    <a:pt x="7" y="68"/>
                    <a:pt x="6" y="65"/>
                  </a:cubicBezTo>
                  <a:cubicBezTo>
                    <a:pt x="4" y="62"/>
                    <a:pt x="3" y="60"/>
                    <a:pt x="3" y="57"/>
                  </a:cubicBezTo>
                  <a:cubicBezTo>
                    <a:pt x="2" y="54"/>
                    <a:pt x="2" y="52"/>
                    <a:pt x="2" y="49"/>
                  </a:cubicBezTo>
                  <a:cubicBezTo>
                    <a:pt x="1" y="44"/>
                    <a:pt x="2" y="39"/>
                    <a:pt x="3" y="34"/>
                  </a:cubicBezTo>
                  <a:cubicBezTo>
                    <a:pt x="2" y="35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5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" y="39"/>
                    <a:pt x="0" y="44"/>
                    <a:pt x="1" y="49"/>
                  </a:cubicBezTo>
                  <a:cubicBezTo>
                    <a:pt x="1" y="52"/>
                    <a:pt x="1" y="54"/>
                    <a:pt x="2" y="57"/>
                  </a:cubicBezTo>
                  <a:cubicBezTo>
                    <a:pt x="2" y="60"/>
                    <a:pt x="3" y="62"/>
                    <a:pt x="5" y="65"/>
                  </a:cubicBezTo>
                  <a:cubicBezTo>
                    <a:pt x="7" y="68"/>
                    <a:pt x="9" y="70"/>
                    <a:pt x="11" y="72"/>
                  </a:cubicBezTo>
                  <a:cubicBezTo>
                    <a:pt x="14" y="73"/>
                    <a:pt x="16" y="74"/>
                    <a:pt x="19" y="75"/>
                  </a:cubicBezTo>
                  <a:cubicBezTo>
                    <a:pt x="24" y="77"/>
                    <a:pt x="29" y="77"/>
                    <a:pt x="34" y="77"/>
                  </a:cubicBezTo>
                  <a:cubicBezTo>
                    <a:pt x="32" y="77"/>
                    <a:pt x="30" y="77"/>
                    <a:pt x="28" y="77"/>
                  </a:cubicBezTo>
                  <a:cubicBezTo>
                    <a:pt x="26" y="77"/>
                    <a:pt x="24" y="77"/>
                    <a:pt x="22" y="76"/>
                  </a:cubicBezTo>
                  <a:cubicBezTo>
                    <a:pt x="18" y="75"/>
                    <a:pt x="14" y="74"/>
                    <a:pt x="10" y="71"/>
                  </a:cubicBezTo>
                  <a:cubicBezTo>
                    <a:pt x="8" y="70"/>
                    <a:pt x="6" y="68"/>
                    <a:pt x="5" y="66"/>
                  </a:cubicBezTo>
                  <a:cubicBezTo>
                    <a:pt x="3" y="64"/>
                    <a:pt x="2" y="62"/>
                    <a:pt x="2" y="59"/>
                  </a:cubicBezTo>
                  <a:cubicBezTo>
                    <a:pt x="1" y="57"/>
                    <a:pt x="1" y="55"/>
                    <a:pt x="0" y="53"/>
                  </a:cubicBezTo>
                  <a:cubicBezTo>
                    <a:pt x="0" y="51"/>
                    <a:pt x="0" y="49"/>
                    <a:pt x="0" y="47"/>
                  </a:cubicBezTo>
                  <a:cubicBezTo>
                    <a:pt x="0" y="39"/>
                    <a:pt x="2" y="31"/>
                    <a:pt x="6" y="23"/>
                  </a:cubicBezTo>
                  <a:cubicBezTo>
                    <a:pt x="8" y="20"/>
                    <a:pt x="10" y="16"/>
                    <a:pt x="13" y="13"/>
                  </a:cubicBezTo>
                  <a:cubicBezTo>
                    <a:pt x="16" y="10"/>
                    <a:pt x="20" y="8"/>
                    <a:pt x="23" y="5"/>
                  </a:cubicBezTo>
                  <a:cubicBezTo>
                    <a:pt x="24" y="5"/>
                    <a:pt x="27" y="3"/>
                    <a:pt x="28" y="3"/>
                  </a:cubicBezTo>
                  <a:cubicBezTo>
                    <a:pt x="34" y="1"/>
                    <a:pt x="40" y="0"/>
                    <a:pt x="45" y="0"/>
                  </a:cubicBezTo>
                  <a:cubicBezTo>
                    <a:pt x="45" y="1"/>
                    <a:pt x="46" y="2"/>
                    <a:pt x="46" y="2"/>
                  </a:cubicBezTo>
                  <a:cubicBezTo>
                    <a:pt x="45" y="3"/>
                    <a:pt x="44" y="4"/>
                    <a:pt x="39" y="5"/>
                  </a:cubicBezTo>
                  <a:cubicBezTo>
                    <a:pt x="39" y="5"/>
                    <a:pt x="39" y="5"/>
                    <a:pt x="39" y="6"/>
                  </a:cubicBezTo>
                  <a:cubicBezTo>
                    <a:pt x="44" y="5"/>
                    <a:pt x="48" y="7"/>
                    <a:pt x="49" y="8"/>
                  </a:cubicBezTo>
                  <a:cubicBezTo>
                    <a:pt x="49" y="9"/>
                    <a:pt x="49" y="10"/>
                    <a:pt x="48" y="10"/>
                  </a:cubicBezTo>
                  <a:cubicBezTo>
                    <a:pt x="47" y="11"/>
                    <a:pt x="46" y="11"/>
                    <a:pt x="44" y="12"/>
                  </a:cubicBezTo>
                  <a:cubicBezTo>
                    <a:pt x="39" y="13"/>
                    <a:pt x="34" y="15"/>
                    <a:pt x="29" y="18"/>
                  </a:cubicBezTo>
                  <a:cubicBezTo>
                    <a:pt x="24" y="21"/>
                    <a:pt x="20" y="25"/>
                    <a:pt x="18" y="31"/>
                  </a:cubicBezTo>
                  <a:cubicBezTo>
                    <a:pt x="16" y="34"/>
                    <a:pt x="15" y="38"/>
                    <a:pt x="14" y="42"/>
                  </a:cubicBezTo>
                  <a:cubicBezTo>
                    <a:pt x="14" y="45"/>
                    <a:pt x="14" y="47"/>
                    <a:pt x="14" y="49"/>
                  </a:cubicBezTo>
                  <a:cubicBezTo>
                    <a:pt x="14" y="51"/>
                    <a:pt x="14" y="53"/>
                    <a:pt x="14" y="55"/>
                  </a:cubicBezTo>
                  <a:cubicBezTo>
                    <a:pt x="15" y="57"/>
                    <a:pt x="16" y="59"/>
                    <a:pt x="17" y="60"/>
                  </a:cubicBezTo>
                  <a:cubicBezTo>
                    <a:pt x="19" y="62"/>
                    <a:pt x="21" y="63"/>
                    <a:pt x="24" y="64"/>
                  </a:cubicBezTo>
                  <a:cubicBezTo>
                    <a:pt x="27" y="64"/>
                    <a:pt x="30" y="65"/>
                    <a:pt x="33" y="65"/>
                  </a:cubicBezTo>
                  <a:cubicBezTo>
                    <a:pt x="37" y="65"/>
                    <a:pt x="40" y="65"/>
                    <a:pt x="44" y="65"/>
                  </a:cubicBezTo>
                  <a:cubicBezTo>
                    <a:pt x="46" y="65"/>
                    <a:pt x="50" y="65"/>
                    <a:pt x="51" y="65"/>
                  </a:cubicBezTo>
                  <a:cubicBezTo>
                    <a:pt x="52" y="64"/>
                    <a:pt x="52" y="64"/>
                    <a:pt x="53" y="63"/>
                  </a:cubicBezTo>
                  <a:cubicBezTo>
                    <a:pt x="54" y="63"/>
                    <a:pt x="55" y="62"/>
                    <a:pt x="55" y="62"/>
                  </a:cubicBezTo>
                  <a:cubicBezTo>
                    <a:pt x="57" y="61"/>
                    <a:pt x="57" y="62"/>
                    <a:pt x="58" y="62"/>
                  </a:cubicBezTo>
                  <a:cubicBezTo>
                    <a:pt x="56" y="64"/>
                    <a:pt x="55" y="65"/>
                    <a:pt x="53" y="66"/>
                  </a:cubicBezTo>
                  <a:cubicBezTo>
                    <a:pt x="53" y="66"/>
                    <a:pt x="52" y="66"/>
                    <a:pt x="52" y="67"/>
                  </a:cubicBezTo>
                  <a:cubicBezTo>
                    <a:pt x="51" y="67"/>
                    <a:pt x="50" y="67"/>
                    <a:pt x="49" y="67"/>
                  </a:cubicBezTo>
                  <a:cubicBezTo>
                    <a:pt x="45" y="67"/>
                    <a:pt x="41" y="67"/>
                    <a:pt x="37" y="67"/>
                  </a:cubicBezTo>
                  <a:cubicBezTo>
                    <a:pt x="32" y="67"/>
                    <a:pt x="27" y="67"/>
                    <a:pt x="23" y="66"/>
                  </a:cubicBezTo>
                  <a:cubicBezTo>
                    <a:pt x="19" y="65"/>
                    <a:pt x="16" y="62"/>
                    <a:pt x="14" y="59"/>
                  </a:cubicBezTo>
                  <a:cubicBezTo>
                    <a:pt x="15" y="62"/>
                    <a:pt x="19" y="65"/>
                    <a:pt x="23" y="66"/>
                  </a:cubicBezTo>
                  <a:cubicBezTo>
                    <a:pt x="27" y="67"/>
                    <a:pt x="32" y="67"/>
                    <a:pt x="37" y="67"/>
                  </a:cubicBezTo>
                  <a:cubicBezTo>
                    <a:pt x="41" y="67"/>
                    <a:pt x="45" y="67"/>
                    <a:pt x="49" y="67"/>
                  </a:cubicBezTo>
                  <a:cubicBezTo>
                    <a:pt x="50" y="67"/>
                    <a:pt x="51" y="67"/>
                    <a:pt x="52" y="67"/>
                  </a:cubicBezTo>
                  <a:cubicBezTo>
                    <a:pt x="52" y="67"/>
                    <a:pt x="53" y="67"/>
                    <a:pt x="54" y="66"/>
                  </a:cubicBezTo>
                  <a:cubicBezTo>
                    <a:pt x="55" y="65"/>
                    <a:pt x="56" y="64"/>
                    <a:pt x="58" y="63"/>
                  </a:cubicBezTo>
                  <a:cubicBezTo>
                    <a:pt x="58" y="64"/>
                    <a:pt x="58" y="64"/>
                    <a:pt x="59" y="64"/>
                  </a:cubicBezTo>
                  <a:cubicBezTo>
                    <a:pt x="59" y="64"/>
                    <a:pt x="61" y="62"/>
                    <a:pt x="62" y="62"/>
                  </a:cubicBezTo>
                  <a:cubicBezTo>
                    <a:pt x="63" y="61"/>
                    <a:pt x="64" y="61"/>
                    <a:pt x="65" y="61"/>
                  </a:cubicBezTo>
                  <a:cubicBezTo>
                    <a:pt x="66" y="62"/>
                    <a:pt x="66" y="62"/>
                    <a:pt x="66" y="63"/>
                  </a:cubicBezTo>
                  <a:cubicBezTo>
                    <a:pt x="66" y="63"/>
                    <a:pt x="66" y="64"/>
                    <a:pt x="66" y="65"/>
                  </a:cubicBezTo>
                  <a:cubicBezTo>
                    <a:pt x="65" y="66"/>
                    <a:pt x="65" y="66"/>
                    <a:pt x="65" y="6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5955480" y="2965320"/>
              <a:ext cx="219600" cy="85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11"/>
                  </a:moveTo>
                  <a:cubicBezTo>
                    <a:pt x="41" y="11"/>
                    <a:pt x="40" y="11"/>
                    <a:pt x="40" y="11"/>
                  </a:cubicBezTo>
                  <a:cubicBezTo>
                    <a:pt x="37" y="10"/>
                    <a:pt x="34" y="11"/>
                    <a:pt x="30" y="11"/>
                  </a:cubicBezTo>
                  <a:cubicBezTo>
                    <a:pt x="28" y="11"/>
                    <a:pt x="25" y="11"/>
                    <a:pt x="23" y="12"/>
                  </a:cubicBezTo>
                  <a:cubicBezTo>
                    <a:pt x="29" y="11"/>
                    <a:pt x="35" y="10"/>
                    <a:pt x="40" y="12"/>
                  </a:cubicBezTo>
                  <a:cubicBezTo>
                    <a:pt x="40" y="12"/>
                    <a:pt x="39" y="13"/>
                    <a:pt x="39" y="13"/>
                  </a:cubicBezTo>
                  <a:cubicBezTo>
                    <a:pt x="37" y="13"/>
                    <a:pt x="35" y="13"/>
                    <a:pt x="33" y="13"/>
                  </a:cubicBezTo>
                  <a:cubicBezTo>
                    <a:pt x="33" y="13"/>
                    <a:pt x="33" y="12"/>
                    <a:pt x="33" y="12"/>
                  </a:cubicBezTo>
                  <a:cubicBezTo>
                    <a:pt x="28" y="14"/>
                    <a:pt x="23" y="12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3" y="14"/>
                    <a:pt x="28" y="14"/>
                    <a:pt x="33" y="13"/>
                  </a:cubicBezTo>
                  <a:cubicBezTo>
                    <a:pt x="25" y="14"/>
                    <a:pt x="17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6" y="17"/>
                    <a:pt x="5" y="16"/>
                    <a:pt x="3" y="17"/>
                  </a:cubicBezTo>
                  <a:cubicBezTo>
                    <a:pt x="3" y="15"/>
                    <a:pt x="2" y="12"/>
                    <a:pt x="5" y="13"/>
                  </a:cubicBezTo>
                  <a:cubicBezTo>
                    <a:pt x="4" y="12"/>
                    <a:pt x="4" y="12"/>
                    <a:pt x="4" y="11"/>
                  </a:cubicBezTo>
                  <a:cubicBezTo>
                    <a:pt x="1" y="10"/>
                    <a:pt x="0" y="6"/>
                    <a:pt x="2" y="5"/>
                  </a:cubicBezTo>
                  <a:cubicBezTo>
                    <a:pt x="5" y="3"/>
                    <a:pt x="10" y="4"/>
                    <a:pt x="13" y="3"/>
                  </a:cubicBezTo>
                  <a:cubicBezTo>
                    <a:pt x="16" y="2"/>
                    <a:pt x="19" y="1"/>
                    <a:pt x="22" y="1"/>
                  </a:cubicBezTo>
                  <a:cubicBezTo>
                    <a:pt x="25" y="2"/>
                    <a:pt x="30" y="1"/>
                    <a:pt x="34" y="1"/>
                  </a:cubicBezTo>
                  <a:cubicBezTo>
                    <a:pt x="35" y="1"/>
                    <a:pt x="37" y="0"/>
                    <a:pt x="38" y="1"/>
                  </a:cubicBezTo>
                  <a:cubicBezTo>
                    <a:pt x="39" y="1"/>
                    <a:pt x="39" y="2"/>
                    <a:pt x="39" y="3"/>
                  </a:cubicBezTo>
                  <a:cubicBezTo>
                    <a:pt x="37" y="3"/>
                    <a:pt x="34" y="3"/>
                    <a:pt x="32" y="3"/>
                  </a:cubicBezTo>
                  <a:cubicBezTo>
                    <a:pt x="29" y="3"/>
                    <a:pt x="26" y="3"/>
                    <a:pt x="24" y="3"/>
                  </a:cubicBezTo>
                  <a:cubicBezTo>
                    <a:pt x="26" y="4"/>
                    <a:pt x="29" y="4"/>
                    <a:pt x="32" y="3"/>
                  </a:cubicBezTo>
                  <a:cubicBezTo>
                    <a:pt x="34" y="3"/>
                    <a:pt x="37" y="3"/>
                    <a:pt x="39" y="3"/>
                  </a:cubicBezTo>
                  <a:cubicBezTo>
                    <a:pt x="39" y="4"/>
                    <a:pt x="39" y="4"/>
                    <a:pt x="39" y="5"/>
                  </a:cubicBezTo>
                  <a:cubicBezTo>
                    <a:pt x="39" y="5"/>
                    <a:pt x="40" y="5"/>
                    <a:pt x="40" y="5"/>
                  </a:cubicBezTo>
                  <a:cubicBezTo>
                    <a:pt x="42" y="6"/>
                    <a:pt x="42" y="8"/>
                    <a:pt x="41" y="10"/>
                  </a:cubicBezTo>
                  <a:cubicBezTo>
                    <a:pt x="41" y="10"/>
                    <a:pt x="41" y="10"/>
                    <a:pt x="41" y="1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5871960" y="2720160"/>
              <a:ext cx="384120" cy="500760"/>
            </a:xfrm>
            <a:custGeom>
              <a:avLst/>
              <a:gdLst/>
              <a:ahLst/>
              <a:rect l="l" t="t" r="r" b="b"/>
              <a:pathLst>
                <a:path w="74" h="98">
                  <a:moveTo>
                    <a:pt x="63" y="91"/>
                  </a:moveTo>
                  <a:cubicBezTo>
                    <a:pt x="63" y="90"/>
                    <a:pt x="63" y="89"/>
                    <a:pt x="62" y="88"/>
                  </a:cubicBezTo>
                  <a:cubicBezTo>
                    <a:pt x="60" y="80"/>
                    <a:pt x="58" y="71"/>
                    <a:pt x="58" y="63"/>
                  </a:cubicBezTo>
                  <a:cubicBezTo>
                    <a:pt x="58" y="54"/>
                    <a:pt x="58" y="46"/>
                    <a:pt x="57" y="37"/>
                  </a:cubicBezTo>
                  <a:cubicBezTo>
                    <a:pt x="57" y="31"/>
                    <a:pt x="55" y="24"/>
                    <a:pt x="53" y="19"/>
                  </a:cubicBezTo>
                  <a:cubicBezTo>
                    <a:pt x="52" y="17"/>
                    <a:pt x="52" y="16"/>
                    <a:pt x="51" y="15"/>
                  </a:cubicBezTo>
                  <a:cubicBezTo>
                    <a:pt x="50" y="14"/>
                    <a:pt x="49" y="13"/>
                    <a:pt x="48" y="13"/>
                  </a:cubicBezTo>
                  <a:cubicBezTo>
                    <a:pt x="46" y="12"/>
                    <a:pt x="43" y="11"/>
                    <a:pt x="40" y="11"/>
                  </a:cubicBezTo>
                  <a:cubicBezTo>
                    <a:pt x="44" y="12"/>
                    <a:pt x="47" y="12"/>
                    <a:pt x="49" y="14"/>
                  </a:cubicBezTo>
                  <a:cubicBezTo>
                    <a:pt x="50" y="14"/>
                    <a:pt x="51" y="15"/>
                    <a:pt x="51" y="16"/>
                  </a:cubicBezTo>
                  <a:cubicBezTo>
                    <a:pt x="52" y="18"/>
                    <a:pt x="53" y="20"/>
                    <a:pt x="53" y="21"/>
                  </a:cubicBezTo>
                  <a:cubicBezTo>
                    <a:pt x="56" y="28"/>
                    <a:pt x="57" y="35"/>
                    <a:pt x="57" y="43"/>
                  </a:cubicBezTo>
                  <a:cubicBezTo>
                    <a:pt x="58" y="50"/>
                    <a:pt x="57" y="58"/>
                    <a:pt x="58" y="65"/>
                  </a:cubicBezTo>
                  <a:cubicBezTo>
                    <a:pt x="58" y="73"/>
                    <a:pt x="59" y="81"/>
                    <a:pt x="62" y="89"/>
                  </a:cubicBezTo>
                  <a:cubicBezTo>
                    <a:pt x="61" y="87"/>
                    <a:pt x="60" y="86"/>
                    <a:pt x="59" y="84"/>
                  </a:cubicBezTo>
                  <a:cubicBezTo>
                    <a:pt x="58" y="82"/>
                    <a:pt x="57" y="80"/>
                    <a:pt x="57" y="78"/>
                  </a:cubicBezTo>
                  <a:cubicBezTo>
                    <a:pt x="56" y="73"/>
                    <a:pt x="56" y="67"/>
                    <a:pt x="55" y="62"/>
                  </a:cubicBezTo>
                  <a:cubicBezTo>
                    <a:pt x="55" y="57"/>
                    <a:pt x="55" y="53"/>
                    <a:pt x="55" y="48"/>
                  </a:cubicBezTo>
                  <a:cubicBezTo>
                    <a:pt x="55" y="48"/>
                    <a:pt x="56" y="48"/>
                    <a:pt x="56" y="48"/>
                  </a:cubicBezTo>
                  <a:cubicBezTo>
                    <a:pt x="56" y="41"/>
                    <a:pt x="55" y="35"/>
                    <a:pt x="54" y="29"/>
                  </a:cubicBezTo>
                  <a:cubicBezTo>
                    <a:pt x="54" y="27"/>
                    <a:pt x="53" y="26"/>
                    <a:pt x="53" y="25"/>
                  </a:cubicBezTo>
                  <a:cubicBezTo>
                    <a:pt x="52" y="23"/>
                    <a:pt x="52" y="22"/>
                    <a:pt x="51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49" y="16"/>
                    <a:pt x="49" y="15"/>
                    <a:pt x="48" y="15"/>
                  </a:cubicBezTo>
                  <a:cubicBezTo>
                    <a:pt x="47" y="14"/>
                    <a:pt x="44" y="13"/>
                    <a:pt x="41" y="13"/>
                  </a:cubicBezTo>
                  <a:cubicBezTo>
                    <a:pt x="38" y="12"/>
                    <a:pt x="35" y="12"/>
                    <a:pt x="32" y="13"/>
                  </a:cubicBezTo>
                  <a:cubicBezTo>
                    <a:pt x="32" y="13"/>
                    <a:pt x="31" y="13"/>
                    <a:pt x="31" y="13"/>
                  </a:cubicBezTo>
                  <a:cubicBezTo>
                    <a:pt x="30" y="13"/>
                    <a:pt x="30" y="14"/>
                    <a:pt x="30" y="14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7"/>
                    <a:pt x="30" y="18"/>
                  </a:cubicBezTo>
                  <a:cubicBezTo>
                    <a:pt x="30" y="19"/>
                    <a:pt x="30" y="21"/>
                    <a:pt x="30" y="23"/>
                  </a:cubicBezTo>
                  <a:cubicBezTo>
                    <a:pt x="30" y="22"/>
                    <a:pt x="30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1" y="23"/>
                    <a:pt x="31" y="21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1"/>
                    <a:pt x="31" y="19"/>
                    <a:pt x="31" y="18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2" y="14"/>
                    <a:pt x="32" y="14"/>
                    <a:pt x="32" y="13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5" y="13"/>
                    <a:pt x="36" y="13"/>
                    <a:pt x="36" y="13"/>
                  </a:cubicBezTo>
                  <a:cubicBezTo>
                    <a:pt x="38" y="13"/>
                    <a:pt x="39" y="14"/>
                    <a:pt x="41" y="14"/>
                  </a:cubicBezTo>
                  <a:cubicBezTo>
                    <a:pt x="44" y="14"/>
                    <a:pt x="46" y="15"/>
                    <a:pt x="48" y="15"/>
                  </a:cubicBezTo>
                  <a:cubicBezTo>
                    <a:pt x="48" y="16"/>
                    <a:pt x="49" y="16"/>
                    <a:pt x="49" y="17"/>
                  </a:cubicBezTo>
                  <a:cubicBezTo>
                    <a:pt x="50" y="18"/>
                    <a:pt x="50" y="19"/>
                    <a:pt x="51" y="20"/>
                  </a:cubicBezTo>
                  <a:cubicBezTo>
                    <a:pt x="52" y="23"/>
                    <a:pt x="52" y="25"/>
                    <a:pt x="53" y="28"/>
                  </a:cubicBezTo>
                  <a:cubicBezTo>
                    <a:pt x="54" y="34"/>
                    <a:pt x="55" y="40"/>
                    <a:pt x="55" y="47"/>
                  </a:cubicBezTo>
                  <a:cubicBezTo>
                    <a:pt x="55" y="42"/>
                    <a:pt x="54" y="37"/>
                    <a:pt x="54" y="32"/>
                  </a:cubicBezTo>
                  <a:cubicBezTo>
                    <a:pt x="53" y="28"/>
                    <a:pt x="52" y="23"/>
                    <a:pt x="50" y="19"/>
                  </a:cubicBezTo>
                  <a:cubicBezTo>
                    <a:pt x="49" y="18"/>
                    <a:pt x="49" y="17"/>
                    <a:pt x="49" y="17"/>
                  </a:cubicBezTo>
                  <a:cubicBezTo>
                    <a:pt x="48" y="16"/>
                    <a:pt x="48" y="16"/>
                    <a:pt x="48" y="16"/>
                  </a:cubicBezTo>
                  <a:cubicBezTo>
                    <a:pt x="47" y="15"/>
                    <a:pt x="45" y="15"/>
                    <a:pt x="43" y="14"/>
                  </a:cubicBezTo>
                  <a:cubicBezTo>
                    <a:pt x="41" y="14"/>
                    <a:pt x="39" y="14"/>
                    <a:pt x="36" y="14"/>
                  </a:cubicBezTo>
                  <a:cubicBezTo>
                    <a:pt x="35" y="14"/>
                    <a:pt x="34" y="14"/>
                    <a:pt x="33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1" y="14"/>
                    <a:pt x="31" y="14"/>
                    <a:pt x="31" y="15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7"/>
                    <a:pt x="30" y="32"/>
                    <a:pt x="29" y="37"/>
                  </a:cubicBezTo>
                  <a:cubicBezTo>
                    <a:pt x="28" y="48"/>
                    <a:pt x="26" y="58"/>
                    <a:pt x="23" y="69"/>
                  </a:cubicBezTo>
                  <a:cubicBezTo>
                    <a:pt x="22" y="70"/>
                    <a:pt x="21" y="74"/>
                    <a:pt x="21" y="76"/>
                  </a:cubicBezTo>
                  <a:cubicBezTo>
                    <a:pt x="18" y="83"/>
                    <a:pt x="15" y="89"/>
                    <a:pt x="12" y="96"/>
                  </a:cubicBezTo>
                  <a:cubicBezTo>
                    <a:pt x="12" y="95"/>
                    <a:pt x="10" y="96"/>
                    <a:pt x="10" y="95"/>
                  </a:cubicBezTo>
                  <a:cubicBezTo>
                    <a:pt x="9" y="95"/>
                    <a:pt x="9" y="93"/>
                    <a:pt x="12" y="86"/>
                  </a:cubicBezTo>
                  <a:cubicBezTo>
                    <a:pt x="12" y="86"/>
                    <a:pt x="11" y="86"/>
                    <a:pt x="11" y="86"/>
                  </a:cubicBezTo>
                  <a:cubicBezTo>
                    <a:pt x="8" y="92"/>
                    <a:pt x="4" y="96"/>
                    <a:pt x="3" y="97"/>
                  </a:cubicBezTo>
                  <a:cubicBezTo>
                    <a:pt x="1" y="98"/>
                    <a:pt x="0" y="95"/>
                    <a:pt x="2" y="88"/>
                  </a:cubicBezTo>
                  <a:cubicBezTo>
                    <a:pt x="5" y="81"/>
                    <a:pt x="8" y="72"/>
                    <a:pt x="10" y="63"/>
                  </a:cubicBezTo>
                  <a:cubicBezTo>
                    <a:pt x="13" y="54"/>
                    <a:pt x="15" y="44"/>
                    <a:pt x="16" y="34"/>
                  </a:cubicBezTo>
                  <a:cubicBezTo>
                    <a:pt x="17" y="31"/>
                    <a:pt x="17" y="27"/>
                    <a:pt x="17" y="24"/>
                  </a:cubicBezTo>
                  <a:cubicBezTo>
                    <a:pt x="17" y="22"/>
                    <a:pt x="17" y="20"/>
                    <a:pt x="17" y="18"/>
                  </a:cubicBezTo>
                  <a:cubicBezTo>
                    <a:pt x="18" y="17"/>
                    <a:pt x="18" y="17"/>
                    <a:pt x="18" y="16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0"/>
                    <a:pt x="18" y="8"/>
                    <a:pt x="19" y="7"/>
                  </a:cubicBezTo>
                  <a:cubicBezTo>
                    <a:pt x="19" y="5"/>
                    <a:pt x="20" y="4"/>
                    <a:pt x="21" y="3"/>
                  </a:cubicBezTo>
                  <a:cubicBezTo>
                    <a:pt x="22" y="2"/>
                    <a:pt x="24" y="1"/>
                    <a:pt x="26" y="1"/>
                  </a:cubicBezTo>
                  <a:cubicBezTo>
                    <a:pt x="27" y="1"/>
                    <a:pt x="29" y="0"/>
                    <a:pt x="31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6" y="0"/>
                    <a:pt x="37" y="0"/>
                  </a:cubicBezTo>
                  <a:cubicBezTo>
                    <a:pt x="39" y="0"/>
                    <a:pt x="41" y="1"/>
                    <a:pt x="43" y="1"/>
                  </a:cubicBezTo>
                  <a:cubicBezTo>
                    <a:pt x="46" y="1"/>
                    <a:pt x="49" y="2"/>
                    <a:pt x="53" y="4"/>
                  </a:cubicBezTo>
                  <a:cubicBezTo>
                    <a:pt x="54" y="4"/>
                    <a:pt x="56" y="6"/>
                    <a:pt x="57" y="7"/>
                  </a:cubicBezTo>
                  <a:cubicBezTo>
                    <a:pt x="59" y="9"/>
                    <a:pt x="60" y="10"/>
                    <a:pt x="61" y="12"/>
                  </a:cubicBezTo>
                  <a:cubicBezTo>
                    <a:pt x="62" y="13"/>
                    <a:pt x="62" y="15"/>
                    <a:pt x="63" y="16"/>
                  </a:cubicBezTo>
                  <a:cubicBezTo>
                    <a:pt x="63" y="17"/>
                    <a:pt x="64" y="19"/>
                    <a:pt x="64" y="20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8" y="40"/>
                    <a:pt x="67" y="50"/>
                    <a:pt x="67" y="60"/>
                  </a:cubicBezTo>
                  <a:cubicBezTo>
                    <a:pt x="68" y="63"/>
                    <a:pt x="68" y="68"/>
                    <a:pt x="69" y="72"/>
                  </a:cubicBezTo>
                  <a:cubicBezTo>
                    <a:pt x="70" y="77"/>
                    <a:pt x="71" y="80"/>
                    <a:pt x="71" y="82"/>
                  </a:cubicBezTo>
                  <a:cubicBezTo>
                    <a:pt x="71" y="84"/>
                    <a:pt x="71" y="84"/>
                    <a:pt x="70" y="84"/>
                  </a:cubicBezTo>
                  <a:cubicBezTo>
                    <a:pt x="66" y="74"/>
                    <a:pt x="66" y="62"/>
                    <a:pt x="65" y="50"/>
                  </a:cubicBezTo>
                  <a:cubicBezTo>
                    <a:pt x="65" y="43"/>
                    <a:pt x="65" y="36"/>
                    <a:pt x="64" y="28"/>
                  </a:cubicBezTo>
                  <a:cubicBezTo>
                    <a:pt x="63" y="27"/>
                    <a:pt x="63" y="25"/>
                    <a:pt x="62" y="23"/>
                  </a:cubicBezTo>
                  <a:cubicBezTo>
                    <a:pt x="62" y="20"/>
                    <a:pt x="62" y="20"/>
                    <a:pt x="62" y="20"/>
                  </a:cubicBezTo>
                  <a:cubicBezTo>
                    <a:pt x="61" y="17"/>
                    <a:pt x="61" y="17"/>
                    <a:pt x="61" y="17"/>
                  </a:cubicBezTo>
                  <a:cubicBezTo>
                    <a:pt x="60" y="15"/>
                    <a:pt x="59" y="14"/>
                    <a:pt x="58" y="12"/>
                  </a:cubicBezTo>
                  <a:cubicBezTo>
                    <a:pt x="57" y="10"/>
                    <a:pt x="55" y="7"/>
                    <a:pt x="53" y="6"/>
                  </a:cubicBezTo>
                  <a:cubicBezTo>
                    <a:pt x="55" y="7"/>
                    <a:pt x="57" y="9"/>
                    <a:pt x="58" y="11"/>
                  </a:cubicBezTo>
                  <a:cubicBezTo>
                    <a:pt x="59" y="14"/>
                    <a:pt x="60" y="15"/>
                    <a:pt x="61" y="17"/>
                  </a:cubicBezTo>
                  <a:cubicBezTo>
                    <a:pt x="61" y="20"/>
                    <a:pt x="61" y="20"/>
                    <a:pt x="61" y="20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63" y="24"/>
                    <a:pt x="63" y="26"/>
                    <a:pt x="63" y="28"/>
                  </a:cubicBezTo>
                  <a:cubicBezTo>
                    <a:pt x="65" y="36"/>
                    <a:pt x="65" y="43"/>
                    <a:pt x="65" y="50"/>
                  </a:cubicBezTo>
                  <a:cubicBezTo>
                    <a:pt x="65" y="62"/>
                    <a:pt x="66" y="74"/>
                    <a:pt x="69" y="84"/>
                  </a:cubicBezTo>
                  <a:cubicBezTo>
                    <a:pt x="68" y="84"/>
                    <a:pt x="68" y="84"/>
                    <a:pt x="67" y="85"/>
                  </a:cubicBezTo>
                  <a:cubicBezTo>
                    <a:pt x="67" y="85"/>
                    <a:pt x="68" y="86"/>
                    <a:pt x="68" y="87"/>
                  </a:cubicBezTo>
                  <a:cubicBezTo>
                    <a:pt x="69" y="88"/>
                    <a:pt x="69" y="89"/>
                    <a:pt x="69" y="90"/>
                  </a:cubicBezTo>
                  <a:cubicBezTo>
                    <a:pt x="70" y="91"/>
                    <a:pt x="70" y="91"/>
                    <a:pt x="70" y="92"/>
                  </a:cubicBezTo>
                  <a:cubicBezTo>
                    <a:pt x="70" y="92"/>
                    <a:pt x="70" y="92"/>
                    <a:pt x="71" y="93"/>
                  </a:cubicBezTo>
                  <a:cubicBezTo>
                    <a:pt x="71" y="93"/>
                    <a:pt x="71" y="93"/>
                    <a:pt x="71" y="93"/>
                  </a:cubicBezTo>
                  <a:cubicBezTo>
                    <a:pt x="72" y="93"/>
                    <a:pt x="73" y="93"/>
                    <a:pt x="73" y="92"/>
                  </a:cubicBezTo>
                  <a:cubicBezTo>
                    <a:pt x="73" y="91"/>
                    <a:pt x="73" y="91"/>
                    <a:pt x="73" y="91"/>
                  </a:cubicBezTo>
                  <a:cubicBezTo>
                    <a:pt x="74" y="91"/>
                    <a:pt x="74" y="91"/>
                    <a:pt x="74" y="92"/>
                  </a:cubicBezTo>
                  <a:cubicBezTo>
                    <a:pt x="74" y="93"/>
                    <a:pt x="74" y="94"/>
                    <a:pt x="73" y="95"/>
                  </a:cubicBezTo>
                  <a:cubicBezTo>
                    <a:pt x="73" y="95"/>
                    <a:pt x="72" y="96"/>
                    <a:pt x="72" y="96"/>
                  </a:cubicBezTo>
                  <a:cubicBezTo>
                    <a:pt x="71" y="96"/>
                    <a:pt x="71" y="96"/>
                    <a:pt x="70" y="9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5"/>
                    <a:pt x="67" y="94"/>
                    <a:pt x="66" y="94"/>
                  </a:cubicBezTo>
                  <a:cubicBezTo>
                    <a:pt x="66" y="93"/>
                    <a:pt x="65" y="93"/>
                    <a:pt x="65" y="92"/>
                  </a:cubicBezTo>
                  <a:cubicBezTo>
                    <a:pt x="64" y="92"/>
                    <a:pt x="64" y="92"/>
                    <a:pt x="63" y="9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5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D3FF-0529-4E83-AD8B-5577639E43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7" name="Freeform: Shape 4"/>
          <p:cNvSpPr/>
          <p:nvPr/>
        </p:nvSpPr>
        <p:spPr>
          <a:xfrm>
            <a:off x="463680" y="811080"/>
            <a:ext cx="3843360" cy="1020960"/>
          </a:xfrm>
          <a:custGeom>
            <a:avLst/>
            <a:gdLst/>
            <a:ahLst/>
            <a:rect l="l" t="t" r="r" b="b"/>
            <a:pathLst>
              <a:path w="4956890" h="1318335">
                <a:moveTo>
                  <a:pt x="2110522" y="1099971"/>
                </a:moveTo>
                <a:cubicBezTo>
                  <a:pt x="2283305" y="1099971"/>
                  <a:pt x="2456088" y="1102269"/>
                  <a:pt x="2628870" y="1106866"/>
                </a:cubicBezTo>
                <a:cubicBezTo>
                  <a:pt x="3101749" y="1116061"/>
                  <a:pt x="3620098" y="1106866"/>
                  <a:pt x="4102071" y="1125255"/>
                </a:cubicBezTo>
                <a:cubicBezTo>
                  <a:pt x="4274853" y="1125255"/>
                  <a:pt x="4574950" y="1116061"/>
                  <a:pt x="4665888" y="1125255"/>
                </a:cubicBezTo>
                <a:cubicBezTo>
                  <a:pt x="4729545" y="1134449"/>
                  <a:pt x="4729545" y="1143643"/>
                  <a:pt x="4720451" y="1152838"/>
                </a:cubicBezTo>
                <a:cubicBezTo>
                  <a:pt x="4438542" y="1152838"/>
                  <a:pt x="4147540" y="1152838"/>
                  <a:pt x="3865631" y="1152838"/>
                </a:cubicBezTo>
                <a:cubicBezTo>
                  <a:pt x="3529159" y="1143643"/>
                  <a:pt x="3183594" y="1143643"/>
                  <a:pt x="2838028" y="1134449"/>
                </a:cubicBezTo>
                <a:cubicBezTo>
                  <a:pt x="3174500" y="1143643"/>
                  <a:pt x="3520065" y="1152838"/>
                  <a:pt x="3865631" y="1152838"/>
                </a:cubicBezTo>
                <a:cubicBezTo>
                  <a:pt x="4147540" y="1152838"/>
                  <a:pt x="4429448" y="1152838"/>
                  <a:pt x="4711357" y="1162032"/>
                </a:cubicBezTo>
                <a:cubicBezTo>
                  <a:pt x="4702263" y="1171226"/>
                  <a:pt x="4693169" y="1180421"/>
                  <a:pt x="4711357" y="1189615"/>
                </a:cubicBezTo>
                <a:cubicBezTo>
                  <a:pt x="4711357" y="1189615"/>
                  <a:pt x="4793201" y="1189615"/>
                  <a:pt x="4838671" y="1189615"/>
                </a:cubicBezTo>
                <a:cubicBezTo>
                  <a:pt x="5011453" y="1208004"/>
                  <a:pt x="4965984" y="1235586"/>
                  <a:pt x="4884140" y="1263169"/>
                </a:cubicBezTo>
                <a:cubicBezTo>
                  <a:pt x="4856858" y="1263169"/>
                  <a:pt x="4829577" y="1272364"/>
                  <a:pt x="4802295" y="1272364"/>
                </a:cubicBezTo>
                <a:cubicBezTo>
                  <a:pt x="4784108" y="1272364"/>
                  <a:pt x="4765920" y="1272364"/>
                  <a:pt x="4738638" y="1272364"/>
                </a:cubicBezTo>
                <a:cubicBezTo>
                  <a:pt x="4356698" y="1263169"/>
                  <a:pt x="3965663" y="1272364"/>
                  <a:pt x="3529159" y="1263169"/>
                </a:cubicBezTo>
                <a:cubicBezTo>
                  <a:pt x="3229063" y="1253975"/>
                  <a:pt x="2883498" y="1263169"/>
                  <a:pt x="2574307" y="1263169"/>
                </a:cubicBezTo>
                <a:cubicBezTo>
                  <a:pt x="3292720" y="1263169"/>
                  <a:pt x="4047507" y="1263169"/>
                  <a:pt x="4738638" y="1290752"/>
                </a:cubicBezTo>
                <a:cubicBezTo>
                  <a:pt x="4674982" y="1299946"/>
                  <a:pt x="4584043" y="1309141"/>
                  <a:pt x="4493105" y="1309141"/>
                </a:cubicBezTo>
                <a:cubicBezTo>
                  <a:pt x="4256666" y="1299946"/>
                  <a:pt x="4029320" y="1299946"/>
                  <a:pt x="3801974" y="1299946"/>
                </a:cubicBezTo>
                <a:cubicBezTo>
                  <a:pt x="3801974" y="1299946"/>
                  <a:pt x="3801974" y="1290752"/>
                  <a:pt x="3801974" y="1281558"/>
                </a:cubicBezTo>
                <a:cubicBezTo>
                  <a:pt x="3147219" y="1299946"/>
                  <a:pt x="2537932" y="1263169"/>
                  <a:pt x="1892270" y="1290752"/>
                </a:cubicBezTo>
                <a:cubicBezTo>
                  <a:pt x="1919552" y="1290752"/>
                  <a:pt x="1901364" y="1299946"/>
                  <a:pt x="1901364" y="1299946"/>
                </a:cubicBezTo>
                <a:cubicBezTo>
                  <a:pt x="2537932" y="1290752"/>
                  <a:pt x="3138125" y="1290752"/>
                  <a:pt x="3774693" y="1299946"/>
                </a:cubicBezTo>
                <a:cubicBezTo>
                  <a:pt x="2783465" y="1299946"/>
                  <a:pt x="1828614" y="1309141"/>
                  <a:pt x="810105" y="1309141"/>
                </a:cubicBezTo>
                <a:cubicBezTo>
                  <a:pt x="764636" y="1309141"/>
                  <a:pt x="682791" y="1309141"/>
                  <a:pt x="637322" y="1318335"/>
                </a:cubicBezTo>
                <a:cubicBezTo>
                  <a:pt x="464540" y="1299946"/>
                  <a:pt x="291757" y="1299946"/>
                  <a:pt x="118974" y="1299946"/>
                </a:cubicBezTo>
                <a:cubicBezTo>
                  <a:pt x="164443" y="1272364"/>
                  <a:pt x="-8340" y="1235586"/>
                  <a:pt x="337226" y="1244781"/>
                </a:cubicBezTo>
                <a:cubicBezTo>
                  <a:pt x="337226" y="1235586"/>
                  <a:pt x="337226" y="1226392"/>
                  <a:pt x="337226" y="1226392"/>
                </a:cubicBezTo>
                <a:cubicBezTo>
                  <a:pt x="-8340" y="1198809"/>
                  <a:pt x="-144747" y="1143643"/>
                  <a:pt x="200819" y="1125255"/>
                </a:cubicBezTo>
                <a:cubicBezTo>
                  <a:pt x="591853" y="1106866"/>
                  <a:pt x="1110201" y="1116061"/>
                  <a:pt x="1592174" y="1106866"/>
                </a:cubicBezTo>
                <a:cubicBezTo>
                  <a:pt x="1764957" y="1102269"/>
                  <a:pt x="1937740" y="1099971"/>
                  <a:pt x="2110522" y="1099971"/>
                </a:cubicBezTo>
                <a:close/>
                <a:moveTo>
                  <a:pt x="1100322" y="698373"/>
                </a:moveTo>
                <a:cubicBezTo>
                  <a:pt x="1051078" y="698373"/>
                  <a:pt x="1026456" y="717042"/>
                  <a:pt x="1026456" y="754381"/>
                </a:cubicBezTo>
                <a:cubicBezTo>
                  <a:pt x="1026456" y="770176"/>
                  <a:pt x="1030933" y="783816"/>
                  <a:pt x="1039886" y="795301"/>
                </a:cubicBezTo>
                <a:cubicBezTo>
                  <a:pt x="1048840" y="806787"/>
                  <a:pt x="1062718" y="812530"/>
                  <a:pt x="1081520" y="812530"/>
                </a:cubicBezTo>
                <a:cubicBezTo>
                  <a:pt x="1091369" y="812530"/>
                  <a:pt x="1101666" y="810739"/>
                  <a:pt x="1112410" y="807158"/>
                </a:cubicBezTo>
                <a:cubicBezTo>
                  <a:pt x="1123154" y="803576"/>
                  <a:pt x="1132107" y="799100"/>
                  <a:pt x="1139270" y="793728"/>
                </a:cubicBezTo>
                <a:lnTo>
                  <a:pt x="1139270" y="698373"/>
                </a:lnTo>
                <a:lnTo>
                  <a:pt x="1100322" y="698373"/>
                </a:lnTo>
                <a:close/>
                <a:moveTo>
                  <a:pt x="339665" y="581530"/>
                </a:moveTo>
                <a:lnTo>
                  <a:pt x="339665" y="787012"/>
                </a:lnTo>
                <a:lnTo>
                  <a:pt x="411224" y="787012"/>
                </a:lnTo>
                <a:cubicBezTo>
                  <a:pt x="438839" y="787012"/>
                  <a:pt x="462692" y="779231"/>
                  <a:pt x="482782" y="763667"/>
                </a:cubicBezTo>
                <a:cubicBezTo>
                  <a:pt x="502871" y="748103"/>
                  <a:pt x="512916" y="722086"/>
                  <a:pt x="512916" y="685614"/>
                </a:cubicBezTo>
                <a:cubicBezTo>
                  <a:pt x="512916" y="654473"/>
                  <a:pt x="503710" y="629340"/>
                  <a:pt x="485300" y="610216"/>
                </a:cubicBezTo>
                <a:cubicBezTo>
                  <a:pt x="466889" y="591092"/>
                  <a:pt x="444708" y="581530"/>
                  <a:pt x="418757" y="581530"/>
                </a:cubicBezTo>
                <a:lnTo>
                  <a:pt x="339665" y="581530"/>
                </a:lnTo>
                <a:close/>
                <a:moveTo>
                  <a:pt x="4000665" y="475431"/>
                </a:moveTo>
                <a:cubicBezTo>
                  <a:pt x="3982646" y="475431"/>
                  <a:pt x="3968188" y="480236"/>
                  <a:pt x="3957289" y="489847"/>
                </a:cubicBezTo>
                <a:cubicBezTo>
                  <a:pt x="3946392" y="499458"/>
                  <a:pt x="3937861" y="511913"/>
                  <a:pt x="3931699" y="527211"/>
                </a:cubicBezTo>
                <a:cubicBezTo>
                  <a:pt x="3925536" y="542509"/>
                  <a:pt x="3921269" y="559992"/>
                  <a:pt x="3918898" y="579662"/>
                </a:cubicBezTo>
                <a:cubicBezTo>
                  <a:pt x="3916526" y="599332"/>
                  <a:pt x="3915341" y="619218"/>
                  <a:pt x="3915341" y="639322"/>
                </a:cubicBezTo>
                <a:cubicBezTo>
                  <a:pt x="3915341" y="660292"/>
                  <a:pt x="3916526" y="680830"/>
                  <a:pt x="3918898" y="700933"/>
                </a:cubicBezTo>
                <a:cubicBezTo>
                  <a:pt x="3921269" y="721036"/>
                  <a:pt x="3925536" y="738954"/>
                  <a:pt x="3931699" y="754685"/>
                </a:cubicBezTo>
                <a:cubicBezTo>
                  <a:pt x="3937861" y="770417"/>
                  <a:pt x="3946392" y="782871"/>
                  <a:pt x="3957289" y="792049"/>
                </a:cubicBezTo>
                <a:cubicBezTo>
                  <a:pt x="3968188" y="801226"/>
                  <a:pt x="3982646" y="805815"/>
                  <a:pt x="4000665" y="805815"/>
                </a:cubicBezTo>
                <a:cubicBezTo>
                  <a:pt x="4018670" y="805815"/>
                  <a:pt x="4033125" y="801226"/>
                  <a:pt x="4044030" y="792049"/>
                </a:cubicBezTo>
                <a:cubicBezTo>
                  <a:pt x="4054935" y="782871"/>
                  <a:pt x="4063469" y="770417"/>
                  <a:pt x="4069631" y="754685"/>
                </a:cubicBezTo>
                <a:cubicBezTo>
                  <a:pt x="4075794" y="738954"/>
                  <a:pt x="4079823" y="721036"/>
                  <a:pt x="4081719" y="700933"/>
                </a:cubicBezTo>
                <a:cubicBezTo>
                  <a:pt x="4083614" y="680830"/>
                  <a:pt x="4084562" y="660292"/>
                  <a:pt x="4084562" y="639322"/>
                </a:cubicBezTo>
                <a:cubicBezTo>
                  <a:pt x="4084562" y="619218"/>
                  <a:pt x="4083614" y="599332"/>
                  <a:pt x="4081719" y="579662"/>
                </a:cubicBezTo>
                <a:cubicBezTo>
                  <a:pt x="4079823" y="559992"/>
                  <a:pt x="4075794" y="542509"/>
                  <a:pt x="4069631" y="527211"/>
                </a:cubicBezTo>
                <a:cubicBezTo>
                  <a:pt x="4063469" y="511913"/>
                  <a:pt x="4054935" y="499458"/>
                  <a:pt x="4044030" y="489847"/>
                </a:cubicBezTo>
                <a:cubicBezTo>
                  <a:pt x="4033125" y="480236"/>
                  <a:pt x="4018670" y="475431"/>
                  <a:pt x="4000665" y="475431"/>
                </a:cubicBezTo>
                <a:close/>
                <a:moveTo>
                  <a:pt x="3362490" y="475431"/>
                </a:moveTo>
                <a:cubicBezTo>
                  <a:pt x="3344471" y="475431"/>
                  <a:pt x="3330012" y="480236"/>
                  <a:pt x="3319115" y="489847"/>
                </a:cubicBezTo>
                <a:cubicBezTo>
                  <a:pt x="3308216" y="499458"/>
                  <a:pt x="3299686" y="511913"/>
                  <a:pt x="3293524" y="527211"/>
                </a:cubicBezTo>
                <a:cubicBezTo>
                  <a:pt x="3287361" y="542509"/>
                  <a:pt x="3283094" y="559992"/>
                  <a:pt x="3280723" y="579662"/>
                </a:cubicBezTo>
                <a:cubicBezTo>
                  <a:pt x="3278352" y="599332"/>
                  <a:pt x="3277166" y="619218"/>
                  <a:pt x="3277166" y="639322"/>
                </a:cubicBezTo>
                <a:cubicBezTo>
                  <a:pt x="3277166" y="660292"/>
                  <a:pt x="3278352" y="680830"/>
                  <a:pt x="3280723" y="700933"/>
                </a:cubicBezTo>
                <a:cubicBezTo>
                  <a:pt x="3283094" y="721036"/>
                  <a:pt x="3287361" y="738954"/>
                  <a:pt x="3293524" y="754685"/>
                </a:cubicBezTo>
                <a:cubicBezTo>
                  <a:pt x="3299686" y="770417"/>
                  <a:pt x="3308216" y="782871"/>
                  <a:pt x="3319115" y="792049"/>
                </a:cubicBezTo>
                <a:cubicBezTo>
                  <a:pt x="3330012" y="801226"/>
                  <a:pt x="3344471" y="805815"/>
                  <a:pt x="3362490" y="805815"/>
                </a:cubicBezTo>
                <a:cubicBezTo>
                  <a:pt x="3380495" y="805815"/>
                  <a:pt x="3394950" y="801226"/>
                  <a:pt x="3405855" y="792049"/>
                </a:cubicBezTo>
                <a:cubicBezTo>
                  <a:pt x="3416760" y="782871"/>
                  <a:pt x="3425294" y="770417"/>
                  <a:pt x="3431457" y="754685"/>
                </a:cubicBezTo>
                <a:cubicBezTo>
                  <a:pt x="3437619" y="738954"/>
                  <a:pt x="3441648" y="721036"/>
                  <a:pt x="3443544" y="700933"/>
                </a:cubicBezTo>
                <a:cubicBezTo>
                  <a:pt x="3445439" y="680830"/>
                  <a:pt x="3446387" y="660292"/>
                  <a:pt x="3446387" y="639322"/>
                </a:cubicBezTo>
                <a:cubicBezTo>
                  <a:pt x="3446387" y="619218"/>
                  <a:pt x="3445439" y="599332"/>
                  <a:pt x="3443544" y="579662"/>
                </a:cubicBezTo>
                <a:cubicBezTo>
                  <a:pt x="3441648" y="559992"/>
                  <a:pt x="3437619" y="542509"/>
                  <a:pt x="3431457" y="527211"/>
                </a:cubicBezTo>
                <a:cubicBezTo>
                  <a:pt x="3425294" y="511913"/>
                  <a:pt x="3416760" y="499458"/>
                  <a:pt x="3405855" y="489847"/>
                </a:cubicBezTo>
                <a:cubicBezTo>
                  <a:pt x="3394950" y="480236"/>
                  <a:pt x="3380495" y="475431"/>
                  <a:pt x="3362490" y="475431"/>
                </a:cubicBezTo>
                <a:close/>
                <a:moveTo>
                  <a:pt x="2224358" y="463344"/>
                </a:moveTo>
                <a:cubicBezTo>
                  <a:pt x="2208620" y="463344"/>
                  <a:pt x="2195424" y="466862"/>
                  <a:pt x="2184771" y="473899"/>
                </a:cubicBezTo>
                <a:cubicBezTo>
                  <a:pt x="2174118" y="480936"/>
                  <a:pt x="2165087" y="490082"/>
                  <a:pt x="2157679" y="501336"/>
                </a:cubicBezTo>
                <a:cubicBezTo>
                  <a:pt x="2150272" y="512591"/>
                  <a:pt x="2144948" y="525252"/>
                  <a:pt x="2141710" y="539319"/>
                </a:cubicBezTo>
                <a:cubicBezTo>
                  <a:pt x="2138472" y="553386"/>
                  <a:pt x="2136852" y="567456"/>
                  <a:pt x="2136852" y="581530"/>
                </a:cubicBezTo>
                <a:lnTo>
                  <a:pt x="2299358" y="581530"/>
                </a:lnTo>
                <a:cubicBezTo>
                  <a:pt x="2299358" y="544009"/>
                  <a:pt x="2293339" y="514931"/>
                  <a:pt x="2281301" y="494296"/>
                </a:cubicBezTo>
                <a:cubicBezTo>
                  <a:pt x="2269262" y="473661"/>
                  <a:pt x="2250282" y="463344"/>
                  <a:pt x="2224358" y="463344"/>
                </a:cubicBezTo>
                <a:close/>
                <a:moveTo>
                  <a:pt x="1092264" y="292779"/>
                </a:moveTo>
                <a:cubicBezTo>
                  <a:pt x="1134346" y="292779"/>
                  <a:pt x="1172398" y="297256"/>
                  <a:pt x="1206421" y="306210"/>
                </a:cubicBezTo>
                <a:cubicBezTo>
                  <a:pt x="1240445" y="315163"/>
                  <a:pt x="1269320" y="329265"/>
                  <a:pt x="1293047" y="348515"/>
                </a:cubicBezTo>
                <a:cubicBezTo>
                  <a:pt x="1316773" y="367765"/>
                  <a:pt x="1335128" y="393059"/>
                  <a:pt x="1348111" y="424396"/>
                </a:cubicBezTo>
                <a:cubicBezTo>
                  <a:pt x="1361093" y="455733"/>
                  <a:pt x="1367584" y="493785"/>
                  <a:pt x="1367584" y="538553"/>
                </a:cubicBezTo>
                <a:lnTo>
                  <a:pt x="1367584" y="979065"/>
                </a:lnTo>
                <a:lnTo>
                  <a:pt x="1172846" y="979065"/>
                </a:lnTo>
                <a:lnTo>
                  <a:pt x="1158073" y="919972"/>
                </a:lnTo>
                <a:cubicBezTo>
                  <a:pt x="1153596" y="925344"/>
                  <a:pt x="1147328" y="931835"/>
                  <a:pt x="1139270" y="939446"/>
                </a:cubicBezTo>
                <a:cubicBezTo>
                  <a:pt x="1131212" y="947056"/>
                  <a:pt x="1121139" y="954667"/>
                  <a:pt x="1109052" y="962277"/>
                </a:cubicBezTo>
                <a:cubicBezTo>
                  <a:pt x="1096965" y="969888"/>
                  <a:pt x="1082639" y="976155"/>
                  <a:pt x="1066075" y="981080"/>
                </a:cubicBezTo>
                <a:cubicBezTo>
                  <a:pt x="1049511" y="986004"/>
                  <a:pt x="1030037" y="988466"/>
                  <a:pt x="1007654" y="988466"/>
                </a:cubicBezTo>
                <a:cubicBezTo>
                  <a:pt x="980793" y="988466"/>
                  <a:pt x="955276" y="984213"/>
                  <a:pt x="931101" y="975708"/>
                </a:cubicBezTo>
                <a:cubicBezTo>
                  <a:pt x="906927" y="967202"/>
                  <a:pt x="885886" y="954219"/>
                  <a:pt x="867979" y="936760"/>
                </a:cubicBezTo>
                <a:cubicBezTo>
                  <a:pt x="850072" y="919300"/>
                  <a:pt x="835747" y="897364"/>
                  <a:pt x="825002" y="870952"/>
                </a:cubicBezTo>
                <a:cubicBezTo>
                  <a:pt x="814258" y="844539"/>
                  <a:pt x="808886" y="812978"/>
                  <a:pt x="808886" y="776268"/>
                </a:cubicBezTo>
                <a:cubicBezTo>
                  <a:pt x="808886" y="735082"/>
                  <a:pt x="816273" y="700835"/>
                  <a:pt x="831046" y="673527"/>
                </a:cubicBezTo>
                <a:cubicBezTo>
                  <a:pt x="845819" y="646219"/>
                  <a:pt x="866188" y="624283"/>
                  <a:pt x="892154" y="607719"/>
                </a:cubicBezTo>
                <a:cubicBezTo>
                  <a:pt x="918119" y="591155"/>
                  <a:pt x="948113" y="579515"/>
                  <a:pt x="982136" y="572800"/>
                </a:cubicBezTo>
                <a:cubicBezTo>
                  <a:pt x="1016160" y="566085"/>
                  <a:pt x="1052869" y="562727"/>
                  <a:pt x="1092264" y="562727"/>
                </a:cubicBezTo>
                <a:lnTo>
                  <a:pt x="1137927" y="562727"/>
                </a:lnTo>
                <a:lnTo>
                  <a:pt x="1137927" y="539896"/>
                </a:lnTo>
                <a:cubicBezTo>
                  <a:pt x="1137927" y="523780"/>
                  <a:pt x="1134793" y="511021"/>
                  <a:pt x="1128526" y="501620"/>
                </a:cubicBezTo>
                <a:cubicBezTo>
                  <a:pt x="1122259" y="492219"/>
                  <a:pt x="1114200" y="485056"/>
                  <a:pt x="1104352" y="480131"/>
                </a:cubicBezTo>
                <a:cubicBezTo>
                  <a:pt x="1094503" y="475207"/>
                  <a:pt x="1083758" y="472073"/>
                  <a:pt x="1072119" y="470730"/>
                </a:cubicBezTo>
                <a:cubicBezTo>
                  <a:pt x="1060479" y="469387"/>
                  <a:pt x="1049288" y="468716"/>
                  <a:pt x="1038543" y="468716"/>
                </a:cubicBezTo>
                <a:cubicBezTo>
                  <a:pt x="1015264" y="468716"/>
                  <a:pt x="990194" y="470954"/>
                  <a:pt x="963334" y="475431"/>
                </a:cubicBezTo>
                <a:cubicBezTo>
                  <a:pt x="936473" y="479907"/>
                  <a:pt x="907374" y="487518"/>
                  <a:pt x="876037" y="498262"/>
                </a:cubicBezTo>
                <a:lnTo>
                  <a:pt x="876037" y="320983"/>
                </a:lnTo>
                <a:cubicBezTo>
                  <a:pt x="890363" y="317401"/>
                  <a:pt x="906703" y="313820"/>
                  <a:pt x="925058" y="310239"/>
                </a:cubicBezTo>
                <a:cubicBezTo>
                  <a:pt x="943412" y="306657"/>
                  <a:pt x="962439" y="303524"/>
                  <a:pt x="982136" y="300837"/>
                </a:cubicBezTo>
                <a:cubicBezTo>
                  <a:pt x="1001834" y="298151"/>
                  <a:pt x="1021084" y="296137"/>
                  <a:pt x="1039886" y="294794"/>
                </a:cubicBezTo>
                <a:cubicBezTo>
                  <a:pt x="1058689" y="293451"/>
                  <a:pt x="1076148" y="292779"/>
                  <a:pt x="1092264" y="292779"/>
                </a:cubicBezTo>
                <a:close/>
                <a:moveTo>
                  <a:pt x="1849993" y="291436"/>
                </a:moveTo>
                <a:cubicBezTo>
                  <a:pt x="1866907" y="291436"/>
                  <a:pt x="1882037" y="293227"/>
                  <a:pt x="1895384" y="296808"/>
                </a:cubicBezTo>
                <a:lnTo>
                  <a:pt x="1895384" y="510349"/>
                </a:lnTo>
                <a:cubicBezTo>
                  <a:pt x="1882919" y="508559"/>
                  <a:pt x="1872017" y="507216"/>
                  <a:pt x="1862679" y="506320"/>
                </a:cubicBezTo>
                <a:cubicBezTo>
                  <a:pt x="1853341" y="505425"/>
                  <a:pt x="1844216" y="504977"/>
                  <a:pt x="1835304" y="504977"/>
                </a:cubicBezTo>
                <a:cubicBezTo>
                  <a:pt x="1806835" y="504977"/>
                  <a:pt x="1777470" y="510573"/>
                  <a:pt x="1747210" y="521765"/>
                </a:cubicBezTo>
                <a:cubicBezTo>
                  <a:pt x="1716950" y="532957"/>
                  <a:pt x="1692923" y="547506"/>
                  <a:pt x="1675127" y="565413"/>
                </a:cubicBezTo>
                <a:lnTo>
                  <a:pt x="1675127" y="979065"/>
                </a:lnTo>
                <a:lnTo>
                  <a:pt x="1446813" y="979065"/>
                </a:lnTo>
                <a:lnTo>
                  <a:pt x="1446813" y="308896"/>
                </a:lnTo>
                <a:lnTo>
                  <a:pt x="1641552" y="308896"/>
                </a:lnTo>
                <a:lnTo>
                  <a:pt x="1664383" y="433797"/>
                </a:lnTo>
                <a:cubicBezTo>
                  <a:pt x="1672399" y="415890"/>
                  <a:pt x="1682192" y="398431"/>
                  <a:pt x="1693762" y="381419"/>
                </a:cubicBezTo>
                <a:cubicBezTo>
                  <a:pt x="1705332" y="364407"/>
                  <a:pt x="1718905" y="349186"/>
                  <a:pt x="1734483" y="335756"/>
                </a:cubicBezTo>
                <a:cubicBezTo>
                  <a:pt x="1750061" y="322326"/>
                  <a:pt x="1767419" y="311582"/>
                  <a:pt x="1786556" y="303524"/>
                </a:cubicBezTo>
                <a:cubicBezTo>
                  <a:pt x="1805695" y="295465"/>
                  <a:pt x="1826840" y="291436"/>
                  <a:pt x="1849993" y="291436"/>
                </a:cubicBezTo>
                <a:close/>
                <a:moveTo>
                  <a:pt x="3999952" y="287407"/>
                </a:moveTo>
                <a:cubicBezTo>
                  <a:pt x="4055463" y="287407"/>
                  <a:pt x="4102693" y="297032"/>
                  <a:pt x="4141641" y="316282"/>
                </a:cubicBezTo>
                <a:cubicBezTo>
                  <a:pt x="4180589" y="335532"/>
                  <a:pt x="4212597" y="361497"/>
                  <a:pt x="4237667" y="394178"/>
                </a:cubicBezTo>
                <a:cubicBezTo>
                  <a:pt x="4262736" y="426858"/>
                  <a:pt x="4280867" y="464687"/>
                  <a:pt x="4292059" y="507663"/>
                </a:cubicBezTo>
                <a:cubicBezTo>
                  <a:pt x="4303251" y="550640"/>
                  <a:pt x="4308847" y="595408"/>
                  <a:pt x="4308847" y="641966"/>
                </a:cubicBezTo>
                <a:cubicBezTo>
                  <a:pt x="4308847" y="689419"/>
                  <a:pt x="4303027" y="734411"/>
                  <a:pt x="4291388" y="776940"/>
                </a:cubicBezTo>
                <a:cubicBezTo>
                  <a:pt x="4279748" y="819469"/>
                  <a:pt x="4261393" y="856850"/>
                  <a:pt x="4236324" y="889082"/>
                </a:cubicBezTo>
                <a:cubicBezTo>
                  <a:pt x="4211254" y="921315"/>
                  <a:pt x="4179245" y="946832"/>
                  <a:pt x="4140298" y="965635"/>
                </a:cubicBezTo>
                <a:cubicBezTo>
                  <a:pt x="4101350" y="984437"/>
                  <a:pt x="4054568" y="993838"/>
                  <a:pt x="3999952" y="993838"/>
                </a:cubicBezTo>
                <a:cubicBezTo>
                  <a:pt x="3944440" y="993838"/>
                  <a:pt x="3897210" y="984437"/>
                  <a:pt x="3858262" y="965635"/>
                </a:cubicBezTo>
                <a:cubicBezTo>
                  <a:pt x="3819315" y="946832"/>
                  <a:pt x="3787530" y="921315"/>
                  <a:pt x="3762908" y="889082"/>
                </a:cubicBezTo>
                <a:cubicBezTo>
                  <a:pt x="3738285" y="856850"/>
                  <a:pt x="3720155" y="819469"/>
                  <a:pt x="3708515" y="776940"/>
                </a:cubicBezTo>
                <a:cubicBezTo>
                  <a:pt x="3696875" y="734411"/>
                  <a:pt x="3691056" y="689419"/>
                  <a:pt x="3691056" y="641966"/>
                </a:cubicBezTo>
                <a:cubicBezTo>
                  <a:pt x="3691056" y="595408"/>
                  <a:pt x="3696651" y="550640"/>
                  <a:pt x="3707843" y="507663"/>
                </a:cubicBezTo>
                <a:cubicBezTo>
                  <a:pt x="3719035" y="464687"/>
                  <a:pt x="3736943" y="426858"/>
                  <a:pt x="3761565" y="394178"/>
                </a:cubicBezTo>
                <a:cubicBezTo>
                  <a:pt x="3786187" y="361497"/>
                  <a:pt x="3817972" y="335532"/>
                  <a:pt x="3856919" y="316282"/>
                </a:cubicBezTo>
                <a:cubicBezTo>
                  <a:pt x="3895867" y="297032"/>
                  <a:pt x="3943545" y="287407"/>
                  <a:pt x="3999952" y="287407"/>
                </a:cubicBezTo>
                <a:close/>
                <a:moveTo>
                  <a:pt x="3361776" y="287407"/>
                </a:moveTo>
                <a:cubicBezTo>
                  <a:pt x="3417288" y="287407"/>
                  <a:pt x="3464518" y="297032"/>
                  <a:pt x="3503466" y="316282"/>
                </a:cubicBezTo>
                <a:cubicBezTo>
                  <a:pt x="3542413" y="335532"/>
                  <a:pt x="3574422" y="361497"/>
                  <a:pt x="3599492" y="394178"/>
                </a:cubicBezTo>
                <a:cubicBezTo>
                  <a:pt x="3624562" y="426858"/>
                  <a:pt x="3642692" y="464687"/>
                  <a:pt x="3653885" y="507663"/>
                </a:cubicBezTo>
                <a:cubicBezTo>
                  <a:pt x="3665076" y="550640"/>
                  <a:pt x="3670672" y="595408"/>
                  <a:pt x="3670672" y="641966"/>
                </a:cubicBezTo>
                <a:cubicBezTo>
                  <a:pt x="3670672" y="689419"/>
                  <a:pt x="3664852" y="734411"/>
                  <a:pt x="3653213" y="776940"/>
                </a:cubicBezTo>
                <a:cubicBezTo>
                  <a:pt x="3641573" y="819469"/>
                  <a:pt x="3623218" y="856850"/>
                  <a:pt x="3598149" y="889082"/>
                </a:cubicBezTo>
                <a:cubicBezTo>
                  <a:pt x="3573079" y="921315"/>
                  <a:pt x="3541070" y="946832"/>
                  <a:pt x="3502123" y="965635"/>
                </a:cubicBezTo>
                <a:cubicBezTo>
                  <a:pt x="3463175" y="984437"/>
                  <a:pt x="3416393" y="993838"/>
                  <a:pt x="3361776" y="993838"/>
                </a:cubicBezTo>
                <a:cubicBezTo>
                  <a:pt x="3306264" y="993838"/>
                  <a:pt x="3259035" y="984437"/>
                  <a:pt x="3220087" y="965635"/>
                </a:cubicBezTo>
                <a:cubicBezTo>
                  <a:pt x="3181140" y="946832"/>
                  <a:pt x="3149355" y="921315"/>
                  <a:pt x="3124733" y="889082"/>
                </a:cubicBezTo>
                <a:cubicBezTo>
                  <a:pt x="3100110" y="856850"/>
                  <a:pt x="3081979" y="819469"/>
                  <a:pt x="3070340" y="776940"/>
                </a:cubicBezTo>
                <a:cubicBezTo>
                  <a:pt x="3058701" y="734411"/>
                  <a:pt x="3052881" y="689419"/>
                  <a:pt x="3052881" y="641966"/>
                </a:cubicBezTo>
                <a:cubicBezTo>
                  <a:pt x="3052881" y="595408"/>
                  <a:pt x="3058476" y="550640"/>
                  <a:pt x="3069668" y="507663"/>
                </a:cubicBezTo>
                <a:cubicBezTo>
                  <a:pt x="3080860" y="464687"/>
                  <a:pt x="3098767" y="426858"/>
                  <a:pt x="3123390" y="394178"/>
                </a:cubicBezTo>
                <a:cubicBezTo>
                  <a:pt x="3148012" y="361497"/>
                  <a:pt x="3179797" y="335532"/>
                  <a:pt x="3218744" y="316282"/>
                </a:cubicBezTo>
                <a:cubicBezTo>
                  <a:pt x="3257692" y="297032"/>
                  <a:pt x="3305369" y="287407"/>
                  <a:pt x="3361776" y="287407"/>
                </a:cubicBezTo>
                <a:close/>
                <a:moveTo>
                  <a:pt x="2230864" y="287407"/>
                </a:moveTo>
                <a:cubicBezTo>
                  <a:pt x="2280108" y="287407"/>
                  <a:pt x="2322189" y="296137"/>
                  <a:pt x="2357108" y="313596"/>
                </a:cubicBezTo>
                <a:cubicBezTo>
                  <a:pt x="2392027" y="331056"/>
                  <a:pt x="2420454" y="355006"/>
                  <a:pt x="2442390" y="385448"/>
                </a:cubicBezTo>
                <a:cubicBezTo>
                  <a:pt x="2464326" y="415890"/>
                  <a:pt x="2480219" y="451480"/>
                  <a:pt x="2490067" y="492219"/>
                </a:cubicBezTo>
                <a:cubicBezTo>
                  <a:pt x="2499916" y="532957"/>
                  <a:pt x="2504841" y="576605"/>
                  <a:pt x="2504841" y="623163"/>
                </a:cubicBezTo>
                <a:cubicBezTo>
                  <a:pt x="2504841" y="636594"/>
                  <a:pt x="2504613" y="651815"/>
                  <a:pt x="2504159" y="668826"/>
                </a:cubicBezTo>
                <a:cubicBezTo>
                  <a:pt x="2503704" y="685838"/>
                  <a:pt x="2502567" y="701954"/>
                  <a:pt x="2500749" y="717175"/>
                </a:cubicBezTo>
                <a:lnTo>
                  <a:pt x="2139538" y="717175"/>
                </a:lnTo>
                <a:cubicBezTo>
                  <a:pt x="2139538" y="752094"/>
                  <a:pt x="2152727" y="777611"/>
                  <a:pt x="2179105" y="793728"/>
                </a:cubicBezTo>
                <a:cubicBezTo>
                  <a:pt x="2205483" y="809844"/>
                  <a:pt x="2243238" y="817902"/>
                  <a:pt x="2292370" y="817902"/>
                </a:cubicBezTo>
                <a:cubicBezTo>
                  <a:pt x="2326030" y="817902"/>
                  <a:pt x="2357640" y="814768"/>
                  <a:pt x="2387200" y="808501"/>
                </a:cubicBezTo>
                <a:cubicBezTo>
                  <a:pt x="2416761" y="802233"/>
                  <a:pt x="2447916" y="792832"/>
                  <a:pt x="2480666" y="780297"/>
                </a:cubicBezTo>
                <a:lnTo>
                  <a:pt x="2480666" y="957577"/>
                </a:lnTo>
                <a:cubicBezTo>
                  <a:pt x="2453806" y="969216"/>
                  <a:pt x="2422916" y="978170"/>
                  <a:pt x="2387998" y="984437"/>
                </a:cubicBezTo>
                <a:cubicBezTo>
                  <a:pt x="2353079" y="990705"/>
                  <a:pt x="2317713" y="993838"/>
                  <a:pt x="2281899" y="993838"/>
                </a:cubicBezTo>
                <a:cubicBezTo>
                  <a:pt x="2161026" y="993838"/>
                  <a:pt x="2069701" y="966083"/>
                  <a:pt x="2007921" y="910571"/>
                </a:cubicBezTo>
                <a:cubicBezTo>
                  <a:pt x="1946142" y="855059"/>
                  <a:pt x="1915253" y="766867"/>
                  <a:pt x="1915253" y="645995"/>
                </a:cubicBezTo>
                <a:cubicBezTo>
                  <a:pt x="1915253" y="599437"/>
                  <a:pt x="1921744" y="554445"/>
                  <a:pt x="1934727" y="511021"/>
                </a:cubicBezTo>
                <a:cubicBezTo>
                  <a:pt x="1947709" y="467596"/>
                  <a:pt x="1967407" y="429320"/>
                  <a:pt x="1993820" y="396192"/>
                </a:cubicBezTo>
                <a:cubicBezTo>
                  <a:pt x="2020233" y="363064"/>
                  <a:pt x="2053137" y="336651"/>
                  <a:pt x="2092532" y="316954"/>
                </a:cubicBezTo>
                <a:cubicBezTo>
                  <a:pt x="2131928" y="297256"/>
                  <a:pt x="2178038" y="287407"/>
                  <a:pt x="2230864" y="287407"/>
                </a:cubicBezTo>
                <a:close/>
                <a:moveTo>
                  <a:pt x="339665" y="202797"/>
                </a:moveTo>
                <a:lnTo>
                  <a:pt x="339665" y="389477"/>
                </a:lnTo>
                <a:lnTo>
                  <a:pt x="412294" y="389477"/>
                </a:lnTo>
                <a:cubicBezTo>
                  <a:pt x="435279" y="389477"/>
                  <a:pt x="453543" y="381241"/>
                  <a:pt x="467085" y="364768"/>
                </a:cubicBezTo>
                <a:cubicBezTo>
                  <a:pt x="480627" y="348295"/>
                  <a:pt x="487398" y="324963"/>
                  <a:pt x="487398" y="294773"/>
                </a:cubicBezTo>
                <a:cubicBezTo>
                  <a:pt x="487398" y="265478"/>
                  <a:pt x="480218" y="242825"/>
                  <a:pt x="465857" y="226814"/>
                </a:cubicBezTo>
                <a:cubicBezTo>
                  <a:pt x="451497" y="210802"/>
                  <a:pt x="432411" y="202797"/>
                  <a:pt x="408600" y="202797"/>
                </a:cubicBezTo>
                <a:lnTo>
                  <a:pt x="339665" y="202797"/>
                </a:lnTo>
                <a:close/>
                <a:moveTo>
                  <a:pt x="4451446" y="136988"/>
                </a:moveTo>
                <a:lnTo>
                  <a:pt x="4679760" y="136988"/>
                </a:lnTo>
                <a:lnTo>
                  <a:pt x="4679760" y="308896"/>
                </a:lnTo>
                <a:lnTo>
                  <a:pt x="4844952" y="308896"/>
                </a:lnTo>
                <a:lnTo>
                  <a:pt x="4844952" y="484832"/>
                </a:lnTo>
                <a:lnTo>
                  <a:pt x="4679760" y="484832"/>
                </a:lnTo>
                <a:lnTo>
                  <a:pt x="4679760" y="718161"/>
                </a:lnTo>
                <a:cubicBezTo>
                  <a:pt x="4679760" y="749625"/>
                  <a:pt x="4684909" y="772099"/>
                  <a:pt x="4695205" y="785586"/>
                </a:cubicBezTo>
                <a:cubicBezTo>
                  <a:pt x="4705502" y="799072"/>
                  <a:pt x="4724975" y="805815"/>
                  <a:pt x="4753627" y="805815"/>
                </a:cubicBezTo>
                <a:cubicBezTo>
                  <a:pt x="4774219" y="805815"/>
                  <a:pt x="4793022" y="804248"/>
                  <a:pt x="4810034" y="801114"/>
                </a:cubicBezTo>
                <a:cubicBezTo>
                  <a:pt x="4827045" y="797981"/>
                  <a:pt x="4842266" y="794175"/>
                  <a:pt x="4855696" y="789698"/>
                </a:cubicBezTo>
                <a:lnTo>
                  <a:pt x="4855696" y="972350"/>
                </a:lnTo>
                <a:cubicBezTo>
                  <a:pt x="4832264" y="980408"/>
                  <a:pt x="4805900" y="986004"/>
                  <a:pt x="4776605" y="989138"/>
                </a:cubicBezTo>
                <a:cubicBezTo>
                  <a:pt x="4747310" y="992272"/>
                  <a:pt x="4720044" y="993838"/>
                  <a:pt x="4694806" y="993838"/>
                </a:cubicBezTo>
                <a:cubicBezTo>
                  <a:pt x="4659650" y="993838"/>
                  <a:pt x="4627201" y="989585"/>
                  <a:pt x="4597458" y="981080"/>
                </a:cubicBezTo>
                <a:cubicBezTo>
                  <a:pt x="4567716" y="972574"/>
                  <a:pt x="4542031" y="959591"/>
                  <a:pt x="4520402" y="942132"/>
                </a:cubicBezTo>
                <a:cubicBezTo>
                  <a:pt x="4498773" y="924673"/>
                  <a:pt x="4481874" y="902513"/>
                  <a:pt x="4469703" y="875652"/>
                </a:cubicBezTo>
                <a:cubicBezTo>
                  <a:pt x="4457532" y="848792"/>
                  <a:pt x="4451446" y="817007"/>
                  <a:pt x="4451446" y="780297"/>
                </a:cubicBezTo>
                <a:lnTo>
                  <a:pt x="4451446" y="484832"/>
                </a:lnTo>
                <a:lnTo>
                  <a:pt x="4318487" y="484832"/>
                </a:lnTo>
                <a:lnTo>
                  <a:pt x="4318487" y="308896"/>
                </a:lnTo>
                <a:lnTo>
                  <a:pt x="4451446" y="308896"/>
                </a:lnTo>
                <a:lnTo>
                  <a:pt x="4451446" y="136988"/>
                </a:lnTo>
                <a:close/>
                <a:moveTo>
                  <a:pt x="97921" y="10744"/>
                </a:moveTo>
                <a:lnTo>
                  <a:pt x="424276" y="10744"/>
                </a:lnTo>
                <a:cubicBezTo>
                  <a:pt x="469044" y="10744"/>
                  <a:pt x="510230" y="16595"/>
                  <a:pt x="547834" y="28298"/>
                </a:cubicBezTo>
                <a:cubicBezTo>
                  <a:pt x="585439" y="40000"/>
                  <a:pt x="617895" y="57106"/>
                  <a:pt x="645204" y="79616"/>
                </a:cubicBezTo>
                <a:cubicBezTo>
                  <a:pt x="672512" y="102126"/>
                  <a:pt x="693776" y="129360"/>
                  <a:pt x="708997" y="161320"/>
                </a:cubicBezTo>
                <a:cubicBezTo>
                  <a:pt x="724218" y="193280"/>
                  <a:pt x="731829" y="229517"/>
                  <a:pt x="731829" y="270032"/>
                </a:cubicBezTo>
                <a:cubicBezTo>
                  <a:pt x="731829" y="290737"/>
                  <a:pt x="728713" y="311669"/>
                  <a:pt x="722480" y="332829"/>
                </a:cubicBezTo>
                <a:cubicBezTo>
                  <a:pt x="716248" y="353988"/>
                  <a:pt x="707563" y="374022"/>
                  <a:pt x="696428" y="392929"/>
                </a:cubicBezTo>
                <a:cubicBezTo>
                  <a:pt x="685292" y="411836"/>
                  <a:pt x="672155" y="428719"/>
                  <a:pt x="657018" y="443576"/>
                </a:cubicBezTo>
                <a:cubicBezTo>
                  <a:pt x="641881" y="458433"/>
                  <a:pt x="624960" y="469912"/>
                  <a:pt x="606256" y="478012"/>
                </a:cubicBezTo>
                <a:cubicBezTo>
                  <a:pt x="633005" y="487805"/>
                  <a:pt x="655958" y="500273"/>
                  <a:pt x="675117" y="515417"/>
                </a:cubicBezTo>
                <a:cubicBezTo>
                  <a:pt x="694277" y="530561"/>
                  <a:pt x="709875" y="547485"/>
                  <a:pt x="721913" y="566190"/>
                </a:cubicBezTo>
                <a:cubicBezTo>
                  <a:pt x="733952" y="584894"/>
                  <a:pt x="742867" y="604714"/>
                  <a:pt x="748658" y="625650"/>
                </a:cubicBezTo>
                <a:cubicBezTo>
                  <a:pt x="754450" y="646586"/>
                  <a:pt x="757346" y="667742"/>
                  <a:pt x="757346" y="689119"/>
                </a:cubicBezTo>
                <a:cubicBezTo>
                  <a:pt x="757346" y="732767"/>
                  <a:pt x="749736" y="772407"/>
                  <a:pt x="734515" y="808039"/>
                </a:cubicBezTo>
                <a:cubicBezTo>
                  <a:pt x="719294" y="843671"/>
                  <a:pt x="698029" y="874180"/>
                  <a:pt x="670721" y="899564"/>
                </a:cubicBezTo>
                <a:cubicBezTo>
                  <a:pt x="643413" y="924949"/>
                  <a:pt x="610285" y="944545"/>
                  <a:pt x="571337" y="958353"/>
                </a:cubicBezTo>
                <a:cubicBezTo>
                  <a:pt x="532390" y="972161"/>
                  <a:pt x="489189" y="979065"/>
                  <a:pt x="441735" y="979065"/>
                </a:cubicBezTo>
                <a:lnTo>
                  <a:pt x="97921" y="979065"/>
                </a:lnTo>
                <a:lnTo>
                  <a:pt x="97921" y="10744"/>
                </a:lnTo>
                <a:close/>
                <a:moveTo>
                  <a:pt x="2908345" y="0"/>
                </a:moveTo>
                <a:cubicBezTo>
                  <a:pt x="2935122" y="0"/>
                  <a:pt x="2961227" y="1567"/>
                  <a:pt x="2986660" y="4700"/>
                </a:cubicBezTo>
                <a:cubicBezTo>
                  <a:pt x="3012094" y="7834"/>
                  <a:pt x="3035072" y="12087"/>
                  <a:pt x="3055595" y="17459"/>
                </a:cubicBezTo>
                <a:lnTo>
                  <a:pt x="3055595" y="205483"/>
                </a:lnTo>
                <a:cubicBezTo>
                  <a:pt x="3037688" y="198320"/>
                  <a:pt x="3020677" y="193619"/>
                  <a:pt x="3004560" y="191381"/>
                </a:cubicBezTo>
                <a:cubicBezTo>
                  <a:pt x="2988444" y="189143"/>
                  <a:pt x="2973671" y="188023"/>
                  <a:pt x="2960241" y="188023"/>
                </a:cubicBezTo>
                <a:cubicBezTo>
                  <a:pt x="2931589" y="188023"/>
                  <a:pt x="2910101" y="193749"/>
                  <a:pt x="2895775" y="205199"/>
                </a:cubicBezTo>
                <a:cubicBezTo>
                  <a:pt x="2881450" y="216650"/>
                  <a:pt x="2874287" y="236372"/>
                  <a:pt x="2874287" y="264366"/>
                </a:cubicBezTo>
                <a:lnTo>
                  <a:pt x="2874287" y="308896"/>
                </a:lnTo>
                <a:lnTo>
                  <a:pt x="3040822" y="308896"/>
                </a:lnTo>
                <a:lnTo>
                  <a:pt x="3040822" y="484832"/>
                </a:lnTo>
                <a:lnTo>
                  <a:pt x="2874287" y="484832"/>
                </a:lnTo>
                <a:lnTo>
                  <a:pt x="2874287" y="979065"/>
                </a:lnTo>
                <a:lnTo>
                  <a:pt x="2645973" y="979065"/>
                </a:lnTo>
                <a:lnTo>
                  <a:pt x="2645973" y="484832"/>
                </a:lnTo>
                <a:lnTo>
                  <a:pt x="2541217" y="484832"/>
                </a:lnTo>
                <a:lnTo>
                  <a:pt x="2541217" y="308896"/>
                </a:lnTo>
                <a:lnTo>
                  <a:pt x="2650002" y="308896"/>
                </a:lnTo>
                <a:lnTo>
                  <a:pt x="2650002" y="226971"/>
                </a:lnTo>
                <a:cubicBezTo>
                  <a:pt x="2650002" y="145494"/>
                  <a:pt x="2672980" y="87296"/>
                  <a:pt x="2718937" y="52378"/>
                </a:cubicBezTo>
                <a:cubicBezTo>
                  <a:pt x="2764893" y="17459"/>
                  <a:pt x="2828029" y="0"/>
                  <a:pt x="2908345" y="0"/>
                </a:cubicBezTo>
                <a:close/>
              </a:path>
            </a:pathLst>
          </a:cu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8" name="Isosceles Triangle 5"/>
          <p:cNvSpPr/>
          <p:nvPr/>
        </p:nvSpPr>
        <p:spPr>
          <a:xfrm rot="16200000">
            <a:off x="7999920" y="-393120"/>
            <a:ext cx="3807000" cy="4592880"/>
          </a:xfrm>
          <a:prstGeom prst="triangle">
            <a:avLst>
              <a:gd name="adj" fmla="val 10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7821720" y="-793800"/>
            <a:ext cx="7486560" cy="3635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3"/>
          <a:stretch/>
        </p:blipFill>
        <p:spPr>
          <a:xfrm>
            <a:off x="11166480" y="431640"/>
            <a:ext cx="2770200" cy="6243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8"/>
          <p:cNvSpPr/>
          <p:nvPr/>
        </p:nvSpPr>
        <p:spPr>
          <a:xfrm>
            <a:off x="9379080" y="587520"/>
            <a:ext cx="28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 Light"/>
              </a:rPr>
              <a:t>Recommended for</a:t>
            </a:r>
            <a:endParaRPr b="0" lang="en-US" sz="2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9567720" y="820800"/>
            <a:ext cx="24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ages 9-11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74" name="Group 13"/>
          <p:cNvGrpSpPr/>
          <p:nvPr/>
        </p:nvGrpSpPr>
        <p:grpSpPr>
          <a:xfrm>
            <a:off x="463680" y="6297480"/>
            <a:ext cx="8143920" cy="412920"/>
            <a:chOff x="463680" y="6297480"/>
            <a:chExt cx="8143920" cy="412920"/>
          </a:xfrm>
        </p:grpSpPr>
        <p:pic>
          <p:nvPicPr>
            <p:cNvPr id="275" name="Picture 14" descr=""/>
            <p:cNvPicPr/>
            <p:nvPr/>
          </p:nvPicPr>
          <p:blipFill>
            <a:blip r:embed="rId4"/>
            <a:srcRect l="0" t="0" r="30587" b="0"/>
            <a:stretch/>
          </p:blipFill>
          <p:spPr>
            <a:xfrm>
              <a:off x="463680" y="6297480"/>
              <a:ext cx="603684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5" descr=""/>
            <p:cNvPicPr/>
            <p:nvPr/>
          </p:nvPicPr>
          <p:blipFill>
            <a:blip r:embed="rId5"/>
            <a:srcRect l="76373" t="0" r="0" b="15165"/>
            <a:stretch/>
          </p:blipFill>
          <p:spPr>
            <a:xfrm>
              <a:off x="6552720" y="6297480"/>
              <a:ext cx="2054880" cy="35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Rectangle 14"/>
          <p:cNvSpPr/>
          <p:nvPr/>
        </p:nvSpPr>
        <p:spPr>
          <a:xfrm>
            <a:off x="1674720" y="4564080"/>
            <a:ext cx="74304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278" name="Group 15"/>
          <p:cNvGrpSpPr/>
          <p:nvPr/>
        </p:nvGrpSpPr>
        <p:grpSpPr>
          <a:xfrm>
            <a:off x="431640" y="4213080"/>
            <a:ext cx="3959280" cy="1255680"/>
            <a:chOff x="431640" y="4213080"/>
            <a:chExt cx="3959280" cy="1255680"/>
          </a:xfrm>
        </p:grpSpPr>
        <p:pic>
          <p:nvPicPr>
            <p:cNvPr id="279" name="Picture 16" descr=""/>
            <p:cNvPicPr/>
            <p:nvPr/>
          </p:nvPicPr>
          <p:blipFill>
            <a:blip r:embed="rId6"/>
            <a:stretch/>
          </p:blipFill>
          <p:spPr>
            <a:xfrm>
              <a:off x="458280" y="4727520"/>
              <a:ext cx="640080" cy="64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Group 14"/>
            <p:cNvGrpSpPr/>
            <p:nvPr/>
          </p:nvGrpSpPr>
          <p:grpSpPr>
            <a:xfrm>
              <a:off x="431640" y="4213080"/>
              <a:ext cx="3959280" cy="1255680"/>
              <a:chOff x="431640" y="4213080"/>
              <a:chExt cx="3959280" cy="1255680"/>
            </a:xfrm>
          </p:grpSpPr>
          <p:sp>
            <p:nvSpPr>
              <p:cNvPr id="281" name="TextBox 15"/>
              <p:cNvSpPr/>
              <p:nvPr/>
            </p:nvSpPr>
            <p:spPr>
              <a:xfrm>
                <a:off x="431640" y="4213080"/>
                <a:ext cx="273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400aa"/>
                    </a:solidFill>
                    <a:latin typeface="Calibri"/>
                  </a:rPr>
                  <a:t>Principal partners</a:t>
                </a:r>
                <a:endParaRPr b="0" lang="en-US" sz="20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  <p:pic>
            <p:nvPicPr>
              <p:cNvPr id="282" name="Graphic 9" descr=""/>
              <p:cNvPicPr/>
              <p:nvPr/>
            </p:nvPicPr>
            <p:blipFill>
              <a:blip r:embed="rId7"/>
              <a:stretch/>
            </p:blipFill>
            <p:spPr>
              <a:xfrm>
                <a:off x="1286640" y="4624920"/>
                <a:ext cx="3104280" cy="84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8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6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2CBB-7EA2-48BE-8C3E-6C09D6D2B6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Isosceles Triangle 3"/>
          <p:cNvSpPr/>
          <p:nvPr/>
        </p:nvSpPr>
        <p:spPr>
          <a:xfrm rot="20157000">
            <a:off x="5427720" y="4518000"/>
            <a:ext cx="4100400" cy="4179960"/>
          </a:xfrm>
          <a:prstGeom prst="triangle">
            <a:avLst>
              <a:gd name="adj" fmla="val 50000"/>
            </a:avLst>
          </a:prstGeom>
          <a:solidFill>
            <a:srgbClr val="e6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3" name="Rectangle 4"/>
          <p:cNvSpPr/>
          <p:nvPr/>
        </p:nvSpPr>
        <p:spPr>
          <a:xfrm rot="19974600">
            <a:off x="8457840" y="6157800"/>
            <a:ext cx="4313160" cy="4284720"/>
          </a:xfrm>
          <a:prstGeom prst="rect">
            <a:avLst/>
          </a:prstGeom>
          <a:solidFill>
            <a:srgbClr val="630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4" name="Freeform 5"/>
          <p:cNvSpPr/>
          <p:nvPr/>
        </p:nvSpPr>
        <p:spPr>
          <a:xfrm rot="20163600">
            <a:off x="8474040" y="-2138400"/>
            <a:ext cx="4511880" cy="3897360"/>
          </a:xfrm>
          <a:custGeom>
            <a:avLst/>
            <a:gdLst/>
            <a:ahLst/>
            <a:rect l="l" t="t" r="r" b="b"/>
            <a:pathLst>
              <a:path w="1145" h="989">
                <a:moveTo>
                  <a:pt x="1070" y="982"/>
                </a:moveTo>
                <a:cubicBezTo>
                  <a:pt x="1061" y="977"/>
                  <a:pt x="1052" y="973"/>
                  <a:pt x="1044" y="968"/>
                </a:cubicBezTo>
                <a:cubicBezTo>
                  <a:pt x="963" y="928"/>
                  <a:pt x="888" y="882"/>
                  <a:pt x="810" y="840"/>
                </a:cubicBezTo>
                <a:cubicBezTo>
                  <a:pt x="771" y="819"/>
                  <a:pt x="731" y="798"/>
                  <a:pt x="689" y="780"/>
                </a:cubicBezTo>
                <a:cubicBezTo>
                  <a:pt x="669" y="771"/>
                  <a:pt x="648" y="763"/>
                  <a:pt x="626" y="755"/>
                </a:cubicBezTo>
                <a:cubicBezTo>
                  <a:pt x="605" y="748"/>
                  <a:pt x="583" y="741"/>
                  <a:pt x="560" y="735"/>
                </a:cubicBezTo>
                <a:cubicBezTo>
                  <a:pt x="529" y="727"/>
                  <a:pt x="495" y="721"/>
                  <a:pt x="461" y="719"/>
                </a:cubicBezTo>
                <a:cubicBezTo>
                  <a:pt x="427" y="717"/>
                  <a:pt x="392" y="719"/>
                  <a:pt x="356" y="722"/>
                </a:cubicBezTo>
                <a:cubicBezTo>
                  <a:pt x="321" y="725"/>
                  <a:pt x="285" y="730"/>
                  <a:pt x="249" y="735"/>
                </a:cubicBezTo>
                <a:cubicBezTo>
                  <a:pt x="240" y="736"/>
                  <a:pt x="232" y="737"/>
                  <a:pt x="222" y="738"/>
                </a:cubicBezTo>
                <a:cubicBezTo>
                  <a:pt x="217" y="738"/>
                  <a:pt x="211" y="738"/>
                  <a:pt x="206" y="738"/>
                </a:cubicBezTo>
                <a:cubicBezTo>
                  <a:pt x="203" y="738"/>
                  <a:pt x="200" y="738"/>
                  <a:pt x="197" y="738"/>
                </a:cubicBezTo>
                <a:cubicBezTo>
                  <a:pt x="195" y="738"/>
                  <a:pt x="191" y="737"/>
                  <a:pt x="188" y="737"/>
                </a:cubicBezTo>
                <a:cubicBezTo>
                  <a:pt x="175" y="734"/>
                  <a:pt x="163" y="729"/>
                  <a:pt x="153" y="721"/>
                </a:cubicBezTo>
                <a:cubicBezTo>
                  <a:pt x="143" y="713"/>
                  <a:pt x="135" y="702"/>
                  <a:pt x="130" y="691"/>
                </a:cubicBezTo>
                <a:cubicBezTo>
                  <a:pt x="133" y="698"/>
                  <a:pt x="137" y="704"/>
                  <a:pt x="141" y="710"/>
                </a:cubicBezTo>
                <a:cubicBezTo>
                  <a:pt x="146" y="716"/>
                  <a:pt x="152" y="721"/>
                  <a:pt x="158" y="725"/>
                </a:cubicBezTo>
                <a:cubicBezTo>
                  <a:pt x="164" y="730"/>
                  <a:pt x="171" y="733"/>
                  <a:pt x="179" y="735"/>
                </a:cubicBezTo>
                <a:cubicBezTo>
                  <a:pt x="182" y="736"/>
                  <a:pt x="186" y="737"/>
                  <a:pt x="190" y="738"/>
                </a:cubicBezTo>
                <a:cubicBezTo>
                  <a:pt x="192" y="738"/>
                  <a:pt x="194" y="738"/>
                  <a:pt x="195" y="738"/>
                </a:cubicBezTo>
                <a:cubicBezTo>
                  <a:pt x="197" y="739"/>
                  <a:pt x="199" y="739"/>
                  <a:pt x="200" y="739"/>
                </a:cubicBezTo>
                <a:cubicBezTo>
                  <a:pt x="213" y="740"/>
                  <a:pt x="225" y="738"/>
                  <a:pt x="235" y="737"/>
                </a:cubicBezTo>
                <a:cubicBezTo>
                  <a:pt x="245" y="736"/>
                  <a:pt x="256" y="735"/>
                  <a:pt x="266" y="734"/>
                </a:cubicBezTo>
                <a:cubicBezTo>
                  <a:pt x="306" y="730"/>
                  <a:pt x="347" y="725"/>
                  <a:pt x="386" y="723"/>
                </a:cubicBezTo>
                <a:cubicBezTo>
                  <a:pt x="426" y="720"/>
                  <a:pt x="465" y="721"/>
                  <a:pt x="503" y="726"/>
                </a:cubicBezTo>
                <a:cubicBezTo>
                  <a:pt x="518" y="728"/>
                  <a:pt x="518" y="728"/>
                  <a:pt x="518" y="728"/>
                </a:cubicBezTo>
                <a:cubicBezTo>
                  <a:pt x="523" y="729"/>
                  <a:pt x="527" y="730"/>
                  <a:pt x="532" y="731"/>
                </a:cubicBezTo>
                <a:cubicBezTo>
                  <a:pt x="542" y="732"/>
                  <a:pt x="551" y="735"/>
                  <a:pt x="561" y="737"/>
                </a:cubicBezTo>
                <a:cubicBezTo>
                  <a:pt x="566" y="738"/>
                  <a:pt x="570" y="739"/>
                  <a:pt x="575" y="741"/>
                </a:cubicBezTo>
                <a:cubicBezTo>
                  <a:pt x="582" y="743"/>
                  <a:pt x="582" y="743"/>
                  <a:pt x="582" y="743"/>
                </a:cubicBezTo>
                <a:cubicBezTo>
                  <a:pt x="584" y="743"/>
                  <a:pt x="587" y="744"/>
                  <a:pt x="589" y="745"/>
                </a:cubicBezTo>
                <a:cubicBezTo>
                  <a:pt x="603" y="749"/>
                  <a:pt x="603" y="749"/>
                  <a:pt x="603" y="749"/>
                </a:cubicBezTo>
                <a:cubicBezTo>
                  <a:pt x="617" y="753"/>
                  <a:pt x="617" y="753"/>
                  <a:pt x="617" y="753"/>
                </a:cubicBezTo>
                <a:cubicBezTo>
                  <a:pt x="624" y="756"/>
                  <a:pt x="624" y="756"/>
                  <a:pt x="624" y="756"/>
                </a:cubicBezTo>
                <a:cubicBezTo>
                  <a:pt x="631" y="758"/>
                  <a:pt x="631" y="758"/>
                  <a:pt x="631" y="758"/>
                </a:cubicBezTo>
                <a:cubicBezTo>
                  <a:pt x="645" y="763"/>
                  <a:pt x="645" y="763"/>
                  <a:pt x="645" y="763"/>
                </a:cubicBezTo>
                <a:cubicBezTo>
                  <a:pt x="659" y="769"/>
                  <a:pt x="659" y="769"/>
                  <a:pt x="659" y="769"/>
                </a:cubicBezTo>
                <a:cubicBezTo>
                  <a:pt x="666" y="772"/>
                  <a:pt x="666" y="772"/>
                  <a:pt x="666" y="772"/>
                </a:cubicBezTo>
                <a:cubicBezTo>
                  <a:pt x="672" y="775"/>
                  <a:pt x="672" y="775"/>
                  <a:pt x="672" y="775"/>
                </a:cubicBezTo>
                <a:cubicBezTo>
                  <a:pt x="686" y="780"/>
                  <a:pt x="686" y="780"/>
                  <a:pt x="686" y="780"/>
                </a:cubicBezTo>
                <a:cubicBezTo>
                  <a:pt x="700" y="786"/>
                  <a:pt x="700" y="786"/>
                  <a:pt x="700" y="786"/>
                </a:cubicBezTo>
                <a:cubicBezTo>
                  <a:pt x="709" y="790"/>
                  <a:pt x="718" y="795"/>
                  <a:pt x="727" y="799"/>
                </a:cubicBezTo>
                <a:cubicBezTo>
                  <a:pt x="762" y="817"/>
                  <a:pt x="797" y="836"/>
                  <a:pt x="832" y="855"/>
                </a:cubicBezTo>
                <a:cubicBezTo>
                  <a:pt x="901" y="895"/>
                  <a:pt x="969" y="937"/>
                  <a:pt x="1040" y="974"/>
                </a:cubicBezTo>
                <a:cubicBezTo>
                  <a:pt x="1009" y="965"/>
                  <a:pt x="972" y="952"/>
                  <a:pt x="933" y="931"/>
                </a:cubicBezTo>
                <a:cubicBezTo>
                  <a:pt x="886" y="905"/>
                  <a:pt x="842" y="879"/>
                  <a:pt x="797" y="854"/>
                </a:cubicBezTo>
                <a:cubicBezTo>
                  <a:pt x="752" y="830"/>
                  <a:pt x="708" y="807"/>
                  <a:pt x="663" y="789"/>
                </a:cubicBezTo>
                <a:cubicBezTo>
                  <a:pt x="664" y="787"/>
                  <a:pt x="665" y="783"/>
                  <a:pt x="666" y="781"/>
                </a:cubicBezTo>
                <a:cubicBezTo>
                  <a:pt x="633" y="769"/>
                  <a:pt x="601" y="758"/>
                  <a:pt x="568" y="750"/>
                </a:cubicBezTo>
                <a:cubicBezTo>
                  <a:pt x="552" y="746"/>
                  <a:pt x="535" y="743"/>
                  <a:pt x="519" y="740"/>
                </a:cubicBezTo>
                <a:cubicBezTo>
                  <a:pt x="507" y="738"/>
                  <a:pt x="507" y="738"/>
                  <a:pt x="507" y="738"/>
                </a:cubicBezTo>
                <a:cubicBezTo>
                  <a:pt x="502" y="738"/>
                  <a:pt x="498" y="737"/>
                  <a:pt x="494" y="737"/>
                </a:cubicBezTo>
                <a:cubicBezTo>
                  <a:pt x="482" y="736"/>
                  <a:pt x="482" y="736"/>
                  <a:pt x="482" y="736"/>
                </a:cubicBezTo>
                <a:cubicBezTo>
                  <a:pt x="480" y="735"/>
                  <a:pt x="478" y="735"/>
                  <a:pt x="476" y="735"/>
                </a:cubicBezTo>
                <a:cubicBezTo>
                  <a:pt x="470" y="735"/>
                  <a:pt x="470" y="735"/>
                  <a:pt x="470" y="735"/>
                </a:cubicBezTo>
                <a:cubicBezTo>
                  <a:pt x="404" y="730"/>
                  <a:pt x="336" y="738"/>
                  <a:pt x="266" y="745"/>
                </a:cubicBezTo>
                <a:cubicBezTo>
                  <a:pt x="239" y="748"/>
                  <a:pt x="239" y="748"/>
                  <a:pt x="239" y="748"/>
                </a:cubicBezTo>
                <a:cubicBezTo>
                  <a:pt x="231" y="749"/>
                  <a:pt x="220" y="750"/>
                  <a:pt x="209" y="750"/>
                </a:cubicBezTo>
                <a:cubicBezTo>
                  <a:pt x="206" y="750"/>
                  <a:pt x="203" y="750"/>
                  <a:pt x="200" y="749"/>
                </a:cubicBezTo>
                <a:cubicBezTo>
                  <a:pt x="197" y="749"/>
                  <a:pt x="194" y="749"/>
                  <a:pt x="190" y="748"/>
                </a:cubicBezTo>
                <a:cubicBezTo>
                  <a:pt x="182" y="747"/>
                  <a:pt x="175" y="745"/>
                  <a:pt x="168" y="743"/>
                </a:cubicBezTo>
                <a:cubicBezTo>
                  <a:pt x="161" y="740"/>
                  <a:pt x="155" y="736"/>
                  <a:pt x="149" y="732"/>
                </a:cubicBezTo>
                <a:cubicBezTo>
                  <a:pt x="146" y="730"/>
                  <a:pt x="143" y="727"/>
                  <a:pt x="140" y="724"/>
                </a:cubicBezTo>
                <a:cubicBezTo>
                  <a:pt x="139" y="723"/>
                  <a:pt x="138" y="722"/>
                  <a:pt x="136" y="720"/>
                </a:cubicBezTo>
                <a:cubicBezTo>
                  <a:pt x="135" y="719"/>
                  <a:pt x="134" y="718"/>
                  <a:pt x="133" y="716"/>
                </a:cubicBezTo>
                <a:cubicBezTo>
                  <a:pt x="129" y="712"/>
                  <a:pt x="129" y="712"/>
                  <a:pt x="129" y="712"/>
                </a:cubicBezTo>
                <a:cubicBezTo>
                  <a:pt x="128" y="710"/>
                  <a:pt x="127" y="708"/>
                  <a:pt x="126" y="707"/>
                </a:cubicBezTo>
                <a:cubicBezTo>
                  <a:pt x="124" y="704"/>
                  <a:pt x="123" y="700"/>
                  <a:pt x="121" y="697"/>
                </a:cubicBezTo>
                <a:cubicBezTo>
                  <a:pt x="120" y="695"/>
                  <a:pt x="120" y="693"/>
                  <a:pt x="119" y="692"/>
                </a:cubicBezTo>
                <a:cubicBezTo>
                  <a:pt x="118" y="690"/>
                  <a:pt x="118" y="688"/>
                  <a:pt x="117" y="687"/>
                </a:cubicBezTo>
                <a:cubicBezTo>
                  <a:pt x="116" y="684"/>
                  <a:pt x="115" y="680"/>
                  <a:pt x="115" y="677"/>
                </a:cubicBezTo>
                <a:cubicBezTo>
                  <a:pt x="112" y="665"/>
                  <a:pt x="111" y="654"/>
                  <a:pt x="110" y="643"/>
                </a:cubicBezTo>
                <a:cubicBezTo>
                  <a:pt x="110" y="638"/>
                  <a:pt x="110" y="632"/>
                  <a:pt x="111" y="627"/>
                </a:cubicBezTo>
                <a:cubicBezTo>
                  <a:pt x="112" y="612"/>
                  <a:pt x="112" y="612"/>
                  <a:pt x="112" y="612"/>
                </a:cubicBezTo>
                <a:cubicBezTo>
                  <a:pt x="112" y="608"/>
                  <a:pt x="113" y="603"/>
                  <a:pt x="113" y="598"/>
                </a:cubicBezTo>
                <a:cubicBezTo>
                  <a:pt x="114" y="593"/>
                  <a:pt x="114" y="588"/>
                  <a:pt x="115" y="583"/>
                </a:cubicBezTo>
                <a:cubicBezTo>
                  <a:pt x="121" y="545"/>
                  <a:pt x="133" y="507"/>
                  <a:pt x="149" y="471"/>
                </a:cubicBezTo>
                <a:cubicBezTo>
                  <a:pt x="158" y="453"/>
                  <a:pt x="167" y="436"/>
                  <a:pt x="178" y="419"/>
                </a:cubicBezTo>
                <a:cubicBezTo>
                  <a:pt x="182" y="412"/>
                  <a:pt x="182" y="412"/>
                  <a:pt x="182" y="412"/>
                </a:cubicBezTo>
                <a:cubicBezTo>
                  <a:pt x="186" y="406"/>
                  <a:pt x="186" y="406"/>
                  <a:pt x="186" y="406"/>
                </a:cubicBezTo>
                <a:cubicBezTo>
                  <a:pt x="191" y="400"/>
                  <a:pt x="191" y="400"/>
                  <a:pt x="191" y="400"/>
                </a:cubicBezTo>
                <a:cubicBezTo>
                  <a:pt x="192" y="398"/>
                  <a:pt x="194" y="396"/>
                  <a:pt x="195" y="394"/>
                </a:cubicBezTo>
                <a:cubicBezTo>
                  <a:pt x="201" y="386"/>
                  <a:pt x="207" y="378"/>
                  <a:pt x="214" y="370"/>
                </a:cubicBezTo>
                <a:cubicBezTo>
                  <a:pt x="205" y="378"/>
                  <a:pt x="208" y="372"/>
                  <a:pt x="209" y="369"/>
                </a:cubicBezTo>
                <a:cubicBezTo>
                  <a:pt x="210" y="369"/>
                  <a:pt x="210" y="368"/>
                  <a:pt x="211" y="368"/>
                </a:cubicBezTo>
                <a:cubicBezTo>
                  <a:pt x="210" y="368"/>
                  <a:pt x="210" y="369"/>
                  <a:pt x="209" y="369"/>
                </a:cubicBezTo>
                <a:cubicBezTo>
                  <a:pt x="210" y="367"/>
                  <a:pt x="208" y="367"/>
                  <a:pt x="195" y="382"/>
                </a:cubicBezTo>
                <a:cubicBezTo>
                  <a:pt x="208" y="367"/>
                  <a:pt x="210" y="367"/>
                  <a:pt x="209" y="369"/>
                </a:cubicBezTo>
                <a:cubicBezTo>
                  <a:pt x="196" y="384"/>
                  <a:pt x="183" y="400"/>
                  <a:pt x="172" y="417"/>
                </a:cubicBezTo>
                <a:cubicBezTo>
                  <a:pt x="161" y="433"/>
                  <a:pt x="152" y="451"/>
                  <a:pt x="143" y="468"/>
                </a:cubicBezTo>
                <a:cubicBezTo>
                  <a:pt x="126" y="504"/>
                  <a:pt x="115" y="542"/>
                  <a:pt x="108" y="581"/>
                </a:cubicBezTo>
                <a:cubicBezTo>
                  <a:pt x="108" y="586"/>
                  <a:pt x="107" y="590"/>
                  <a:pt x="106" y="595"/>
                </a:cubicBezTo>
                <a:cubicBezTo>
                  <a:pt x="105" y="610"/>
                  <a:pt x="105" y="610"/>
                  <a:pt x="105" y="610"/>
                </a:cubicBezTo>
                <a:cubicBezTo>
                  <a:pt x="104" y="615"/>
                  <a:pt x="104" y="620"/>
                  <a:pt x="104" y="625"/>
                </a:cubicBezTo>
                <a:cubicBezTo>
                  <a:pt x="103" y="627"/>
                  <a:pt x="103" y="630"/>
                  <a:pt x="103" y="632"/>
                </a:cubicBezTo>
                <a:cubicBezTo>
                  <a:pt x="103" y="635"/>
                  <a:pt x="103" y="638"/>
                  <a:pt x="103" y="640"/>
                </a:cubicBezTo>
                <a:cubicBezTo>
                  <a:pt x="103" y="651"/>
                  <a:pt x="104" y="663"/>
                  <a:pt x="107" y="675"/>
                </a:cubicBezTo>
                <a:cubicBezTo>
                  <a:pt x="108" y="679"/>
                  <a:pt x="108" y="682"/>
                  <a:pt x="109" y="685"/>
                </a:cubicBezTo>
                <a:cubicBezTo>
                  <a:pt x="111" y="690"/>
                  <a:pt x="111" y="690"/>
                  <a:pt x="111" y="690"/>
                </a:cubicBezTo>
                <a:cubicBezTo>
                  <a:pt x="111" y="690"/>
                  <a:pt x="112" y="691"/>
                  <a:pt x="112" y="692"/>
                </a:cubicBezTo>
                <a:cubicBezTo>
                  <a:pt x="113" y="695"/>
                  <a:pt x="113" y="695"/>
                  <a:pt x="113" y="695"/>
                </a:cubicBezTo>
                <a:cubicBezTo>
                  <a:pt x="116" y="702"/>
                  <a:pt x="120" y="709"/>
                  <a:pt x="124" y="716"/>
                </a:cubicBezTo>
                <a:cubicBezTo>
                  <a:pt x="133" y="729"/>
                  <a:pt x="146" y="739"/>
                  <a:pt x="160" y="746"/>
                </a:cubicBezTo>
                <a:cubicBezTo>
                  <a:pt x="167" y="749"/>
                  <a:pt x="175" y="752"/>
                  <a:pt x="182" y="753"/>
                </a:cubicBezTo>
                <a:cubicBezTo>
                  <a:pt x="184" y="754"/>
                  <a:pt x="186" y="754"/>
                  <a:pt x="188" y="754"/>
                </a:cubicBezTo>
                <a:cubicBezTo>
                  <a:pt x="190" y="755"/>
                  <a:pt x="192" y="755"/>
                  <a:pt x="194" y="755"/>
                </a:cubicBezTo>
                <a:cubicBezTo>
                  <a:pt x="197" y="756"/>
                  <a:pt x="200" y="756"/>
                  <a:pt x="204" y="756"/>
                </a:cubicBezTo>
                <a:cubicBezTo>
                  <a:pt x="216" y="756"/>
                  <a:pt x="226" y="755"/>
                  <a:pt x="236" y="754"/>
                </a:cubicBezTo>
                <a:cubicBezTo>
                  <a:pt x="262" y="751"/>
                  <a:pt x="262" y="751"/>
                  <a:pt x="262" y="751"/>
                </a:cubicBezTo>
                <a:cubicBezTo>
                  <a:pt x="297" y="747"/>
                  <a:pt x="330" y="743"/>
                  <a:pt x="364" y="741"/>
                </a:cubicBezTo>
                <a:cubicBezTo>
                  <a:pt x="397" y="738"/>
                  <a:pt x="430" y="737"/>
                  <a:pt x="462" y="739"/>
                </a:cubicBezTo>
                <a:cubicBezTo>
                  <a:pt x="494" y="741"/>
                  <a:pt x="526" y="746"/>
                  <a:pt x="558" y="754"/>
                </a:cubicBezTo>
                <a:cubicBezTo>
                  <a:pt x="589" y="761"/>
                  <a:pt x="621" y="772"/>
                  <a:pt x="653" y="785"/>
                </a:cubicBezTo>
                <a:cubicBezTo>
                  <a:pt x="647" y="783"/>
                  <a:pt x="642" y="780"/>
                  <a:pt x="636" y="778"/>
                </a:cubicBezTo>
                <a:cubicBezTo>
                  <a:pt x="620" y="773"/>
                  <a:pt x="620" y="773"/>
                  <a:pt x="620" y="773"/>
                </a:cubicBezTo>
                <a:cubicBezTo>
                  <a:pt x="609" y="769"/>
                  <a:pt x="598" y="765"/>
                  <a:pt x="587" y="762"/>
                </a:cubicBezTo>
                <a:cubicBezTo>
                  <a:pt x="565" y="756"/>
                  <a:pt x="542" y="750"/>
                  <a:pt x="520" y="747"/>
                </a:cubicBezTo>
                <a:cubicBezTo>
                  <a:pt x="515" y="745"/>
                  <a:pt x="509" y="745"/>
                  <a:pt x="504" y="744"/>
                </a:cubicBezTo>
                <a:cubicBezTo>
                  <a:pt x="501" y="744"/>
                  <a:pt x="498" y="743"/>
                  <a:pt x="495" y="743"/>
                </a:cubicBezTo>
                <a:cubicBezTo>
                  <a:pt x="487" y="742"/>
                  <a:pt x="487" y="742"/>
                  <a:pt x="487" y="742"/>
                </a:cubicBezTo>
                <a:cubicBezTo>
                  <a:pt x="481" y="742"/>
                  <a:pt x="476" y="741"/>
                  <a:pt x="470" y="741"/>
                </a:cubicBezTo>
                <a:cubicBezTo>
                  <a:pt x="462" y="740"/>
                  <a:pt x="462" y="740"/>
                  <a:pt x="462" y="740"/>
                </a:cubicBezTo>
                <a:cubicBezTo>
                  <a:pt x="453" y="740"/>
                  <a:pt x="453" y="740"/>
                  <a:pt x="453" y="740"/>
                </a:cubicBezTo>
                <a:cubicBezTo>
                  <a:pt x="431" y="739"/>
                  <a:pt x="408" y="740"/>
                  <a:pt x="385" y="741"/>
                </a:cubicBezTo>
                <a:cubicBezTo>
                  <a:pt x="338" y="744"/>
                  <a:pt x="290" y="751"/>
                  <a:pt x="241" y="756"/>
                </a:cubicBezTo>
                <a:cubicBezTo>
                  <a:pt x="235" y="757"/>
                  <a:pt x="228" y="758"/>
                  <a:pt x="221" y="758"/>
                </a:cubicBezTo>
                <a:cubicBezTo>
                  <a:pt x="213" y="759"/>
                  <a:pt x="205" y="759"/>
                  <a:pt x="195" y="758"/>
                </a:cubicBezTo>
                <a:cubicBezTo>
                  <a:pt x="192" y="758"/>
                  <a:pt x="192" y="758"/>
                  <a:pt x="192" y="758"/>
                </a:cubicBezTo>
                <a:cubicBezTo>
                  <a:pt x="187" y="757"/>
                  <a:pt x="187" y="757"/>
                  <a:pt x="187" y="757"/>
                </a:cubicBezTo>
                <a:cubicBezTo>
                  <a:pt x="184" y="757"/>
                  <a:pt x="182" y="756"/>
                  <a:pt x="179" y="756"/>
                </a:cubicBezTo>
                <a:cubicBezTo>
                  <a:pt x="173" y="754"/>
                  <a:pt x="168" y="753"/>
                  <a:pt x="163" y="751"/>
                </a:cubicBezTo>
                <a:cubicBezTo>
                  <a:pt x="152" y="746"/>
                  <a:pt x="142" y="740"/>
                  <a:pt x="134" y="732"/>
                </a:cubicBezTo>
                <a:cubicBezTo>
                  <a:pt x="126" y="724"/>
                  <a:pt x="119" y="715"/>
                  <a:pt x="114" y="705"/>
                </a:cubicBezTo>
                <a:cubicBezTo>
                  <a:pt x="112" y="701"/>
                  <a:pt x="112" y="701"/>
                  <a:pt x="112" y="701"/>
                </a:cubicBezTo>
                <a:cubicBezTo>
                  <a:pt x="110" y="697"/>
                  <a:pt x="110" y="697"/>
                  <a:pt x="110" y="697"/>
                </a:cubicBezTo>
                <a:cubicBezTo>
                  <a:pt x="109" y="693"/>
                  <a:pt x="109" y="693"/>
                  <a:pt x="109" y="693"/>
                </a:cubicBezTo>
                <a:cubicBezTo>
                  <a:pt x="108" y="691"/>
                  <a:pt x="108" y="690"/>
                  <a:pt x="107" y="689"/>
                </a:cubicBezTo>
                <a:cubicBezTo>
                  <a:pt x="106" y="684"/>
                  <a:pt x="105" y="680"/>
                  <a:pt x="104" y="675"/>
                </a:cubicBezTo>
                <a:cubicBezTo>
                  <a:pt x="102" y="667"/>
                  <a:pt x="101" y="658"/>
                  <a:pt x="100" y="650"/>
                </a:cubicBezTo>
                <a:cubicBezTo>
                  <a:pt x="100" y="642"/>
                  <a:pt x="100" y="634"/>
                  <a:pt x="100" y="627"/>
                </a:cubicBezTo>
                <a:cubicBezTo>
                  <a:pt x="101" y="599"/>
                  <a:pt x="105" y="572"/>
                  <a:pt x="112" y="545"/>
                </a:cubicBezTo>
                <a:cubicBezTo>
                  <a:pt x="119" y="518"/>
                  <a:pt x="128" y="492"/>
                  <a:pt x="140" y="467"/>
                </a:cubicBezTo>
                <a:cubicBezTo>
                  <a:pt x="152" y="442"/>
                  <a:pt x="166" y="418"/>
                  <a:pt x="183" y="396"/>
                </a:cubicBezTo>
                <a:cubicBezTo>
                  <a:pt x="199" y="374"/>
                  <a:pt x="218" y="354"/>
                  <a:pt x="237" y="336"/>
                </a:cubicBezTo>
                <a:cubicBezTo>
                  <a:pt x="256" y="317"/>
                  <a:pt x="275" y="301"/>
                  <a:pt x="293" y="285"/>
                </a:cubicBezTo>
                <a:cubicBezTo>
                  <a:pt x="311" y="268"/>
                  <a:pt x="329" y="253"/>
                  <a:pt x="344" y="236"/>
                </a:cubicBezTo>
                <a:cubicBezTo>
                  <a:pt x="359" y="220"/>
                  <a:pt x="373" y="204"/>
                  <a:pt x="383" y="186"/>
                </a:cubicBezTo>
                <a:cubicBezTo>
                  <a:pt x="385" y="183"/>
                  <a:pt x="385" y="183"/>
                  <a:pt x="385" y="183"/>
                </a:cubicBezTo>
                <a:cubicBezTo>
                  <a:pt x="385" y="182"/>
                  <a:pt x="386" y="181"/>
                  <a:pt x="386" y="180"/>
                </a:cubicBezTo>
                <a:cubicBezTo>
                  <a:pt x="390" y="173"/>
                  <a:pt x="390" y="173"/>
                  <a:pt x="390" y="173"/>
                </a:cubicBezTo>
                <a:cubicBezTo>
                  <a:pt x="391" y="170"/>
                  <a:pt x="391" y="170"/>
                  <a:pt x="391" y="170"/>
                </a:cubicBezTo>
                <a:cubicBezTo>
                  <a:pt x="392" y="169"/>
                  <a:pt x="392" y="169"/>
                  <a:pt x="392" y="168"/>
                </a:cubicBezTo>
                <a:cubicBezTo>
                  <a:pt x="393" y="167"/>
                  <a:pt x="393" y="167"/>
                  <a:pt x="393" y="167"/>
                </a:cubicBezTo>
                <a:cubicBezTo>
                  <a:pt x="393" y="166"/>
                  <a:pt x="393" y="165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4"/>
                  <a:pt x="394" y="164"/>
                  <a:pt x="394" y="164"/>
                </a:cubicBezTo>
                <a:cubicBezTo>
                  <a:pt x="394" y="163"/>
                  <a:pt x="394" y="162"/>
                  <a:pt x="394" y="161"/>
                </a:cubicBezTo>
                <a:cubicBezTo>
                  <a:pt x="394" y="160"/>
                  <a:pt x="393" y="160"/>
                  <a:pt x="393" y="160"/>
                </a:cubicBezTo>
                <a:cubicBezTo>
                  <a:pt x="391" y="158"/>
                  <a:pt x="391" y="158"/>
                  <a:pt x="391" y="158"/>
                </a:cubicBezTo>
                <a:cubicBezTo>
                  <a:pt x="389" y="157"/>
                  <a:pt x="387" y="155"/>
                  <a:pt x="385" y="153"/>
                </a:cubicBezTo>
                <a:cubicBezTo>
                  <a:pt x="377" y="147"/>
                  <a:pt x="368" y="141"/>
                  <a:pt x="360" y="136"/>
                </a:cubicBezTo>
                <a:cubicBezTo>
                  <a:pt x="343" y="126"/>
                  <a:pt x="326" y="121"/>
                  <a:pt x="312" y="120"/>
                </a:cubicBezTo>
                <a:cubicBezTo>
                  <a:pt x="309" y="120"/>
                  <a:pt x="305" y="120"/>
                  <a:pt x="301" y="121"/>
                </a:cubicBezTo>
                <a:cubicBezTo>
                  <a:pt x="297" y="121"/>
                  <a:pt x="292" y="122"/>
                  <a:pt x="287" y="124"/>
                </a:cubicBezTo>
                <a:cubicBezTo>
                  <a:pt x="282" y="125"/>
                  <a:pt x="277" y="127"/>
                  <a:pt x="271" y="129"/>
                </a:cubicBezTo>
                <a:cubicBezTo>
                  <a:pt x="266" y="130"/>
                  <a:pt x="261" y="132"/>
                  <a:pt x="257" y="134"/>
                </a:cubicBezTo>
                <a:cubicBezTo>
                  <a:pt x="239" y="139"/>
                  <a:pt x="220" y="147"/>
                  <a:pt x="198" y="153"/>
                </a:cubicBezTo>
                <a:cubicBezTo>
                  <a:pt x="187" y="156"/>
                  <a:pt x="176" y="159"/>
                  <a:pt x="163" y="161"/>
                </a:cubicBezTo>
                <a:cubicBezTo>
                  <a:pt x="150" y="162"/>
                  <a:pt x="137" y="163"/>
                  <a:pt x="123" y="161"/>
                </a:cubicBezTo>
                <a:cubicBezTo>
                  <a:pt x="109" y="159"/>
                  <a:pt x="96" y="156"/>
                  <a:pt x="84" y="151"/>
                </a:cubicBezTo>
                <a:cubicBezTo>
                  <a:pt x="71" y="146"/>
                  <a:pt x="60" y="139"/>
                  <a:pt x="50" y="132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3" y="127"/>
                  <a:pt x="43" y="127"/>
                  <a:pt x="43" y="127"/>
                </a:cubicBezTo>
                <a:cubicBezTo>
                  <a:pt x="40" y="125"/>
                  <a:pt x="38" y="123"/>
                  <a:pt x="35" y="121"/>
                </a:cubicBezTo>
                <a:cubicBezTo>
                  <a:pt x="31" y="117"/>
                  <a:pt x="26" y="114"/>
                  <a:pt x="22" y="110"/>
                </a:cubicBezTo>
                <a:cubicBezTo>
                  <a:pt x="14" y="102"/>
                  <a:pt x="7" y="93"/>
                  <a:pt x="0" y="85"/>
                </a:cubicBezTo>
                <a:cubicBezTo>
                  <a:pt x="5" y="88"/>
                  <a:pt x="7" y="84"/>
                  <a:pt x="8" y="80"/>
                </a:cubicBezTo>
                <a:cubicBezTo>
                  <a:pt x="9" y="76"/>
                  <a:pt x="10" y="71"/>
                  <a:pt x="13" y="70"/>
                </a:cubicBezTo>
                <a:cubicBezTo>
                  <a:pt x="16" y="69"/>
                  <a:pt x="22" y="72"/>
                  <a:pt x="34" y="82"/>
                </a:cubicBezTo>
                <a:cubicBezTo>
                  <a:pt x="40" y="87"/>
                  <a:pt x="48" y="94"/>
                  <a:pt x="58" y="102"/>
                </a:cubicBezTo>
                <a:cubicBezTo>
                  <a:pt x="60" y="103"/>
                  <a:pt x="61" y="104"/>
                  <a:pt x="63" y="105"/>
                </a:cubicBezTo>
                <a:cubicBezTo>
                  <a:pt x="64" y="107"/>
                  <a:pt x="66" y="108"/>
                  <a:pt x="67" y="109"/>
                </a:cubicBezTo>
                <a:cubicBezTo>
                  <a:pt x="69" y="110"/>
                  <a:pt x="71" y="111"/>
                  <a:pt x="72" y="112"/>
                </a:cubicBezTo>
                <a:cubicBezTo>
                  <a:pt x="74" y="113"/>
                  <a:pt x="76" y="114"/>
                  <a:pt x="78" y="115"/>
                </a:cubicBezTo>
                <a:cubicBezTo>
                  <a:pt x="81" y="117"/>
                  <a:pt x="86" y="119"/>
                  <a:pt x="90" y="121"/>
                </a:cubicBezTo>
                <a:cubicBezTo>
                  <a:pt x="92" y="122"/>
                  <a:pt x="95" y="123"/>
                  <a:pt x="97" y="124"/>
                </a:cubicBezTo>
                <a:cubicBezTo>
                  <a:pt x="98" y="125"/>
                  <a:pt x="99" y="125"/>
                  <a:pt x="101" y="126"/>
                </a:cubicBezTo>
                <a:cubicBezTo>
                  <a:pt x="102" y="126"/>
                  <a:pt x="103" y="126"/>
                  <a:pt x="104" y="127"/>
                </a:cubicBezTo>
                <a:cubicBezTo>
                  <a:pt x="105" y="125"/>
                  <a:pt x="106" y="121"/>
                  <a:pt x="107" y="118"/>
                </a:cubicBezTo>
                <a:cubicBezTo>
                  <a:pt x="106" y="118"/>
                  <a:pt x="105" y="118"/>
                  <a:pt x="103" y="117"/>
                </a:cubicBezTo>
                <a:cubicBezTo>
                  <a:pt x="102" y="117"/>
                  <a:pt x="101" y="116"/>
                  <a:pt x="100" y="116"/>
                </a:cubicBezTo>
                <a:cubicBezTo>
                  <a:pt x="98" y="115"/>
                  <a:pt x="96" y="114"/>
                  <a:pt x="93" y="113"/>
                </a:cubicBezTo>
                <a:cubicBezTo>
                  <a:pt x="89" y="110"/>
                  <a:pt x="85" y="108"/>
                  <a:pt x="82" y="105"/>
                </a:cubicBezTo>
                <a:cubicBezTo>
                  <a:pt x="74" y="100"/>
                  <a:pt x="68" y="94"/>
                  <a:pt x="62" y="89"/>
                </a:cubicBezTo>
                <a:cubicBezTo>
                  <a:pt x="51" y="77"/>
                  <a:pt x="43" y="65"/>
                  <a:pt x="37" y="54"/>
                </a:cubicBezTo>
                <a:cubicBezTo>
                  <a:pt x="30" y="44"/>
                  <a:pt x="26" y="34"/>
                  <a:pt x="23" y="26"/>
                </a:cubicBezTo>
                <a:cubicBezTo>
                  <a:pt x="20" y="18"/>
                  <a:pt x="19" y="12"/>
                  <a:pt x="19" y="7"/>
                </a:cubicBezTo>
                <a:cubicBezTo>
                  <a:pt x="19" y="3"/>
                  <a:pt x="20" y="0"/>
                  <a:pt x="23" y="0"/>
                </a:cubicBezTo>
                <a:cubicBezTo>
                  <a:pt x="26" y="0"/>
                  <a:pt x="30" y="2"/>
                  <a:pt x="36" y="6"/>
                </a:cubicBezTo>
                <a:cubicBezTo>
                  <a:pt x="41" y="10"/>
                  <a:pt x="48" y="17"/>
                  <a:pt x="57" y="25"/>
                </a:cubicBezTo>
                <a:cubicBezTo>
                  <a:pt x="66" y="33"/>
                  <a:pt x="76" y="42"/>
                  <a:pt x="88" y="51"/>
                </a:cubicBezTo>
                <a:cubicBezTo>
                  <a:pt x="97" y="58"/>
                  <a:pt x="106" y="64"/>
                  <a:pt x="115" y="66"/>
                </a:cubicBezTo>
                <a:cubicBezTo>
                  <a:pt x="117" y="67"/>
                  <a:pt x="119" y="68"/>
                  <a:pt x="122" y="68"/>
                </a:cubicBezTo>
                <a:cubicBezTo>
                  <a:pt x="123" y="68"/>
                  <a:pt x="124" y="69"/>
                  <a:pt x="125" y="69"/>
                </a:cubicBezTo>
                <a:cubicBezTo>
                  <a:pt x="126" y="69"/>
                  <a:pt x="127" y="69"/>
                  <a:pt x="128" y="69"/>
                </a:cubicBezTo>
                <a:cubicBezTo>
                  <a:pt x="132" y="70"/>
                  <a:pt x="136" y="70"/>
                  <a:pt x="141" y="69"/>
                </a:cubicBezTo>
                <a:cubicBezTo>
                  <a:pt x="151" y="68"/>
                  <a:pt x="162" y="65"/>
                  <a:pt x="176" y="59"/>
                </a:cubicBezTo>
                <a:cubicBezTo>
                  <a:pt x="190" y="54"/>
                  <a:pt x="206" y="47"/>
                  <a:pt x="224" y="39"/>
                </a:cubicBezTo>
                <a:cubicBezTo>
                  <a:pt x="243" y="32"/>
                  <a:pt x="264" y="25"/>
                  <a:pt x="289" y="22"/>
                </a:cubicBezTo>
                <a:cubicBezTo>
                  <a:pt x="302" y="20"/>
                  <a:pt x="315" y="20"/>
                  <a:pt x="328" y="22"/>
                </a:cubicBezTo>
                <a:cubicBezTo>
                  <a:pt x="341" y="23"/>
                  <a:pt x="353" y="26"/>
                  <a:pt x="365" y="30"/>
                </a:cubicBezTo>
                <a:cubicBezTo>
                  <a:pt x="389" y="38"/>
                  <a:pt x="409" y="49"/>
                  <a:pt x="428" y="62"/>
                </a:cubicBezTo>
                <a:cubicBezTo>
                  <a:pt x="437" y="68"/>
                  <a:pt x="446" y="74"/>
                  <a:pt x="454" y="81"/>
                </a:cubicBezTo>
                <a:cubicBezTo>
                  <a:pt x="458" y="85"/>
                  <a:pt x="458" y="85"/>
                  <a:pt x="458" y="85"/>
                </a:cubicBezTo>
                <a:cubicBezTo>
                  <a:pt x="460" y="86"/>
                  <a:pt x="461" y="88"/>
                  <a:pt x="463" y="89"/>
                </a:cubicBezTo>
                <a:cubicBezTo>
                  <a:pt x="466" y="92"/>
                  <a:pt x="470" y="96"/>
                  <a:pt x="472" y="99"/>
                </a:cubicBezTo>
                <a:cubicBezTo>
                  <a:pt x="478" y="106"/>
                  <a:pt x="483" y="113"/>
                  <a:pt x="487" y="122"/>
                </a:cubicBezTo>
                <a:cubicBezTo>
                  <a:pt x="493" y="136"/>
                  <a:pt x="496" y="152"/>
                  <a:pt x="494" y="168"/>
                </a:cubicBezTo>
                <a:cubicBezTo>
                  <a:pt x="493" y="176"/>
                  <a:pt x="491" y="184"/>
                  <a:pt x="489" y="192"/>
                </a:cubicBezTo>
                <a:cubicBezTo>
                  <a:pt x="486" y="200"/>
                  <a:pt x="484" y="205"/>
                  <a:pt x="482" y="210"/>
                </a:cubicBezTo>
                <a:cubicBezTo>
                  <a:pt x="479" y="215"/>
                  <a:pt x="477" y="219"/>
                  <a:pt x="475" y="224"/>
                </a:cubicBezTo>
                <a:cubicBezTo>
                  <a:pt x="471" y="230"/>
                  <a:pt x="471" y="230"/>
                  <a:pt x="471" y="230"/>
                </a:cubicBezTo>
                <a:cubicBezTo>
                  <a:pt x="470" y="233"/>
                  <a:pt x="469" y="235"/>
                  <a:pt x="467" y="237"/>
                </a:cubicBezTo>
                <a:cubicBezTo>
                  <a:pt x="460" y="250"/>
                  <a:pt x="460" y="250"/>
                  <a:pt x="460" y="250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47" y="268"/>
                  <a:pt x="447" y="268"/>
                  <a:pt x="447" y="268"/>
                </a:cubicBezTo>
                <a:cubicBezTo>
                  <a:pt x="443" y="273"/>
                  <a:pt x="443" y="273"/>
                  <a:pt x="443" y="273"/>
                </a:cubicBezTo>
                <a:cubicBezTo>
                  <a:pt x="440" y="277"/>
                  <a:pt x="437" y="281"/>
                  <a:pt x="434" y="285"/>
                </a:cubicBezTo>
                <a:cubicBezTo>
                  <a:pt x="431" y="288"/>
                  <a:pt x="428" y="292"/>
                  <a:pt x="424" y="295"/>
                </a:cubicBezTo>
                <a:cubicBezTo>
                  <a:pt x="420" y="300"/>
                  <a:pt x="420" y="300"/>
                  <a:pt x="420" y="300"/>
                </a:cubicBezTo>
                <a:cubicBezTo>
                  <a:pt x="415" y="305"/>
                  <a:pt x="415" y="305"/>
                  <a:pt x="415" y="305"/>
                </a:cubicBezTo>
                <a:cubicBezTo>
                  <a:pt x="412" y="309"/>
                  <a:pt x="409" y="312"/>
                  <a:pt x="406" y="315"/>
                </a:cubicBezTo>
                <a:cubicBezTo>
                  <a:pt x="403" y="318"/>
                  <a:pt x="399" y="322"/>
                  <a:pt x="396" y="325"/>
                </a:cubicBezTo>
                <a:cubicBezTo>
                  <a:pt x="390" y="331"/>
                  <a:pt x="384" y="337"/>
                  <a:pt x="378" y="343"/>
                </a:cubicBezTo>
                <a:cubicBezTo>
                  <a:pt x="363" y="357"/>
                  <a:pt x="348" y="370"/>
                  <a:pt x="334" y="383"/>
                </a:cubicBezTo>
                <a:cubicBezTo>
                  <a:pt x="320" y="395"/>
                  <a:pt x="307" y="408"/>
                  <a:pt x="295" y="421"/>
                </a:cubicBezTo>
                <a:cubicBezTo>
                  <a:pt x="289" y="427"/>
                  <a:pt x="283" y="433"/>
                  <a:pt x="277" y="440"/>
                </a:cubicBezTo>
                <a:cubicBezTo>
                  <a:pt x="273" y="445"/>
                  <a:pt x="273" y="445"/>
                  <a:pt x="273" y="445"/>
                </a:cubicBezTo>
                <a:cubicBezTo>
                  <a:pt x="272" y="446"/>
                  <a:pt x="271" y="448"/>
                  <a:pt x="269" y="449"/>
                </a:cubicBezTo>
                <a:cubicBezTo>
                  <a:pt x="267" y="453"/>
                  <a:pt x="264" y="456"/>
                  <a:pt x="262" y="459"/>
                </a:cubicBezTo>
                <a:cubicBezTo>
                  <a:pt x="252" y="473"/>
                  <a:pt x="243" y="487"/>
                  <a:pt x="236" y="502"/>
                </a:cubicBezTo>
                <a:cubicBezTo>
                  <a:pt x="221" y="531"/>
                  <a:pt x="210" y="563"/>
                  <a:pt x="204" y="596"/>
                </a:cubicBezTo>
                <a:cubicBezTo>
                  <a:pt x="204" y="600"/>
                  <a:pt x="203" y="604"/>
                  <a:pt x="202" y="608"/>
                </a:cubicBezTo>
                <a:cubicBezTo>
                  <a:pt x="202" y="612"/>
                  <a:pt x="201" y="616"/>
                  <a:pt x="201" y="621"/>
                </a:cubicBezTo>
                <a:cubicBezTo>
                  <a:pt x="200" y="633"/>
                  <a:pt x="200" y="633"/>
                  <a:pt x="200" y="633"/>
                </a:cubicBezTo>
                <a:cubicBezTo>
                  <a:pt x="200" y="636"/>
                  <a:pt x="200" y="640"/>
                  <a:pt x="200" y="643"/>
                </a:cubicBezTo>
                <a:cubicBezTo>
                  <a:pt x="200" y="649"/>
                  <a:pt x="201" y="655"/>
                  <a:pt x="201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8"/>
                  <a:pt x="202" y="658"/>
                  <a:pt x="202" y="658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59"/>
                </a:cubicBezTo>
                <a:cubicBezTo>
                  <a:pt x="202" y="659"/>
                  <a:pt x="202" y="659"/>
                  <a:pt x="202" y="660"/>
                </a:cubicBezTo>
                <a:cubicBezTo>
                  <a:pt x="202" y="660"/>
                  <a:pt x="202" y="660"/>
                  <a:pt x="202" y="661"/>
                </a:cubicBezTo>
                <a:cubicBezTo>
                  <a:pt x="202" y="661"/>
                  <a:pt x="203" y="661"/>
                  <a:pt x="203" y="661"/>
                </a:cubicBezTo>
                <a:cubicBezTo>
                  <a:pt x="202" y="661"/>
                  <a:pt x="204" y="661"/>
                  <a:pt x="206" y="662"/>
                </a:cubicBezTo>
                <a:cubicBezTo>
                  <a:pt x="210" y="662"/>
                  <a:pt x="214" y="662"/>
                  <a:pt x="220" y="661"/>
                </a:cubicBezTo>
                <a:cubicBezTo>
                  <a:pt x="224" y="661"/>
                  <a:pt x="224" y="661"/>
                  <a:pt x="224" y="661"/>
                </a:cubicBezTo>
                <a:cubicBezTo>
                  <a:pt x="229" y="661"/>
                  <a:pt x="229" y="661"/>
                  <a:pt x="229" y="661"/>
                </a:cubicBezTo>
                <a:cubicBezTo>
                  <a:pt x="239" y="660"/>
                  <a:pt x="239" y="660"/>
                  <a:pt x="239" y="660"/>
                </a:cubicBezTo>
                <a:cubicBezTo>
                  <a:pt x="267" y="657"/>
                  <a:pt x="294" y="654"/>
                  <a:pt x="322" y="652"/>
                </a:cubicBezTo>
                <a:cubicBezTo>
                  <a:pt x="350" y="649"/>
                  <a:pt x="379" y="647"/>
                  <a:pt x="408" y="646"/>
                </a:cubicBezTo>
                <a:cubicBezTo>
                  <a:pt x="438" y="645"/>
                  <a:pt x="468" y="646"/>
                  <a:pt x="498" y="650"/>
                </a:cubicBezTo>
                <a:cubicBezTo>
                  <a:pt x="558" y="656"/>
                  <a:pt x="616" y="672"/>
                  <a:pt x="670" y="693"/>
                </a:cubicBezTo>
                <a:cubicBezTo>
                  <a:pt x="724" y="714"/>
                  <a:pt x="774" y="740"/>
                  <a:pt x="822" y="767"/>
                </a:cubicBezTo>
                <a:cubicBezTo>
                  <a:pt x="839" y="776"/>
                  <a:pt x="860" y="787"/>
                  <a:pt x="881" y="799"/>
                </a:cubicBezTo>
                <a:cubicBezTo>
                  <a:pt x="903" y="810"/>
                  <a:pt x="925" y="822"/>
                  <a:pt x="947" y="834"/>
                </a:cubicBezTo>
                <a:cubicBezTo>
                  <a:pt x="968" y="845"/>
                  <a:pt x="988" y="855"/>
                  <a:pt x="1005" y="865"/>
                </a:cubicBezTo>
                <a:cubicBezTo>
                  <a:pt x="1022" y="874"/>
                  <a:pt x="1035" y="881"/>
                  <a:pt x="1043" y="887"/>
                </a:cubicBezTo>
                <a:cubicBezTo>
                  <a:pt x="1055" y="894"/>
                  <a:pt x="1060" y="899"/>
                  <a:pt x="1062" y="902"/>
                </a:cubicBezTo>
                <a:cubicBezTo>
                  <a:pt x="1064" y="906"/>
                  <a:pt x="1062" y="908"/>
                  <a:pt x="1059" y="909"/>
                </a:cubicBezTo>
                <a:cubicBezTo>
                  <a:pt x="946" y="855"/>
                  <a:pt x="839" y="785"/>
                  <a:pt x="721" y="733"/>
                </a:cubicBezTo>
                <a:cubicBezTo>
                  <a:pt x="703" y="725"/>
                  <a:pt x="684" y="717"/>
                  <a:pt x="666" y="710"/>
                </a:cubicBezTo>
                <a:cubicBezTo>
                  <a:pt x="647" y="703"/>
                  <a:pt x="629" y="696"/>
                  <a:pt x="609" y="690"/>
                </a:cubicBezTo>
                <a:cubicBezTo>
                  <a:pt x="590" y="684"/>
                  <a:pt x="571" y="679"/>
                  <a:pt x="551" y="675"/>
                </a:cubicBezTo>
                <a:cubicBezTo>
                  <a:pt x="536" y="672"/>
                  <a:pt x="536" y="672"/>
                  <a:pt x="536" y="672"/>
                </a:cubicBezTo>
                <a:cubicBezTo>
                  <a:pt x="529" y="671"/>
                  <a:pt x="529" y="671"/>
                  <a:pt x="529" y="671"/>
                </a:cubicBezTo>
                <a:cubicBezTo>
                  <a:pt x="521" y="670"/>
                  <a:pt x="521" y="670"/>
                  <a:pt x="521" y="670"/>
                </a:cubicBezTo>
                <a:cubicBezTo>
                  <a:pt x="506" y="667"/>
                  <a:pt x="506" y="667"/>
                  <a:pt x="506" y="667"/>
                </a:cubicBezTo>
                <a:cubicBezTo>
                  <a:pt x="491" y="665"/>
                  <a:pt x="491" y="665"/>
                  <a:pt x="491" y="665"/>
                </a:cubicBezTo>
                <a:cubicBezTo>
                  <a:pt x="450" y="661"/>
                  <a:pt x="410" y="661"/>
                  <a:pt x="370" y="663"/>
                </a:cubicBezTo>
                <a:cubicBezTo>
                  <a:pt x="331" y="665"/>
                  <a:pt x="292" y="669"/>
                  <a:pt x="254" y="673"/>
                </a:cubicBezTo>
                <a:cubicBezTo>
                  <a:pt x="291" y="670"/>
                  <a:pt x="329" y="666"/>
                  <a:pt x="368" y="664"/>
                </a:cubicBezTo>
                <a:cubicBezTo>
                  <a:pt x="408" y="662"/>
                  <a:pt x="448" y="662"/>
                  <a:pt x="488" y="666"/>
                </a:cubicBezTo>
                <a:cubicBezTo>
                  <a:pt x="529" y="671"/>
                  <a:pt x="569" y="679"/>
                  <a:pt x="608" y="691"/>
                </a:cubicBezTo>
                <a:cubicBezTo>
                  <a:pt x="627" y="696"/>
                  <a:pt x="646" y="703"/>
                  <a:pt x="665" y="710"/>
                </a:cubicBezTo>
                <a:cubicBezTo>
                  <a:pt x="684" y="717"/>
                  <a:pt x="702" y="725"/>
                  <a:pt x="721" y="733"/>
                </a:cubicBezTo>
                <a:cubicBezTo>
                  <a:pt x="779" y="759"/>
                  <a:pt x="835" y="790"/>
                  <a:pt x="890" y="821"/>
                </a:cubicBezTo>
                <a:cubicBezTo>
                  <a:pt x="944" y="852"/>
                  <a:pt x="998" y="884"/>
                  <a:pt x="1054" y="911"/>
                </a:cubicBezTo>
                <a:cubicBezTo>
                  <a:pt x="1048" y="913"/>
                  <a:pt x="1042" y="916"/>
                  <a:pt x="1047" y="923"/>
                </a:cubicBezTo>
                <a:cubicBezTo>
                  <a:pt x="1047" y="923"/>
                  <a:pt x="1056" y="927"/>
                  <a:pt x="1067" y="932"/>
                </a:cubicBezTo>
                <a:cubicBezTo>
                  <a:pt x="1072" y="934"/>
                  <a:pt x="1079" y="937"/>
                  <a:pt x="1084" y="940"/>
                </a:cubicBezTo>
                <a:cubicBezTo>
                  <a:pt x="1090" y="942"/>
                  <a:pt x="1096" y="944"/>
                  <a:pt x="1100" y="946"/>
                </a:cubicBezTo>
                <a:cubicBezTo>
                  <a:pt x="1117" y="956"/>
                  <a:pt x="1129" y="964"/>
                  <a:pt x="1135" y="969"/>
                </a:cubicBezTo>
                <a:cubicBezTo>
                  <a:pt x="1142" y="975"/>
                  <a:pt x="1145" y="980"/>
                  <a:pt x="1144" y="983"/>
                </a:cubicBezTo>
                <a:cubicBezTo>
                  <a:pt x="1143" y="986"/>
                  <a:pt x="1138" y="988"/>
                  <a:pt x="1131" y="988"/>
                </a:cubicBezTo>
                <a:cubicBezTo>
                  <a:pt x="1124" y="989"/>
                  <a:pt x="1115" y="989"/>
                  <a:pt x="1105" y="988"/>
                </a:cubicBezTo>
                <a:cubicBezTo>
                  <a:pt x="1094" y="986"/>
                  <a:pt x="1083" y="984"/>
                  <a:pt x="1070" y="982"/>
                </a:cubicBezTo>
              </a:path>
            </a:pathLst>
          </a:custGeom>
          <a:solidFill>
            <a:srgbClr val="00c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12254040" cy="1187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36240" y="1506240"/>
            <a:ext cx="11017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Click to edit the outline text format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Third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our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0aa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7"/>
          </p:nvPr>
        </p:nvSpPr>
        <p:spPr>
          <a:xfrm>
            <a:off x="1020096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94A9-355E-4A95-A2F7-4276E0436FF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06440" y="2905200"/>
            <a:ext cx="91612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Pizza Party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	</a:t>
            </a:r>
            <a:r>
              <a:rPr b="1" lang="en-GB" sz="4800" spc="-1" strike="noStrike">
                <a:solidFill>
                  <a:srgbClr val="6400aa"/>
                </a:solidFill>
                <a:latin typeface="Calibri"/>
              </a:rPr>
              <a:t>: lesson 2</a:t>
            </a:r>
            <a:endParaRPr b="0" lang="en-US" sz="4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2" name="Slide Number Placeholder 18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19F7-FB42-40F4-978C-AF621E8608AA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73" name="Group 3"/>
          <p:cNvGrpSpPr/>
          <p:nvPr/>
        </p:nvGrpSpPr>
        <p:grpSpPr>
          <a:xfrm>
            <a:off x="7229880" y="2384280"/>
            <a:ext cx="2955960" cy="3398400"/>
            <a:chOff x="7229880" y="2384280"/>
            <a:chExt cx="2955960" cy="3398400"/>
          </a:xfrm>
        </p:grpSpPr>
        <p:pic>
          <p:nvPicPr>
            <p:cNvPr id="374" name="Graphic 4" descr="Pizza"/>
            <p:cNvPicPr/>
            <p:nvPr/>
          </p:nvPicPr>
          <p:blipFill>
            <a:blip r:embed="rId1"/>
            <a:stretch/>
          </p:blipFill>
          <p:spPr>
            <a:xfrm rot="5823000">
              <a:off x="7605000" y="3214800"/>
              <a:ext cx="2534760" cy="23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Graphic 5" descr="Pizza"/>
            <p:cNvPicPr/>
            <p:nvPr/>
          </p:nvPicPr>
          <p:blipFill>
            <a:blip r:embed="rId2"/>
            <a:stretch/>
          </p:blipFill>
          <p:spPr>
            <a:xfrm rot="3009000">
              <a:off x="7682400" y="2707920"/>
              <a:ext cx="1717200" cy="18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Graphic 7" descr="Pizza"/>
            <p:cNvPicPr/>
            <p:nvPr/>
          </p:nvPicPr>
          <p:blipFill>
            <a:blip r:embed="rId3"/>
            <a:stretch/>
          </p:blipFill>
          <p:spPr>
            <a:xfrm rot="139200">
              <a:off x="7258680" y="2747520"/>
              <a:ext cx="1353600" cy="147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619272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Learning objectives</a:t>
            </a: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	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36240" y="1506240"/>
            <a:ext cx="103741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9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decompose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the task of planning a pizza party 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9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collect and enter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data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 values into a spreadsheet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9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use the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‘=SUM()’ 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function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marL="228600" indent="-228600">
              <a:lnSpc>
                <a:spcPct val="90000"/>
              </a:lnSpc>
              <a:spcBef>
                <a:spcPts val="2999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To explain how spreadsheets can help with 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collecting </a:t>
            </a:r>
            <a:br>
              <a:rPr sz="2800"/>
            </a:b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and</a:t>
            </a:r>
            <a:r>
              <a:rPr b="1" lang="en-GB" sz="2800" spc="-1" strike="noStrike">
                <a:solidFill>
                  <a:srgbClr val="6400aa"/>
                </a:solidFill>
                <a:latin typeface="Calibri"/>
              </a:rPr>
              <a:t> analysing </a:t>
            </a: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data to solve problem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79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C79A-7CBD-49FC-B24B-41BDDBD04891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380" name="Group 19" descr=""/>
          <p:cNvPicPr/>
          <p:nvPr/>
        </p:nvPicPr>
        <p:blipFill>
          <a:blip r:embed="rId2"/>
          <a:stretch/>
        </p:blipFill>
        <p:spPr>
          <a:xfrm>
            <a:off x="8643960" y="3730680"/>
            <a:ext cx="2670120" cy="2090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5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5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5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5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486252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00aa"/>
                </a:solidFill>
                <a:latin typeface="Calibri"/>
              </a:rPr>
              <a:t>Decomposition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800320" y="2631960"/>
            <a:ext cx="612468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Breaking down a task into smaller part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383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95A0-2BDB-438F-AEDD-5557A09E1D8C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384" name="Group 77"/>
          <p:cNvGrpSpPr/>
          <p:nvPr/>
        </p:nvGrpSpPr>
        <p:grpSpPr>
          <a:xfrm>
            <a:off x="390600" y="2023920"/>
            <a:ext cx="4798800" cy="2533680"/>
            <a:chOff x="390600" y="2023920"/>
            <a:chExt cx="4798800" cy="2533680"/>
          </a:xfrm>
        </p:grpSpPr>
        <p:sp>
          <p:nvSpPr>
            <p:cNvPr id="385" name="Freeform 19"/>
            <p:cNvSpPr/>
            <p:nvPr/>
          </p:nvSpPr>
          <p:spPr>
            <a:xfrm>
              <a:off x="390600" y="2641320"/>
              <a:ext cx="1299240" cy="129888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0" y="101"/>
                  </a:lnTo>
                  <a:lnTo>
                    <a:pt x="101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ab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86" name="Oval 20"/>
            <p:cNvSpPr/>
            <p:nvPr/>
          </p:nvSpPr>
          <p:spPr>
            <a:xfrm>
              <a:off x="2063160" y="2692800"/>
              <a:ext cx="1299240" cy="1311840"/>
            </a:xfrm>
            <a:prstGeom prst="ellipse">
              <a:avLst/>
            </a:prstGeom>
            <a:solidFill>
              <a:srgbClr val="0ab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87" name="Rectangle 21"/>
            <p:cNvSpPr/>
            <p:nvPr/>
          </p:nvSpPr>
          <p:spPr>
            <a:xfrm>
              <a:off x="3877200" y="2692800"/>
              <a:ext cx="1312200" cy="1311840"/>
            </a:xfrm>
            <a:prstGeom prst="rect">
              <a:avLst/>
            </a:prstGeom>
            <a:solidFill>
              <a:srgbClr val="0ab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1779840" y="4352040"/>
              <a:ext cx="205560" cy="2055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6" y="1"/>
                  </a:moveTo>
                  <a:cubicBezTo>
                    <a:pt x="26" y="1"/>
                    <a:pt x="26" y="1"/>
                    <a:pt x="26" y="1"/>
                  </a:cubicBezTo>
                  <a:cubicBezTo>
                    <a:pt x="24" y="3"/>
                    <a:pt x="24" y="6"/>
                    <a:pt x="23" y="8"/>
                  </a:cubicBezTo>
                  <a:cubicBezTo>
                    <a:pt x="22" y="10"/>
                    <a:pt x="23" y="11"/>
                    <a:pt x="23" y="13"/>
                  </a:cubicBezTo>
                  <a:cubicBezTo>
                    <a:pt x="24" y="9"/>
                    <a:pt x="23" y="5"/>
                    <a:pt x="27" y="1"/>
                  </a:cubicBezTo>
                  <a:cubicBezTo>
                    <a:pt x="29" y="2"/>
                    <a:pt x="30" y="2"/>
                    <a:pt x="30" y="3"/>
                  </a:cubicBezTo>
                  <a:cubicBezTo>
                    <a:pt x="29" y="4"/>
                    <a:pt x="29" y="5"/>
                    <a:pt x="29" y="6"/>
                  </a:cubicBezTo>
                  <a:cubicBezTo>
                    <a:pt x="28" y="6"/>
                    <a:pt x="27" y="6"/>
                    <a:pt x="26" y="6"/>
                  </a:cubicBezTo>
                  <a:cubicBezTo>
                    <a:pt x="28" y="10"/>
                    <a:pt x="23" y="13"/>
                    <a:pt x="26" y="17"/>
                  </a:cubicBezTo>
                  <a:cubicBezTo>
                    <a:pt x="27" y="17"/>
                    <a:pt x="27" y="17"/>
                    <a:pt x="28" y="17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8" y="17"/>
                    <a:pt x="28" y="17"/>
                    <a:pt x="28" y="16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7" y="13"/>
                    <a:pt x="28" y="10"/>
                    <a:pt x="29" y="7"/>
                  </a:cubicBezTo>
                  <a:cubicBezTo>
                    <a:pt x="28" y="12"/>
                    <a:pt x="29" y="17"/>
                    <a:pt x="29" y="23"/>
                  </a:cubicBezTo>
                  <a:cubicBezTo>
                    <a:pt x="29" y="23"/>
                    <a:pt x="29" y="23"/>
                    <a:pt x="29" y="23"/>
                  </a:cubicBezTo>
                  <a:cubicBezTo>
                    <a:pt x="27" y="24"/>
                    <a:pt x="27" y="25"/>
                    <a:pt x="27" y="26"/>
                  </a:cubicBezTo>
                  <a:cubicBezTo>
                    <a:pt x="24" y="26"/>
                    <a:pt x="18" y="27"/>
                    <a:pt x="19" y="25"/>
                  </a:cubicBezTo>
                  <a:cubicBezTo>
                    <a:pt x="18" y="25"/>
                    <a:pt x="17" y="25"/>
                    <a:pt x="16" y="25"/>
                  </a:cubicBezTo>
                  <a:cubicBezTo>
                    <a:pt x="13" y="27"/>
                    <a:pt x="5" y="28"/>
                    <a:pt x="2" y="26"/>
                  </a:cubicBezTo>
                  <a:cubicBezTo>
                    <a:pt x="0" y="24"/>
                    <a:pt x="2" y="21"/>
                    <a:pt x="1" y="19"/>
                  </a:cubicBezTo>
                  <a:cubicBezTo>
                    <a:pt x="1" y="17"/>
                    <a:pt x="0" y="15"/>
                    <a:pt x="1" y="13"/>
                  </a:cubicBezTo>
                  <a:cubicBezTo>
                    <a:pt x="3" y="10"/>
                    <a:pt x="2" y="8"/>
                    <a:pt x="5" y="5"/>
                  </a:cubicBezTo>
                  <a:cubicBezTo>
                    <a:pt x="5" y="4"/>
                    <a:pt x="4" y="2"/>
                    <a:pt x="5" y="2"/>
                  </a:cubicBezTo>
                  <a:cubicBezTo>
                    <a:pt x="6" y="2"/>
                    <a:pt x="7" y="2"/>
                    <a:pt x="9" y="2"/>
                  </a:cubicBezTo>
                  <a:cubicBezTo>
                    <a:pt x="9" y="3"/>
                    <a:pt x="9" y="5"/>
                    <a:pt x="8" y="6"/>
                  </a:cubicBezTo>
                  <a:cubicBezTo>
                    <a:pt x="8" y="8"/>
                    <a:pt x="7" y="10"/>
                    <a:pt x="6" y="12"/>
                  </a:cubicBezTo>
                  <a:cubicBezTo>
                    <a:pt x="7" y="10"/>
                    <a:pt x="8" y="8"/>
                    <a:pt x="8" y="6"/>
                  </a:cubicBezTo>
                  <a:cubicBezTo>
                    <a:pt x="9" y="5"/>
                    <a:pt x="9" y="3"/>
                    <a:pt x="10" y="2"/>
                  </a:cubicBezTo>
                  <a:cubicBezTo>
                    <a:pt x="11" y="2"/>
                    <a:pt x="13" y="2"/>
                    <a:pt x="14" y="2"/>
                  </a:cubicBezTo>
                  <a:cubicBezTo>
                    <a:pt x="14" y="2"/>
                    <a:pt x="14" y="1"/>
                    <a:pt x="14" y="1"/>
                  </a:cubicBezTo>
                  <a:cubicBezTo>
                    <a:pt x="17" y="0"/>
                    <a:pt x="21" y="0"/>
                    <a:pt x="24" y="1"/>
                  </a:cubicBezTo>
                  <a:cubicBezTo>
                    <a:pt x="25" y="1"/>
                    <a:pt x="25" y="1"/>
                    <a:pt x="26" y="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1779840" y="3863160"/>
              <a:ext cx="205560" cy="334440"/>
            </a:xfrm>
            <a:custGeom>
              <a:avLst/>
              <a:gdLst/>
              <a:ahLst/>
              <a:rect l="l" t="t" r="r" b="b"/>
              <a:pathLst>
                <a:path w="29" h="49">
                  <a:moveTo>
                    <a:pt x="25" y="1"/>
                  </a:moveTo>
                  <a:cubicBezTo>
                    <a:pt x="25" y="2"/>
                    <a:pt x="25" y="2"/>
                    <a:pt x="25" y="2"/>
                  </a:cubicBezTo>
                  <a:cubicBezTo>
                    <a:pt x="23" y="6"/>
                    <a:pt x="24" y="10"/>
                    <a:pt x="23" y="14"/>
                  </a:cubicBezTo>
                  <a:cubicBezTo>
                    <a:pt x="22" y="17"/>
                    <a:pt x="22" y="20"/>
                    <a:pt x="22" y="23"/>
                  </a:cubicBezTo>
                  <a:cubicBezTo>
                    <a:pt x="23" y="16"/>
                    <a:pt x="23" y="9"/>
                    <a:pt x="27" y="2"/>
                  </a:cubicBezTo>
                  <a:cubicBezTo>
                    <a:pt x="28" y="3"/>
                    <a:pt x="29" y="3"/>
                    <a:pt x="29" y="4"/>
                  </a:cubicBezTo>
                  <a:cubicBezTo>
                    <a:pt x="29" y="7"/>
                    <a:pt x="29" y="9"/>
                    <a:pt x="28" y="11"/>
                  </a:cubicBezTo>
                  <a:cubicBezTo>
                    <a:pt x="28" y="11"/>
                    <a:pt x="27" y="11"/>
                    <a:pt x="26" y="11"/>
                  </a:cubicBezTo>
                  <a:cubicBezTo>
                    <a:pt x="28" y="17"/>
                    <a:pt x="23" y="23"/>
                    <a:pt x="26" y="29"/>
                  </a:cubicBezTo>
                  <a:cubicBezTo>
                    <a:pt x="26" y="29"/>
                    <a:pt x="27" y="29"/>
                    <a:pt x="27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29"/>
                    <a:pt x="28" y="29"/>
                    <a:pt x="27" y="29"/>
                  </a:cubicBezTo>
                  <a:cubicBezTo>
                    <a:pt x="27" y="23"/>
                    <a:pt x="27" y="17"/>
                    <a:pt x="28" y="11"/>
                  </a:cubicBezTo>
                  <a:cubicBezTo>
                    <a:pt x="27" y="21"/>
                    <a:pt x="28" y="30"/>
                    <a:pt x="29" y="40"/>
                  </a:cubicBezTo>
                  <a:cubicBezTo>
                    <a:pt x="29" y="40"/>
                    <a:pt x="29" y="41"/>
                    <a:pt x="29" y="41"/>
                  </a:cubicBezTo>
                  <a:cubicBezTo>
                    <a:pt x="27" y="43"/>
                    <a:pt x="26" y="45"/>
                    <a:pt x="26" y="46"/>
                  </a:cubicBezTo>
                  <a:cubicBezTo>
                    <a:pt x="23" y="46"/>
                    <a:pt x="17" y="48"/>
                    <a:pt x="18" y="44"/>
                  </a:cubicBezTo>
                  <a:cubicBezTo>
                    <a:pt x="18" y="44"/>
                    <a:pt x="17" y="44"/>
                    <a:pt x="16" y="44"/>
                  </a:cubicBezTo>
                  <a:cubicBezTo>
                    <a:pt x="13" y="48"/>
                    <a:pt x="5" y="49"/>
                    <a:pt x="2" y="46"/>
                  </a:cubicBezTo>
                  <a:cubicBezTo>
                    <a:pt x="0" y="42"/>
                    <a:pt x="2" y="37"/>
                    <a:pt x="1" y="32"/>
                  </a:cubicBezTo>
                  <a:cubicBezTo>
                    <a:pt x="0" y="29"/>
                    <a:pt x="0" y="26"/>
                    <a:pt x="1" y="22"/>
                  </a:cubicBezTo>
                  <a:cubicBezTo>
                    <a:pt x="3" y="18"/>
                    <a:pt x="2" y="13"/>
                    <a:pt x="4" y="8"/>
                  </a:cubicBezTo>
                  <a:cubicBezTo>
                    <a:pt x="5" y="7"/>
                    <a:pt x="3" y="4"/>
                    <a:pt x="5" y="3"/>
                  </a:cubicBezTo>
                  <a:cubicBezTo>
                    <a:pt x="6" y="2"/>
                    <a:pt x="7" y="2"/>
                    <a:pt x="8" y="2"/>
                  </a:cubicBezTo>
                  <a:cubicBezTo>
                    <a:pt x="8" y="5"/>
                    <a:pt x="8" y="8"/>
                    <a:pt x="8" y="11"/>
                  </a:cubicBezTo>
                  <a:cubicBezTo>
                    <a:pt x="7" y="14"/>
                    <a:pt x="7" y="17"/>
                    <a:pt x="5" y="20"/>
                  </a:cubicBezTo>
                  <a:cubicBezTo>
                    <a:pt x="7" y="17"/>
                    <a:pt x="8" y="14"/>
                    <a:pt x="8" y="11"/>
                  </a:cubicBezTo>
                  <a:cubicBezTo>
                    <a:pt x="8" y="8"/>
                    <a:pt x="9" y="5"/>
                    <a:pt x="10" y="2"/>
                  </a:cubicBezTo>
                  <a:cubicBezTo>
                    <a:pt x="11" y="3"/>
                    <a:pt x="12" y="3"/>
                    <a:pt x="13" y="2"/>
                  </a:cubicBezTo>
                  <a:cubicBezTo>
                    <a:pt x="13" y="2"/>
                    <a:pt x="13" y="2"/>
                    <a:pt x="13" y="1"/>
                  </a:cubicBezTo>
                  <a:cubicBezTo>
                    <a:pt x="16" y="0"/>
                    <a:pt x="20" y="0"/>
                    <a:pt x="23" y="1"/>
                  </a:cubicBezTo>
                  <a:cubicBezTo>
                    <a:pt x="24" y="1"/>
                    <a:pt x="25" y="1"/>
                    <a:pt x="25" y="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1767240" y="3361680"/>
              <a:ext cx="218520" cy="347040"/>
            </a:xfrm>
            <a:custGeom>
              <a:avLst/>
              <a:gdLst/>
              <a:ahLst/>
              <a:rect l="l" t="t" r="r" b="b"/>
              <a:pathLst>
                <a:path w="30" h="50">
                  <a:moveTo>
                    <a:pt x="26" y="2"/>
                  </a:moveTo>
                  <a:cubicBezTo>
                    <a:pt x="26" y="2"/>
                    <a:pt x="26" y="3"/>
                    <a:pt x="26" y="3"/>
                  </a:cubicBezTo>
                  <a:cubicBezTo>
                    <a:pt x="24" y="7"/>
                    <a:pt x="24" y="10"/>
                    <a:pt x="23" y="14"/>
                  </a:cubicBezTo>
                  <a:cubicBezTo>
                    <a:pt x="22" y="17"/>
                    <a:pt x="23" y="21"/>
                    <a:pt x="23" y="24"/>
                  </a:cubicBezTo>
                  <a:cubicBezTo>
                    <a:pt x="24" y="17"/>
                    <a:pt x="23" y="9"/>
                    <a:pt x="27" y="3"/>
                  </a:cubicBezTo>
                  <a:cubicBezTo>
                    <a:pt x="29" y="3"/>
                    <a:pt x="30" y="4"/>
                    <a:pt x="30" y="5"/>
                  </a:cubicBezTo>
                  <a:cubicBezTo>
                    <a:pt x="29" y="7"/>
                    <a:pt x="29" y="10"/>
                    <a:pt x="29" y="12"/>
                  </a:cubicBezTo>
                  <a:cubicBezTo>
                    <a:pt x="28" y="12"/>
                    <a:pt x="27" y="12"/>
                    <a:pt x="26" y="12"/>
                  </a:cubicBezTo>
                  <a:cubicBezTo>
                    <a:pt x="28" y="18"/>
                    <a:pt x="24" y="24"/>
                    <a:pt x="27" y="30"/>
                  </a:cubicBezTo>
                  <a:cubicBezTo>
                    <a:pt x="27" y="30"/>
                    <a:pt x="27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7" y="24"/>
                    <a:pt x="28" y="18"/>
                    <a:pt x="29" y="12"/>
                  </a:cubicBezTo>
                  <a:cubicBezTo>
                    <a:pt x="28" y="22"/>
                    <a:pt x="29" y="31"/>
                    <a:pt x="29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7" y="44"/>
                    <a:pt x="27" y="46"/>
                    <a:pt x="27" y="47"/>
                  </a:cubicBezTo>
                  <a:cubicBezTo>
                    <a:pt x="24" y="47"/>
                    <a:pt x="18" y="48"/>
                    <a:pt x="19" y="45"/>
                  </a:cubicBezTo>
                  <a:cubicBezTo>
                    <a:pt x="18" y="45"/>
                    <a:pt x="17" y="45"/>
                    <a:pt x="16" y="45"/>
                  </a:cubicBezTo>
                  <a:cubicBezTo>
                    <a:pt x="13" y="49"/>
                    <a:pt x="5" y="50"/>
                    <a:pt x="3" y="47"/>
                  </a:cubicBezTo>
                  <a:cubicBezTo>
                    <a:pt x="0" y="43"/>
                    <a:pt x="3" y="38"/>
                    <a:pt x="1" y="33"/>
                  </a:cubicBezTo>
                  <a:cubicBezTo>
                    <a:pt x="1" y="30"/>
                    <a:pt x="0" y="27"/>
                    <a:pt x="1" y="23"/>
                  </a:cubicBezTo>
                  <a:cubicBezTo>
                    <a:pt x="3" y="19"/>
                    <a:pt x="2" y="14"/>
                    <a:pt x="5" y="9"/>
                  </a:cubicBezTo>
                  <a:cubicBezTo>
                    <a:pt x="5" y="7"/>
                    <a:pt x="4" y="5"/>
                    <a:pt x="5" y="4"/>
                  </a:cubicBezTo>
                  <a:cubicBezTo>
                    <a:pt x="6" y="3"/>
                    <a:pt x="8" y="3"/>
                    <a:pt x="9" y="3"/>
                  </a:cubicBezTo>
                  <a:cubicBezTo>
                    <a:pt x="9" y="6"/>
                    <a:pt x="9" y="9"/>
                    <a:pt x="8" y="11"/>
                  </a:cubicBezTo>
                  <a:cubicBezTo>
                    <a:pt x="8" y="15"/>
                    <a:pt x="7" y="18"/>
                    <a:pt x="6" y="21"/>
                  </a:cubicBezTo>
                  <a:cubicBezTo>
                    <a:pt x="8" y="18"/>
                    <a:pt x="8" y="15"/>
                    <a:pt x="8" y="11"/>
                  </a:cubicBezTo>
                  <a:cubicBezTo>
                    <a:pt x="9" y="9"/>
                    <a:pt x="9" y="6"/>
                    <a:pt x="10" y="3"/>
                  </a:cubicBezTo>
                  <a:cubicBezTo>
                    <a:pt x="11" y="3"/>
                    <a:pt x="13" y="3"/>
                    <a:pt x="14" y="3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7" y="0"/>
                    <a:pt x="21" y="1"/>
                    <a:pt x="24" y="1"/>
                  </a:cubicBezTo>
                  <a:cubicBezTo>
                    <a:pt x="25" y="2"/>
                    <a:pt x="25" y="2"/>
                    <a:pt x="26" y="2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1767240" y="2872800"/>
              <a:ext cx="218520" cy="347040"/>
            </a:xfrm>
            <a:custGeom>
              <a:avLst/>
              <a:gdLst/>
              <a:ahLst/>
              <a:rect l="l" t="t" r="r" b="b"/>
              <a:pathLst>
                <a:path w="30" h="50">
                  <a:moveTo>
                    <a:pt x="25" y="2"/>
                  </a:moveTo>
                  <a:cubicBezTo>
                    <a:pt x="25" y="2"/>
                    <a:pt x="25" y="2"/>
                    <a:pt x="25" y="3"/>
                  </a:cubicBezTo>
                  <a:cubicBezTo>
                    <a:pt x="23" y="6"/>
                    <a:pt x="24" y="10"/>
                    <a:pt x="23" y="14"/>
                  </a:cubicBezTo>
                  <a:cubicBezTo>
                    <a:pt x="22" y="17"/>
                    <a:pt x="22" y="20"/>
                    <a:pt x="22" y="23"/>
                  </a:cubicBezTo>
                  <a:cubicBezTo>
                    <a:pt x="23" y="16"/>
                    <a:pt x="23" y="9"/>
                    <a:pt x="27" y="3"/>
                  </a:cubicBezTo>
                  <a:cubicBezTo>
                    <a:pt x="28" y="3"/>
                    <a:pt x="30" y="4"/>
                    <a:pt x="30" y="5"/>
                  </a:cubicBezTo>
                  <a:cubicBezTo>
                    <a:pt x="29" y="7"/>
                    <a:pt x="29" y="9"/>
                    <a:pt x="28" y="12"/>
                  </a:cubicBezTo>
                  <a:cubicBezTo>
                    <a:pt x="28" y="12"/>
                    <a:pt x="27" y="12"/>
                    <a:pt x="26" y="12"/>
                  </a:cubicBezTo>
                  <a:cubicBezTo>
                    <a:pt x="28" y="18"/>
                    <a:pt x="23" y="24"/>
                    <a:pt x="26" y="30"/>
                  </a:cubicBezTo>
                  <a:cubicBezTo>
                    <a:pt x="26" y="30"/>
                    <a:pt x="27" y="30"/>
                    <a:pt x="27" y="30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8" y="30"/>
                    <a:pt x="28" y="30"/>
                    <a:pt x="28" y="29"/>
                  </a:cubicBezTo>
                  <a:cubicBezTo>
                    <a:pt x="28" y="30"/>
                    <a:pt x="28" y="30"/>
                    <a:pt x="27" y="30"/>
                  </a:cubicBezTo>
                  <a:cubicBezTo>
                    <a:pt x="27" y="24"/>
                    <a:pt x="27" y="18"/>
                    <a:pt x="28" y="12"/>
                  </a:cubicBezTo>
                  <a:cubicBezTo>
                    <a:pt x="27" y="21"/>
                    <a:pt x="28" y="31"/>
                    <a:pt x="29" y="40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7" y="44"/>
                    <a:pt x="26" y="45"/>
                    <a:pt x="26" y="47"/>
                  </a:cubicBezTo>
                  <a:cubicBezTo>
                    <a:pt x="23" y="47"/>
                    <a:pt x="17" y="48"/>
                    <a:pt x="18" y="45"/>
                  </a:cubicBezTo>
                  <a:cubicBezTo>
                    <a:pt x="18" y="45"/>
                    <a:pt x="17" y="45"/>
                    <a:pt x="16" y="45"/>
                  </a:cubicBezTo>
                  <a:cubicBezTo>
                    <a:pt x="13" y="48"/>
                    <a:pt x="5" y="50"/>
                    <a:pt x="2" y="46"/>
                  </a:cubicBezTo>
                  <a:cubicBezTo>
                    <a:pt x="0" y="43"/>
                    <a:pt x="2" y="38"/>
                    <a:pt x="1" y="33"/>
                  </a:cubicBezTo>
                  <a:cubicBezTo>
                    <a:pt x="0" y="30"/>
                    <a:pt x="0" y="26"/>
                    <a:pt x="1" y="23"/>
                  </a:cubicBezTo>
                  <a:cubicBezTo>
                    <a:pt x="3" y="18"/>
                    <a:pt x="2" y="13"/>
                    <a:pt x="4" y="9"/>
                  </a:cubicBezTo>
                  <a:cubicBezTo>
                    <a:pt x="5" y="7"/>
                    <a:pt x="3" y="4"/>
                    <a:pt x="5" y="3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8" y="6"/>
                    <a:pt x="8" y="8"/>
                    <a:pt x="8" y="11"/>
                  </a:cubicBezTo>
                  <a:cubicBezTo>
                    <a:pt x="7" y="14"/>
                    <a:pt x="7" y="18"/>
                    <a:pt x="5" y="21"/>
                  </a:cubicBezTo>
                  <a:cubicBezTo>
                    <a:pt x="7" y="18"/>
                    <a:pt x="8" y="14"/>
                    <a:pt x="8" y="11"/>
                  </a:cubicBezTo>
                  <a:cubicBezTo>
                    <a:pt x="9" y="8"/>
                    <a:pt x="9" y="6"/>
                    <a:pt x="10" y="3"/>
                  </a:cubicBezTo>
                  <a:cubicBezTo>
                    <a:pt x="11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6" y="0"/>
                    <a:pt x="20" y="0"/>
                    <a:pt x="23" y="1"/>
                  </a:cubicBezTo>
                  <a:cubicBezTo>
                    <a:pt x="24" y="1"/>
                    <a:pt x="25" y="2"/>
                    <a:pt x="25" y="2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1767240" y="2370960"/>
              <a:ext cx="205560" cy="34704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2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4" y="6"/>
                    <a:pt x="24" y="10"/>
                    <a:pt x="23" y="14"/>
                  </a:cubicBezTo>
                  <a:cubicBezTo>
                    <a:pt x="22" y="17"/>
                    <a:pt x="23" y="20"/>
                    <a:pt x="23" y="23"/>
                  </a:cubicBezTo>
                  <a:cubicBezTo>
                    <a:pt x="24" y="16"/>
                    <a:pt x="23" y="9"/>
                    <a:pt x="27" y="2"/>
                  </a:cubicBezTo>
                  <a:cubicBezTo>
                    <a:pt x="29" y="3"/>
                    <a:pt x="30" y="4"/>
                    <a:pt x="30" y="5"/>
                  </a:cubicBezTo>
                  <a:cubicBezTo>
                    <a:pt x="30" y="7"/>
                    <a:pt x="29" y="9"/>
                    <a:pt x="29" y="11"/>
                  </a:cubicBezTo>
                  <a:cubicBezTo>
                    <a:pt x="28" y="11"/>
                    <a:pt x="27" y="11"/>
                    <a:pt x="26" y="11"/>
                  </a:cubicBezTo>
                  <a:cubicBezTo>
                    <a:pt x="28" y="18"/>
                    <a:pt x="24" y="23"/>
                    <a:pt x="27" y="30"/>
                  </a:cubicBezTo>
                  <a:cubicBezTo>
                    <a:pt x="27" y="29"/>
                    <a:pt x="27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29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7" y="23"/>
                    <a:pt x="28" y="18"/>
                    <a:pt x="29" y="12"/>
                  </a:cubicBezTo>
                  <a:cubicBezTo>
                    <a:pt x="28" y="21"/>
                    <a:pt x="29" y="30"/>
                    <a:pt x="29" y="40"/>
                  </a:cubicBezTo>
                  <a:cubicBezTo>
                    <a:pt x="29" y="40"/>
                    <a:pt x="29" y="41"/>
                    <a:pt x="29" y="42"/>
                  </a:cubicBezTo>
                  <a:cubicBezTo>
                    <a:pt x="27" y="43"/>
                    <a:pt x="27" y="45"/>
                    <a:pt x="27" y="47"/>
                  </a:cubicBezTo>
                  <a:cubicBezTo>
                    <a:pt x="24" y="46"/>
                    <a:pt x="18" y="48"/>
                    <a:pt x="19" y="45"/>
                  </a:cubicBezTo>
                  <a:cubicBezTo>
                    <a:pt x="18" y="45"/>
                    <a:pt x="17" y="45"/>
                    <a:pt x="17" y="45"/>
                  </a:cubicBezTo>
                  <a:cubicBezTo>
                    <a:pt x="14" y="48"/>
                    <a:pt x="5" y="49"/>
                    <a:pt x="3" y="46"/>
                  </a:cubicBezTo>
                  <a:cubicBezTo>
                    <a:pt x="0" y="42"/>
                    <a:pt x="3" y="37"/>
                    <a:pt x="1" y="33"/>
                  </a:cubicBezTo>
                  <a:cubicBezTo>
                    <a:pt x="1" y="29"/>
                    <a:pt x="0" y="26"/>
                    <a:pt x="1" y="23"/>
                  </a:cubicBezTo>
                  <a:cubicBezTo>
                    <a:pt x="3" y="18"/>
                    <a:pt x="2" y="13"/>
                    <a:pt x="5" y="9"/>
                  </a:cubicBezTo>
                  <a:cubicBezTo>
                    <a:pt x="5" y="7"/>
                    <a:pt x="4" y="4"/>
                    <a:pt x="5" y="3"/>
                  </a:cubicBezTo>
                  <a:cubicBezTo>
                    <a:pt x="6" y="3"/>
                    <a:pt x="8" y="3"/>
                    <a:pt x="9" y="3"/>
                  </a:cubicBezTo>
                  <a:cubicBezTo>
                    <a:pt x="9" y="5"/>
                    <a:pt x="9" y="8"/>
                    <a:pt x="8" y="11"/>
                  </a:cubicBezTo>
                  <a:cubicBezTo>
                    <a:pt x="8" y="14"/>
                    <a:pt x="7" y="17"/>
                    <a:pt x="6" y="21"/>
                  </a:cubicBezTo>
                  <a:cubicBezTo>
                    <a:pt x="8" y="17"/>
                    <a:pt x="8" y="14"/>
                    <a:pt x="8" y="11"/>
                  </a:cubicBezTo>
                  <a:cubicBezTo>
                    <a:pt x="9" y="8"/>
                    <a:pt x="10" y="5"/>
                    <a:pt x="10" y="3"/>
                  </a:cubicBezTo>
                  <a:cubicBezTo>
                    <a:pt x="11" y="3"/>
                    <a:pt x="13" y="3"/>
                    <a:pt x="14" y="3"/>
                  </a:cubicBezTo>
                  <a:cubicBezTo>
                    <a:pt x="14" y="3"/>
                    <a:pt x="14" y="2"/>
                    <a:pt x="14" y="1"/>
                  </a:cubicBezTo>
                  <a:cubicBezTo>
                    <a:pt x="17" y="0"/>
                    <a:pt x="21" y="0"/>
                    <a:pt x="24" y="1"/>
                  </a:cubicBezTo>
                  <a:cubicBezTo>
                    <a:pt x="25" y="1"/>
                    <a:pt x="25" y="1"/>
                    <a:pt x="26" y="2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1767240" y="2023920"/>
              <a:ext cx="205560" cy="19260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26" y="1"/>
                  </a:moveTo>
                  <a:cubicBezTo>
                    <a:pt x="26" y="1"/>
                    <a:pt x="25" y="1"/>
                    <a:pt x="25" y="1"/>
                  </a:cubicBezTo>
                  <a:cubicBezTo>
                    <a:pt x="24" y="3"/>
                    <a:pt x="24" y="5"/>
                    <a:pt x="23" y="8"/>
                  </a:cubicBezTo>
                  <a:cubicBezTo>
                    <a:pt x="22" y="9"/>
                    <a:pt x="22" y="11"/>
                    <a:pt x="22" y="13"/>
                  </a:cubicBezTo>
                  <a:cubicBezTo>
                    <a:pt x="23" y="9"/>
                    <a:pt x="23" y="5"/>
                    <a:pt x="27" y="1"/>
                  </a:cubicBezTo>
                  <a:cubicBezTo>
                    <a:pt x="29" y="1"/>
                    <a:pt x="30" y="2"/>
                    <a:pt x="30" y="2"/>
                  </a:cubicBezTo>
                  <a:cubicBezTo>
                    <a:pt x="29" y="4"/>
                    <a:pt x="29" y="5"/>
                    <a:pt x="28" y="6"/>
                  </a:cubicBezTo>
                  <a:cubicBezTo>
                    <a:pt x="28" y="6"/>
                    <a:pt x="27" y="6"/>
                    <a:pt x="26" y="6"/>
                  </a:cubicBezTo>
                  <a:cubicBezTo>
                    <a:pt x="28" y="10"/>
                    <a:pt x="23" y="13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8" y="16"/>
                    <a:pt x="28" y="16"/>
                    <a:pt x="27" y="16"/>
                  </a:cubicBezTo>
                  <a:cubicBezTo>
                    <a:pt x="27" y="13"/>
                    <a:pt x="27" y="10"/>
                    <a:pt x="28" y="6"/>
                  </a:cubicBezTo>
                  <a:cubicBezTo>
                    <a:pt x="27" y="12"/>
                    <a:pt x="29" y="17"/>
                    <a:pt x="29" y="22"/>
                  </a:cubicBezTo>
                  <a:cubicBezTo>
                    <a:pt x="29" y="22"/>
                    <a:pt x="29" y="23"/>
                    <a:pt x="29" y="23"/>
                  </a:cubicBezTo>
                  <a:cubicBezTo>
                    <a:pt x="27" y="24"/>
                    <a:pt x="26" y="25"/>
                    <a:pt x="26" y="26"/>
                  </a:cubicBezTo>
                  <a:cubicBezTo>
                    <a:pt x="23" y="26"/>
                    <a:pt x="17" y="27"/>
                    <a:pt x="18" y="25"/>
                  </a:cubicBezTo>
                  <a:cubicBezTo>
                    <a:pt x="18" y="25"/>
                    <a:pt x="17" y="25"/>
                    <a:pt x="16" y="25"/>
                  </a:cubicBezTo>
                  <a:cubicBezTo>
                    <a:pt x="13" y="27"/>
                    <a:pt x="5" y="27"/>
                    <a:pt x="2" y="26"/>
                  </a:cubicBezTo>
                  <a:cubicBezTo>
                    <a:pt x="0" y="24"/>
                    <a:pt x="2" y="21"/>
                    <a:pt x="1" y="18"/>
                  </a:cubicBezTo>
                  <a:cubicBezTo>
                    <a:pt x="0" y="16"/>
                    <a:pt x="0" y="14"/>
                    <a:pt x="1" y="13"/>
                  </a:cubicBezTo>
                  <a:cubicBezTo>
                    <a:pt x="3" y="10"/>
                    <a:pt x="2" y="7"/>
                    <a:pt x="4" y="5"/>
                  </a:cubicBezTo>
                  <a:cubicBezTo>
                    <a:pt x="5" y="4"/>
                    <a:pt x="3" y="2"/>
                    <a:pt x="5" y="2"/>
                  </a:cubicBezTo>
                  <a:cubicBezTo>
                    <a:pt x="6" y="1"/>
                    <a:pt x="7" y="1"/>
                    <a:pt x="9" y="1"/>
                  </a:cubicBezTo>
                  <a:cubicBezTo>
                    <a:pt x="8" y="3"/>
                    <a:pt x="8" y="4"/>
                    <a:pt x="8" y="6"/>
                  </a:cubicBezTo>
                  <a:cubicBezTo>
                    <a:pt x="7" y="8"/>
                    <a:pt x="7" y="10"/>
                    <a:pt x="6" y="11"/>
                  </a:cubicBezTo>
                  <a:cubicBezTo>
                    <a:pt x="7" y="10"/>
                    <a:pt x="8" y="8"/>
                    <a:pt x="8" y="6"/>
                  </a:cubicBezTo>
                  <a:cubicBezTo>
                    <a:pt x="9" y="4"/>
                    <a:pt x="9" y="3"/>
                    <a:pt x="10" y="1"/>
                  </a:cubicBezTo>
                  <a:cubicBezTo>
                    <a:pt x="11" y="1"/>
                    <a:pt x="12" y="1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6" y="0"/>
                    <a:pt x="21" y="0"/>
                    <a:pt x="24" y="0"/>
                  </a:cubicBezTo>
                  <a:cubicBezTo>
                    <a:pt x="24" y="0"/>
                    <a:pt x="25" y="0"/>
                    <a:pt x="26" y="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3478320" y="4352040"/>
              <a:ext cx="205560" cy="2055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6" y="1"/>
                  </a:moveTo>
                  <a:cubicBezTo>
                    <a:pt x="26" y="1"/>
                    <a:pt x="26" y="1"/>
                    <a:pt x="26" y="1"/>
                  </a:cubicBezTo>
                  <a:cubicBezTo>
                    <a:pt x="24" y="3"/>
                    <a:pt x="24" y="6"/>
                    <a:pt x="23" y="8"/>
                  </a:cubicBezTo>
                  <a:cubicBezTo>
                    <a:pt x="22" y="10"/>
                    <a:pt x="23" y="11"/>
                    <a:pt x="23" y="13"/>
                  </a:cubicBezTo>
                  <a:cubicBezTo>
                    <a:pt x="24" y="9"/>
                    <a:pt x="23" y="5"/>
                    <a:pt x="27" y="1"/>
                  </a:cubicBezTo>
                  <a:cubicBezTo>
                    <a:pt x="29" y="2"/>
                    <a:pt x="30" y="2"/>
                    <a:pt x="30" y="3"/>
                  </a:cubicBezTo>
                  <a:cubicBezTo>
                    <a:pt x="29" y="4"/>
                    <a:pt x="29" y="5"/>
                    <a:pt x="29" y="6"/>
                  </a:cubicBezTo>
                  <a:cubicBezTo>
                    <a:pt x="28" y="6"/>
                    <a:pt x="27" y="6"/>
                    <a:pt x="26" y="6"/>
                  </a:cubicBezTo>
                  <a:cubicBezTo>
                    <a:pt x="28" y="10"/>
                    <a:pt x="23" y="13"/>
                    <a:pt x="26" y="17"/>
                  </a:cubicBezTo>
                  <a:cubicBezTo>
                    <a:pt x="27" y="17"/>
                    <a:pt x="27" y="17"/>
                    <a:pt x="28" y="17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8" y="17"/>
                    <a:pt x="28" y="17"/>
                    <a:pt x="28" y="16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7" y="13"/>
                    <a:pt x="28" y="10"/>
                    <a:pt x="29" y="7"/>
                  </a:cubicBezTo>
                  <a:cubicBezTo>
                    <a:pt x="28" y="12"/>
                    <a:pt x="29" y="17"/>
                    <a:pt x="29" y="23"/>
                  </a:cubicBezTo>
                  <a:cubicBezTo>
                    <a:pt x="29" y="23"/>
                    <a:pt x="29" y="23"/>
                    <a:pt x="29" y="23"/>
                  </a:cubicBezTo>
                  <a:cubicBezTo>
                    <a:pt x="27" y="24"/>
                    <a:pt x="27" y="25"/>
                    <a:pt x="27" y="26"/>
                  </a:cubicBezTo>
                  <a:cubicBezTo>
                    <a:pt x="24" y="26"/>
                    <a:pt x="18" y="27"/>
                    <a:pt x="19" y="25"/>
                  </a:cubicBezTo>
                  <a:cubicBezTo>
                    <a:pt x="18" y="25"/>
                    <a:pt x="17" y="25"/>
                    <a:pt x="16" y="25"/>
                  </a:cubicBezTo>
                  <a:cubicBezTo>
                    <a:pt x="13" y="27"/>
                    <a:pt x="5" y="28"/>
                    <a:pt x="2" y="26"/>
                  </a:cubicBezTo>
                  <a:cubicBezTo>
                    <a:pt x="0" y="24"/>
                    <a:pt x="2" y="21"/>
                    <a:pt x="1" y="19"/>
                  </a:cubicBezTo>
                  <a:cubicBezTo>
                    <a:pt x="1" y="17"/>
                    <a:pt x="0" y="15"/>
                    <a:pt x="1" y="13"/>
                  </a:cubicBezTo>
                  <a:cubicBezTo>
                    <a:pt x="3" y="10"/>
                    <a:pt x="2" y="8"/>
                    <a:pt x="5" y="5"/>
                  </a:cubicBezTo>
                  <a:cubicBezTo>
                    <a:pt x="5" y="4"/>
                    <a:pt x="4" y="2"/>
                    <a:pt x="5" y="2"/>
                  </a:cubicBezTo>
                  <a:cubicBezTo>
                    <a:pt x="6" y="2"/>
                    <a:pt x="7" y="2"/>
                    <a:pt x="9" y="2"/>
                  </a:cubicBezTo>
                  <a:cubicBezTo>
                    <a:pt x="9" y="3"/>
                    <a:pt x="9" y="5"/>
                    <a:pt x="8" y="6"/>
                  </a:cubicBezTo>
                  <a:cubicBezTo>
                    <a:pt x="8" y="8"/>
                    <a:pt x="7" y="10"/>
                    <a:pt x="6" y="12"/>
                  </a:cubicBezTo>
                  <a:cubicBezTo>
                    <a:pt x="7" y="10"/>
                    <a:pt x="8" y="8"/>
                    <a:pt x="8" y="6"/>
                  </a:cubicBezTo>
                  <a:cubicBezTo>
                    <a:pt x="9" y="5"/>
                    <a:pt x="9" y="3"/>
                    <a:pt x="10" y="2"/>
                  </a:cubicBezTo>
                  <a:cubicBezTo>
                    <a:pt x="11" y="2"/>
                    <a:pt x="13" y="2"/>
                    <a:pt x="14" y="2"/>
                  </a:cubicBezTo>
                  <a:cubicBezTo>
                    <a:pt x="14" y="2"/>
                    <a:pt x="14" y="1"/>
                    <a:pt x="14" y="1"/>
                  </a:cubicBezTo>
                  <a:cubicBezTo>
                    <a:pt x="17" y="0"/>
                    <a:pt x="21" y="0"/>
                    <a:pt x="24" y="1"/>
                  </a:cubicBezTo>
                  <a:cubicBezTo>
                    <a:pt x="25" y="1"/>
                    <a:pt x="25" y="1"/>
                    <a:pt x="26" y="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3478320" y="3863160"/>
              <a:ext cx="192960" cy="334440"/>
            </a:xfrm>
            <a:custGeom>
              <a:avLst/>
              <a:gdLst/>
              <a:ahLst/>
              <a:rect l="l" t="t" r="r" b="b"/>
              <a:pathLst>
                <a:path w="29" h="49">
                  <a:moveTo>
                    <a:pt x="25" y="1"/>
                  </a:moveTo>
                  <a:cubicBezTo>
                    <a:pt x="25" y="2"/>
                    <a:pt x="25" y="2"/>
                    <a:pt x="25" y="2"/>
                  </a:cubicBezTo>
                  <a:cubicBezTo>
                    <a:pt x="23" y="6"/>
                    <a:pt x="24" y="10"/>
                    <a:pt x="23" y="14"/>
                  </a:cubicBezTo>
                  <a:cubicBezTo>
                    <a:pt x="22" y="17"/>
                    <a:pt x="22" y="20"/>
                    <a:pt x="22" y="23"/>
                  </a:cubicBezTo>
                  <a:cubicBezTo>
                    <a:pt x="23" y="16"/>
                    <a:pt x="23" y="9"/>
                    <a:pt x="27" y="2"/>
                  </a:cubicBezTo>
                  <a:cubicBezTo>
                    <a:pt x="28" y="3"/>
                    <a:pt x="29" y="3"/>
                    <a:pt x="29" y="4"/>
                  </a:cubicBezTo>
                  <a:cubicBezTo>
                    <a:pt x="29" y="7"/>
                    <a:pt x="29" y="9"/>
                    <a:pt x="28" y="11"/>
                  </a:cubicBezTo>
                  <a:cubicBezTo>
                    <a:pt x="28" y="11"/>
                    <a:pt x="27" y="11"/>
                    <a:pt x="26" y="11"/>
                  </a:cubicBezTo>
                  <a:cubicBezTo>
                    <a:pt x="28" y="17"/>
                    <a:pt x="23" y="23"/>
                    <a:pt x="26" y="29"/>
                  </a:cubicBezTo>
                  <a:cubicBezTo>
                    <a:pt x="26" y="29"/>
                    <a:pt x="27" y="29"/>
                    <a:pt x="27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29"/>
                    <a:pt x="28" y="29"/>
                    <a:pt x="27" y="29"/>
                  </a:cubicBezTo>
                  <a:cubicBezTo>
                    <a:pt x="27" y="23"/>
                    <a:pt x="27" y="17"/>
                    <a:pt x="28" y="11"/>
                  </a:cubicBezTo>
                  <a:cubicBezTo>
                    <a:pt x="27" y="21"/>
                    <a:pt x="28" y="30"/>
                    <a:pt x="29" y="40"/>
                  </a:cubicBezTo>
                  <a:cubicBezTo>
                    <a:pt x="29" y="40"/>
                    <a:pt x="29" y="41"/>
                    <a:pt x="29" y="41"/>
                  </a:cubicBezTo>
                  <a:cubicBezTo>
                    <a:pt x="27" y="43"/>
                    <a:pt x="26" y="45"/>
                    <a:pt x="26" y="46"/>
                  </a:cubicBezTo>
                  <a:cubicBezTo>
                    <a:pt x="23" y="46"/>
                    <a:pt x="17" y="48"/>
                    <a:pt x="18" y="44"/>
                  </a:cubicBezTo>
                  <a:cubicBezTo>
                    <a:pt x="18" y="44"/>
                    <a:pt x="17" y="44"/>
                    <a:pt x="16" y="44"/>
                  </a:cubicBezTo>
                  <a:cubicBezTo>
                    <a:pt x="13" y="48"/>
                    <a:pt x="5" y="49"/>
                    <a:pt x="2" y="46"/>
                  </a:cubicBezTo>
                  <a:cubicBezTo>
                    <a:pt x="0" y="42"/>
                    <a:pt x="2" y="37"/>
                    <a:pt x="1" y="32"/>
                  </a:cubicBezTo>
                  <a:cubicBezTo>
                    <a:pt x="0" y="29"/>
                    <a:pt x="0" y="26"/>
                    <a:pt x="1" y="22"/>
                  </a:cubicBezTo>
                  <a:cubicBezTo>
                    <a:pt x="3" y="18"/>
                    <a:pt x="2" y="13"/>
                    <a:pt x="4" y="8"/>
                  </a:cubicBezTo>
                  <a:cubicBezTo>
                    <a:pt x="5" y="7"/>
                    <a:pt x="3" y="4"/>
                    <a:pt x="5" y="3"/>
                  </a:cubicBezTo>
                  <a:cubicBezTo>
                    <a:pt x="6" y="2"/>
                    <a:pt x="7" y="2"/>
                    <a:pt x="8" y="2"/>
                  </a:cubicBezTo>
                  <a:cubicBezTo>
                    <a:pt x="8" y="5"/>
                    <a:pt x="8" y="8"/>
                    <a:pt x="8" y="11"/>
                  </a:cubicBezTo>
                  <a:cubicBezTo>
                    <a:pt x="7" y="14"/>
                    <a:pt x="7" y="17"/>
                    <a:pt x="5" y="20"/>
                  </a:cubicBezTo>
                  <a:cubicBezTo>
                    <a:pt x="7" y="17"/>
                    <a:pt x="8" y="14"/>
                    <a:pt x="8" y="11"/>
                  </a:cubicBezTo>
                  <a:cubicBezTo>
                    <a:pt x="8" y="8"/>
                    <a:pt x="9" y="5"/>
                    <a:pt x="10" y="2"/>
                  </a:cubicBezTo>
                  <a:cubicBezTo>
                    <a:pt x="11" y="3"/>
                    <a:pt x="12" y="3"/>
                    <a:pt x="13" y="2"/>
                  </a:cubicBezTo>
                  <a:cubicBezTo>
                    <a:pt x="13" y="2"/>
                    <a:pt x="13" y="2"/>
                    <a:pt x="13" y="1"/>
                  </a:cubicBezTo>
                  <a:cubicBezTo>
                    <a:pt x="16" y="0"/>
                    <a:pt x="20" y="0"/>
                    <a:pt x="23" y="1"/>
                  </a:cubicBezTo>
                  <a:cubicBezTo>
                    <a:pt x="24" y="1"/>
                    <a:pt x="25" y="1"/>
                    <a:pt x="25" y="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3465360" y="3361680"/>
              <a:ext cx="205560" cy="347040"/>
            </a:xfrm>
            <a:custGeom>
              <a:avLst/>
              <a:gdLst/>
              <a:ahLst/>
              <a:rect l="l" t="t" r="r" b="b"/>
              <a:pathLst>
                <a:path w="30" h="50">
                  <a:moveTo>
                    <a:pt x="26" y="2"/>
                  </a:moveTo>
                  <a:cubicBezTo>
                    <a:pt x="26" y="2"/>
                    <a:pt x="26" y="3"/>
                    <a:pt x="26" y="3"/>
                  </a:cubicBezTo>
                  <a:cubicBezTo>
                    <a:pt x="24" y="7"/>
                    <a:pt x="24" y="10"/>
                    <a:pt x="23" y="14"/>
                  </a:cubicBezTo>
                  <a:cubicBezTo>
                    <a:pt x="22" y="17"/>
                    <a:pt x="23" y="21"/>
                    <a:pt x="23" y="24"/>
                  </a:cubicBezTo>
                  <a:cubicBezTo>
                    <a:pt x="24" y="17"/>
                    <a:pt x="23" y="9"/>
                    <a:pt x="27" y="3"/>
                  </a:cubicBezTo>
                  <a:cubicBezTo>
                    <a:pt x="29" y="3"/>
                    <a:pt x="30" y="4"/>
                    <a:pt x="30" y="5"/>
                  </a:cubicBezTo>
                  <a:cubicBezTo>
                    <a:pt x="29" y="7"/>
                    <a:pt x="29" y="10"/>
                    <a:pt x="29" y="12"/>
                  </a:cubicBezTo>
                  <a:cubicBezTo>
                    <a:pt x="28" y="12"/>
                    <a:pt x="27" y="12"/>
                    <a:pt x="26" y="12"/>
                  </a:cubicBezTo>
                  <a:cubicBezTo>
                    <a:pt x="28" y="18"/>
                    <a:pt x="24" y="24"/>
                    <a:pt x="27" y="30"/>
                  </a:cubicBezTo>
                  <a:cubicBezTo>
                    <a:pt x="27" y="30"/>
                    <a:pt x="27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7" y="24"/>
                    <a:pt x="28" y="18"/>
                    <a:pt x="29" y="12"/>
                  </a:cubicBezTo>
                  <a:cubicBezTo>
                    <a:pt x="28" y="22"/>
                    <a:pt x="29" y="31"/>
                    <a:pt x="29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7" y="44"/>
                    <a:pt x="27" y="46"/>
                    <a:pt x="27" y="47"/>
                  </a:cubicBezTo>
                  <a:cubicBezTo>
                    <a:pt x="24" y="47"/>
                    <a:pt x="18" y="48"/>
                    <a:pt x="19" y="45"/>
                  </a:cubicBezTo>
                  <a:cubicBezTo>
                    <a:pt x="18" y="45"/>
                    <a:pt x="17" y="45"/>
                    <a:pt x="16" y="45"/>
                  </a:cubicBezTo>
                  <a:cubicBezTo>
                    <a:pt x="13" y="49"/>
                    <a:pt x="5" y="50"/>
                    <a:pt x="3" y="47"/>
                  </a:cubicBezTo>
                  <a:cubicBezTo>
                    <a:pt x="0" y="43"/>
                    <a:pt x="3" y="38"/>
                    <a:pt x="1" y="33"/>
                  </a:cubicBezTo>
                  <a:cubicBezTo>
                    <a:pt x="1" y="30"/>
                    <a:pt x="0" y="27"/>
                    <a:pt x="1" y="23"/>
                  </a:cubicBezTo>
                  <a:cubicBezTo>
                    <a:pt x="3" y="19"/>
                    <a:pt x="2" y="14"/>
                    <a:pt x="5" y="9"/>
                  </a:cubicBezTo>
                  <a:cubicBezTo>
                    <a:pt x="5" y="7"/>
                    <a:pt x="4" y="5"/>
                    <a:pt x="5" y="4"/>
                  </a:cubicBezTo>
                  <a:cubicBezTo>
                    <a:pt x="6" y="3"/>
                    <a:pt x="8" y="3"/>
                    <a:pt x="9" y="3"/>
                  </a:cubicBezTo>
                  <a:cubicBezTo>
                    <a:pt x="9" y="6"/>
                    <a:pt x="9" y="9"/>
                    <a:pt x="8" y="11"/>
                  </a:cubicBezTo>
                  <a:cubicBezTo>
                    <a:pt x="8" y="15"/>
                    <a:pt x="7" y="18"/>
                    <a:pt x="6" y="21"/>
                  </a:cubicBezTo>
                  <a:cubicBezTo>
                    <a:pt x="8" y="18"/>
                    <a:pt x="8" y="15"/>
                    <a:pt x="8" y="11"/>
                  </a:cubicBezTo>
                  <a:cubicBezTo>
                    <a:pt x="9" y="9"/>
                    <a:pt x="9" y="6"/>
                    <a:pt x="10" y="3"/>
                  </a:cubicBezTo>
                  <a:cubicBezTo>
                    <a:pt x="11" y="3"/>
                    <a:pt x="13" y="3"/>
                    <a:pt x="14" y="3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7" y="0"/>
                    <a:pt x="21" y="1"/>
                    <a:pt x="24" y="1"/>
                  </a:cubicBezTo>
                  <a:cubicBezTo>
                    <a:pt x="25" y="2"/>
                    <a:pt x="25" y="2"/>
                    <a:pt x="26" y="2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3465360" y="2872800"/>
              <a:ext cx="205560" cy="347040"/>
            </a:xfrm>
            <a:custGeom>
              <a:avLst/>
              <a:gdLst/>
              <a:ahLst/>
              <a:rect l="l" t="t" r="r" b="b"/>
              <a:pathLst>
                <a:path w="30" h="50">
                  <a:moveTo>
                    <a:pt x="25" y="2"/>
                  </a:moveTo>
                  <a:cubicBezTo>
                    <a:pt x="25" y="2"/>
                    <a:pt x="25" y="2"/>
                    <a:pt x="25" y="3"/>
                  </a:cubicBezTo>
                  <a:cubicBezTo>
                    <a:pt x="23" y="6"/>
                    <a:pt x="24" y="10"/>
                    <a:pt x="23" y="14"/>
                  </a:cubicBezTo>
                  <a:cubicBezTo>
                    <a:pt x="22" y="17"/>
                    <a:pt x="22" y="20"/>
                    <a:pt x="22" y="23"/>
                  </a:cubicBezTo>
                  <a:cubicBezTo>
                    <a:pt x="23" y="16"/>
                    <a:pt x="23" y="9"/>
                    <a:pt x="27" y="3"/>
                  </a:cubicBezTo>
                  <a:cubicBezTo>
                    <a:pt x="28" y="3"/>
                    <a:pt x="30" y="4"/>
                    <a:pt x="30" y="5"/>
                  </a:cubicBezTo>
                  <a:cubicBezTo>
                    <a:pt x="29" y="7"/>
                    <a:pt x="29" y="9"/>
                    <a:pt x="28" y="12"/>
                  </a:cubicBezTo>
                  <a:cubicBezTo>
                    <a:pt x="28" y="12"/>
                    <a:pt x="27" y="12"/>
                    <a:pt x="26" y="12"/>
                  </a:cubicBezTo>
                  <a:cubicBezTo>
                    <a:pt x="28" y="18"/>
                    <a:pt x="23" y="24"/>
                    <a:pt x="26" y="30"/>
                  </a:cubicBezTo>
                  <a:cubicBezTo>
                    <a:pt x="26" y="30"/>
                    <a:pt x="27" y="30"/>
                    <a:pt x="27" y="30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8" y="30"/>
                    <a:pt x="28" y="30"/>
                    <a:pt x="28" y="29"/>
                  </a:cubicBezTo>
                  <a:cubicBezTo>
                    <a:pt x="28" y="30"/>
                    <a:pt x="28" y="30"/>
                    <a:pt x="27" y="30"/>
                  </a:cubicBezTo>
                  <a:cubicBezTo>
                    <a:pt x="27" y="24"/>
                    <a:pt x="27" y="18"/>
                    <a:pt x="28" y="12"/>
                  </a:cubicBezTo>
                  <a:cubicBezTo>
                    <a:pt x="27" y="21"/>
                    <a:pt x="28" y="31"/>
                    <a:pt x="29" y="40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7" y="44"/>
                    <a:pt x="26" y="45"/>
                    <a:pt x="26" y="47"/>
                  </a:cubicBezTo>
                  <a:cubicBezTo>
                    <a:pt x="23" y="47"/>
                    <a:pt x="17" y="48"/>
                    <a:pt x="18" y="45"/>
                  </a:cubicBezTo>
                  <a:cubicBezTo>
                    <a:pt x="18" y="45"/>
                    <a:pt x="17" y="45"/>
                    <a:pt x="16" y="45"/>
                  </a:cubicBezTo>
                  <a:cubicBezTo>
                    <a:pt x="13" y="48"/>
                    <a:pt x="5" y="50"/>
                    <a:pt x="2" y="46"/>
                  </a:cubicBezTo>
                  <a:cubicBezTo>
                    <a:pt x="0" y="43"/>
                    <a:pt x="2" y="38"/>
                    <a:pt x="1" y="33"/>
                  </a:cubicBezTo>
                  <a:cubicBezTo>
                    <a:pt x="0" y="30"/>
                    <a:pt x="0" y="26"/>
                    <a:pt x="1" y="23"/>
                  </a:cubicBezTo>
                  <a:cubicBezTo>
                    <a:pt x="3" y="18"/>
                    <a:pt x="2" y="13"/>
                    <a:pt x="4" y="9"/>
                  </a:cubicBezTo>
                  <a:cubicBezTo>
                    <a:pt x="5" y="7"/>
                    <a:pt x="3" y="4"/>
                    <a:pt x="5" y="3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8" y="6"/>
                    <a:pt x="8" y="8"/>
                    <a:pt x="8" y="11"/>
                  </a:cubicBezTo>
                  <a:cubicBezTo>
                    <a:pt x="7" y="14"/>
                    <a:pt x="7" y="18"/>
                    <a:pt x="5" y="21"/>
                  </a:cubicBezTo>
                  <a:cubicBezTo>
                    <a:pt x="7" y="18"/>
                    <a:pt x="8" y="14"/>
                    <a:pt x="8" y="11"/>
                  </a:cubicBezTo>
                  <a:cubicBezTo>
                    <a:pt x="8" y="8"/>
                    <a:pt x="9" y="6"/>
                    <a:pt x="10" y="3"/>
                  </a:cubicBezTo>
                  <a:cubicBezTo>
                    <a:pt x="11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6" y="0"/>
                    <a:pt x="20" y="0"/>
                    <a:pt x="23" y="1"/>
                  </a:cubicBezTo>
                  <a:cubicBezTo>
                    <a:pt x="24" y="1"/>
                    <a:pt x="25" y="2"/>
                    <a:pt x="25" y="2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3465360" y="2370960"/>
              <a:ext cx="205560" cy="34704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2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4" y="6"/>
                    <a:pt x="24" y="10"/>
                    <a:pt x="23" y="14"/>
                  </a:cubicBezTo>
                  <a:cubicBezTo>
                    <a:pt x="22" y="17"/>
                    <a:pt x="23" y="20"/>
                    <a:pt x="23" y="23"/>
                  </a:cubicBezTo>
                  <a:cubicBezTo>
                    <a:pt x="24" y="16"/>
                    <a:pt x="23" y="9"/>
                    <a:pt x="27" y="2"/>
                  </a:cubicBezTo>
                  <a:cubicBezTo>
                    <a:pt x="29" y="3"/>
                    <a:pt x="30" y="4"/>
                    <a:pt x="30" y="5"/>
                  </a:cubicBezTo>
                  <a:cubicBezTo>
                    <a:pt x="29" y="7"/>
                    <a:pt x="29" y="9"/>
                    <a:pt x="29" y="11"/>
                  </a:cubicBezTo>
                  <a:cubicBezTo>
                    <a:pt x="28" y="11"/>
                    <a:pt x="27" y="11"/>
                    <a:pt x="26" y="11"/>
                  </a:cubicBezTo>
                  <a:cubicBezTo>
                    <a:pt x="28" y="18"/>
                    <a:pt x="24" y="23"/>
                    <a:pt x="27" y="30"/>
                  </a:cubicBezTo>
                  <a:cubicBezTo>
                    <a:pt x="27" y="29"/>
                    <a:pt x="27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30"/>
                    <a:pt x="28" y="30"/>
                    <a:pt x="28" y="29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7" y="23"/>
                    <a:pt x="28" y="18"/>
                    <a:pt x="29" y="12"/>
                  </a:cubicBezTo>
                  <a:cubicBezTo>
                    <a:pt x="28" y="21"/>
                    <a:pt x="29" y="30"/>
                    <a:pt x="29" y="40"/>
                  </a:cubicBezTo>
                  <a:cubicBezTo>
                    <a:pt x="29" y="40"/>
                    <a:pt x="29" y="41"/>
                    <a:pt x="29" y="42"/>
                  </a:cubicBezTo>
                  <a:cubicBezTo>
                    <a:pt x="27" y="43"/>
                    <a:pt x="27" y="45"/>
                    <a:pt x="27" y="47"/>
                  </a:cubicBezTo>
                  <a:cubicBezTo>
                    <a:pt x="24" y="46"/>
                    <a:pt x="18" y="48"/>
                    <a:pt x="19" y="45"/>
                  </a:cubicBezTo>
                  <a:cubicBezTo>
                    <a:pt x="18" y="45"/>
                    <a:pt x="17" y="45"/>
                    <a:pt x="16" y="45"/>
                  </a:cubicBezTo>
                  <a:cubicBezTo>
                    <a:pt x="14" y="48"/>
                    <a:pt x="5" y="49"/>
                    <a:pt x="3" y="46"/>
                  </a:cubicBezTo>
                  <a:cubicBezTo>
                    <a:pt x="0" y="42"/>
                    <a:pt x="3" y="37"/>
                    <a:pt x="1" y="33"/>
                  </a:cubicBezTo>
                  <a:cubicBezTo>
                    <a:pt x="1" y="29"/>
                    <a:pt x="0" y="26"/>
                    <a:pt x="1" y="23"/>
                  </a:cubicBezTo>
                  <a:cubicBezTo>
                    <a:pt x="3" y="18"/>
                    <a:pt x="2" y="13"/>
                    <a:pt x="5" y="9"/>
                  </a:cubicBezTo>
                  <a:cubicBezTo>
                    <a:pt x="5" y="7"/>
                    <a:pt x="4" y="4"/>
                    <a:pt x="5" y="3"/>
                  </a:cubicBezTo>
                  <a:cubicBezTo>
                    <a:pt x="6" y="3"/>
                    <a:pt x="8" y="3"/>
                    <a:pt x="9" y="3"/>
                  </a:cubicBezTo>
                  <a:cubicBezTo>
                    <a:pt x="9" y="5"/>
                    <a:pt x="9" y="8"/>
                    <a:pt x="8" y="11"/>
                  </a:cubicBezTo>
                  <a:cubicBezTo>
                    <a:pt x="8" y="14"/>
                    <a:pt x="7" y="17"/>
                    <a:pt x="6" y="21"/>
                  </a:cubicBezTo>
                  <a:cubicBezTo>
                    <a:pt x="8" y="17"/>
                    <a:pt x="8" y="14"/>
                    <a:pt x="8" y="11"/>
                  </a:cubicBezTo>
                  <a:cubicBezTo>
                    <a:pt x="9" y="8"/>
                    <a:pt x="9" y="5"/>
                    <a:pt x="10" y="3"/>
                  </a:cubicBezTo>
                  <a:cubicBezTo>
                    <a:pt x="11" y="3"/>
                    <a:pt x="13" y="3"/>
                    <a:pt x="14" y="3"/>
                  </a:cubicBezTo>
                  <a:cubicBezTo>
                    <a:pt x="14" y="3"/>
                    <a:pt x="14" y="2"/>
                    <a:pt x="14" y="1"/>
                  </a:cubicBezTo>
                  <a:cubicBezTo>
                    <a:pt x="17" y="0"/>
                    <a:pt x="21" y="0"/>
                    <a:pt x="24" y="1"/>
                  </a:cubicBezTo>
                  <a:cubicBezTo>
                    <a:pt x="25" y="1"/>
                    <a:pt x="25" y="1"/>
                    <a:pt x="26" y="2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3465360" y="2023920"/>
              <a:ext cx="205560" cy="19260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26" y="1"/>
                  </a:moveTo>
                  <a:cubicBezTo>
                    <a:pt x="26" y="1"/>
                    <a:pt x="25" y="1"/>
                    <a:pt x="25" y="1"/>
                  </a:cubicBezTo>
                  <a:cubicBezTo>
                    <a:pt x="23" y="3"/>
                    <a:pt x="24" y="5"/>
                    <a:pt x="23" y="8"/>
                  </a:cubicBezTo>
                  <a:cubicBezTo>
                    <a:pt x="22" y="9"/>
                    <a:pt x="22" y="11"/>
                    <a:pt x="22" y="13"/>
                  </a:cubicBezTo>
                  <a:cubicBezTo>
                    <a:pt x="23" y="9"/>
                    <a:pt x="23" y="5"/>
                    <a:pt x="27" y="1"/>
                  </a:cubicBezTo>
                  <a:cubicBezTo>
                    <a:pt x="29" y="1"/>
                    <a:pt x="30" y="2"/>
                    <a:pt x="30" y="2"/>
                  </a:cubicBezTo>
                  <a:cubicBezTo>
                    <a:pt x="29" y="4"/>
                    <a:pt x="29" y="5"/>
                    <a:pt x="28" y="6"/>
                  </a:cubicBezTo>
                  <a:cubicBezTo>
                    <a:pt x="28" y="6"/>
                    <a:pt x="27" y="6"/>
                    <a:pt x="26" y="6"/>
                  </a:cubicBezTo>
                  <a:cubicBezTo>
                    <a:pt x="28" y="10"/>
                    <a:pt x="23" y="13"/>
                    <a:pt x="26" y="16"/>
                  </a:cubicBezTo>
                  <a:cubicBezTo>
                    <a:pt x="26" y="16"/>
                    <a:pt x="27" y="16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8" y="16"/>
                    <a:pt x="28" y="16"/>
                    <a:pt x="27" y="16"/>
                  </a:cubicBezTo>
                  <a:cubicBezTo>
                    <a:pt x="27" y="13"/>
                    <a:pt x="27" y="10"/>
                    <a:pt x="28" y="6"/>
                  </a:cubicBezTo>
                  <a:cubicBezTo>
                    <a:pt x="27" y="12"/>
                    <a:pt x="29" y="17"/>
                    <a:pt x="29" y="22"/>
                  </a:cubicBezTo>
                  <a:cubicBezTo>
                    <a:pt x="29" y="22"/>
                    <a:pt x="29" y="23"/>
                    <a:pt x="29" y="23"/>
                  </a:cubicBezTo>
                  <a:cubicBezTo>
                    <a:pt x="27" y="24"/>
                    <a:pt x="26" y="25"/>
                    <a:pt x="26" y="26"/>
                  </a:cubicBezTo>
                  <a:cubicBezTo>
                    <a:pt x="23" y="26"/>
                    <a:pt x="17" y="27"/>
                    <a:pt x="18" y="25"/>
                  </a:cubicBezTo>
                  <a:cubicBezTo>
                    <a:pt x="18" y="25"/>
                    <a:pt x="17" y="25"/>
                    <a:pt x="16" y="25"/>
                  </a:cubicBezTo>
                  <a:cubicBezTo>
                    <a:pt x="13" y="27"/>
                    <a:pt x="5" y="27"/>
                    <a:pt x="2" y="26"/>
                  </a:cubicBezTo>
                  <a:cubicBezTo>
                    <a:pt x="0" y="24"/>
                    <a:pt x="2" y="21"/>
                    <a:pt x="1" y="18"/>
                  </a:cubicBezTo>
                  <a:cubicBezTo>
                    <a:pt x="0" y="16"/>
                    <a:pt x="0" y="14"/>
                    <a:pt x="1" y="13"/>
                  </a:cubicBezTo>
                  <a:cubicBezTo>
                    <a:pt x="3" y="10"/>
                    <a:pt x="2" y="7"/>
                    <a:pt x="4" y="5"/>
                  </a:cubicBezTo>
                  <a:cubicBezTo>
                    <a:pt x="5" y="4"/>
                    <a:pt x="3" y="2"/>
                    <a:pt x="5" y="2"/>
                  </a:cubicBezTo>
                  <a:cubicBezTo>
                    <a:pt x="6" y="1"/>
                    <a:pt x="7" y="1"/>
                    <a:pt x="9" y="1"/>
                  </a:cubicBezTo>
                  <a:cubicBezTo>
                    <a:pt x="8" y="3"/>
                    <a:pt x="8" y="4"/>
                    <a:pt x="8" y="6"/>
                  </a:cubicBezTo>
                  <a:cubicBezTo>
                    <a:pt x="7" y="8"/>
                    <a:pt x="7" y="10"/>
                    <a:pt x="6" y="11"/>
                  </a:cubicBezTo>
                  <a:cubicBezTo>
                    <a:pt x="7" y="10"/>
                    <a:pt x="8" y="8"/>
                    <a:pt x="8" y="6"/>
                  </a:cubicBezTo>
                  <a:cubicBezTo>
                    <a:pt x="9" y="4"/>
                    <a:pt x="9" y="3"/>
                    <a:pt x="10" y="1"/>
                  </a:cubicBezTo>
                  <a:cubicBezTo>
                    <a:pt x="11" y="1"/>
                    <a:pt x="12" y="1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6" y="0"/>
                    <a:pt x="21" y="0"/>
                    <a:pt x="24" y="0"/>
                  </a:cubicBezTo>
                  <a:cubicBezTo>
                    <a:pt x="24" y="0"/>
                    <a:pt x="25" y="0"/>
                    <a:pt x="26" y="1"/>
                  </a:cubicBezTo>
                </a:path>
              </a:pathLst>
            </a:custGeom>
            <a:solidFill>
              <a:srgbClr val="64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5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A84D-CEF8-46B4-BC32-9C20783500EF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grpSp>
        <p:nvGrpSpPr>
          <p:cNvPr id="401" name="Group 3"/>
          <p:cNvGrpSpPr/>
          <p:nvPr/>
        </p:nvGrpSpPr>
        <p:grpSpPr>
          <a:xfrm>
            <a:off x="3191040" y="2151000"/>
            <a:ext cx="5824440" cy="2479680"/>
            <a:chOff x="3191040" y="2151000"/>
            <a:chExt cx="5824440" cy="2479680"/>
          </a:xfrm>
        </p:grpSpPr>
        <p:grpSp>
          <p:nvGrpSpPr>
            <p:cNvPr id="402" name="Title 3452"/>
            <p:cNvGrpSpPr/>
            <p:nvPr/>
          </p:nvGrpSpPr>
          <p:grpSpPr>
            <a:xfrm>
              <a:off x="3426120" y="2151000"/>
              <a:ext cx="5352480" cy="1189080"/>
              <a:chOff x="3426120" y="2151000"/>
              <a:chExt cx="5352480" cy="1189080"/>
            </a:xfrm>
          </p:grpSpPr>
          <p:pic>
            <p:nvPicPr>
              <p:cNvPr id="403" name="Title 3452" descr=""/>
              <p:cNvPicPr/>
              <p:nvPr/>
            </p:nvPicPr>
            <p:blipFill>
              <a:blip r:embed="rId1"/>
              <a:stretch/>
            </p:blipFill>
            <p:spPr>
              <a:xfrm>
                <a:off x="3426120" y="2151720"/>
                <a:ext cx="5352480" cy="118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3428640" y="2151000"/>
                <a:ext cx="5349600" cy="11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6400aa"/>
                    </a:solidFill>
                    <a:latin typeface="Calibri"/>
                    <a:ea typeface="Calibri"/>
                  </a:rPr>
                  <a:t>Data attributes</a:t>
                </a:r>
                <a:endParaRPr b="0" lang="en-US" sz="44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</p:grpSp>
        <p:sp>
          <p:nvSpPr>
            <p:cNvPr id="405" name="Content Placeholder 8"/>
            <p:cNvSpPr/>
            <p:nvPr/>
          </p:nvSpPr>
          <p:spPr>
            <a:xfrm>
              <a:off x="3191040" y="3291840"/>
              <a:ext cx="5824440" cy="13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3000"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6400aa"/>
                  </a:solidFill>
                  <a:latin typeface="Calibri Light"/>
                </a:rPr>
                <a:t>The data that needs to be collected (</a:t>
              </a:r>
              <a:r>
                <a:rPr b="1" lang="en-GB" sz="2800" spc="-1" strike="noStrike">
                  <a:solidFill>
                    <a:srgbClr val="6400aa"/>
                  </a:solidFill>
                  <a:latin typeface="Calibri"/>
                </a:rPr>
                <a:t>top tip: </a:t>
              </a:r>
              <a:r>
                <a:rPr b="0" lang="en-GB" sz="2800" spc="-1" strike="noStrike">
                  <a:solidFill>
                    <a:srgbClr val="6400aa"/>
                  </a:solidFill>
                  <a:latin typeface="Calibri Light"/>
                </a:rPr>
                <a:t>this is usually a list of nouns, such as </a:t>
              </a:r>
              <a:r>
                <a:rPr b="1" lang="en-GB" sz="2800" spc="-1" strike="noStrike">
                  <a:solidFill>
                    <a:srgbClr val="6400aa"/>
                  </a:solidFill>
                  <a:latin typeface="Calibri"/>
                </a:rPr>
                <a:t>‘topping’, ‘pupil name</a:t>
              </a:r>
              <a:r>
                <a:rPr b="0" lang="en-GB" sz="2800" spc="-1" strike="noStrike">
                  <a:solidFill>
                    <a:srgbClr val="6400aa"/>
                  </a:solidFill>
                  <a:latin typeface="Calibri Light"/>
                </a:rPr>
                <a:t>’, etc)</a:t>
              </a:r>
              <a:endParaRPr b="0" lang="en-US" sz="2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406" name="Group 4"/>
          <p:cNvGrpSpPr/>
          <p:nvPr/>
        </p:nvGrpSpPr>
        <p:grpSpPr>
          <a:xfrm>
            <a:off x="3191040" y="4511520"/>
            <a:ext cx="5824440" cy="1708200"/>
            <a:chOff x="3191040" y="4511520"/>
            <a:chExt cx="5824440" cy="1708200"/>
          </a:xfrm>
        </p:grpSpPr>
        <p:grpSp>
          <p:nvGrpSpPr>
            <p:cNvPr id="407" name="Title 3452"/>
            <p:cNvGrpSpPr/>
            <p:nvPr/>
          </p:nvGrpSpPr>
          <p:grpSpPr>
            <a:xfrm>
              <a:off x="3426120" y="4511520"/>
              <a:ext cx="5352480" cy="1188360"/>
              <a:chOff x="3426120" y="4511520"/>
              <a:chExt cx="5352480" cy="1188360"/>
            </a:xfrm>
          </p:grpSpPr>
          <p:pic>
            <p:nvPicPr>
              <p:cNvPr id="408" name="Title 3452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6120" y="4511520"/>
                <a:ext cx="535248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3428640" y="4511880"/>
                <a:ext cx="5349600" cy="11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6400aa"/>
                    </a:solidFill>
                    <a:latin typeface="Calibri"/>
                    <a:ea typeface="Calibri"/>
                  </a:rPr>
                  <a:t>Data values</a:t>
                </a:r>
                <a:endParaRPr b="0" lang="en-US" sz="44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</p:grpSp>
        <p:sp>
          <p:nvSpPr>
            <p:cNvPr id="410" name="Content Placeholder 8"/>
            <p:cNvSpPr/>
            <p:nvPr/>
          </p:nvSpPr>
          <p:spPr>
            <a:xfrm>
              <a:off x="3191040" y="5652720"/>
              <a:ext cx="582444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6400aa"/>
                  </a:solidFill>
                  <a:latin typeface="Calibri Light"/>
                </a:rPr>
                <a:t>The values in each data attribute</a:t>
              </a:r>
              <a:endParaRPr b="0" lang="en-US" sz="2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</p:grpSp>
      <p:grpSp>
        <p:nvGrpSpPr>
          <p:cNvPr id="411" name="Group 2"/>
          <p:cNvGrpSpPr/>
          <p:nvPr/>
        </p:nvGrpSpPr>
        <p:grpSpPr>
          <a:xfrm>
            <a:off x="3429000" y="527040"/>
            <a:ext cx="5349960" cy="1619280"/>
            <a:chOff x="3429000" y="527040"/>
            <a:chExt cx="5349960" cy="1619280"/>
          </a:xfrm>
        </p:grpSpPr>
        <p:sp>
          <p:nvSpPr>
            <p:cNvPr id="412" name="Content Placeholder 8"/>
            <p:cNvSpPr/>
            <p:nvPr/>
          </p:nvSpPr>
          <p:spPr>
            <a:xfrm>
              <a:off x="3869640" y="1682640"/>
              <a:ext cx="44661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7000"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6400aa"/>
                  </a:solidFill>
                  <a:latin typeface="Calibri Light"/>
                </a:rPr>
                <a:t>Gathering data for data items</a:t>
              </a:r>
              <a:endParaRPr b="0" lang="en-US" sz="2800" spc="-1" strike="noStrike">
                <a:solidFill>
                  <a:srgbClr val="ffffff"/>
                </a:solidFill>
                <a:latin typeface="Calibri Light"/>
              </a:endParaRPr>
            </a:p>
          </p:txBody>
        </p:sp>
        <p:grpSp>
          <p:nvGrpSpPr>
            <p:cNvPr id="413" name="Title 3452"/>
            <p:cNvGrpSpPr/>
            <p:nvPr/>
          </p:nvGrpSpPr>
          <p:grpSpPr>
            <a:xfrm>
              <a:off x="3429000" y="527040"/>
              <a:ext cx="5349960" cy="1193040"/>
              <a:chOff x="3429000" y="527040"/>
              <a:chExt cx="5349960" cy="1193040"/>
            </a:xfrm>
          </p:grpSpPr>
          <p:pic>
            <p:nvPicPr>
              <p:cNvPr id="414" name="Title 3452" descr=""/>
              <p:cNvPicPr/>
              <p:nvPr/>
            </p:nvPicPr>
            <p:blipFill>
              <a:blip r:embed="rId3"/>
              <a:stretch/>
            </p:blipFill>
            <p:spPr>
              <a:xfrm>
                <a:off x="3431880" y="527040"/>
                <a:ext cx="5346360" cy="119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3429000" y="529560"/>
                <a:ext cx="5349960" cy="11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6400aa"/>
                    </a:solidFill>
                    <a:latin typeface="Calibri"/>
                    <a:ea typeface="Calibri"/>
                  </a:rPr>
                  <a:t>Data collection</a:t>
                </a:r>
                <a:endParaRPr b="0" lang="en-US" sz="4400" spc="-1" strike="noStrike">
                  <a:solidFill>
                    <a:srgbClr val="ffffff"/>
                  </a:solidFill>
                  <a:latin typeface="Calibri Light"/>
                </a:endParaRPr>
              </a:p>
            </p:txBody>
          </p:sp>
        </p:grpSp>
      </p:grpSp>
      <p:sp>
        <p:nvSpPr>
          <p:cNvPr id="416" name="Oval 12"/>
          <p:cNvSpPr/>
          <p:nvPr/>
        </p:nvSpPr>
        <p:spPr>
          <a:xfrm flipH="1">
            <a:off x="-1866960" y="-2030400"/>
            <a:ext cx="4059360" cy="4060800"/>
          </a:xfrm>
          <a:prstGeom prst="ellipse">
            <a:avLst/>
          </a:prstGeom>
          <a:solidFill>
            <a:srgbClr val="ff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430668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Spreadsheets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173160" y="1582560"/>
            <a:ext cx="1037448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400aa"/>
                </a:solidFill>
                <a:latin typeface="Calibri"/>
              </a:rPr>
              <a:t>Help us to:</a:t>
            </a:r>
            <a:endParaRPr b="0" lang="en-US" sz="3600" spc="-1" strike="noStrike">
              <a:solidFill>
                <a:srgbClr val="6400aa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Collect data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Perform calculations 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Analyse data 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Make informed decision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19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8C32-F201-4EEC-909D-FD683E6A57D6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20" name="Picture 6" descr=""/>
          <p:cNvPicPr/>
          <p:nvPr/>
        </p:nvPicPr>
        <p:blipFill>
          <a:blip r:embed="rId2"/>
          <a:srcRect l="46779" t="0" r="0" b="3951"/>
          <a:stretch/>
        </p:blipFill>
        <p:spPr>
          <a:xfrm>
            <a:off x="4896000" y="1809720"/>
            <a:ext cx="5537160" cy="2997360"/>
          </a:xfrm>
          <a:prstGeom prst="rect">
            <a:avLst/>
          </a:prstGeom>
          <a:ln w="19080">
            <a:solidFill>
              <a:srgbClr val="6400aa"/>
            </a:solidFill>
            <a:miter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5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5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5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5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5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6600" y="185760"/>
            <a:ext cx="670248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Check understanding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EA1C-DFE3-4D43-ACC6-3D3BA4850AE7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157320" y="1506240"/>
            <a:ext cx="46324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400aa"/>
                </a:solidFill>
                <a:latin typeface="Calibri"/>
              </a:rPr>
              <a:t>What is/are?</a:t>
            </a:r>
            <a:endParaRPr b="0" lang="en-US" sz="3600" spc="-1" strike="noStrike">
              <a:solidFill>
                <a:srgbClr val="6400aa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Data gathering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Data attribute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Data values</a:t>
            </a:r>
            <a:endParaRPr b="0" lang="en-US" sz="2800" spc="-1" strike="noStrike">
              <a:solidFill>
                <a:srgbClr val="6400aa"/>
              </a:solidFill>
              <a:latin typeface="Calibri Light"/>
            </a:endParaRPr>
          </a:p>
        </p:txBody>
      </p:sp>
      <p:sp>
        <p:nvSpPr>
          <p:cNvPr id="424" name="Content Placeholder 8"/>
          <p:cNvSpPr/>
          <p:nvPr/>
        </p:nvSpPr>
        <p:spPr>
          <a:xfrm>
            <a:off x="4505400" y="1484280"/>
            <a:ext cx="51372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400aa"/>
                </a:solidFill>
                <a:latin typeface="Calibri"/>
              </a:rPr>
              <a:t>How can a spreadsheet help us to?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Collect data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Perform calculations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Analyse data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  <a:p>
            <a:pPr lvl="1" marL="457200">
              <a:lnSpc>
                <a:spcPct val="90000"/>
              </a:lnSpc>
              <a:spcBef>
                <a:spcPts val="2401"/>
              </a:spcBef>
              <a:buClr>
                <a:srgbClr val="6400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00aa"/>
                </a:solidFill>
                <a:latin typeface="Calibri Light"/>
              </a:rPr>
              <a:t>Make informed decisions</a:t>
            </a:r>
            <a:endParaRPr b="0" lang="en-US" sz="28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25" name="Group 67" descr=""/>
          <p:cNvPicPr/>
          <p:nvPr/>
        </p:nvPicPr>
        <p:blipFill>
          <a:blip r:embed="rId2"/>
          <a:stretch/>
        </p:blipFill>
        <p:spPr>
          <a:xfrm>
            <a:off x="9442440" y="2359080"/>
            <a:ext cx="1451160" cy="2421000"/>
          </a:xfrm>
          <a:prstGeom prst="rect">
            <a:avLst/>
          </a:prstGeom>
          <a:ln w="0">
            <a:noFill/>
          </a:ln>
        </p:spPr>
      </p:pic>
      <p:pic>
        <p:nvPicPr>
          <p:cNvPr id="426" name="Group 70" descr=""/>
          <p:cNvPicPr/>
          <p:nvPr/>
        </p:nvPicPr>
        <p:blipFill>
          <a:blip r:embed="rId3"/>
          <a:stretch/>
        </p:blipFill>
        <p:spPr>
          <a:xfrm>
            <a:off x="3219480" y="3565440"/>
            <a:ext cx="1103400" cy="187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5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5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5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5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5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5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5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5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5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662940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Check understanding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28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0112-3304-48F5-AC52-F967F3EE0C0D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29" name="Shape 100" descr=""/>
          <p:cNvPicPr/>
          <p:nvPr/>
        </p:nvPicPr>
        <p:blipFill>
          <a:blip r:embed="rId2"/>
          <a:stretch/>
        </p:blipFill>
        <p:spPr>
          <a:xfrm>
            <a:off x="407880" y="1587600"/>
            <a:ext cx="3357720" cy="3875040"/>
          </a:xfrm>
          <a:prstGeom prst="rect">
            <a:avLst/>
          </a:prstGeom>
          <a:ln w="19080">
            <a:solidFill>
              <a:srgbClr val="6400aa"/>
            </a:solidFill>
            <a:miter/>
          </a:ln>
        </p:spPr>
      </p:pic>
      <p:pic>
        <p:nvPicPr>
          <p:cNvPr id="430" name="Group 50" descr=""/>
          <p:cNvPicPr/>
          <p:nvPr/>
        </p:nvPicPr>
        <p:blipFill>
          <a:blip r:embed="rId3"/>
          <a:stretch/>
        </p:blipFill>
        <p:spPr>
          <a:xfrm>
            <a:off x="9223200" y="4327560"/>
            <a:ext cx="1243080" cy="1871640"/>
          </a:xfrm>
          <a:prstGeom prst="rect">
            <a:avLst/>
          </a:prstGeom>
          <a:ln w="0">
            <a:noFill/>
          </a:ln>
        </p:spPr>
      </p:pic>
      <p:pic>
        <p:nvPicPr>
          <p:cNvPr id="431" name="Group 53" descr=""/>
          <p:cNvPicPr/>
          <p:nvPr/>
        </p:nvPicPr>
        <p:blipFill>
          <a:blip r:embed="rId4"/>
          <a:stretch/>
        </p:blipFill>
        <p:spPr>
          <a:xfrm>
            <a:off x="4413240" y="3724200"/>
            <a:ext cx="1182600" cy="1817640"/>
          </a:xfrm>
          <a:prstGeom prst="rect">
            <a:avLst/>
          </a:prstGeom>
          <a:ln w="0">
            <a:noFill/>
          </a:ln>
        </p:spPr>
      </p:pic>
      <p:pic>
        <p:nvPicPr>
          <p:cNvPr id="432" name="Group 56" descr=""/>
          <p:cNvPicPr/>
          <p:nvPr/>
        </p:nvPicPr>
        <p:blipFill>
          <a:blip r:embed="rId5"/>
          <a:stretch/>
        </p:blipFill>
        <p:spPr>
          <a:xfrm>
            <a:off x="9120240" y="719280"/>
            <a:ext cx="834840" cy="14144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59"/>
          <p:cNvSpPr/>
          <p:nvPr/>
        </p:nvSpPr>
        <p:spPr>
          <a:xfrm>
            <a:off x="4300560" y="2293920"/>
            <a:ext cx="5494320" cy="73512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What cell is highlighted? 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4" name="Rectangle 60"/>
          <p:cNvSpPr/>
          <p:nvPr/>
        </p:nvSpPr>
        <p:spPr>
          <a:xfrm>
            <a:off x="5680080" y="3317760"/>
            <a:ext cx="5494320" cy="73368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How do you know? 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6240" y="185760"/>
            <a:ext cx="6629400" cy="1187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400aa"/>
                </a:solidFill>
                <a:latin typeface="Calibri"/>
              </a:rPr>
              <a:t>Check understanding</a:t>
            </a:r>
            <a:endParaRPr b="1" lang="en-US" sz="4400" spc="-1" strike="noStrike">
              <a:solidFill>
                <a:srgbClr val="6400aa"/>
              </a:solidFill>
              <a:latin typeface="Calibri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9B16-3D33-4FB7-B9BF-437FB1EBE43C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437" name="Shape 107" descr=""/>
          <p:cNvPicPr/>
          <p:nvPr/>
        </p:nvPicPr>
        <p:blipFill>
          <a:blip r:embed="rId2"/>
          <a:stretch/>
        </p:blipFill>
        <p:spPr>
          <a:xfrm>
            <a:off x="407880" y="2741760"/>
            <a:ext cx="3600720" cy="1374480"/>
          </a:xfrm>
          <a:prstGeom prst="rect">
            <a:avLst/>
          </a:prstGeom>
          <a:ln w="19080">
            <a:solidFill>
              <a:srgbClr val="6400aa"/>
            </a:solidFill>
            <a:miter/>
          </a:ln>
        </p:spPr>
      </p:pic>
      <p:pic>
        <p:nvPicPr>
          <p:cNvPr id="438" name="Group 16" descr=""/>
          <p:cNvPicPr/>
          <p:nvPr/>
        </p:nvPicPr>
        <p:blipFill>
          <a:blip r:embed="rId3"/>
          <a:stretch/>
        </p:blipFill>
        <p:spPr>
          <a:xfrm>
            <a:off x="9223200" y="4327560"/>
            <a:ext cx="1243080" cy="1871640"/>
          </a:xfrm>
          <a:prstGeom prst="rect">
            <a:avLst/>
          </a:prstGeom>
          <a:ln w="0">
            <a:noFill/>
          </a:ln>
        </p:spPr>
      </p:pic>
      <p:pic>
        <p:nvPicPr>
          <p:cNvPr id="439" name="Group 29" descr=""/>
          <p:cNvPicPr/>
          <p:nvPr/>
        </p:nvPicPr>
        <p:blipFill>
          <a:blip r:embed="rId4"/>
          <a:stretch/>
        </p:blipFill>
        <p:spPr>
          <a:xfrm>
            <a:off x="4413240" y="3724200"/>
            <a:ext cx="1182600" cy="1817640"/>
          </a:xfrm>
          <a:prstGeom prst="rect">
            <a:avLst/>
          </a:prstGeom>
          <a:ln w="0">
            <a:noFill/>
          </a:ln>
        </p:spPr>
      </p:pic>
      <p:pic>
        <p:nvPicPr>
          <p:cNvPr id="440" name="Group 32" descr=""/>
          <p:cNvPicPr/>
          <p:nvPr/>
        </p:nvPicPr>
        <p:blipFill>
          <a:blip r:embed="rId5"/>
          <a:stretch/>
        </p:blipFill>
        <p:spPr>
          <a:xfrm>
            <a:off x="9120240" y="719280"/>
            <a:ext cx="834840" cy="14144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35"/>
          <p:cNvSpPr/>
          <p:nvPr/>
        </p:nvSpPr>
        <p:spPr>
          <a:xfrm>
            <a:off x="4300560" y="2293920"/>
            <a:ext cx="5494320" cy="73512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What will this formula do?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42" name="Rectangle 36"/>
          <p:cNvSpPr/>
          <p:nvPr/>
        </p:nvSpPr>
        <p:spPr>
          <a:xfrm>
            <a:off x="5680080" y="3317760"/>
            <a:ext cx="5494320" cy="733680"/>
          </a:xfrm>
          <a:prstGeom prst="rect">
            <a:avLst/>
          </a:prstGeom>
          <a:solidFill>
            <a:srgbClr val="64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How do you know? 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transition spd="med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1"/>
          <p:cNvSpPr/>
          <p:nvPr/>
        </p:nvSpPr>
        <p:spPr>
          <a:xfrm>
            <a:off x="10201320" y="6321600"/>
            <a:ext cx="1654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F4F8-05F8-4BF9-B314-CB1B4E17FE3A}" type="slidenum">
              <a:rPr b="0" lang="en-GB" sz="14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766800" y="2365200"/>
            <a:ext cx="437184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6400aa"/>
                </a:solidFill>
                <a:latin typeface="Calibri Light"/>
              </a:rPr>
              <a:t>Get more</a:t>
            </a:r>
            <a:endParaRPr b="0" lang="en-US" sz="6500" spc="-1" strike="noStrike">
              <a:solidFill>
                <a:srgbClr val="6400aa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4T15:10:09Z</dcterms:created>
  <dc:creator>Nicola Ramsay</dc:creator>
  <dc:description/>
  <dc:language>en-US</dc:language>
  <cp:lastModifiedBy>Isabel Boulter</cp:lastModifiedBy>
  <cp:lastPrinted>2019-03-18T12:08:40Z</cp:lastPrinted>
  <dcterms:modified xsi:type="dcterms:W3CDTF">2019-11-08T12:27:01Z</dcterms:modified>
  <cp:revision>151</cp:revision>
  <dc:subject/>
  <dc:title>PowerPoint Presentation</dc:title>
</cp:coreProperties>
</file>